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9BCB-C3F5-4133-9802-C289345F0160}"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2E50-4C9A-48D2-88B9-D7B5D4FAA1AF}"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A5C0F-F6B1-4F0B-8BB4-364B8C72E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2211A-D34A-45A9-B089-AFA5C2BCF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C4F5C59-8644-41FC-A4D2-352D82A79F3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5BBAE8E-FB70-4C23-B9C3-C0A4A8305C0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B788CE6-D5D1-4C98-B0BF-9291899FDAC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C60434F-8337-4D6E-B437-CD0FDC05CA9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7E5DCEA-A8D9-434F-A599-9973508BB98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9984E3-1735-4375-A5CA-34AFFFAEBAB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175C766-F7C8-4C00-9E02-79603BE5C53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9625076-C75D-46DF-9B0B-6E370D2DBE3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143D849-FE27-4029-915E-EE0E9BEAAD3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D795F01-9CE9-4A5D-A0F7-19B078053F5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5FA51-3071-43EC-B5A1-4929E9055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CAA6BAF-3D7A-4555-9B8A-A5D301B5426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9B845E1-1433-48DD-AD09-327EADD7A49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9D224C8-D77C-4D83-8F3F-C1416F155CE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BB8BF8A-9E36-4D15-B145-10831E602F1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AEE2540-B74E-48F0-8317-6B8FF94DD0E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F47CB16-7F95-48DD-A7A9-66E04266502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BA45147-D533-44CA-A5BD-D12AE88B879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14D1EDC-B92D-458E-AEFD-162EBE9C521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F0923F2-4BF1-40EC-B397-0C76B9DAE21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0832962-9268-482E-B59E-D231838CFE2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E9B2E-F89D-4615-BE6E-F5E4FAC6C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00D455A-541F-4B82-88EC-AA5232F0F52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2DD8637-F8A6-49EC-94F4-F10B3D85A29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9AA8D95-FCE5-4C55-87F5-12D59D0E3AF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EDA89E7-44AA-439A-8E04-AA42C2FC26C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7E9CA40-238F-4D26-A6C9-3EA05B835FD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11C66C2-68C1-46DC-848C-D9DBA31AC6D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C4F7CAF-B0BD-49C0-AC23-C68958A7B2F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FD7E77E-7BD3-42D6-BF32-A47A072177A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2C483C4-070C-44A2-8B5E-6EFC8643EA3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B6AA1CE-271A-421C-827A-FF53672A635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9A9A28-4C60-43EC-B951-1EA394BA71F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05ED041-E684-451C-8EDA-BE60A51D9F9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DC5E6CF-26C6-40D7-9BE9-E887FFECBC7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15FD179-6F03-484A-80FB-6F36196B58E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F70E175-C59F-478E-A46D-A108FBBE5E4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6A0D29D-3F2B-4AA7-BF6B-29449644D66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2EE8A52-322D-4ABE-84F2-8B2AFC3DFEE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E5E7A07-6E9B-46DB-B23B-37FF4DF7C6F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30591BC-D3E0-41C6-8933-85D885868D2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08D91CA-06CE-426E-81BA-85695B24DE2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93B3678-0C77-4EE2-9174-D5E4A149F13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97ABC3-7F03-44D9-B681-3B51B2D850D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AC00231-34BF-4320-85C7-66C2C7418EF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16CA5EE-7386-435D-92D0-BAE9FA783B7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57815B5-C940-463E-9AF5-4B30B78D959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29C6EFF-C12C-4673-8A50-8E344BE26DD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7844CD6-B564-431F-9927-7AE1AC44496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8613B82-4917-42E2-8ABC-873C92C8368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D7F0504-8B55-4E1C-868F-B062B32E346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554795F-1C1D-4E9B-A386-10F507B5CC4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42D115E-EF76-4B6C-9998-3B4313D82F2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5ACF415-686C-4095-8080-32265B26621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663148-AC9F-4E09-9EC6-D730CBEA1D4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F6D96DB-94F0-4B1D-AD8F-BADE18FCA8E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7905DB6-3056-471A-8517-92D0209D284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8CBA16C-16D9-42E9-8177-AF7F55A5398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7BF7158-B0B7-4D5B-A2E8-97E89F14196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EFDDB0F-8462-4546-BC50-20014C5F296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3D746D4-719B-4FE4-A6B7-72B20268C87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DC87BD4-E3DA-41ED-9166-5AC9CF97E0C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838E1A4-7EB7-4F65-908D-A41A2FF2AFB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F3021AE-97AD-4911-B732-E1BAAE5236C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CD86A74-1835-4577-AE33-4B15FDACAC1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D4C2AC-198E-418B-A492-572C93BD17F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941789E-2B13-4762-8FC3-13FFA4C60F2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21EBC9F-F55E-4F1C-9259-70C64BDFC29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308DEF7-A578-43F0-BF14-5B169D40C81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AD55B2E-EBC9-4E34-95D8-79504AFCEF1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6C1F0DB-EE37-49F4-AB96-852F7796B75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687A72B-C002-45A3-8FE0-15BB88D4F02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17DB227-6F6B-44CB-8E19-47044197099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EB1FB91-9AD6-48FB-96E3-3DCE4F8A575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CF3719F-1F83-42D0-A217-2600D8CD34D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620F4D-6B3C-43A4-B238-6286A61A96D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202081-728D-4D13-BBB8-073CACB47D7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367740-849F-414E-B020-837DC48540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FF43E-4FEF-4E16-9311-915DE11E6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84A77F-2E1D-4651-8D6D-AA7D74D9A1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C191D0-7E95-4959-BCFE-AC750BA307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2D1885-0236-43AE-88F8-B05243BBB3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8F3FFB-A362-4D6D-9BE7-73313777E1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D49E65-8FB0-429D-B8DF-2744D792BFF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1B081-ADE5-4EDA-910A-4A65B5C3F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42614-95CD-47FB-881A-71B5854F7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1818027-B444-4F9E-9A85-ECA3B8F6A5F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AD254-E8A2-4958-9356-9B61F5F47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2DC8DE-3CEB-4920-BBD7-D617CDA961A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8F97085-8895-488E-B266-F1F4DA9A66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77F4184-A175-4370-BF95-33C64FB02AC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47AE43-5226-4597-A9F0-6379E984E5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1A34ED-C8AC-456A-9AE4-A98E7E8EC2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164C8C-D48A-4418-AE5D-043948D2E9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263365-E891-40C1-A510-F9C61C7C6D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B3C6A8-B688-4677-AA5F-056042144E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5315CED-99C2-4E3C-8469-3DAC89E52B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91CE8E9-E09F-4395-B45C-0F8A0A2ED91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13789-43E2-47A0-8086-440593DC2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C0A9CBD-ECFB-4EC0-A560-EF83E4E4EF5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5690306-9957-4E39-AC22-6187E124CFE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C9EF0A-3D22-41D9-AC0E-0AA2657292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08A2677-82CF-449E-ABC3-A4A718724DD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81BFBD5-DE7F-4405-B3B4-2282B0F6C9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B237C9-4464-4661-934A-7AB42A7A47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EC07B2-92C2-40C1-8CFC-451C66F06A9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6113D0-D28D-44F1-A7E9-73126C7115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E1D663-57CA-4002-8A63-731C0DA654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3C5A50-DF3E-4184-8776-6B67CAE277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8A8C1-8326-4979-B67C-2529129EC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CD3D475-B91F-4DAC-B88F-F38BFA20E35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A701716-EE78-466E-8C5F-A05090520B8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34FEC56-269C-428F-A522-4DFDEB4E186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9D0A7E6-7F53-46FD-B182-D22D2EB3E3D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71E6065-78F3-46BB-81C5-74B2818BA0C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26AFAC6-C46B-4CE7-B83A-BB228BAA944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E4805E1-DE65-4BCB-AF97-EEA4198772F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3BD4368-231E-4712-BD0C-8BCA41925C1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5945B84-9A4E-40FD-9316-D0ECB08174C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DE324DF-4C04-4521-8DA3-99D811414CC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99748-67C5-42AE-B8B1-DB2CACB96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78EE688-B9E0-44D6-B779-71912B7BCAF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D64A775-BE36-4A95-86FC-C691FF229E1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F881C28-BC2B-4DB1-8412-7C075BC8727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7598EDA-7282-47BF-A0F3-E7356A2C41E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86B0523-84B4-4B79-8F45-712C6B1A658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4BD088C-F585-40EA-8E95-E66ADE4D7C3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22E05CD-A1FA-48A9-975B-28BB69C697D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032795E-3F1F-468A-A5B3-77E4F9AE31C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AE95709-184B-42DA-AA76-DD42D6131D8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6DD8EC4-14C4-4F5A-BC23-25841498CA2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D88FA-D884-4721-9C26-C905B1053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1598CF2-89AC-4F0F-955E-6006BE47AA2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C179FE8-D779-4352-9A51-897E8635426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2687ACD-E6CF-46E5-B92C-0875C0B84C9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CD0B1BA-A675-46D6-BA8A-87C907349C6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89E15F0-D24F-4D08-BE46-F3F411F2106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9A1B524-0505-407A-9C66-8FDA9B63760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F94FA31-332B-4730-9704-D1B24ECEE9E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D7AF8BB-C32D-4180-90D1-A5D891825C4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C3AEF78-9E94-484E-B2DB-34A5ECF3B8D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72EEB0A-12F0-42B1-88D3-AB018A431D42}"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0C01-D8A5-4F3A-8342-4E5AC2BA6B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B9FB-684F-4E45-A8CE-F47A2C7DCC1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4801-DA59-43DB-BD7E-0DDAAEF3758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24A0-EB89-49C6-94B8-7A614641A50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FB4C-A28A-45DB-A207-E91D9EBF654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02A7-9F80-4778-8E2A-251536089EC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6BD8-469C-4869-8738-6C82D6A53B4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BD1D-F67E-4C70-AC53-4D36DF4765B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8C62-9AA4-4BD6-83CC-DFEF184842E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0DB5-952B-460B-B994-6B76600FE50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7957-DD33-46AA-8020-A4EACBC8E94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162D-56F9-4F3E-8D97-4129985CD34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3"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4"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D027B0A1-B2D8-4E76-92E3-7BD9C3CB9CA4}"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3">
                                            <p:txEl>
                                              <p:pRg st="0" end="0"/>
                                            </p:txEl>
                                          </p:spTgt>
                                        </p:tgtEl>
                                        <p:attrNameLst>
                                          <p:attrName>style.visibility</p:attrName>
                                        </p:attrNameLst>
                                      </p:cBhvr>
                                      <p:to>
                                        <p:strVal val="visible"/>
                                      </p:to>
                                    </p:set>
                                    <p:animEffect filter="barn(inHorizontal)" transition="in">
                                      <p:cBhvr additive="repl">
                                        <p:cTn id="14" dur="500"/>
                                        <p:tgtEl>
                                          <p:spTgt spid="6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47390559-DA36-4F72-9211-483EBC754D5E}"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48:59Z</dcterms:modified>
  <cp:revision>318</cp:revision>
  <dc:subject/>
  <dc:title>Slide 1</dc:title>
</cp:coreProperties>
</file>