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7C8A-028C-49E2-A48E-AB1ECBC08A90}"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1681-41BF-4242-A420-3AE4C62CA983}"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34D2F-C0B2-4062-98B9-CDE37AE8D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6EF22-9846-4AE7-9BE2-2B4A166E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2BDEB4-7B77-4A58-8B3B-4E0E8FBD297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55487A8-2BF5-4468-BB6C-440C30E686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9D2766C-F64A-4551-8E23-A790C8D18AA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634949-16FA-4E08-A8FB-182DA9B2F6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44CFE0-9DB6-45F1-91BE-3615AD236C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8D001C0-6954-4889-811A-A77C6CDCF3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F98FB3E-A1C2-453A-AAF6-796F7A147C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5B3D976-88FE-4267-8040-6A6F5C4144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7DE512C-2B46-43F1-BEC4-7E2E0A251CB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781387-2FD8-4C7E-AAAE-CDB0C1B5CAC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74934-30A9-4F1F-A670-42EC9B4FC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6435653-6F6B-4B8E-BB18-CF8D416F1F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DE5231F-1BFD-4FC2-A73F-873339068F8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88F4C4C-921B-45C9-90B7-DA92ECA7F3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8AEBF54-0821-446E-BBE0-9E133BE8449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8BA80DC-5A18-475D-BDD8-870631CAD39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C79FA2-F064-40F5-A43A-C9D06BC507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93EA3F2-EDED-4B37-9554-36D78C7D73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E714A6-E9AC-46FE-8F54-FD1AA912866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AFD37FA-E3B7-46E0-A940-8BAB8B74BC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58F818C-1922-4454-94C0-BB53D3C44E7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38312-5505-4FF4-BD10-7E44B6F15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F830D6F-91E8-4E73-AE25-8DB5F23E7F2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3FE4B5F-959D-4981-8213-7DD7F4DC8AF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68C351B-3561-4C1F-BA52-3336706CCFC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4A4285B-025A-4E0B-9855-FACD0540B12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FB7043B-8404-4FD0-9A54-3823527DC43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E124DA5-0B07-460E-80B1-3650365A37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E759E1-1F70-499B-A279-060BB043A1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478BDD8-0982-42DF-BC23-6DAF5DB9B7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4F2179-DA33-4F5B-8B51-E01A64DEA92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D06337-CBDE-40D9-8C40-3954A6E639E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A086D7-D130-4189-A826-001F882A712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2B8C2F9-42A8-4A9B-91DB-29645868CEF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9B8A6B5-51A8-4BD4-B631-E46B9CDD3B0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2A6C4A1-7B5A-41FD-8CFB-A4C20044D8B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E3AF05B-47D4-4F85-B18A-F6070434311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97FEBFD-290E-4276-B0CC-755C118B6CB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DC30595-C139-45FB-875D-DFA92B02AA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767AA38-94FC-4835-B93F-1DEDDEB7F26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213007-B325-4662-A2A5-8BE4F7828E1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B92C749-8092-4BC6-86CF-055A88DBBD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B49B46F-A7A1-4A26-BCD8-BAB6EDB983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A53F11-2AE7-46AA-909D-27EE7E9C3FB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67B6AF-BC60-4508-9065-C7D9EE6BD6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14B48F-9F9A-44AE-9056-6AAD8B23A2B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6B369C9-8ED8-4CD6-8293-690D735FA77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CCC39BA-16C0-4C48-BA4D-195DDAB6397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5A133A9-95F2-4B20-808A-1F2C68F1405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A751300-F5BF-460D-82C5-8BF39002FDA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DB6DCE-19CF-4958-A0DC-F68225711C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330CBC0-C193-4436-9C94-BB088BF427F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EF2488-3F32-43B2-95E7-22735B9152B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81E07FE-8DF7-43AA-80FD-0BC34CE4990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1E679C-A46B-4911-9686-9DEC68197FF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49FD0B-C04D-4207-A69D-44AA6A9F505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FCB9B3D-9839-433C-90FB-E7203A1558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5607FF0-FC66-404A-B959-ECCD6AEA4F9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E76338D-9917-4B4D-AC1D-2E4A8D1388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D2EC875-4B7E-49FF-B10F-4686C670156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24DC761-5171-43E3-8D63-7D21D171568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E2ED111-ED1B-4061-936C-9512319812C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3F02EAC-A85A-4551-A791-ACBC3DF87E5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5092AE2-E1F7-4202-9A58-84CC3BF7A60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EA9594C-1824-4F52-95AB-EB3054F844F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7FBDF-EB25-466C-89E3-FDFB37A991F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FB10AEC-53BF-45BA-AD49-B250253DC26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01BF084-4792-44E5-B6A7-5710E3BDAF3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11F1022-2151-4B39-BF2A-9B89E23B342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D7C9CB5-CDBB-4C2F-AFFA-AF2D9B6D9D6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6217EC6-815C-4CA8-B71A-2613DFE6AE6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A8C91D3-57EB-4954-8AC3-44FAD581E7E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06EE8C1-2FD7-440D-96D1-DB3C4A4FB83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073FE45-F882-47F5-B1A0-5752F83A722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CE0EA93-61BB-4789-B3EC-2F5EDD64CEF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DC772-89CA-4E83-8AF2-8F59E7B81A6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F9BE0F-1B47-41F1-95C1-6D8895CFF35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BE52F-EF8A-4B2C-8C17-2F3A772A3F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67FED-25F6-4930-AF11-50413C428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73A70-B054-4952-9D60-5E8C65D4CE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99693-C330-4041-A345-36FDBF8295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480C8-AA1D-405A-AA0B-367061FF84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808A0F-6BB7-4948-A992-4BA8AA7F5A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3E45B0-9E6F-499B-AD62-DAD1A345DA1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A9F73-F074-4897-A80B-75F7EF8EF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D2343-2D83-42CB-852B-0A861A763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B9CE0C-30C1-4793-AFD5-299DF5AD8D2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9FB4F-30BD-42A8-9B7E-5566E1AE1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F9043A-5A9C-496A-BFFB-3BC4CB04C4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754527B-1494-4045-893F-CB52483AC9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95D6876-6D76-47D6-8678-C7DF6C9119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F30FF1-A386-463C-BDC0-CD8FA1AD08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C8FCFD-4C99-4B26-9AA9-3DF1ADD4C4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6AF148-93A9-4EFB-B2AF-4873BE2664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B1BDC7-CCC2-4775-9ABA-742D604704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0367B1-44E3-4DF9-B565-90F9AAE432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3B413D-4EF8-4643-8547-D1EAAB0B61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5A0EB6-65A4-4CC9-B396-C8110D6CE1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5548B-5744-413D-8F88-9E3551CE9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AFFECC2-CAEC-4634-91A5-EE56055B5BD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7F123E-427B-46FF-B007-E157D527421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6C26F5-747F-4BC4-A0A0-FE1F07DCB4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513264-77D8-4968-AC33-81964149B26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687819-7EAC-440E-B9A1-30CA5076CF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81F318-498E-42AC-B8BB-EC5DED2CC4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8F6CFE-0294-49BD-977A-84DF3137A2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560DAC-CCF6-42FC-A55B-D667E51A21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7C5F7B-AB68-422F-BC12-AA61A99AC4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C0C1DBE-6850-42F0-8D0C-66EAF01C73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DD25B-0DE8-49D5-81FF-84A7D940D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4F9A07-1DBB-4134-A7F5-D8C57F413C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636AC7-961F-4837-A49B-10978BC137B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9D275FC-C574-46ED-B9B6-0264C86B842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3758DF6-ADD0-4568-9EAB-735C942897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92B8C5-C970-443B-AE68-E471857227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C07B1CE-24AD-43E1-8FE3-198DC26B22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617F1C6-D7A4-47BB-82EA-65CDBDBB9A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5485D6E-CEA1-42D1-8429-55CE9DF9A7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7B77E4-81D0-42AA-96A9-40B4B66B03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F9A65D-5138-4FA5-8EE5-E65C6DB722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7813-C3EA-4B8A-B0F5-4D7E6A527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982300-AC67-4F33-93DB-AFF8B11DA9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054B76-96B5-4A4A-A833-9CD9FD78E3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34D4F39-027F-47A3-807D-287DE66B908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B80776-7401-4F26-91AE-95175960CA2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D6388E5-09E8-4D29-A61E-800AE8F90F1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3C43F37-6DA9-44C7-B565-CF1B4C2892F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97E95C-021F-4D0A-8992-36DCB6D6BA6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1A0D00A-D532-4C48-A3D5-B46965A0450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1D04DC1-DD34-413E-985E-617193ACBF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F0323FA-E939-431F-9AA3-A3101B3B56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8C3B-5341-4238-8B45-4E29FE9C6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D7DABD-A4DE-4652-88FE-A381E7530AC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39551B-F545-4969-B70B-80A148F0A9A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99EB9B-866F-4AC2-931F-2E8A7CC9E6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FA177B-AA0F-4198-819C-9A2AA0884D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141D6F-72EC-4F9D-988F-91804CFC44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4A79946-4E6E-45D7-AF65-45BE7E4B537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B0FBDC-3533-4089-9567-E0855E2AD77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A944990-F874-4070-B7F4-768ACC195BA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D23B3D5-1E58-4C78-8E32-1D8735B0302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254F29-338B-4C67-9A1D-58304E0173FC}"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135B-0065-4024-9A3F-109F5E7EB4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8478-C7AD-457E-8B7E-63F5144C78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2CC7-A1D7-4FF1-B6AC-975664318E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6EF4-B32E-4CC6-9C05-76D104E208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4946-AAFA-4CAF-AD44-605423DB91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EC09-E01B-4531-8416-E9638DEDD01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855D-F9CA-426D-8D41-A3BA680C62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13C5-5FFF-4009-B095-905EB659FF7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0D6E-2228-4E2B-8392-591BC5AD545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AACC-A4CD-4B1B-8374-762B1ED8FDB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022B-0AFA-4F42-BFBA-F8061E8675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CE7A1-E56C-486C-A053-551E273CB16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C55763A-AF3C-4D1A-B638-FBC82C09ACB9}"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83F3645-A39C-47B5-A23F-B851EAD05E3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48:59Z</dcterms:modified>
  <cp:revision>318</cp:revision>
  <dc:subject/>
  <dc:title>Slide 1</dc:title>
</cp:coreProperties>
</file>