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3D9C-A221-468B-9D65-6FC136039C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A910-1447-4194-B4FA-B0C2602E4D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A198-07EA-49A6-BA88-5F569567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90B4-CB93-4857-9682-3A71814E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3CEDE0-FA61-43D6-8019-F7FC9929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E18E81-E21B-46A2-A66D-F6C5CA44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5C11D8-2C55-480B-AE54-47839F74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CF93BE-1796-4454-BEC3-9EB1C7BF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3FE3E7-BF01-4AA0-B0BF-364163CC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D6509E-666F-403F-9748-680C6577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738AB5-242C-416B-8AE3-6A1E8227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F8116C-9758-4DE9-8F7B-A0068E6A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7356EA-603F-46BE-A16C-90392A97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2878BD-87ED-4ADE-83BC-7C1F11B0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9C5F-3E06-42EC-8ACA-81702E0B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57E0D9-CF7C-4921-AFFB-0932A0F4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1C1926-EA07-46BA-9BF5-9A805C81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923A68-8C7A-4C78-99A2-E07DCC04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969219-F367-48C8-92D1-4212B797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74382B-C08E-4170-B1CA-A2F3B1CF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A25B57-0B13-45C4-B88D-EC4D6243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1470CF-CFE7-4AD8-A7EE-5D0206EA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859890-E2EE-47AD-9A38-8A855E7E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59B6B2-1EA8-454D-A5B7-5DCA0643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99F17B-2BD7-420A-A661-D2B5D8D1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1C28-C615-4A10-BA56-36258B37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CB5E8E-E256-4458-B93A-83CA5007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B79EAC-72DE-4C09-BD60-100EE062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9DCADE-D8DF-4A03-8ECD-6DE8BDB4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19FA2F-CE59-41FA-8492-BB0BB333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607BF6-2C68-4E2F-9601-4F9D6495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6BDD78-3FFB-4BB5-8372-B1C44FC6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1EC99D-13DD-4BF2-B49D-05CF13EE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B63A48-06C7-4DDE-9D31-F90D24E7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478E78-ADEA-4756-9AF3-E61BED89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AFAA93-0189-4BFE-85B7-BB3C0D2D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1B39B-1CF4-408A-B3CF-113C3C96D0E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C0ACD1-BD59-4BFC-9C7A-2F87F5BA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F7E990-2C6D-4FEF-B717-B2FBC997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33C8C6-3E9F-4538-B186-C1F8D1F4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13C06B-F944-4497-95CC-5A73AFCA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6FB278-047B-44E6-B7E4-8F09223A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4EC76B-7F6E-4B9B-BB2B-44F81856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2620F9-52BD-4F2F-8DC5-F5CD0338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5AEF2E-628F-490C-9193-1D43FAC0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59F8A0-BD38-4F22-8C07-C83A2A6B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F29B76-0347-4A6E-95E1-9C2D2709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62465-31FA-4597-A54A-B23804CA173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3F485F-98D6-46E2-BA88-A5242820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A7031E-B855-4995-81CE-B7C46A88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F3A198-D7EA-4D17-9D73-A44FE8D9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408F8F-F3A2-4236-ACB6-852B99C8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F3EA6F-FF1F-4844-9D1A-78E8E8BF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C01DD4-6213-41E9-982C-713BDB00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242CE0-D0FC-4590-A26E-09987913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F4E6B2-A576-4BCD-A4DB-B20A7430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878F7E-A6BB-4367-BF1D-2526D7A8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8C3109-C806-4F0E-9F98-C82A1033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68D66-FEFC-4D51-A360-DCE79E17696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E0DAF5-70D7-4D9A-B8F7-18CA94E8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D511C6-9FC7-4927-A24B-0A41BAEB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D95AA1-397A-4C9C-8136-F142199F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0E0AAC-7F59-46C7-B3F0-73F0A7C3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0190F0-CD83-4BC6-8084-03450A1F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354F69-8113-49D3-B576-D506D2A8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E903A6-3C23-44AC-8B9A-D97006DD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BF46F9-EA33-4618-904E-EFB32B14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4F255C-BA0E-4B1E-BA63-BF80BF60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E8ABD1-0E01-41A5-9F80-163CA333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DF292-FAEF-4B88-95DF-96A641209D6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B88C18-BBC2-4C27-830B-D84C49B9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51A3A6-133D-4891-91A3-7E483819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03B1CC-9E32-46F8-B073-61BA2A96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EB6251-78E9-4CFD-A07F-15CF20FE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C78B72-C126-43EC-AF89-53AA17C3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A616CA-123B-4DDD-90B5-8B857D6C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725CBA-52EF-4DB3-BB51-86EA0F6D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811E56-18AB-4955-93AB-26966117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2EEF56-E30A-4674-88E6-2E71B668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51454-4EE0-405F-BA86-9A2F735BA9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44A72-0B3E-41E5-9945-ED8E504678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7D915-510A-48FB-AD7A-7645B36999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E990-69C8-45CE-B690-1BB510A2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66E81-9CBA-44D0-867F-F1EEF6FC33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A7341-E935-43D7-8BC6-A16A188A6D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E72EF-4849-43F3-AC49-F74286EC0E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7482D-4DDE-4552-BC83-07C891ED63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BF006-F2B3-4F44-8172-4A250DA2117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1A69-1198-4A18-8885-87D48DB9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0632-C985-4DD0-B498-95744CF1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3F7963-E05C-4A49-A5FE-A3F30387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B458-1D3A-40CB-86F4-F3389C82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0CAA71-8568-4D55-8ED6-B0EC9DD4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8D74A3-54B9-44B5-87FB-291E6CA1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5A5F2-A394-46B4-A94E-B6E04C8A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C343B2-6F00-48C4-80B5-B0FAEE3C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9151C1-0C2F-4D80-BB6C-BE65A56D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ED5899-027B-47FD-9F07-10EA74F9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36740-D0D1-4FA2-B1D7-E3B65AFB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A64BE-D429-4781-9B0D-79C17072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7D00B-789F-48FF-9CC6-3B81358D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FA13E1-6D1A-4A39-98C9-DC3AE373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B729-1731-4C84-96CF-363CFB52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B13646-F5D5-4840-A8A5-BFB979A1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AB1171-F42A-4BF2-940D-1DABA797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1B2BA0-8E76-4B22-9F77-09442E5F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35E8D9-7F30-4E79-B8C7-485E6107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DFBC15-55FC-4174-B226-0C4B9BF4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AABC18-CF93-475A-925D-14B4F46F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93DB54-825B-4823-8C7B-1EC3F14B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0604F1-1DE6-4BC9-A080-A94A18E6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7B979B-D48B-4816-AD5C-2331FAFC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A1E496-A67D-43F3-9D50-0EB334B9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AE79-FC70-4D13-B1F6-E4B713D9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8A9F22-646E-424E-BE34-3568C87D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C99C87-5A76-4D63-92AA-CD17FC40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21828C-DAFF-4F2D-998A-B9580D61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43D2E1-9230-45D2-BB46-63B0212C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5EA9E5-0DCD-4769-B8EE-C8B76B9C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ADEF5B-8346-4CB7-B54B-B5BB2709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915C3C-6AA3-4270-85BF-E12B51E4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6F9A97-9FDC-47F3-9C44-8DF6EFB1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F540C6-F5B3-4619-B840-1BFCAC14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048B38-0F76-426B-A499-012D9EED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D4E6-4D63-4E98-8CB0-1AF25405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CD066D-A8F7-493D-82A1-21DA6D2D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E41D93-FBA6-48C4-8C91-2AE5916A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5D0764-6068-4EC0-95AD-7D9A0F52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B13182-34EE-4EE5-A233-9C83AFC6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5B9477-A2A7-4312-9491-5A399C79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80CB16-08B2-4B86-B49F-70D38B36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C476FB-6584-4054-B0CC-75286BE9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0EFF25-595F-496E-9BA6-280D9CC1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29785E-D600-4B88-BDE5-03A67449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338CD8-12C3-4DA4-9254-92CCFC34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5579-32F3-4812-9762-AF28CBD8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20C9C9-F16E-4C4F-9925-1473F232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895CC5-5EBD-4262-98EB-63737F17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C0BE87-5DFA-46DB-A869-0BCD9B55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CB1528-5C5A-4FC0-9B9D-4C9BA2D6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624D88-ADA6-45EE-9FE5-718142D4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33CC45-ABE6-40CF-B188-EC1F028A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03D288-3314-4B01-91CB-FD5A20FE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E2F566-6698-436C-831F-A4E4BCBB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0B0E45-C6CC-45E9-ADE4-149F9739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F56555-06A9-464A-A367-074E62E0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F8FC-1D84-4139-AB72-767F6E5391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E126-6055-4B26-8C65-5CAEFD08C6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4084-3453-448A-BB79-CB4476275C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CE7A-5C43-4A9B-84C8-9201424B9E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5121-ECC1-4F66-860C-F092B873B0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6E35-9F96-4FF5-ADD9-86467F853C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315A-112F-4D6D-985B-0F19F906C0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3C6A-11EA-4DED-8A9C-46FAF2EB9F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625F-094D-4127-94AE-D703E9CB2D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8AB1-226A-4095-8C9D-C3A32E2568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D2C7-4B42-483E-8A3B-8DF510F45E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2AA8-1AE7-43E6-B2AE-9BC73BBD6F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3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The Internal Organization: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Resources, Capabilities, Core Competencies, and Competitive 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160" y="-7668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Firm Resourc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33160" y="1752480"/>
            <a:ext cx="83055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apabilit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ore Competenc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  <a:ea typeface="Geneva"/>
              </a:rPr>
              <a:t>Creating value and competitive advantage!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AE0FEED2-1C8D-4F31-A1E2-860BA8C23C33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riteria for Sustained Competitive Advantage – VRIO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aluabl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ar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ifficult or costly to imitat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nique historical condition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usally ambiguou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ocial complexit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rganization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Four Criteria, Competitive Advantage and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rcRect l="0" t="8511" r="0" b="0"/>
          <a:stretch/>
        </p:blipFill>
        <p:spPr>
          <a:xfrm>
            <a:off x="533520" y="1600200"/>
            <a:ext cx="8076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Value Chain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tivities that a firm engages in to produce a product or provide a servi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upport Func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activities a firm engages in to support the work being done to produce, sell, distribute and service the products being produc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RM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I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utsourc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urchasing an activity (value chain or support) from an external supplier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8T13:51:17Z</dcterms:modified>
  <cp:revision>316</cp:revision>
  <dc:subject/>
  <dc:title>Slide 1</dc:title>
</cp:coreProperties>
</file>