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8220-D155-4751-8A0B-30DD3D0C29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02EE-9A70-4B49-A228-C277E7CCE0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A30-3C28-4BDC-A6A4-BD9D1743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8A3-B6E1-47FF-853C-0C87B6D6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0B9A2-EC8D-4AF4-8DB2-FD0ACC66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27016-7142-45A3-A12F-6EBE68EE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1B66E-50DB-4571-8913-1364A263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91E8E-B698-4212-A104-4D3F237C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C019FF-1167-401D-9804-137EAECB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39392-499C-499A-92AF-60072096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8256D-C267-416F-BB62-1B85E6E2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836A9-0680-4E1C-BE2D-79B47038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8AC47-5959-42FD-B5A0-ED7BCAA0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59DD46-363C-4AE6-8E3A-43147946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76F-B231-4184-9F1C-3862BA81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20DC9-FDA6-4A50-99A8-5B00B391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CE8E3-E3AE-4BF9-9F11-3C7760C3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7101AC-5334-4149-B80D-7CA33BC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096BB2-9699-4A4C-A684-5A446843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382757-C738-4046-87D3-5B29B506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722CA-575D-4FC5-94DC-428F4EE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9FB36-4AC1-4125-BD3D-C2DB84AE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A74723-789B-4D09-AAA9-43D80682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16B4E4-A3F8-48B3-A1A0-1CE11190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C54D14-755D-4E6E-84C4-0049A25F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D9A-3336-4F1E-8A24-9D8A72C1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72F684-9FFF-4096-9EED-82AC4F54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B083A5-6623-4CB3-9EB8-791A1C09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85465-211D-4724-8268-CF8F963C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4D7C43-57E0-445B-8C23-F65CBB9A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3354B-E712-4CD6-931D-0C767852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7F29DF-4F4F-4697-8D3B-AE0A98A1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960765-3A71-47A3-B4AA-386806DD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8C20C1-310C-41F0-B477-39CE4CDB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CB458F-252E-4309-922D-28432A3E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59F82E-10A8-4EE9-A441-13B931F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994B8-BE46-475C-9F56-A4494E2471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6CE03D-45C3-4000-B97D-2AC1F260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B8C9DB-BF18-4114-BFA3-864565F9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F09F5-92AF-4BA8-9F70-19313422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522971-774D-4C58-A268-D4E552B6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42ECC1-8225-4DDA-82AF-1B5EED90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17677E-FFC1-4E87-A6D9-0E0A68C4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AACF76-338B-466F-A8C4-853D436E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99275A-9ACF-4334-9940-F44A8EEA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B5A283-A25D-4350-A537-09756EF6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288E1D-38C5-4DC4-8B90-F0CB71DA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27C56-F1F4-40C8-87E7-8514816BD46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C93B48-A61B-4394-B6DE-A483006B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CB85E2-5527-4D8B-A417-8DA05A4B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96A885-5BB4-49C5-AFDE-F82146DC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1C80D0-3363-414E-AD65-CFA47B47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EDB4FA-A0DC-46D8-95EB-F5E7DAC6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A3ED67-7DA9-4BA8-B3C4-5356556D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1CA560-F056-46E9-A938-610CB7BA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DDD548-B39F-47D3-9634-8F77D450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314525-1BB1-4E94-A667-BC52B2CA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FA2837-689D-4037-86D6-6CB66ED2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B3F78-1636-4F17-A12B-AC424D6853B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E8DB7B-CF99-45FD-8A1D-B850F955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FF0B81-317C-4692-9F1A-BA3D72C3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ECB4F1-0431-4B63-9E04-DD9AFBBD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8E61F8-93F1-4600-97BC-0383F2B4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B1E527-3AAE-46B1-BD68-5C465332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2A8988-3B1A-48C6-B9F1-12946C16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AA6AC0-C3AA-478E-A707-6C621776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83F765-B5C4-4F3A-9ECC-861EBADC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FF6FC5-2908-41AC-B52A-69BC331C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952058-EAE8-4472-BCE8-C09F9A30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1F44F-2DCE-4204-8E77-3D349818036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2F2CCC-6317-4C12-8AC0-EB11FB44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DDE495-1DDA-483C-B181-AF83901C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36FC8A-C0DB-49AE-910F-F97DAD58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677768-FF84-4E29-BD0C-1F1DF78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4245A5-FEB9-4DDA-B598-ED39085F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B76513-CF27-4434-9A4F-7F127233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BD0548-2D72-4071-A6F3-209A30EC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2FBD42-D86B-4577-8B1E-2DD3DE92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DCC264-3255-40FA-A568-3DF975D0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D2CC7-144A-452F-BC7A-00E3D08851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B1725-7CA0-4450-B67F-E6EC299AD6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D9B4B-B002-4F33-B0CE-215CA4C38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E42-2AAF-406F-B90F-1AE5E7F4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56ED1-6E84-4DE1-A937-9EB4D3DBDA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AA626-A898-4DD6-9B1A-87A30D1448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B5F93-0293-45F9-ABBB-EBDFE7CBFF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A1C54-DADD-4B7F-9250-07F2DDC0E5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AA49E-747B-465A-A8B0-BF529AACA4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19C-8F79-43DF-BD57-F01BB57E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429-31A0-4A93-B660-BE076B96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1B5F8-1AD0-425C-AF0A-2AE271A3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4E2-21CA-477F-87B4-86936F8A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D393B-6FC5-40C4-8E19-7B708B1A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1C623-F5E9-462F-8E91-93B91D5E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BB833-62BD-4263-AF56-E4DFCE04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82C26-2D6F-49DE-843D-08CFAF33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B8ACA-7F8A-4DF1-A243-483AD9A9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A6E3E-B3D2-4538-8ACF-57E17D7D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ADFB5-C0AE-43F1-9DB3-670C3BC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B22D9-3799-4C75-8112-5F18F268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66847-1A8B-4BBE-9EAB-6ED6EAB0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C9B32-CD94-4B19-84A5-25322C94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748-B3C8-47A1-810B-74BB5134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E0C28-504D-4414-9277-FED35768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176C5-392F-4EAC-8F01-805CC952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6D02E-02B1-447C-8597-370BC371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F9078-DB71-4461-B94C-82B00FF4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B65D7-84F4-4A1A-B7B3-8DB4519E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89F5E-A04E-456C-ACE3-F81CD34A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88081F-087F-4897-8A9A-F6586D49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ACB8B-9F7B-4B57-A3A1-AB12B3D9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F5C9D-6450-47BB-A855-4156E030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CF03B-3532-447F-81EA-266F98E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DCE-2582-4569-BCB9-BA5F1919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CC058-D7B5-48ED-8452-B2CFFD12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89113-20D7-4CB9-A9B6-0FB7C5C4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7ECB9-7BF4-4235-A534-7DA0AF71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6B4C85-2659-460A-B7A1-68A23F6F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2C125-5696-406D-ABD1-89B44849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2E9AF-576A-453F-9BB7-905CC77C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B6A52-C54F-46A2-A6FA-A8BBB079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07D75-4F7E-45EC-9C4B-225E041F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BED5E-1244-4998-A11D-069AC410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FB1A8-1E51-4335-874B-EBA02DE4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A38-453E-4A9B-BB0F-F2CF8335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F60C6-75AF-487E-8D2E-2BCA6D7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4A29B-D162-4F2F-BC34-0646119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8790D-F6AC-4969-80A3-6E2A7D23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A22C7-72A4-4B15-A2F9-1A96308B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ED4E2-FE6A-4FD0-B54C-DE7D29F5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2DDDD-8048-49AA-94FF-8CEDC508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40E50-7EBF-4701-8BA0-24C48E1D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1FF66-C610-469F-93B4-191C8FE4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5E80C-9F7A-4F51-9352-5436596E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19344-629A-4140-9C62-3893F0E9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B6D-234C-46D4-BED4-D397742D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D08C0B-018D-47A5-84FC-811E399F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AC5FD-93A6-4F8D-B6FB-7D644C6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D60B1-1DF2-4954-B78F-55BDE5F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6FB5C-2961-4660-A637-4EAF461A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44169-41E2-4869-8512-38240C59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D8FC4-DE07-488D-BB30-F2D68E20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51918-9346-4C0C-9C14-D7C76BC5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6464F1-C5A0-4725-A675-5F1E1D3A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22756-B5CB-48F1-A863-D3613D4C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DDCD7-4E75-4432-9222-E65A4D96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B57C-503F-4FF5-8119-DDD1BFDDCF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4AE8-B86B-4E6C-BE48-BADD6C6973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8158-6A19-4F85-919B-D2E81AA8E8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C8D1-D3DB-40FC-B804-4AF2F43688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B598-831F-493C-97FC-B10E21D192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9B46-6F8C-443B-B084-7CB9B83D15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3601-2327-4176-A3F6-6C49013AC0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D9B9-3F2A-43BC-AC18-40D03AAE64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7193-167E-437C-B39E-CBC3C6DCBE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50A5-5D93-48D7-889E-123D683C13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4CCF-F079-4025-A8CE-CAA21EE5FF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179F-E656-4E79-A14A-E8CEBC5A26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2097FD99-81F6-4C21-BD70-9DF625B44E4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1:17Z</dcterms:modified>
  <cp:revision>316</cp:revision>
  <dc:subject/>
  <dc:title>Slide 1</dc:title>
</cp:coreProperties>
</file>