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AD38-FB42-4719-8A9E-60F2A8F771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E75E-5F3E-49AB-A045-D7EAAE68C8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nies are finding that to survive they must compete in international markets as well as fend off foreign corporation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ttempts to gain ground in the United States, 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develop global markets and prepare employees for global assign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business must be prepared to deal with the global economy. This is made easier by tech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ffshor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s to the exporting of jobs from developed countries to less developed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nshor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fers to exporting jobs to rural parts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9220-3A8C-4A49-95CD-6867DB90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A8C5-EDCF-40A2-A14D-C8F8175A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E3A29E-4F79-441C-AF15-7A7CA084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8FEB54-D460-43C4-B6C0-E9E017B5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3D25F8-A81D-4F54-B6EE-5353523F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27F27C-D72E-45AC-823B-A72523C3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AC37C9-5087-41B3-B818-34A1AA01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ED5EF7-9AA0-43FD-B2D2-5252203C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1F60DC-A455-495C-BF74-D7A626EC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A2E0BE-DBD9-4346-89F1-5D2FF3DE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1149D5-D4AE-41DF-B540-E84AE257D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74A6E3-8358-4CD5-BC99-CFC3FB79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AF2A-7A89-45F1-B9DF-2FC9D7E8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82E796-AC52-4DCD-85E9-7C66AAC9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5B4C9B-88B8-4F40-852D-E7053C6B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53983F-D734-4881-9084-7533EEDF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8484CE-D799-4333-820D-E2FE3005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39D84D-4CD8-4664-BA2C-B188FE09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2CD1FF-37B0-411D-9D47-B0E51389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F50721-73F4-4594-8C4B-CCB0757E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4DEEF9-1E14-49B0-9C76-7F433275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E2C0B6-0ACF-4DAD-835E-CA2D1BDA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458886-07CB-4349-9DB7-0A5B2A6C6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2377-E44F-4763-8073-B11FA7B8D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A309F8-F3EE-4963-A2F4-5EC07A3C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F75625-D47B-49CA-9464-42DF9ADFE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00870B-4F09-4801-B457-13543D79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441A8D-51A3-4144-AC2E-97A99991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AAAB71-462C-433E-BA6A-6789B9CD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2811F9-6D6D-4771-A639-B644FD4D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8ED5A1-3E56-4F6B-B4D3-612BDCEB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E85BCA-4327-47EE-AF02-8B6573D4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018228-158F-4588-BCC4-226B5C44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E2C2A5-7D02-41CC-BE57-D8ACACCB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A96A2-D9A9-4519-8960-5C6244087A7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E8CF29-C2DC-4FD5-B7FD-03750259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6FCF2B-4E75-4B30-B919-77A9CF470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BD84E7-1985-47F6-ACAB-C50509B7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D8A893-7FE8-461B-93A3-7C902412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48E2F0-A76D-4803-9AB2-665BC29D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3BB69E-7657-426E-ACE0-2BC158CB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2230BD-DA48-4AE0-922F-279AF729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50E092-C455-4099-B916-E2E9F200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7204D1-2019-43C2-A6FB-023C38E9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79F2D3-08C1-4DA2-BF74-1D280ED8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A7580-A995-490F-9699-901D338A7E6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786A24-AC8C-42F6-BC28-246738C5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66F177-52A6-4F63-91DF-261B9037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5B4624-027A-42E7-A297-56DDD5A0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C4C20B-426B-4634-A4AB-B2179E2F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E3C6FD-5561-4147-A0B6-0700BD7B5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5ED1FC-BB74-4769-AAD5-3F135F125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BE5100E-C8D6-4E56-82B9-C97FB753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5FABFA-6F0D-46D7-AE73-0C9BE3CD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14CB91-DD35-4A44-B0D4-AE19ADBA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ED3249C-1B9A-4464-AA38-A0922DCC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BB60E-608D-4E42-A3E1-28625B46D64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EC52F7-4F24-4938-841C-50BD9A3A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813C2F-B7C3-4664-AE62-EF0BBA5B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3E6281-C6E9-4A35-9A3F-620AC593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2739DB-3DEE-47E6-A95E-D534B48F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0992CF-EE71-42A2-A06A-D1A27470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EF3655-C7FC-4D5B-AFD9-1B80E7A1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DE9BE3-7F54-45F6-BA4F-3DCE6094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63F8AE-15B6-42BB-9948-250C97A7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735E92-899C-454A-B3B3-F2698B4D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B97F03-CFE9-40E5-AD0A-95107BC9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52AF7-A940-4E7A-B551-17E897E4B29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F445F62-59CE-40E7-A128-DFC1609E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7EB649-5B7C-4BA5-ADBC-8A8D967C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2D4D41-D53E-4A5F-A73C-4A657AED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5F3152-B11C-4822-9B7F-93FCBD8B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F710DF9-D4AD-46A6-B645-3FCABFB8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CEC0D0C-BE2A-4546-9929-DBAB239F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CA5A856-74B5-4F86-8C7E-C368B9F1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54AB6D-753A-405B-AE7C-8E2C27BD6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F2BA9E-C764-4757-A69D-E3425161E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30F2F-6310-447F-8CA5-D720EC942D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94314-3CF7-4DBA-9370-3AB1A2D95C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2E7E4-2C4C-4816-9100-9BD8576A13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58C3-C9D3-48CE-B676-FA53D550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D7F4B-B8EF-4417-A366-380A523573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51828-FFA1-4AC2-A789-40C18CC4D8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63948-6E11-46E2-8B50-5335A9DC0C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F0147-BD15-4216-B47D-724FAFB7D6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7A275-D96F-4D67-9299-281A9E04EF2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6B8C-3C4C-4727-BC61-5A0D4AE1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A7A6-1DA5-46E2-84AF-DD2D4E4A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76824A-5374-40AB-AF1E-06C0F743F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74F2-0BA2-45D0-AE87-7DDFE940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64AD32-210A-4C3A-84A8-65BE311B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C5FF21-FDAB-4E09-8CA8-8A586269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E9A3EE-B8A1-42FC-9EEE-16A2B1EB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2449CD-7052-4255-891D-BEAF9E66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2CD18A-3882-4E6D-B1D9-39866737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D0FEA3-E867-4A31-89D2-1625C78B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F2E471-8E04-40E2-A756-9ACBB1A3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9713F1-DD57-493F-B2F8-C1D785C8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16EF32-F872-4B89-88B5-5BDBE383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46B344-00CE-4316-86DD-06E0CEC3D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A135-C2AE-4E0C-92D0-B77D1E79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B14603-6089-4147-B33B-20485253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BC5B7F-2F99-487A-88E1-CB93B722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CE15A6-22AD-40F2-9504-62745BDB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175C58-22B8-4102-8ECC-98E21BC8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48B4A3-F434-42C5-902D-6629CF4B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FF0649-52BF-4D1D-913D-587A2DEC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871F37-1A20-4E15-8DDD-BB114837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5B498D-744D-4A96-A991-227D482E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864277-8523-4FF4-8185-4F8A9A20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856743-DA1B-49F3-96FD-2FC7BFC1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6F24-63AB-4F16-B52B-49A26C06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2829C9-E9E1-44FA-94AB-859CA0DF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0FEAD7-E773-4CB6-97F6-A223EC0D4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17DE67-3014-4985-8783-D65F35C5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A4DA68-92E6-4656-AAD6-F637120D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0F67AA-63CC-4FD0-9DDF-F89431C0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F0048F-9AA7-4905-9365-5D21F995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FFDE05-C371-4800-A9CD-C99D2494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DF4653-24E7-4A7A-8CDE-B10C68C8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B82C4D-A74F-4F0E-8E66-653226EF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E22249-EBCF-45EF-A45B-8A0FB019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1FC4-B57A-4711-BB1F-1AC1BE55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FDEABE-A9C6-4AE3-B47E-7E1C3327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3D8D88-CC19-482C-9F05-9239257F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6F3FD4-00B8-483D-9B73-BFE735DC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DB2AB7-05E8-4C7E-AF6F-B9D31017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60D006-6A0A-4DBB-B914-54F85718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467F08-5EA5-44CD-858E-9989D239E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0B8EB1-B291-47B8-B950-D1F2CC5F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C38DDC-09FE-4C3F-AE94-813C0308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3D0139-B779-4793-B81A-2798988E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6B9832-21EC-4D3B-8BAA-105383E8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08F4-4B59-4FF2-AC88-A0E98271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E1B96E-3D60-4744-AC93-20F0F3C8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7340B0-4834-4597-B8EB-03D802A4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416B4C-196B-4510-9035-F2F581EF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5E7825-83D5-40AC-AC6A-0D96BEF4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89DD17-1D2B-4FD5-9722-225E3762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ADE8DB-DD26-4336-86A1-99C72EBBB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8CC843-C84D-451E-8BEC-E8B91DC8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EC1EF4-C68D-41FF-B1BE-2B990B201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AE1739-E981-4ED1-8D5D-0394A5B4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1E32E3-9C07-48B7-BC27-6594A7F7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D98A-913D-4D14-9520-7527058D8E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F20B-B661-4DE9-9DFF-FC82BFC7A4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8C76-0FB1-4BF0-BF96-7B029238DD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6917-7553-4A75-A15E-22F87FA15A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7F59-129B-43AA-860D-6C8A3B84A3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3E42-9A16-4A9A-A333-28508DF503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EB0D-DF8E-4A9A-9854-DC5C39EF6D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756B-E4B9-4510-B4D2-C0F1FFDBB9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D758-CE0D-411A-9778-1CEA4F6743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63AB-CA59-4AEF-A873-DFB997D3D1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C6A5-700C-4B95-8336-2124D0291A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A683-DDAE-41D5-BBDB-FF5F13F3A0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4e73"/>
                </a:solidFill>
                <a:latin typeface="News Gothic MT"/>
                <a:ea typeface="Geneva"/>
              </a:rPr>
              <a:t>Chapter 3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The Internal Organization: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Resources, Capabilities, Core Competencies, and Competitive Advantag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3160" y="-7668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Firm Resourc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33160" y="1752480"/>
            <a:ext cx="830556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In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Capabilit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Core Competenc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News Gothic MT"/>
                <a:ea typeface="Geneva"/>
              </a:rPr>
              <a:t>Creating value and competitive advantage!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06" name="Rectangle 6"/>
          <p:cNvSpPr/>
          <p:nvPr/>
        </p:nvSpPr>
        <p:spPr>
          <a:xfrm>
            <a:off x="8286840" y="6381720"/>
            <a:ext cx="819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8610480" y="653724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1-</a:t>
            </a:r>
            <a:fld id="{7B83F86C-61AF-461A-AF1A-3ED789C1B6D0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riteria for Sustained Competitive Advantage – VRIO Analysi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Valuabl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ar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ifficult or costly to imitat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Unique historical condition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usally ambiguou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ocial complexit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rganization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Four Criteria, Competitive Advantage and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pic>
        <p:nvPicPr>
          <p:cNvPr id="611" name="Picture 4" descr=""/>
          <p:cNvPicPr/>
          <p:nvPr/>
        </p:nvPicPr>
        <p:blipFill>
          <a:blip r:embed="rId1"/>
          <a:srcRect l="0" t="8511" r="0" b="0"/>
          <a:stretch/>
        </p:blipFill>
        <p:spPr>
          <a:xfrm>
            <a:off x="533520" y="1600200"/>
            <a:ext cx="8076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Value Chain Analysi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ctivities that a firm engages in to produce a product or provide a servi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upport Func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activities a firm engages in to support the work being done to produce, sell, distribute and service the products being produced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nanc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RM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I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utsourcing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urchasing an activity (value chain or support) from an external supplier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21-03-08T13:51:17Z</dcterms:modified>
  <cp:revision>316</cp:revision>
  <dc:subject/>
  <dc:title>Slide 1</dc:title>
</cp:coreProperties>
</file>