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F625-79C4-40A1-A4FB-1776A31FCAF9}"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D18A-8022-4A6E-BF57-E6FAAA4B1FC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7F0B3-DC25-43F3-A183-404267649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5DFF7-19FC-4094-AF20-B626F3FBB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FD38814-C415-4D00-8E07-9ACB31FF9A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841E89D-7D79-4DF9-BBD2-F6A8701079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6E5AD29-8A45-4DFB-94A4-F4D2052AD4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4F64DE-ACFD-4F31-B868-348F91E6986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3CC096-ADA6-4C8D-958B-43C42A21D8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989AFA9-65A3-4880-BE89-73AED715221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F9C323-5FD1-4506-9ECE-90C890321EF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19CA47F-D464-4E2F-8815-C39262BBFBE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151B5A7-7C5A-44BB-AA69-1570BE29B78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2FDFB1E-D923-4733-9C12-621F6373F26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13ABF-1B35-4C89-BAF8-DF9AD2074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133791-861F-4F12-8A20-A339AF3D88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598E18-4B9C-4403-B96E-AB37A2D3D9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2E5C04-BECD-4F3E-B298-E0964E73CF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66CB630-CF47-4AAF-ABF2-DF1624393A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679F03-A89F-4A75-BF86-99AC14EE2F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793D39C-25B7-4326-AD81-4B5C11DB10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85411F-B3E5-4CE6-B5B8-CE8BEEE3CC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0827507-7CE0-4E48-B8CA-65345C731C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61C7B0-C462-49A2-B543-44B499CB38D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A92E6F9-326C-49C3-8C8D-C4B1CF5B4A6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57AC6-A511-4946-950D-DDA74FCA9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009E536-6441-4EDD-B9A9-7AF95D4C2F2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49F59CF-B5BF-4594-977C-1A775ABB2EF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146FA4-B724-43BE-B548-5D1E29C7764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249ED3C-5A97-42E5-B927-214ACF1EEA2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EC0F0FA-B939-4D4E-A768-338773B55B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160088-9CEB-4C19-A5DB-4172DB21BF2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E8B1193-C5E3-44CB-81E8-695F7E9034F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AC23AD-4FC5-42F0-ACDB-97FB58BF0B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66A406-E6E6-4058-AA4E-56C39BF86A1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5FEDB0E-3A17-4C75-94AD-0539DF444C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F015BB-0487-4B4D-BF48-3C12F6771B6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14F6902-615B-4C5A-99B8-AEC5543739B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3D2AE66-966C-43A9-9F65-C2932ED1ECE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5B8B54F-2991-413C-9677-BA20F7C776F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5A7A2D7-9108-4CAA-81D2-BA07698727C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F4D7A6-CB5E-48E1-A976-0D7366720D5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122EABF-C8A3-4D3B-AAB7-925AAEA48FD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4A7B5F6-5EF9-4B38-945C-8E7C2644B9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5A3AA92-4A8E-4F1D-A7F0-E071270AD96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77DD10-01F8-49C9-A147-1B0C10A9739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E56A3B-418A-45A3-BB63-3B42FB4455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B0AA6-6760-4917-8F3B-AFC5AAB6B78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D11233-F964-4EAA-B180-D7A4713F07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61E95D1-74F3-49DC-8699-7796193F6A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8811B29-3266-4C53-8AB8-4FCD9F22AB2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217C92E-9293-4F8C-8931-4DE5D965DF3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6D85EA3-F3C0-4413-AB93-356A9D3B641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F1A1EB6-FA66-45F1-8866-BA08DE45CF6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5204076-F385-44BA-9AC6-9695C96E5D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3C06E82-62A7-4B73-8CC2-BC9A0D1815C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900444-65D1-49C0-8F82-D4E89E2A0BF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780E3F6-E36E-4749-A099-9EDC490C9AE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24774-83C9-432F-B463-1BB6FA50F8E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C0F3C6F-5584-4F43-986A-B0D9791BC69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36EED9F-2585-46FC-A072-2DFA8F7F025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D6A56E-81D7-4780-9152-963F5ADB2A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EB44223-E8A3-49E8-B1F7-BA123AF0D9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6680C09-1F04-4EC9-A797-11C51C22C98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D6E5CDE-BD7B-4107-84F1-45E46201016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66DCCE7-75DB-4F70-9749-7EDB4C54ED5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BE0E10D-6977-4E4C-87CA-5DCD8DC28C4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604C769-30A1-422C-9117-04790D41F7B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8AA51CB-E85B-423C-8162-D9ED6538B85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BECEB-7E28-4A9D-BC94-06C1158A8D9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369E158-8367-49DD-A448-FC904AA86A1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745C30F-0D31-4AD4-9B8C-923520C8B14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31DEB9D-BF1F-4D30-A23A-BC12A965797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C66D48B-D225-42B9-8A54-FE0F7FE03E9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5C980BF-B36D-4706-9364-BDA4BF4943B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4068B19-B3DC-42BD-A201-DBFC86B12FB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3369828-F2BA-4039-862C-E3C6E70DC85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2AA01DF-032E-49FB-B080-A079898F0EC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AC45278-171B-45F1-9C9D-8A593EB86F1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2FC587-4283-4009-81B4-5C5015B1854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C3F874-E19B-4A04-B4FD-B334A399635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1E88B-B553-4456-9C85-1E26FD27EC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3B3B8-6E69-4C56-9657-D8ED9512B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F7A88-1B68-4B1A-9C7F-CB9F8504E7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42D6A-4F34-4230-835D-3CFF7059B2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28216F-20FC-4FB1-B681-EA45E2081E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53CD55-6057-470C-B14F-9A8B3681E0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8299B3-9F96-4CB9-BCCF-91177940D0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C22D2-0866-4D55-95D9-024B44D23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CD1F-E7ED-4898-8021-BE962F5AE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AB293B-52AC-4957-B765-D03B1DCCE5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BD560-6990-447A-BFE3-50B8ECB8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384D03-AE22-4B0A-ADD7-68A70FB6A0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092860-C42B-4081-84A3-4E41D153F9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F52162-D816-4017-A0E5-DCA69A98DE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0113A4-98F1-43BB-B0D4-2FBC19BD3C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DA78B4-38CD-48AC-A816-E523AAA277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3604A5-737F-4D9E-A50B-4F6D644AE6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2F2B6F-2D61-42B5-BE8D-0CE60F12DC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8B89B0-6579-4C80-9969-22DAEA26ED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1A5357-7D9F-4798-8603-9A7970DF9F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46A61A-47AF-49BC-A2F8-685E1F2757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74D57-7446-4183-8406-B7EFD6C0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0A2908C-29C8-4B89-A63A-A5F80A9B21C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B3FC45-8F38-4B63-AA3E-ED4C6169A4C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A3130C-2491-4DC9-91E7-DD3B473568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0D8DF7-3FC2-4ED5-B948-08B4ECD82E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6D1423-E162-4729-B3FA-9DC690B54B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B78AD8-59D3-4ADA-84FD-9B52F21FFB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7B6E45-80E9-438B-9581-742A9819B9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69CD20-6FD1-4663-B164-6230A2FDEC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474133-E486-47CF-927A-FFD4E488F5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184879-22EC-49B1-A44C-77FC4932E7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7D09-CA59-41EE-BCE4-C7FDE2AC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65CF62-A6EB-49D2-AE0C-D524AE2951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4931E9F-0798-42A6-82FA-BAF14D5188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43BD14-566F-47C3-A0BB-13F93B98A6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F91924D-DFA1-4E00-8A23-94BEBBDDF64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2836C62-7308-44BA-B9C5-4DB5BF7B06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3951FBB-5F3D-4AC7-8776-03D71972AC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75809D-E188-43B7-BD46-BE7E0E1E787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5B674D1-E6BB-408B-B371-BD8BBD7695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86FD9FC-B739-45A8-BA05-502B398E9A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1B77FB-ADE9-47EA-8AA6-BAF321824C0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0334-4742-487B-B356-1CE0159C6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07EB58-D518-4570-BB92-C7E3F5964A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62909F-FC21-46B8-8F85-E65EF27F64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ADD4F6-E565-4998-830A-5DD8834EE11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71AE3D0-ECFD-48EC-B0AF-1B7EB2415E8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3EFE1F3-6094-435E-B7C0-2EDAEF14D5E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D11DBF3-BEB2-44BF-8763-DF9D83B2CA1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8A92BA2-6D94-49EE-9B6F-DB3AE9C1B24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E51EE6-158F-45C9-94F3-EDC8C4BCD60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EFC7C41-1BE2-4750-9433-A822895D30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DE7D05-6065-4F21-B6C4-6E0A47413C8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DEEC-10BC-4B9F-A748-FAB32AA2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9852FC-4B44-4E9D-9631-A890A312AD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283CE3-9932-472A-B3AF-7FE3F8C442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DAB554-EA4F-490B-8EBA-390A2491DB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F1E5351-2C04-41F9-B28C-78F1775306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8C923C9-C91F-41D7-97BD-9C2A294A79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4320CA6-A677-4386-AC36-8A388C70026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661BA5A-D86B-4C71-85C6-9BA5ED58BF8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B5F600E-CC9E-4B1D-9454-0E4772DBB38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8BE4A3A-B829-46AF-9B43-7205D498CF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B745A8F-0A4F-45D0-8F33-8B31F1DDF7D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1B03-4F32-4B51-91E2-6AE35D3436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75C4-557D-44E1-8DFF-C2D1B86A870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87F5-9C10-4F19-804B-EB0D613DAA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2986-5593-4448-AD56-A267E63C946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5F79-7A3E-4745-8C32-5C76DF94C5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3CA1-D05F-4C70-A0C0-9B70D50136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B321-F43D-4A38-8BFF-6DE5F57069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F4C4-7637-440E-A3AB-DDE3694CDB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560A-537F-4BC0-9FC4-0D1C5F9351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A1F4-4759-45E7-B7FC-30B1A3966D9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E94A-D84B-4FD8-A2D9-C1D94C0780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7C07-FE24-4D10-95D2-A85BC2EA55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News Gothic MT"/>
              </a:rPr>
              <a:t>The Product Differentiation Strategy</a:t>
            </a:r>
            <a:endParaRPr b="1" lang="en-US" sz="34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B13EA3A-49A3-444A-A52F-8E9F4F630306}"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43D6A39-4721-4AFA-8521-1C1FDFFD2F8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7:11Z</dcterms:modified>
  <cp:revision>325</cp:revision>
  <dc:subject/>
  <dc:title>Slide 1</dc:title>
</cp:coreProperties>
</file>