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CF01F-710F-4EB0-B8C2-3C1E6DF4023F}" type="datetime">
              <a:rPr b="0" lang="en-US" sz="1200" spc="-1" strike="noStrike">
                <a:solidFill>
                  <a:srgbClr val="000000"/>
                </a:solidFill>
                <a:latin typeface="Times New Roman"/>
                <a:ea typeface="Geneva"/>
              </a:rPr>
              <a:t>07/30/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97DF6-551A-45E6-B4FE-23D647A85D13}"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F93568-AA2C-4C4E-B238-BAD99F5388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56BBB-3319-466D-9DD2-A580DB19C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68A1FC6-C593-4832-A9BC-2DF6EFF2777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18F2EBE-3A76-407A-8CF4-F05241CD566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169B93F-A958-4021-BCC2-E8B50CB193C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52ED462-AA9C-488B-BD72-61EA5B0C8E0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AF5C3F7-3CE4-4828-B206-642F8392799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E9420CC-D9A8-4CAA-9277-6BA139C7785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564D873-E2A6-4CBC-B885-A51136A87BD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04E35E08-6BB9-48CC-9316-DB66A0ABF818}"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1F11BE57-9C89-4CD3-A646-98EDBDC20B82}"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B3AD319B-3B73-4F35-A1F5-DC21F59AC28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2BBA12-861E-4A8D-8D0F-842565AC6C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7D244F6-ECB9-46A0-8974-C9CD556F8AF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72B7677-0985-467D-84C4-872AB28AC84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74484FF-EF5D-4907-8A2F-B849D2135D4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13E153E-6CEC-4BED-B52D-4B3F3290254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78154CB-B142-4B4D-B278-58A84BC5DF4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D913DE2-634E-4DB9-ABA2-061BAD64828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47F47C9-75C2-4E98-9C63-15A0D67583F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4CF2A81-59E6-47A5-BC70-6566E0FC37D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1048765-B898-4B61-95B0-BDFB6528876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FB15B221-A41A-474D-AFF3-F6E793B76F13}"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423ED0-2B7E-45B1-B4A4-41496E5C1D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F483A06D-85AC-4936-8196-7467E9A69EA1}"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3D135E39-3357-4FA7-8D9E-83E8F9F82C22}"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3084963-651A-40DB-B4CC-AD7592A4DA9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16CC48D-9416-4819-9236-EFC6E9ABBB3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1988D4D-7999-4034-A86D-6DF23623D55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4E05B2B-7862-4817-9914-E2457949986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0624A4A-3647-4867-83BD-ED98D387DC2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40EE445-48B1-40DC-9CFC-5BEC3FBE357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3075DFE-0380-4C81-9869-84E2AEADAA0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247FFD2-2D4A-4C1D-BA89-18F9DBE1B3A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84710D2-8B20-42F1-8F44-B2D11C73508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4863DFC-D0FF-4341-BE6A-D580D19D009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3F3E94CC-481C-4F67-BA09-D7B19D49EA58}"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3225B56E-6ABC-41A6-9008-C2AAB32CC72D}"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BC4584A5-FAB8-4DFA-9F0A-51CA925434D6}"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B70B7B5-5429-4029-A4C1-B6F18F48876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043A200-ACD4-475B-B978-5AA26C1077D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6C57D88-F590-4A2F-A1B1-B088A74693C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EBC322A-FB19-47F7-8CBC-9BED3C0D804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44F9BBE-F8A9-4D64-80BA-3842C8C7B38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3890892-6783-4946-84D4-70CB80915F7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70A1D0-5F27-4B28-B05E-C0EC16462EF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197EA91-39E6-4A78-8661-C2EA159223F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EA951C4-9394-4FF0-8B5B-26BF237E811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FB943DC-E201-464B-9B9E-E38BB37F038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E60760A6-9368-4E2C-A6AD-8203AF288FF1}"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2BA11CBF-98A5-47FF-BB11-11B5BA7098F4}"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A3A87213-0BC8-4404-A96A-D5D25C728850}"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C7E857F-15EF-4436-B444-55CA8EAB370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920EFE9-7916-465A-8EE8-CB3A987F5EF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F0C48A0-240E-4EE6-AC03-BBFED0178A9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D9DF36C-0507-4A15-BE44-F8BD80EBD26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A31ABE-DC2F-4009-A8F7-0F0F08D5613C}"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673F335-1652-439F-AED8-BC1C0B0E03C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4EE949A-E2E2-45A1-9103-48E842D38E8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1A3F5BF-525A-4229-B19C-78392F279D3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5288B45-EA76-40A4-B7AC-8C9570AF0A7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3581F70-8702-4F71-B021-B8B4759AB42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1C9B0102-1671-4D49-A537-68C028D9A742}"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338ED926-0F14-4FD2-B630-A13361B607A5}"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72C4657B-1686-4E7D-9FC4-309F89F20882}"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A5B3CA0F-679A-41C9-98D3-AEABEC74D88F}"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D1D730CF-E4D9-4E31-B009-CEDEBE8A64F9}"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F94D1B-2A0A-483A-85F9-9579AA1D43D8}"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2A225AF3-6430-44A1-8757-4DC8BD3DE153}"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83802078-5C90-417A-B76B-2FC61FDF4EDD}"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19CC6DAC-0F08-4D97-9DC5-80894D04D10D}"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54080D0-3E7C-4373-A5FC-B210694E785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65AE3BD-41D2-4231-BD68-2B03F705F97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1ED9B49-759D-439E-A20D-9E23FA0CD521}"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58A472C0-7DAF-45CA-83FB-B28A3A53E7FC}"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32F3D168-49B0-4020-97E3-92770BCF2517}"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3A93A6F8-D719-4069-9B5B-59B6D5835577}"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3FA81D-311D-461E-B357-288E07A8A77D}"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AA80F1-C745-4E13-A10A-53F656436F55}"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8BA436-DDAB-4610-8FE9-C509BD6746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DA775-566C-49BC-9CA4-D3E0F6B56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FEF6D8-A5BF-4E8D-8D05-E9C95EEE49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EE9202-E16A-4AFC-A265-AB0FFCC3F87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DC9C98-4AC4-4ED7-9D70-10F8726D9A5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354BD9-332E-4BB6-83E5-C2213F28F4C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3030C0-B513-4BE1-AC9D-0D99E2801CC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D29D8-793A-45A5-B43B-B47A6B46E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2D15B-F3CA-4163-9929-D30122E1F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1D49A5D-9163-45AF-9190-BD8B29E4E21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6925C-9B64-4419-99B6-37859EA2F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42BFD8E-C537-436D-BA29-15AC242E374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2E94A09-CC17-47A8-B781-A0E138F0C17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5B1E052-E0BE-490E-B543-99C7C5C655B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338ABFD-4603-4231-A1B2-077ED441EE4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DD84C78-D62A-44FD-8F61-1D01B95A16E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6964858-01D5-456C-8D32-818EB13CA9C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AE2AAD7-7AED-45F5-AA31-11607B1DB7F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66AB9A6-ABEE-448B-B1C1-5CB95BC20BE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355C2C4-4EA1-47DF-963A-77706323CD9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558306B-731B-454C-88B4-7A604863770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0DCFC-FF9A-403C-B069-631073434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39AF339-3A67-4E78-8818-F101CE7CFCB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BFD655D-316A-4F38-B5D8-2EC4BD00E2D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737E3C1-BEA5-453C-B28C-B93E1A42A95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8DE59C7-9B05-4073-8C57-BC38707D160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9E754EF-7303-4E75-AC2D-FE1CCBFDE2A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68C6EE3-7916-4E9D-BF7A-0C3F5EF3398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696C6EC-EC94-4E2E-BFE2-D97FBE9CD09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7EDDF9E-EA7F-4935-9AFC-326CA07E2BE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B3E4F27-08CC-4AEB-BBBB-DCC99126EBA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FC013A5-B4EB-4BB3-AA03-A45E8CA1F8E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8484C-2EAD-4684-B7DF-B91EF49D5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5F9F82E-F9A3-434C-8208-9A964533C6F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6298791-A3BD-47C8-98F8-F61DC80BDA0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3E26851-EF1A-4F3E-862B-9F16809756C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5858440-719E-45BC-A752-E26DE74B377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1761B4E-B05B-4D9E-86DA-D8505CBA8A1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A464F47-A9C9-4F51-9801-586DBD6B1DD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A4C5534-3D91-48FF-8F7A-E7CC3C3DA3F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3D4E2FE-DF76-481C-B492-1C9CC77C1E7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9BEE146-0C42-438F-80F5-E932737F3BC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2CBE10F-4CC8-4DA3-A954-F32F76F5BE3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9361D-05EC-4CAF-B813-AE790C768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F2E600A-10B1-4001-AF0C-B9EF30504FE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34708BF-1E76-4D70-860F-0FCD07A28C2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EA8AF9B-B11F-46B6-BB22-1FCCFC47EA2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BAA1058-E2B1-44B5-AE8F-37C3CC12B21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01BC1BF-D7B0-45A0-8CDF-022D44B81A5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17EB656-13AA-4DC2-80E0-462DEBE63C2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CE31A6E-2B80-47D6-B0DB-AC976E39AF5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B0EE878-8002-4189-8E6A-0D4A1B40961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10A1712-4BC7-42EC-A6A1-062862F0E43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54EEE42-4E5C-4C88-BCC6-311D7FF6BE1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C424B-DD87-4EEF-8F59-A02FE5FFC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17E5A1B-BACE-4D57-8A2A-B9DA0D16D58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02DB22A-BAE4-4693-9D86-F92A562D93F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65A123B-FE14-4AD1-AE68-009E116FF1E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4C80E08-A6A2-4FA8-B0AF-13499D87965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8BA5D9A-AA6F-4182-858B-107E34D559B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AE2AF67-C476-436B-A93B-9B7CB979E6CC}"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60F772F-DA26-4F1A-B70D-6D571AD16292}"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3A5D9EDC-22EC-4D44-B0CA-2A57CA09A137}"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061AFD7-3131-4380-8F03-4A14DB4C8B9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6B4FE75-0F8A-4C5E-8C59-2A50B62EDF29}"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7AFEC-2B84-496F-ACC1-9A7E3B5375E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2FE67-811C-49D3-BFCD-9F184E88A45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EE82E-E8C5-4DBA-8ADE-A15FD9BBC3F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53612-BA13-401A-B6BC-D98195C5563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BE81A-9F4D-4FB6-B171-3B6BF5990FE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326EF-791C-4B63-9D18-B14B79B6CB4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81B70-1407-4476-9487-B9FB358B257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E3ED9-749F-43DA-A7F1-FFC4080E229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6C40D-D1A0-4D18-B8BD-6CAE26A55D0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7C929-F3E2-4084-9B75-3513685B0F7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8CC15-06F5-40C8-8AB0-516253F56FB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4BBD5-1885-49DB-A527-189DB5DF28C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Geneva"/>
              </a:rPr>
              <a:t>Chapter 4</a:t>
            </a: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Business-level Strategy</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Low Cost and the Five Forces</a:t>
            </a:r>
            <a:endParaRPr b="1" lang="en-US" sz="3600" spc="-1" strike="noStrike">
              <a:solidFill>
                <a:srgbClr val="ff0000"/>
              </a:solidFill>
              <a:latin typeface="News Gothic MT"/>
            </a:endParaRPr>
          </a:p>
        </p:txBody>
      </p:sp>
      <p:sp>
        <p:nvSpPr>
          <p:cNvPr id="66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ivalry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buyers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supplier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ew entrant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ubstitut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News Gothic MT"/>
              </a:rPr>
              <a:t>The Product Differentiation Strategy</a:t>
            </a:r>
            <a:endParaRPr b="1" lang="en-US" sz="3400" spc="-1" strike="noStrike">
              <a:solidFill>
                <a:srgbClr val="ff0000"/>
              </a:solidFill>
              <a:latin typeface="News Gothic MT"/>
            </a:endParaRPr>
          </a:p>
        </p:txBody>
      </p:sp>
      <p:sp>
        <p:nvSpPr>
          <p:cNvPr id="664" name=""/>
          <p:cNvSpPr txBox="1"/>
          <p:nvPr/>
        </p:nvSpPr>
        <p:spPr>
          <a:xfrm>
            <a:off x="549000" y="1143000"/>
            <a:ext cx="8042040" cy="5105520"/>
          </a:xfrm>
          <a:prstGeom prst="rect">
            <a:avLst/>
          </a:prstGeom>
          <a:noFill/>
          <a:ln w="0">
            <a:noFill/>
          </a:ln>
        </p:spPr>
        <p:txBody>
          <a:bodyPr anchor="t">
            <a:normAutofit/>
          </a:bodyPr>
          <a:p>
            <a:pPr marL="349200" indent="-349200">
              <a:lnSpc>
                <a:spcPct val="8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Product attribute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Product features </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onvenience</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Quality</a:t>
            </a:r>
            <a:endParaRPr b="0" lang="en-US" sz="28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Relationships with customer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rvice</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Product customization</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onsumer marketing</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putation/image/statu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Links with other firm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Product mix</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549000" y="107640"/>
            <a:ext cx="8042040" cy="141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Product Differentiation </a:t>
            </a:r>
            <a:br>
              <a:rPr sz="3600"/>
            </a:br>
            <a:r>
              <a:rPr b="1" lang="en-US" sz="3600" spc="-1" strike="noStrike">
                <a:solidFill>
                  <a:srgbClr val="ff0000"/>
                </a:solidFill>
                <a:latin typeface="News Gothic MT"/>
              </a:rPr>
              <a:t>and the Five Forces</a:t>
            </a:r>
            <a:endParaRPr b="1" lang="en-US" sz="3600" spc="-1" strike="noStrike">
              <a:solidFill>
                <a:srgbClr val="ff0000"/>
              </a:solidFill>
              <a:latin typeface="News Gothic MT"/>
            </a:endParaRPr>
          </a:p>
        </p:txBody>
      </p:sp>
      <p:sp>
        <p:nvSpPr>
          <p:cNvPr id="66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ivalry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buyers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supplier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ew entrant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ubstitut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Focus Strategy</a:t>
            </a:r>
            <a:endParaRPr b="1" lang="en-US" sz="3600" spc="-1" strike="noStrike">
              <a:solidFill>
                <a:srgbClr val="ff0000"/>
              </a:solidFill>
              <a:latin typeface="News Gothic MT"/>
            </a:endParaRPr>
          </a:p>
        </p:txBody>
      </p:sp>
      <p:sp>
        <p:nvSpPr>
          <p:cNvPr id="668" name=""/>
          <p:cNvSpPr txBox="1"/>
          <p:nvPr/>
        </p:nvSpPr>
        <p:spPr>
          <a:xfrm>
            <a:off x="549000" y="1371600"/>
            <a:ext cx="8042040" cy="45720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A special case of the other two strategie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228240" y="108000"/>
            <a:ext cx="89154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Integrated Low Cost and Differentiation</a:t>
            </a:r>
            <a:endParaRPr b="1" lang="en-US" sz="3600" spc="-1" strike="noStrike">
              <a:solidFill>
                <a:srgbClr val="ff0000"/>
              </a:solidFill>
              <a:latin typeface="News Gothic MT"/>
            </a:endParaRPr>
          </a:p>
        </p:txBody>
      </p:sp>
      <p:sp>
        <p:nvSpPr>
          <p:cNvPr id="670" name=""/>
          <p:cNvSpPr txBox="1"/>
          <p:nvPr/>
        </p:nvSpPr>
        <p:spPr>
          <a:xfrm>
            <a:off x="380520" y="1599840"/>
            <a:ext cx="821052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epresents an effort to offer a low price for products with somewhat differentiated featur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Firms risk becoming “stuck in the middle.”</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304920"/>
            <a:ext cx="8042040" cy="129528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It’s at the business-level where a firm competes for customers.</a:t>
            </a:r>
            <a:endParaRPr b="1" lang="en-US" sz="3600" spc="-1" strike="noStrike">
              <a:solidFill>
                <a:srgbClr val="ff0000"/>
              </a:solidFill>
              <a:latin typeface="News Gothic MT"/>
            </a:endParaRPr>
          </a:p>
        </p:txBody>
      </p:sp>
      <p:sp>
        <p:nvSpPr>
          <p:cNvPr id="643" name=""/>
          <p:cNvSpPr txBox="1"/>
          <p:nvPr/>
        </p:nvSpPr>
        <p:spPr>
          <a:xfrm>
            <a:off x="533520" y="1752480"/>
            <a:ext cx="7696080" cy="4143600"/>
          </a:xfrm>
          <a:prstGeom prst="rect">
            <a:avLst/>
          </a:prstGeom>
          <a:noFill/>
          <a:ln w="0">
            <a:noFill/>
          </a:ln>
        </p:spPr>
        <p:txBody>
          <a:bodyPr anchor="t">
            <a:normAutofit/>
          </a:bodyPr>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By selecting a business-level strategy, a firm determines:</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News Gothic MT"/>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Who it will serve.</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News Gothic MT"/>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What need(s) it will satisfy.</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News Gothic MT"/>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How these needs will be satisfied.</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2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9AE07DA0-A33F-42E7-834E-F0D0E054B797}"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7" dur="500"/>
                                        <p:tgtEl>
                                          <p:spTgt spid="643">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43">
                                            <p:txEl>
                                              <p:pRg st="2" end="2"/>
                                            </p:txEl>
                                          </p:spTgt>
                                        </p:tgtEl>
                                        <p:attrNameLst>
                                          <p:attrName>style.visibility</p:attrName>
                                        </p:attrNameLst>
                                      </p:cBhvr>
                                      <p:to>
                                        <p:strVal val="visible"/>
                                      </p:to>
                                    </p:set>
                                    <p:animEffect filter="blinds(horizontal)" transition="in">
                                      <p:cBhvr additive="repl">
                                        <p:cTn id="12" dur="500"/>
                                        <p:tgtEl>
                                          <p:spTgt spid="643">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43">
                                            <p:txEl>
                                              <p:pRg st="3" end="3"/>
                                            </p:txEl>
                                          </p:spTgt>
                                        </p:tgtEl>
                                        <p:attrNameLst>
                                          <p:attrName>style.visibility</p:attrName>
                                        </p:attrNameLst>
                                      </p:cBhvr>
                                      <p:to>
                                        <p:strVal val="visible"/>
                                      </p:to>
                                    </p:set>
                                    <p:animEffect filter="blinds(horizontal)" transition="in">
                                      <p:cBhvr additive="repl">
                                        <p:cTn id="17" dur="500"/>
                                        <p:tgtEl>
                                          <p:spTgt spid="643">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43">
                                            <p:txEl>
                                              <p:pRg st="4" end="4"/>
                                            </p:txEl>
                                          </p:spTgt>
                                        </p:tgtEl>
                                        <p:attrNameLst>
                                          <p:attrName>style.visibility</p:attrName>
                                        </p:attrNameLst>
                                      </p:cBhvr>
                                      <p:to>
                                        <p:strVal val="visible"/>
                                      </p:to>
                                    </p:set>
                                    <p:animEffect filter="blinds(horizontal)" transition="in">
                                      <p:cBhvr additive="repl">
                                        <p:cTn id="22" dur="500"/>
                                        <p:tgtEl>
                                          <p:spTgt spid="6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Business-level strategies . . .</a:t>
            </a:r>
            <a:endParaRPr b="1" lang="en-US" sz="3600" spc="-1" strike="noStrike">
              <a:solidFill>
                <a:srgbClr val="ff0000"/>
              </a:solidFill>
              <a:latin typeface="News Gothic MT"/>
            </a:endParaRPr>
          </a:p>
        </p:txBody>
      </p:sp>
      <p:sp>
        <p:nvSpPr>
          <p:cNvPr id="647" name="PlaceHolder 2"/>
          <p:cNvSpPr>
            <a:spLocks noGrp="1"/>
          </p:cNvSpPr>
          <p:nvPr>
            <p:ph/>
          </p:nvPr>
        </p:nvSpPr>
        <p:spPr>
          <a:xfrm>
            <a:off x="609120" y="1752120"/>
            <a:ext cx="8077320" cy="4295880"/>
          </a:xfrm>
          <a:prstGeom prst="rect">
            <a:avLst/>
          </a:prstGeom>
          <a:noFill/>
          <a:ln w="0">
            <a:noFill/>
          </a:ln>
        </p:spPr>
        <p:txBody>
          <a:bodyPr anchor="t">
            <a:norm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use the firm’s competitive advantage(s) as the basis to compete for customers in individual product markets.</a:t>
            </a:r>
            <a:endParaRPr b="0" lang="en-US" sz="3200" spc="-1" strike="noStrike">
              <a:solidFill>
                <a:srgbClr val="595959"/>
              </a:solidFill>
              <a:latin typeface="News Gothic MT"/>
            </a:endParaRPr>
          </a:p>
        </p:txBody>
      </p:sp>
      <p:sp>
        <p:nvSpPr>
          <p:cNvPr id="648"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D9C35925-3074-4153-A199-960DDEA9625B}"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6" presetSubtype="26">
                                  <p:stCondLst>
                                    <p:cond delay="0"/>
                                  </p:stCondLst>
                                  <p:childTnLst>
                                    <p:set>
                                      <p:cBhvr>
                                        <p:cTn id="28" dur="1" fill="hold">
                                          <p:stCondLst>
                                            <p:cond delay="0"/>
                                          </p:stCondLst>
                                        </p:cTn>
                                        <p:tgtEl>
                                          <p:spTgt spid="647">
                                            <p:txEl>
                                              <p:pRg st="1" end="1"/>
                                            </p:txEl>
                                          </p:spTgt>
                                        </p:tgtEl>
                                        <p:attrNameLst>
                                          <p:attrName>style.visibility</p:attrName>
                                        </p:attrNameLst>
                                      </p:cBhvr>
                                      <p:to>
                                        <p:strVal val="visible"/>
                                      </p:to>
                                    </p:set>
                                    <p:animEffect filter="barn(inHorizontal)" transition="in">
                                      <p:cBhvr additive="repl">
                                        <p:cTn id="29" dur="500"/>
                                        <p:tgtEl>
                                          <p:spTgt spid="6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Determining Who Our Customer Is</a:t>
            </a:r>
            <a:endParaRPr b="1" lang="en-US" sz="3600" spc="-1" strike="noStrike">
              <a:solidFill>
                <a:srgbClr val="ff0000"/>
              </a:solidFill>
              <a:latin typeface="News Gothic MT"/>
            </a:endParaRPr>
          </a:p>
        </p:txBody>
      </p:sp>
      <p:sp>
        <p:nvSpPr>
          <p:cNvPr id="650" name=""/>
          <p:cNvSpPr txBox="1"/>
          <p:nvPr/>
        </p:nvSpPr>
        <p:spPr>
          <a:xfrm>
            <a:off x="549000" y="1295280"/>
            <a:ext cx="8042040" cy="464832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ompanies divide customers into groups based on differences in customers’ need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News Gothic MT"/>
              </a:rPr>
              <a:t>Market segmentation </a:t>
            </a:r>
            <a:r>
              <a:rPr b="0" lang="en-US" sz="3200" spc="-1" strike="noStrike">
                <a:solidFill>
                  <a:srgbClr val="595959"/>
                </a:solidFill>
                <a:latin typeface="News Gothic MT"/>
              </a:rPr>
              <a:t>is the process of clustering people with similar needs into separate group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Satisfying Customers’ Needs</a:t>
            </a:r>
            <a:endParaRPr b="1" lang="en-US" sz="3600" spc="-1" strike="noStrike">
              <a:solidFill>
                <a:srgbClr val="ff0000"/>
              </a:solidFill>
              <a:latin typeface="News Gothic MT"/>
            </a:endParaRPr>
          </a:p>
        </p:txBody>
      </p:sp>
      <p:sp>
        <p:nvSpPr>
          <p:cNvPr id="65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se needs are related to a product’s benefits and featur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ustomers desire (need) products that create value for them.</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95959"/>
                </a:solidFill>
                <a:latin typeface="News Gothic MT"/>
              </a:rPr>
              <a:t>What do customers value?</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How will these needs be satisfied?</a:t>
            </a:r>
            <a:endParaRPr b="1" lang="en-US" sz="3600" spc="-1" strike="noStrike">
              <a:solidFill>
                <a:srgbClr val="ff0000"/>
              </a:solidFill>
              <a:latin typeface="News Gothic MT"/>
            </a:endParaRPr>
          </a:p>
        </p:txBody>
      </p:sp>
      <p:sp>
        <p:nvSpPr>
          <p:cNvPr id="65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Firms satisfy their customers’ needs by using their resources and capabilities to provide products and services that are valuable to consumer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04920" y="108000"/>
            <a:ext cx="828648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Purpose of Business-level Strategies</a:t>
            </a:r>
            <a:endParaRPr b="1" lang="en-US" sz="3600" spc="-1" strike="noStrike">
              <a:solidFill>
                <a:srgbClr val="ff0000"/>
              </a:solidFill>
              <a:latin typeface="News Gothic MT"/>
            </a:endParaRPr>
          </a:p>
        </p:txBody>
      </p:sp>
      <p:sp>
        <p:nvSpPr>
          <p:cNvPr id="656" name=""/>
          <p:cNvSpPr txBox="1"/>
          <p:nvPr/>
        </p:nvSpPr>
        <p:spPr>
          <a:xfrm>
            <a:off x="380520" y="1294920"/>
            <a:ext cx="8210520" cy="48006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 business-level strategy is used to create differences between a firm’s position and that of its rivals.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n creating these differences, a firm must decide if it should “</a:t>
            </a:r>
            <a:r>
              <a:rPr b="0" i="1" lang="en-US" sz="3200" spc="-1" strike="noStrike">
                <a:solidFill>
                  <a:srgbClr val="595959"/>
                </a:solidFill>
                <a:latin typeface="News Gothic MT"/>
              </a:rPr>
              <a:t>do things differently or do different things</a:t>
            </a:r>
            <a:r>
              <a:rPr b="0" lang="en-US" sz="3200" spc="-1" strike="noStrike">
                <a:solidFill>
                  <a:srgbClr val="595959"/>
                </a:solidFill>
                <a:latin typeface="News Gothic MT"/>
              </a:rPr>
              <a:t>.”</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How will the firm use its value chain and support activities to create value?</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ypes of Business-level Strategies</a:t>
            </a:r>
            <a:endParaRPr b="1" lang="en-US" sz="3600" spc="-1" strike="noStrike">
              <a:solidFill>
                <a:srgbClr val="ff0000"/>
              </a:solidFill>
              <a:latin typeface="News Gothic MT"/>
            </a:endParaRPr>
          </a:p>
        </p:txBody>
      </p:sp>
      <p:sp>
        <p:nvSpPr>
          <p:cNvPr id="658" name=""/>
          <p:cNvSpPr txBox="1"/>
          <p:nvPr/>
        </p:nvSpPr>
        <p:spPr>
          <a:xfrm>
            <a:off x="549000" y="1599840"/>
            <a:ext cx="8042040" cy="4343400"/>
          </a:xfrm>
          <a:prstGeom prst="rect">
            <a:avLst/>
          </a:prstGeom>
          <a:noFill/>
          <a:ln w="0">
            <a:noFill/>
          </a:ln>
        </p:spPr>
        <p:txBody>
          <a:bodyPr anchor="t">
            <a:normAutofit fontScale="93000"/>
          </a:bodyPr>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Lower costs than rivals (the ability to perform activities differently).</a:t>
            </a:r>
            <a:endParaRPr b="0" lang="en-US" sz="3200" spc="-1" strike="noStrike">
              <a:solidFill>
                <a:srgbClr val="595959"/>
              </a:solidFill>
              <a:latin typeface="News Gothic MT"/>
            </a:endParaRPr>
          </a:p>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Differentiate, and then demand a price premium that exceeds the costs of doing so (the ability to do different things).</a:t>
            </a:r>
            <a:endParaRPr b="0" lang="en-US" sz="3200" spc="-1" strike="noStrike">
              <a:solidFill>
                <a:srgbClr val="595959"/>
              </a:solidFill>
              <a:latin typeface="News Gothic MT"/>
            </a:endParaRPr>
          </a:p>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se strategies are carried out in either </a:t>
            </a:r>
            <a:r>
              <a:rPr b="1" i="1" lang="en-US" sz="3200" spc="-1" strike="noStrike">
                <a:solidFill>
                  <a:srgbClr val="ff0000"/>
                </a:solidFill>
                <a:latin typeface="News Gothic MT"/>
              </a:rPr>
              <a:t>broad or narrow </a:t>
            </a:r>
            <a:r>
              <a:rPr b="0" lang="en-US" sz="3200" spc="-1" strike="noStrike">
                <a:solidFill>
                  <a:srgbClr val="595959"/>
                </a:solidFill>
                <a:latin typeface="News Gothic MT"/>
              </a:rPr>
              <a:t>market segment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Low Cost Strategy</a:t>
            </a:r>
            <a:endParaRPr b="1" lang="en-US" sz="3600" spc="-1" strike="noStrike">
              <a:solidFill>
                <a:srgbClr val="ff0000"/>
              </a:solidFill>
              <a:latin typeface="News Gothic MT"/>
            </a:endParaRPr>
          </a:p>
        </p:txBody>
      </p:sp>
      <p:sp>
        <p:nvSpPr>
          <p:cNvPr id="66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tandardized products or servic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road market and high turnover.</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eek cost savings in all activiti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articularly inbound and outbound logistic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21-03-08T13:57:11Z</dcterms:modified>
  <cp:revision>325</cp:revision>
  <dc:subject/>
  <dc:title>Slide 1</dc:title>
</cp:coreProperties>
</file>