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A273-80FF-44BE-9A07-D3DD53E82A0A}"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15C0-6308-4108-9486-C1364225549F}"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7935C-7505-4B93-9D6E-ED2F9E6A1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F2922-2094-47EE-805C-8DC5EA57E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7AEAB3D-B110-4AEE-BCEC-B21AEAC4AE2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161C4EF-F670-4DA9-93FB-51EB69EDFE6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0C69C37-A60D-4F0C-A4F8-4C6DA454177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42EEA15-6C6C-401C-A451-FD845B4728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3B0C6A-B3F1-450D-9E27-E2D8417DF18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57F485-7EE9-47E3-B034-2690883E6D3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7F883CC-E3A9-4EFD-B105-F2CDCF3D1E7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01B1C0D-6669-4752-AFAC-EA06F6F5E9B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0BE734B-2516-4037-8E04-D0B0B943D9E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4E854A4-D49F-483B-959E-C435D787506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BB6E7-6161-4E8A-BD07-B10FCDF84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F19894C-2168-4743-A7C5-B91F7D672B3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48B0C3C-D238-4B9D-9D48-69FB226C066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45D5109-53B6-4C1D-8288-EA91FD92628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D4448A5-CE83-49F5-BF05-20441DE4CC7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63D4DE8-60D6-4E3D-A795-54DEDA0F216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27DF19C-381A-4EF4-8569-559BD23C69C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F94F28C-0D86-4767-A789-F60796B880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F813AE8-7632-4223-9E7D-90FE3BBEF4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CFE0E47-BADE-46AD-95A0-831D2DF7BB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F638FEF-F5E7-472B-90A9-C1C23DA352A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15C5C-E96A-4C68-B39C-94A2EE007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BDD18C0-95BF-4027-9DA7-7D5AFD8035C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67E7D1C-FCDC-43AE-84F0-3D8A68EA66B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A947C5F-09AB-4721-B018-1E6B683EB90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8C97E79-4FAA-43BC-BDA9-2667AE9573E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0C4F97B-64C3-4555-A164-73DB4A04DEB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FB57A7F-07CC-456A-AC64-D106AD0B185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C411908-8DA8-41AC-91EE-421684883E0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BCD00F-90E3-4812-AC52-8AF956B2589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8EDE40A-2692-4699-B2AE-1BADCB79C41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40C6C00-A923-451D-ACEF-BCC254F2427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89187E-2C5C-4B51-BEF5-7D3BB20FF41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2E79867-BE91-4224-B3F2-3CA96A6FD47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67A2AE0-68CE-4C12-A97F-958D8C1C15F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50849E3-919C-4824-AB5F-C4CB3A54892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C455351-38D1-44E9-9D6E-5BB42B25C0D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127673E-C527-4A25-ACD5-A40078189CB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B597CA3-C7A9-4705-A72F-CE1052C0D5F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001D842-4423-4E43-8C68-F585A7A6731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7F954AF-6652-4BD0-A60E-F1239351BCE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35B49AF-6A9C-4114-A114-6BD1DE73BB9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DBC4C67-CD65-485B-BE12-1B677F898E5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D6C16A-8A89-482B-B4BE-DBB5F7188BD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1FAE3FA-F084-4855-B3DC-D160CFB722C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6DE6F93-89BF-4540-8D12-55B6C1A14AF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FF8D576-C24E-4309-BC18-E3A9F67965A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40675E3-6092-43B4-A00A-1F4BFC2BBB1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33B7A01-7815-463E-90C1-B2A92CC13E6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3D887C1-6EB8-48F4-9AA2-6BDE4A9472D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975322F-03F6-4985-B362-D66987F46C6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2E128C8-1594-4119-AB91-6ACFE623C07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DB6D3EF-72CB-4D74-A20F-BCD27240C52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00C353F-FF41-4764-88DE-ABB1AF131AD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CB0F33-5A96-4EB6-ACA7-B83441E209C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506707A-B787-4FCA-B6C5-CB88E90D0BB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E28D9BC-4C23-49F1-B3D3-9290B9E5B48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3AFB545-7E88-47AD-9F6C-BE1CA2BEEA8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9420846-8535-4853-B092-C3541B415F1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103CE88-FB9B-4ADD-ACB0-5EA7F21A437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A9E2A63-038F-422B-A1A2-1B9D69BCE7B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54F3115-6188-4EBC-AD7A-48BDE28FEA8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786910FA-FD13-418D-A7F4-3A0628ECB26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384B3F2-D10D-43AA-86B5-A5847DC484F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7E304E1-D24C-4C15-AFF2-A13100DD965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29B8A0-8C45-49F7-AB83-FBD43BB4511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0C3F2FE-345D-4FC4-B6ED-FBAB205F1AA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5D57265-78D9-4B4D-8389-B28B7D544AC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4BC4FDE-4E0E-4B53-BD9C-5234F0DA30C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DC5457D-4E8A-489B-871C-82562408AC8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0B08787-413D-4D56-ACCA-5ECE680C205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D202050-F3BA-4688-B881-01F1F848786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4BB5682-AAAB-4A32-BC8A-F0B8D8DC375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F604812-474B-48FC-B3C0-B9E5D09E644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B485A48-662F-4CAA-A8D4-65FCFE0802B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ACFC10-FF43-411F-BA87-C433C6C6180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A3A243-ABB0-4160-AA8B-8CA1E192840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B27B39-F462-4E40-9B04-CF5FF9206B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85F9A-C2D4-4E22-8057-3D74B32BF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85D1AB-BD0A-4DB2-B4F0-34511F0813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B35A5B-877D-4673-AF1E-16F24FEA79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8D4484-09E3-4E82-89D7-D725BCEEA9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9607C4-EA87-4D58-AC9B-5BE28BB4BF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BE0486-559F-437A-8731-266C96795D6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CA66D-7B84-4C04-869C-A83CE1084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D2C33-16B6-40FE-BA3C-CC2DF2AFC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C8FB8AA-C706-4A77-880A-75F7ACFBF41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EB135-5303-4194-8041-CFE3224CA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6027AC-E3B5-417E-B4BF-58324F0C0F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687B95-6D71-4281-83EF-F8D086788E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77D4EF-8344-4BF1-A0E6-255126FB78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01F957-8764-4F2F-8A31-DDB514F93F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D233D0-89B8-463E-A7CB-80AAE10C13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444533-1919-4832-994B-4F47B591B0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3BBFB0-5D94-4894-A4E5-EFBB10B998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793A91-183D-4219-B7DE-61FE6C3CA9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949390-A6B4-40E9-BE24-50A6D2D48F8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782CCD6-E42F-48C3-ABCD-E28D33FFBD3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83555-EBD1-4222-94C6-5777022B3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D97591F-263A-4B7B-BEDA-287EE1BD1D3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7E64ABB-986B-41CD-A7D2-01859DB374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53010F-0327-4A69-9FAB-1A32B8D07E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B4684BF-41BC-433F-B206-1D6ABDBF42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17AE10-D78C-40D6-906B-212A156834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E48BFB-DFD7-4960-AFE0-142502C5CB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D5DCB3-D0F3-459E-B535-4CD83FD279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AA11AB-41A8-490B-A988-F9470BEC26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292953-A757-49A6-AF5E-CEFEBA534E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568102-C78E-449B-8B96-7A72F1D791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B1CB-56F5-4F73-8E52-1408734CB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2340AC-F8F4-4981-9130-39C7847B79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CB2217D-D9F5-4B50-BBD1-85322BBEFA7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769018C-3EC9-41D0-B97A-7192A8459C6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89A730A-70A6-4755-ACA5-E52BAA75ED3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8F1448-D508-44BA-8A66-84ACCF11FBA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1303A83-E2DC-4FA4-B167-78AABB77EEE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F0E8984-8F26-4806-91F8-20804AA2A3E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93D7122-EE26-4BD5-9440-F4287A307F2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A5634FD-D260-4024-9531-CFCA205E4DC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8E1725-E692-4550-9D74-1621002BE0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1E2D2-D326-4E20-BD9D-16CBF6587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934BCB-A7D0-4F6B-884C-8F70A50A92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049140-2394-43E4-B1FA-556FBFDFC9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CC51040-41E8-4FC3-AEAA-15E55E426EF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46C61CC-1B2F-491B-A4E3-7C1EDD8491C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23C018A-ECAE-44F1-A943-6FC7B99C66D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CCFA2C6-36BC-4594-87C7-25C2F514B35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EED587C-82F2-4F9E-8158-32B2BD00A6E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BA51B33-7F44-447A-99B8-8FF4F4468F0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EE81168-C38A-4A7E-9A43-7405E23F227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54EEEA5-EB44-40B0-A6FE-8CDAFEA8992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4411C-7293-43FE-ADE6-3C0CD79F9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FC7364B-78B4-4491-8561-7CB7FC654E4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0901930-BD55-4D73-83EF-0BB947464BA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C9C8486-48E8-4181-859A-0AE028318AF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98AE362-BFEC-417A-B196-DA7CD4CEB5D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7DEA86A-86FB-4A94-A382-218BAD38A5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38D4B38-2289-484B-8B21-218DBF5DDEC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B722871-BD73-48E1-A379-33D2CD62EF3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D86BBF3-5710-4C30-B05A-CFD8E2B7808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133AD91-6F38-47EE-8AA6-54E620B5E2F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4066F6A-8420-4FE3-B6D7-ECBDF4E18EBA}"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39F9-4B03-457F-A1C1-5D48337E6A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5819-F01E-4875-8830-889A6254F71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F1A0-13E1-47C5-9E60-3D9FC666CD6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EAEE-C274-4879-B2E4-BA812D965C5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ADCB-DF32-4FFF-8748-FAC9630941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2D60-3C7C-4AB4-806A-E26BC4DDDE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22A8-0EE4-4CF2-85B6-DDC8FC640A2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39C6-BA58-49CB-BE53-97CAA395343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5208-95D8-46DF-8928-3325EBE2776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CF53-A815-4DD6-BEE6-1A9482A5813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9E03-A135-42C3-A390-87F04458138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1F82-C31C-4FF9-82D7-BE22CAF8362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News Gothic MT"/>
              </a:rPr>
              <a:t>The Product Differentiation Strategy</a:t>
            </a:r>
            <a:endParaRPr b="1" lang="en-US" sz="34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6AB904C6-BBBB-4563-A449-789EAA6D2238}"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E0A82D17-E634-445A-AD8E-7F3500E4F09F}"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57:11Z</dcterms:modified>
  <cp:revision>325</cp:revision>
  <dc:subject/>
  <dc:title>Slide 1</dc:title>
</cp:coreProperties>
</file>