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83307-7C2B-4F24-A7B9-CE5228D9B54B}" type="datetime">
              <a:rPr b="0" lang="en-US" sz="1200" spc="-1" strike="noStrike">
                <a:solidFill>
                  <a:srgbClr val="000000"/>
                </a:solidFill>
                <a:latin typeface="Times New Roman"/>
                <a:ea typeface="Geneva"/>
              </a:rPr>
              <a:t>07/30/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BC00B-9B7F-4C02-B1B9-6B008E4A107F}"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D1E08-7CCF-4100-B561-4E2171770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F9D06-1AEB-4291-A10A-3BF3F6CB8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3402ED7-1D60-4660-8653-19DE5315E2F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3836E86-40AA-4A85-871E-24D34C2E48E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7FB3D98-20FC-4A43-B3DE-BE98F7064AA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7757B07-80BC-418A-B414-B25D227E961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73B4ABF-DE64-42AF-8C3C-575410768AA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603A5D1-24F6-437C-884A-DE45607020C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633DF35-73C1-474A-9A09-57A99C2333A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634FCE7-336F-48A9-847C-9EA01D2AC2E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EC1A072-D8A3-49B6-A917-F379F169088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3E8BA50-02EC-44FD-B082-58210E7C1E9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91E22-2E15-4BB1-9B2D-3EC33148E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DBDD6AA-24C1-49EF-A65A-3941474778B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4776026-99B2-471F-A12E-EF351588132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27FB1E4-380C-4A5B-AD58-1B566E91CC8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7F18E35-A465-4B77-9BCB-76F49D4CDAA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75F41D5-636B-4140-981E-B2AC9983D83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9EFFE3A-D8A7-46FE-83C4-0067F876619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068B251-692D-47B5-A785-515184CBA46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34B6D52-712C-4F20-BECC-8E5BD5C5C0B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D5DE854-AB74-4F85-8C89-EF46C03BF29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3A4EF1D-6589-436D-BBDA-9DB54E917CA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50810D-FEA3-4468-AFE3-5B332BA9A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791AF94-EEB4-4EB2-B9B6-F2E60542165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5E4B185-8D96-4A41-B753-AD1F02ABA33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9E3AF81-AECF-44A4-9FA2-400EAF5EFC1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0965C52-55DC-4F90-9106-61E2BF3B4F7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53F9F7D-B940-42D1-BFF6-7AE2DB30FF5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0226145-DD91-4DC0-9B47-379B322446F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5E6C909-C094-4282-8CE1-CEDD0405061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D6C63D8-1F27-4729-9E78-5EC7C149308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CB9BCDE-F9AB-40A4-9791-D9B668F5471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E2403D8-C984-413F-8BD9-B21996823FB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5ABD30-742D-4C3D-A820-EB0B8F13CFE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ECEE17B-0CB6-4CDA-BC3B-B94D15C7609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C9E0509-2087-4B8F-AF94-4D5B5A0DA09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376DE77-9653-40FB-827E-338F7F134E7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5D85232D-8BAA-4B51-A78D-42D8B35FFBE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0BFA26F-8A27-482D-B665-4066CAA6F51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588B479-C966-4CE0-925D-C7A42832683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7413520-A1EE-4E5D-82A9-492DA746A64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5658073-86B1-4F9F-9E08-CA359E7AFCC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6F9C48C-1F09-4A42-A241-4EC5BA715ED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C8F6F95-0BCD-4FFB-9104-13C902B1353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9B2FEA-1440-4171-8DCF-076E06EC6C9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E062569-17B6-4D5B-A06A-FC4EF2A0388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EB36B78-F475-4B6C-BE26-D31371B3E6B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5CC02FE-B1DC-4224-8C38-D5EE06E3B8C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4DFAFF9-255E-4CFB-BF14-59C8291B900C}"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C5965B2-5B3C-4FF0-8EFA-1CB7F78D0F4A}"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699CC98-9FAC-4D0D-A0AA-81F0A2ACFF2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420ADED-A828-440C-972C-47283CBE7DE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210A374-A259-4874-AC89-09CC9C1A28A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6DA958A-635F-4D47-8647-AF2D1B544E6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C2C08C5-851C-4DD0-9A92-166421756A6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5D2D4D-B351-4032-8CE9-C06E8BCCF8A7}"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9A861DD-0A39-41C5-AB3D-FC7A5971B28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59A9A6E-8827-474B-A389-A1A4CE536B5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3E91843-658B-4401-90E3-A1763CA7AEC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6B69D5E-207F-44E7-8EDC-F7AB0598BA7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CEC3D11-DC58-4656-A97F-DB5B8C599F9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0AE69803-6F2A-4661-AC1C-90EECBD8F28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097A819-E4FB-405D-93FB-8C8F0A33473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EA0FF0A8-0BEC-4220-84DB-9C0F68A784C5}"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32B2230-3D5F-406C-8A89-8579BD6F6E2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26565D9-3889-44F4-8681-0044686023D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A54F28-75F4-4CD3-AA68-CDD27D7F6726}"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B43D43C-8FFC-4C66-90A7-AAF548561AC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250142A-D9A1-4ED4-AC6F-8773EA8C9B5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2931B74-316F-4D52-A1A2-7AF2C079EA6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C0EC4B9-A22A-4F9C-ADFD-B04B055CD22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C15967A-C0E1-4032-AEE9-969B89659E8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557F801-6638-4CFC-8D1A-457BA4EC76A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D4A202F-8CC8-4482-A3AE-4D7F35F0C11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B465B943-E454-4453-8E8A-756988A1552E}"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1063B091-B669-4837-8E0E-AF21958DDF4C}"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12DCB3-C650-416D-B3DA-93F675719918}"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F42BCD-C191-452A-A3E3-C648FF7ED927}"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D196D6-12AD-446F-97DD-9399EAF840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D649D-F5BA-4306-B92A-91312862C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48CE5F-CF35-4F21-86D3-CA80B04921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C40A18-D943-4D1B-87B1-82C833A06D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A0D7AD-FAEE-4311-887A-42A0950DF1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731810-E41F-4F39-9E3B-45E3EDFB98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97130E-23E8-493E-909E-72197887011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9F479-1A09-4E32-BB72-28DA4DAD0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96653-EEEA-4EB8-BB7A-3532E5AB1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FEDAFEA-3211-4C2D-9978-6C2D66BBE34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C9179-FE46-46A5-B7AD-ED9940A46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00639C2-3766-40A3-BABA-7C4543E4712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FFAC855-5201-409B-9484-B5D0CFC9B8C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81F2715-DF52-44F0-BA97-FF4270684FD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A975439-A2E2-4A59-9232-319143E9BEE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8F92950-0C22-4DC5-ABE8-9E28B45B3E8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0A191D9-EE03-411D-95A8-5BB5BC29054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6AB7B02-D17F-4963-8267-2B527369F12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C706571-58E6-42A8-81B8-29B7310C2EB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D28F5D9-4E54-48A1-B9EC-8B1E9245496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B5C7CC0-C4DC-46F1-A18F-35BF9E5ACBF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4FD98-3ED5-448C-9DAA-CC9EAF616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3B93091-258B-46BB-9DCB-F9052F86693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B5FE806-C2D8-48AD-B9B7-043567A7E94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6799251-37C3-4604-86FC-6B64E0F192E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B45887E-7ABE-4B50-AD7D-BFE0D37FE01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CC9DCEC-035E-47B7-BA57-F34BF179CBA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83E7F9D-3B18-4831-97C1-CC88776A40C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FCDD7BC-5E7D-4C55-9F09-61F0576A233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0F7492C-7015-48F0-BF9F-69ED9F06F9A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D2D4B8A-5172-4265-BBD8-9C37728173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1852100-33C1-44C7-9031-1E60A4F99C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4D7AB-2232-4B65-B82F-99E8E6B5C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8FC23C5-4A9D-4CA0-A023-CFA98262A45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5EE4990-DD18-4A03-9B56-AD7ACE10212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F6386A7-C0FB-4531-BC1B-976CB54A5F9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A793849-5CE4-4A8F-930A-81063CCCCA5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01ABB3E-0AEC-4201-8C75-A473F5739B2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97CF0B1-E498-46C8-8C5B-CD0D5FFA21C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2CEA576-F3F5-4975-B838-6D508C12825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3D31DEB-A7DC-4E0D-90E8-C845C634CB0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4495E8B-9FDC-4EA5-9498-5CDD498153D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A06BEAE-B621-40EB-9A51-F10A1C26A93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42844-9F91-41F4-AAC9-22535B8C4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CCC729C-AECF-423B-9D3A-C5A004A6948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856A49D-6C15-4AE0-B498-51A31B3B326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ADAF1DE-7A5C-4325-8E99-506204ACACB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61D7283-BAB9-4742-A4CA-4835D96CD2A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CCDB840-974F-459E-96CF-7B0CA13FB43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D748CC3-CBDB-4693-8F03-669FC07653D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D3D8B52-5802-4937-9AAB-0ACAEA1483E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D4D76FB-872A-4997-9A86-D090055D23C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DE1D253-ED67-46A2-90BB-0F604DCC862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9214623-1FA1-4C8F-AFE1-F25CD59BA33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0251A-27CA-4167-AFA5-5D1B4B385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EE180A2-AF77-4EED-BD7A-96B49D23224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8EE0F5B-251E-4D0E-9F27-8887EBA51AE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5B0997F-3787-47E1-9783-AB5C3F0FB53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8BD2645-F84B-4C3D-A2DC-A86ADA6477A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3916CD1-D093-4404-8854-C106132C45F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86EDA8B-6285-48B0-88B4-548FE9847A5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708892A-6DE0-4D56-83F0-2778111BC2A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0E50F10-D8A9-4CE9-B5F0-5ABD9FB1043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2198BCE-9D1A-4860-AB40-3B0CD3C7AD7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027120B-CA07-4074-B859-A05395C23CB8}"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B9B78-7905-4832-A453-1933AAE71F3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BCF1A-9553-4853-831C-ED232C47C5B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896C7-7EDC-4B1F-8EDA-4E0F5FBFEFC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91361-B9F2-4892-AFC3-58B0EAC5C33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23E40-B9E7-47AD-A6FE-17B6BECC540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C616A-54FB-4F15-A6B1-D97782D9BF3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C38B5-2FE2-4BD4-A4FC-C6ECB0FB7D2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522FE-F1F2-47E0-96E3-6DDFD5FE723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7C5E8-66D1-42F3-9E77-65D9388ACCB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F4918-88F0-4FD9-969B-7FA4A822A2B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97E8D-CDF1-46D8-A98B-DDA4DE6BE3E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15614-7436-40E0-83BE-71B1487B5D2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6</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Corporate-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1263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Motives for Diversification </a:t>
            </a:r>
            <a:br>
              <a:rPr sz="3200"/>
            </a:br>
            <a:r>
              <a:rPr b="1" lang="en-US" sz="3200" spc="-1" strike="noStrike">
                <a:solidFill>
                  <a:srgbClr val="ff0000"/>
                </a:solidFill>
                <a:latin typeface="News Gothic MT"/>
              </a:rPr>
              <a:t>That are Unlikely to Create Value </a:t>
            </a:r>
            <a:endParaRPr b="1" lang="en-US" sz="3200" spc="-1" strike="noStrike">
              <a:solidFill>
                <a:srgbClr val="ff0000"/>
              </a:solidFill>
              <a:latin typeface="News Gothic MT"/>
            </a:endParaRPr>
          </a:p>
        </p:txBody>
      </p:sp>
      <p:sp>
        <p:nvSpPr>
          <p:cNvPr id="662" name=""/>
          <p:cNvSpPr txBox="1"/>
          <p:nvPr/>
        </p:nvSpPr>
        <p:spPr>
          <a:xfrm>
            <a:off x="549000" y="1599840"/>
            <a:ext cx="8042040" cy="4724280"/>
          </a:xfrm>
          <a:prstGeom prst="rect">
            <a:avLst/>
          </a:prstGeom>
          <a:noFill/>
          <a:ln w="0">
            <a:noFill/>
          </a:ln>
        </p:spPr>
        <p:txBody>
          <a:bodyPr anchor="t">
            <a:normAutofit/>
          </a:bodyPr>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ntitrust regulation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ax law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performance</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isk reduction</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urplus resource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ducing employment risk</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Increasing managerial compensation</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level Strategy</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Answers the question “what business or businesses to we want to be in”?</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The corporate-level strategy is </a:t>
            </a:r>
            <a:r>
              <a:rPr b="1" lang="en-US" sz="2800" spc="-1" strike="noStrike">
                <a:solidFill>
                  <a:srgbClr val="595959"/>
                </a:solidFill>
                <a:latin typeface="News Gothic MT"/>
                <a:ea typeface="Geneva"/>
              </a:rPr>
              <a:t>diversification</a:t>
            </a:r>
            <a:r>
              <a:rPr b="0" lang="en-US" sz="2800" spc="-1" strike="noStrike">
                <a:solidFill>
                  <a:srgbClr val="595959"/>
                </a:solidFill>
                <a:latin typeface="News Gothic MT"/>
                <a:ea typeface="Geneva"/>
              </a:rPr>
              <a:t> (away from a single business strategy).</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attempts to create value for the shareholders.</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What do shareholders value?</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5A82AF3A-46A8-4114-9CCD-F3E93C2B8942}"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0" end="0"/>
                                            </p:txEl>
                                          </p:spTgt>
                                        </p:tgtEl>
                                        <p:attrNameLst>
                                          <p:attrName>style.visibility</p:attrName>
                                        </p:attrNameLst>
                                      </p:cBhvr>
                                      <p:to>
                                        <p:strVal val="visible"/>
                                      </p:to>
                                    </p:set>
                                    <p:animEffect filter="blinds(horizontal)" transition="in">
                                      <p:cBhvr additive="repl">
                                        <p:cTn id="7" dur="500"/>
                                        <p:tgtEl>
                                          <p:spTgt spid="64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12" dur="500"/>
                                        <p:tgtEl>
                                          <p:spTgt spid="64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7" dur="500"/>
                                        <p:tgtEl>
                                          <p:spTgt spid="64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2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 v. Business Level</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a:bodyPr>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is concerned with what businesses the firm should operate and how the corporate headquarters should manage its business portfolio.</a:t>
            </a:r>
            <a:endParaRPr b="0" lang="en-US" sz="2800" spc="-1" strike="noStrike">
              <a:solidFill>
                <a:srgbClr val="595959"/>
              </a:solidFill>
              <a:latin typeface="News Gothic MT"/>
            </a:endParaRPr>
          </a:p>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business-level strategy must be selected for each business in which the firm has decided to compete.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E7CCB572-BA19-4CCE-8EB5-B4E72928832D}"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29" dur="500"/>
                                        <p:tgtEl>
                                          <p:spTgt spid="647">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34"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The key question is . . . </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When, or under what conditions, can we expect a group of managers within a single firm to more efficiently diversify the firm’s portfolio of businesses than an individual investor could acting on his/her own?</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or the diversification strategy to create value, two conditions must be met:</a:t>
            </a:r>
            <a:endParaRPr b="1" lang="en-US" sz="32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economies of scope among the businesses. </a:t>
            </a: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an efficient hierarchical form of governance (managemen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What is Synergy?</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ynergy exists when the value of two or more firms operating together is greater than the value of these firms operating independentl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Thus, a successful corporate-level strategy involves searching for sources of synergy!</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is the relatedness hypothesis?</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versification among related firms will outperform diversification among unrelat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are the levels of diversification?</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diversification</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ngle business (95%)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dominant business (70 – 95%)</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Moderate to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constrained (many links; share 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linked (limited links; share in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Very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unrelated</a:t>
            </a:r>
            <a:r>
              <a:rPr b="0" lang="en-US" sz="2800" spc="-1" strike="noStrike">
                <a:solidFill>
                  <a:srgbClr val="595959"/>
                </a:solidFill>
                <a:latin typeface="News Gothic MT"/>
                <a:ea typeface="Times New Roman"/>
              </a:rPr>
              <a:t> (no common link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Motives for Diversification </a:t>
            </a:r>
            <a:br>
              <a:rPr sz="3600"/>
            </a:br>
            <a:r>
              <a:rPr b="1" lang="en-US" sz="3600" spc="-1" strike="noStrike">
                <a:solidFill>
                  <a:srgbClr val="ff0000"/>
                </a:solidFill>
                <a:latin typeface="News Gothic MT"/>
              </a:rPr>
              <a:t>That May Create Value </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Economies of scope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activities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core competencies</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Market power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Multipoint competi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Vertical Integration</a:t>
            </a:r>
            <a:r>
              <a:rPr b="0" lang="en-US" sz="2800" spc="-1" strike="noStrike">
                <a:solidFill>
                  <a:srgbClr val="595959"/>
                </a:solidFill>
                <a:latin typeface="News Gothic MT"/>
              </a:rPr>
              <a:t>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Financial economies (un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Internal capital alloca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Business restructur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03-08T13:59:48Z</dcterms:modified>
  <cp:revision>319</cp:revision>
  <dc:subject/>
  <dc:title>Slide 1</dc:title>
</cp:coreProperties>
</file>