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3FBB-B5E4-436F-B9C9-F2C3605B49E9}"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F5CE-6827-487D-BDB5-A2C20266A1B5}"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8B799-7A46-40E0-8B98-A9B31B48B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26FB1-02C7-4A9B-ACA4-71A43E8D8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7618F36-A392-41FF-9B0A-E54B7556F0A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DE7564B-2D5B-4F65-A531-0F74CF33752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90BF2EB-13B9-4130-9303-79183DBB45E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67620AF-EB43-4427-BA89-CC80E7F4527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7E4DC5C-567D-478B-8EB6-53543ECB62F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30987A8-A16A-424D-A1CC-E945375A032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7FC8C46-BF6D-417E-8E43-11CA9CE3A09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58EB883-45B7-4F15-B9CD-4E03D06F02D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4DDC90D-636B-40B1-ACAF-B5542D9DC82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20A1E9F-8E62-4E0B-8660-CCBE234C8A0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E5CE4-E259-46CB-A8A1-0CEFBC7CE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15C720F-146A-4ADC-89A5-3B48FA8749B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7CE02B4-44AD-4DE1-B425-428899BF8D1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824737A-410B-401B-833C-C10C8162FBF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9EB63D5-7A40-4AC0-B323-C0C1415D934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B1432CA-2156-4784-BE0C-8264CDD1965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E0A835F-286E-4D9B-BE88-97817003B80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790122-F3EA-4B48-A03D-E8FD5A5D01F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374CDC7-5CAD-48B1-AEDF-BFA9613A974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F7D5832-C774-4BBE-BE8B-9A59712AC50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D10B862-D751-461A-8ECB-310E6DBCAF5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E2FDD-AF58-473E-B6C5-A69B76E44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F36C797-9CEA-4A64-B014-6EE306EBB09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0806798-719A-4F8B-BB68-C94B29D614D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3543404-18C1-425B-9CF5-321D52F56FB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A0E0E39-8149-4131-8EB7-7AEF6DB1766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849A571-82D9-4272-B437-D1545ACA0FE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C492337-F7A8-41D6-AB22-93C5F9E46A0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1F8A5FD-28D2-470D-9584-28EF5C1B626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B6FFB3A-B233-43C1-9E9B-C5BD0C8D9C5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5EC57CD-5F54-4F7C-AAA5-A99BB3BD5DA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41FC89B-D178-453E-8960-9CB23530589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6F1BBD-4D92-426A-9B9D-81AABC9C3BD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C6271FE-68F7-4098-BE8D-A7582777F12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1A775D2-D822-4EA4-AA4F-D8D6CCF056D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7D22BDE-B68B-405F-A141-DFADF8C0FF0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0FDEBEB-6045-46A4-814D-86B801CCAC2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5EF8FDC-DB83-4733-90C2-2AF9A60CA1A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F945C61-E16A-4D8A-9CA6-D75D2BFAD9A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70DC722-36B2-4C3D-9A27-D7F31B80AF5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4344C80-E323-4703-91F4-75801A81CE3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881BAD4-2055-4871-9A93-21FF06692FE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65EEC5B-4F15-4254-A131-0F62F1704B2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5482CE-0FDA-4DEA-9C7E-E85B01D6CC2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1FF83EA-8AD0-42AF-8B97-6B11E939324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1001863-A5CC-408A-BB91-5E04B1AB0B3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AEDA19C-2D57-408F-8A0F-31886877E7C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52ED55C-589D-47A2-8E69-73619984CDC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29DAEEA-38AD-4CCA-8F0D-9A0997FF301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378773A-E17A-4330-9F76-A0C720642FF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038BE21-5565-4660-91EB-62390A688DB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871C297-80CD-4FA3-A996-4C26F37FB4D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25B17C5-89AB-4CC7-A9E0-D2E0AB70388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750BF7F-2B33-4969-A8A5-B0672E804C3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D020BA-C6E4-4F9A-AF5E-7EF3944AE4A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99D2439-CF69-41C0-AAC1-487DF3322F4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5E2BB44-C723-4524-A8B5-BDE61C26D59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0527704-CCCB-4BF0-8AC7-AA4EACEA479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28E389D-B6B1-4701-8662-95A92C7736E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0E7053F-6F27-4C40-A244-D3D5AF63B20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7F7F981-3D9C-48C6-B340-677F3256688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2203863-024D-4F78-8850-58497D30923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05DB156-DE4F-45B7-AC88-0DDFC185538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10B4ADA-B3B7-4EF9-AD18-DE5EC3DFD25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35E492C-EA48-465E-A3F8-AEDB436A4E1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2A324E-0571-4DDC-BF57-52972DBCD23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7AB2EF7-79A2-47A0-A201-60FAB0EC8A6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FE6A939-36A6-4870-879C-12E7C15226B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564383B-05B1-4A23-9AC2-68A714172AF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FECDB47-DF0D-41C8-9708-DA74CF2FA6C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F10D5BA-5595-4D0F-8AF9-02A9FC91406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F5383FC-562E-48C9-A26A-39B33A0344E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64A8D94-B503-4B2E-A5AE-2AC1F1F8F19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88E6781-F237-480D-B0EF-EC563F8C2E5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59DF382-662F-4D91-8151-21F25972B20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4562A1-1EDA-42CB-99F1-130BCE76231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E5E31D-D228-49C9-AA78-08084E75849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0A6C55-08BF-430D-9E09-F5D06B89AF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385B8-0C7D-405E-BE2D-ED647C366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6F595A-F69A-4419-B2E2-34E4686F8D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9EE933-E4BA-457D-9479-0C635751B8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EA4777-7299-4BC3-9F76-A0100A5D7D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36E607-5B88-49BB-88F0-9B63C6C61C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553CB7-D4E0-4E22-9C36-4BF3B5B04C6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A4874-8471-4692-9BC6-11B29D03E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6AACD-F85E-44AF-B05F-F43419D6E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B2850F-EBEC-4469-990D-19F0CE8AFCB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34796-2AA1-495C-B172-91A3BB78D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E92A85F-7C7A-4384-8A38-BEA8345F92D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506FBE-5127-4F15-92AC-0D8EE46D3C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6589A3-B4C1-4FBA-A905-E850A62038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B83444-A794-4386-87C0-B6DD0ED05BE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AB96047-2E37-4765-9EFC-4D0DC966DEC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BFEFC5-0FBF-4A68-80A5-2E6BD922F5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A31944-AD66-4CAD-B737-56698E18A1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C2A210-9B30-4122-89F3-09A217F410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37E7BA-9808-42CD-A6F1-0032BB62313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075762F-77B5-4A28-8B4E-96F7202E3E7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1E920-5466-40B8-8FD9-1436F070A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6F3B4C0-52E2-4DDD-88C3-42074E400D7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5651B62-E915-417E-A77B-2B36D006436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79699A-7886-4CB0-B5A3-252BF27303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C8D5953-5816-4E2C-81F4-0149169B48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1E5253-A19F-41D3-A335-403C643DB9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29E7E64-1326-4547-8AC9-EFF5BACF67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2E8B69-B2EA-46AF-90F2-1F33DCF7C8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DE889D-42A1-41F4-B150-D1EF9E87A6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3A9EC3-154D-4955-83B8-5B02652BA5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8291A1-CB12-4459-8A5D-4D018A8798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8FDE8-2196-4A5A-AA7C-153C3774E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AB83F9A-B524-419A-A4E2-1E875E091A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DD4D3E0-77A3-4FB2-B72E-1EBC7EF0DBB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9EAA2B2-B816-4255-9618-37ECD9996D5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FAAD64F-A3DE-4B2C-9DBD-5A88A296D16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B08C45F-4F80-44DB-8C39-74DEF6673FD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5AB4A5E-35B9-47A6-B26F-1D41D438B05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D0F846C-B50F-459D-8787-04CC37E969D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19F35CD-9299-4BAA-AE8A-8600BE7A5E1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1C87676-F54B-4BF8-9A45-5020E9D0D0A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A268DE0-B1FE-462A-95BF-5BA601F701E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8F65A-B54F-45BD-B814-890560B31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B60BC9D-94C6-4090-A4D8-D9F8AAD0644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BD8B02D-83D3-4AB2-BA43-30AD6340AAB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844FA94-4915-4BAD-A896-3C73412C452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2C72B12-9B99-4774-86DA-B3F0CB56FCA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67BA93A-CD2C-4FEE-AF4E-2FEB1DAE9E0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6E59028-1C99-4103-A176-D488DE4ABEF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2EA30E4-01E5-430F-A25C-5DC61FD6D62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B30B244-8E97-4AE4-86D9-9AA92B8640F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013A75F-9A34-42BE-A84C-D90C38D5395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6521568-E2CD-4811-B39D-DE248DBB432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11598-3E87-46A7-9AA8-6BDFE4DE9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279B0E0-7D90-44E4-9D28-484AC9E63C1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E19BB9E-DB02-46A1-AB62-5C3DA1DC058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EE94B3F-F296-4B5D-9543-9A1AC6E92CB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4FECCA6-6166-4815-BF4C-6DB39678F45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16E8B17-5D53-4E61-8938-A5B11E56409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33CD850-D440-4946-AD8A-40FA4C300D2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5101687-D2E9-4708-A8D9-92B0F0E6264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4F26FC5-112B-464C-B1DC-79C6CB979AE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0D83FC9-4690-4E24-8B55-2580FAFD6C8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E569249-3773-45C4-9D72-BED49DDC75A3}"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80C4-CAFB-49D0-9C0B-6FD5FBC320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4F72-F45F-4D93-821D-A1B5FBA1422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29C6-E060-47C2-B312-FF59A6C25FE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137E-8963-4A5F-AFE2-DFA97E44555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4CB8-490A-4535-9F32-65773F5E7C3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10C2-3DC1-476D-9A91-93DBEBE0335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8023-C9DB-4639-A849-360BEFD18FA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9C69-81D7-444F-AA90-CF9A0379419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EE18-9E4A-4AF8-AAA0-8CF382BEB3B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3200A-7373-4821-B669-F6D78CFCAA7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F0BB-2C17-4C30-B9B6-217D43CAE93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1D0B-D8F0-49A2-AB27-B2C3CEA3E11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18C7B40D-0347-4BB8-8771-FE359D9D9827}"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57F3107C-5039-4F5B-B9A9-E784CF3910B2}"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59:48Z</dcterms:modified>
  <cp:revision>319</cp:revision>
  <dc:subject/>
  <dc:title>Slide 1</dc:title>
</cp:coreProperties>
</file>