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1677-205A-4AEB-B42C-361DBFA5F746}"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9566-E96F-4058-972D-178D2E50CD9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6040-306C-464B-8C65-78F29F1B3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0926A-E4A4-451B-9956-95C3C158F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8BFF715-D8DA-43F8-8F3F-8DFB566EA4A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1B5E857-3FE0-408F-BA0E-8A9F09211C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849277-CA37-4D59-A8E9-7FD9270B9D0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622F62-B145-458D-8164-A0C631A5F81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624230-E6AF-4BCC-A6F1-ACABE11978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BD2E83-5E9A-4B85-A236-C9433D15CC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29BBF8-9DBD-4327-B9C1-E5AEB0ADF5A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D75F540-C761-4B75-BA5B-C792624E602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AFBDD1E-C2D0-4ABE-A68C-A8417BA9A28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20A96E0-4573-4A87-9AF9-FC9C0155F86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F484D-69BC-4A1B-B8B3-81F913FF3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F2322C9-ABE2-4070-A803-4C1C60FC6AB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BCC2197-D726-434D-9C10-A0932F2F8D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46099BF-41E8-42D9-B39F-A0AEA2103FC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00A65F-26AE-4034-8BFC-75CC6CFC29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371C6A-6A41-41BC-8767-3E5FFFB47C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B16D754-A8F5-4184-9EA2-89284AAC7C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96F267-A0C6-4FC7-8350-920514D395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E09EA2-11C2-49B6-82AD-754AC9B484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3325B6-8B31-4DEF-A630-2CEA3FFEAB9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2E31471-330E-4ABC-A106-B8B9E790558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B3C78-FAB1-4975-A377-F883E2088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B66F239-1355-499B-B84E-AC140DC0127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C57F99-0ABE-41E5-AA50-D259F5C0049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7425E5-7A65-4104-B346-9E0F6AD9280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B62FE1E-E443-48EC-BBEE-DB1906DEE9C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CAEAD9-A1D5-4C79-B2AE-5B990FA8793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578EA13-C43B-4352-9D87-218F9A16F6C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224E213-B237-4BEA-A3C2-3E4249B7CD0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836191-88D4-46ED-89F4-7B86F1611E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D6EC62-CEDA-4834-B6AF-F9BCE8E630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17E1C0-1560-4D27-8E18-6233BBF118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AA99A6-43C6-48A0-9ACC-6BEB2ABAA75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A9B483B-F131-4D0B-9BBE-89F034B51DE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AE78454-FB45-43FA-9994-D349E89E73E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8494F63-9FA5-4820-A6C1-11AC2DF3F80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4A018FC-4178-454F-A53F-1AD4EBD0487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9982E2A-FAFD-4434-92FA-1ADDD57ADDA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FFCEB71-FA7A-412C-AC2B-5D9FDB409D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B71E2B-7FD3-436E-9766-24815D64664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6DDE3A8-5B06-4913-B541-8246151A0B0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41CDFA-563E-47DB-A607-27A202A015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4ECED4-B3E4-4DE1-86DE-1295F02264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FF8122-7F73-4748-9ADB-592B4457E3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85B676A-599C-4344-A52C-F914C546161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C52894-D6FD-4F19-B90D-565E96D1F0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7A8D7B0-8E38-49A0-8E24-B116F6BF632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ECE0C6-007F-496F-A643-8B4B4E3F75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798FCEB-0946-4C2A-9304-DB00910DB4F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79E1060-65BA-4D01-9310-C123CBC226B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6253A06-3C96-4355-8E5D-6043136B0AB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E9D2B9D-6D1D-44D4-B5E9-A6DFE380EA3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495ACE-CC24-4EB5-A27A-D382529D77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092CB4-70C3-475F-873A-1ED99AD855F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31EDD-D1D0-4E9D-B727-31209C81FA8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5DA5538-9A82-44E6-9B76-1773D264456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1F17E4-0718-4074-95F8-20A7EA53818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E3D83FD-94E8-44D9-BC3F-AF7EB639DDF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721DB9-3F9F-4C26-B704-6BB3109ECB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EB15C30-51E6-429B-BE59-32A2B10AEA3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5C80F75-A66F-4C31-8933-5F79C7FDB27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DA3F958-47AA-4E16-B782-F3C201E973E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695460A-5C59-40D4-A6FD-8A86438E353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213AF3D-94CC-4D60-BB3A-2AD1FDA55E1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6C2175-3F5B-448B-A526-7AA6A728394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4CACBC-7E28-4AC2-86EE-8050561F310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4BE5F59-BD01-4367-9458-B21A22FE3E8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013B61B-D2E1-4BBE-886D-DAE749FFCA6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E1FFE33-E414-4CE5-BAB6-7D4E92CB354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58C6AD9-D837-4342-82E7-0F5607063A2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37B0E4-8DC3-484F-8898-C7354E3FB39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EB669A6-F08C-4865-9E47-8B2A2F7C5D2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20113ED-CF43-4BAD-BC0C-A4A0317DEBC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6813DBA-4E79-4FEA-AB44-CEF0DFFC84F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310CC6D-166C-4279-9192-20A837B085B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AAB7CF-3C71-47FB-863C-6FB5B3D770D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41FFCA-B0FB-4F62-9064-DDCAE602AE3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558242-0FE0-443E-AA7D-77FFFBD37A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13D5D-327C-4BB9-8CAD-0CB959A8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B8E887-BD2A-4B1D-A3FD-E97DF576BD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B6681-E714-42D3-B733-418C8B475A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A43834-27E5-4AAC-955B-B5690215AA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D233A-6E23-431A-8D74-19F25FB7EE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F7051-E677-45B8-8C07-180D6725FD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B0E03-3884-4887-AC50-33A165128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53DED-26A5-4943-BF14-CC693B9D5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2769E1-3E62-4548-9A78-A22060E0602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4C8B3-B3CB-48AD-889E-7D2E13845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50B1FA-7C9F-4862-BFA4-DA59970FFF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0132578-801F-44C7-9B0A-BE4E8EC839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A340AC-7415-4390-8552-8177984038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8A4868-F586-4A9D-B51A-CA7FFA6CD4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1D4309-2C03-4125-B35D-36E504B59E5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778A43-B6E1-4DA3-B0CF-F928FBC97F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3F5B2E-A8BA-4A83-9916-D7B8916DB6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75D902-71B0-4C75-9020-92365D425A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535760-3729-4D8D-AEEA-C0D24BFC1A4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A26D7DA-658A-4967-9578-B19ED61122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A26FF-37F5-4BC1-9689-BCF08A22B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F55649-D0F6-47B7-B9D6-97B40CAC826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18D6B41-62B1-41BE-B0CB-41FAEDDF54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C87FAC-A768-4032-82CE-0C7CA1FDCB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4C387F-6922-42F9-BE2A-008126AE2E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CF12E5-BAF2-4172-8186-DBD86AFA95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D906F80-4B20-4863-BC54-345C19E078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92AD7FB-AC66-423F-81CA-392554C5C2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AA48DD-2045-4F82-84D6-0750271B49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5F7272-12F6-4FB8-831F-7C7F816E3D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FF4A75-08F7-4844-92D3-665CAB6751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E3D1-8BB1-44C4-A51E-A55AA22C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6E4BB67-3B33-431F-BFAD-0223FA2993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48B649-B9DF-48AA-B3D9-A03D720C3E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676CDA4-F7F8-43D2-A391-F99CD0DFE5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59215F1-2861-459B-BB5F-BB0F72C0B7B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8D51552-6AA5-4F59-ABFC-522104AE582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4791D8-300B-4724-9E27-710DB66168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32CF4C-7F43-425E-B720-5F761B1167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E5F18EB-D103-40D6-BE5B-6DC5344645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2C5F9F-A279-40C1-BEBE-227E5C3BFA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F4A8844-5E45-4E91-AF7D-D5561490A7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33F1-D8C5-42AC-BCCB-17421600A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D452375-4412-4D97-9797-3DB48457EB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9E5D8BB-3F2B-4235-B7D3-F0B584F20C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E7BF5C-9FB9-483B-8778-8B76CCB978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FA02E5F-CFBF-4F6A-8639-F14B38DD036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B32C96E-C611-4D5D-A0BB-F67E597D32E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EA1CE05-F4CB-43EF-B3D1-42B7BA5CCA6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0A16E7-E92B-4D83-9393-05ED77DAD85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8CB73F-8EB5-4D4F-9DC7-3B7FFC909F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05B8ED1-FD4B-42E3-B7DC-8104A2222A3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2DDDFF-0895-4706-99FC-328EE0964E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226A4-F13C-41D0-9549-EDA3841AB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9E2031-42B6-4BB2-9438-E58323EA76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88C19E4-F9BE-4714-90C0-442F4D7717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FDA602-9979-412A-AB5A-397586F61B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5D26CB-1452-4DC2-8D10-DE2356F3D5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31007D-4BC4-4D94-B942-A84161FEC10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7B9996-0EF3-4044-99B7-4FE6F195150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986C984-1BBB-4E0D-B86F-78257B183AD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DEF59A8-04D2-47A8-B88F-CC8E2A9E5AC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A4425C-A264-4979-AD66-76BB99332B3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2794FCC-6C5F-4B26-AAC2-F2E759AE8DB0}"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C525-BB5B-441F-8939-BCFA9BEA3F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FBBD-FA3B-4E34-ABE3-41000F5C35C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50853-1EC6-4313-8057-3146260D3D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B92A-8A12-4135-99DE-79804C4FBA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4B03-4260-4801-BBAE-FCCD0A6B98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E1B6-D779-4B1E-B1B8-F3735C505D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04CE-32D7-4D99-A294-95F7A9305D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031B-7E75-45D1-881A-A1F02EAEC7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D6E4-AAD0-4DEA-A178-3A57E01D02E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72BF-58EE-42EC-9651-465F08C9058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52E1-6992-4B90-A44D-83C8D1374E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2595-03D7-46FB-A296-DA07956C833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15278D7F-4409-49B7-A819-0FDABA414B7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A9C2E7DB-501E-4775-820A-1D482246DAE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3-08T13:59:48Z</dcterms:modified>
  <cp:revision>319</cp:revision>
  <dc:subject/>
  <dc:title>Slide 1</dc:title>
</cp:coreProperties>
</file>