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 type="dt" idx="3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Geneva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EA0F5-4491-438D-A806-2F8ECE7DB7C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Genev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move the slide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 type="ftr" idx="3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6"/>
          <p:cNvSpPr>
            <a:spLocks noGrp="1"/>
          </p:cNvSpPr>
          <p:nvPr>
            <p:ph type="sldNum" idx="3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Geneva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475B4-B597-42FA-8135-0BF082571F7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Gene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Rectangle 8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apter I discusses the roles, skills and practices of a company’s human resource management (HRM)  function, implications of the economy, the makeup of the labor force, and ethics for company sustainability. It discusses how HRM affects a company’s balanced scorecard, what companies should do to compete in the global marketplace, how technology such as social networking is influencing HRM and what HRM practices support high-performance work system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D2B4F-B82C-42DE-9B5C-3BB374EA2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8A6AA-0F8C-400A-82E9-0557FB81E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71E6253-9D28-4E7E-A85B-491F87F06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A247804-CD5A-48C6-A0F8-469206820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D1705D0-C021-4390-9DFF-18F361416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0AFFC1F-1789-4DAC-ABEB-5FEF11AE5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444363D-9315-41C1-8339-AFC12ED80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22EDDE3-0E58-4B34-ACE0-9B63A79BC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BBB2214-6550-48F0-8FD4-991821597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852D472-BBB7-4340-ABAF-E0A77669C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8C4F80C-E160-4717-A128-0A07F3C4A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DFB6DBA-612A-40E1-9DE1-568B4B6B7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A3025-911A-48A4-A620-447A70A4E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BDC4BEA-85AB-4A32-827F-57182883E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4A38A79-0777-41DB-8FD6-1E3BAA3D0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2489161-4A75-4E2D-9F6B-339F26255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B987370-5033-4F14-ABE6-B9A0826FC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CC44585-3F38-4756-8361-4B7FAE3BF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9B4ADE2-0EFD-4D2A-A60C-AC2621617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98728EA-5598-4C13-BD36-30E8BEA51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19288DD-A1C4-41AF-B726-BC55F0472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7204478-3771-43CF-8B3F-ACAD6FC40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AED57DB-3109-4388-8B4F-DBE33EB90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A4144-0B03-43ED-94C4-D0182BAC3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9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30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96FE658-03CE-4597-9129-FD5F47B43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E6899F6-1B31-41FE-8EE5-7B0FDDF3E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B04848F-4F51-487D-9FFC-2F3AA3803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06A2090-B25B-4552-ABAE-FA3E71F26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5C407E2-8DBF-4DE2-9927-05EF9D746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C166C12-8530-4B6A-B49C-846D0154A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1DF3921-54E7-4E32-9F79-49C789AB8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2F515F5-BA8F-4A35-A541-BDBA53DCF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01DBF27-48F1-4A23-9BC6-23F4FE774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A871224-92CE-43F8-BC59-B64015CF3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B5047C-0A39-4C57-A1AA-5C98D6DE098B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D901826-ECAB-40E5-A178-E6BDEA313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FF2BBD9-D3ED-4DCF-911D-E49823931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70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71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665CF63-D504-44D4-AC27-321F83CA8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6AA9EAF-A16F-4416-9023-E84C7A1E6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3F1BFAD-DB84-4B3E-92BA-A37CC9633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08F1B0D-EB42-4EF3-96F6-9EE8B1FE2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4FEE33A-0DDD-4D2D-869E-A90E1C441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E58A30D-125F-4F68-A684-03E46BAF2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066270E-D8A3-484D-990E-B7E8DCF45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8A79CC3-1EE7-4A50-BF48-4F409BC68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0583A7-7980-4577-A53C-DF940A2340DF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B71B711-01D0-4E70-BC0A-4BB31B310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047D5DB-FDF0-4633-96B9-2A3BA7A0D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EA178F9-7A91-4F5C-810B-A4376486C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CD94A59-A977-4A9A-89EC-1E12F9B62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11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12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44AF65F-3D8D-411A-88C4-52CA199C6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6882FA4-510E-4ECC-A258-F8F87B839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05F8287-06E1-4CFB-B721-C7F99BB6B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804DB3C-8EF7-4022-B4D0-290B2292A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0E343A5-B416-4B34-A269-7CA994394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1D5DE53-D531-4AEC-A70E-D7FE7E2A1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7FE04D-5D8C-468B-ADEA-60706EEFD1DB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FBF933E-E422-4305-A4FB-1C8A93884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7FA0B45-596B-4BA1-8C96-D715F9748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C8146CE-8855-4BBB-BC10-5F4712095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20ED511-6AE2-4325-9148-41C5FBCEC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6A2EC97-24A4-4995-9B39-7B3414D60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C85DBC0-C3CE-41D6-ACBA-CA4AE1F7C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52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53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2731D5D-27FF-4935-AF80-A87601505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2C83B7B-CD62-431E-9185-4A07E48F9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9AA4894-CA52-4D19-9A0B-CB35140AD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F7D8A8F-4AF4-4DB6-A0A5-D15BDFA1A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0F8F9E-7FDD-4F8A-819E-CBB066F90AFC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62DF709-C97B-4E3A-AADC-72D558F7F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A4F2A9C-F694-4C41-95D5-4459F8511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23A35CC-438C-4F1E-BC0B-12640EEE6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5AADC82-9833-45E9-8B79-8D9102EB9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4199A60-1FFD-4DEA-875E-950F94EE6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E6CCA67-BF76-487D-ABD1-492347061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B8237B7-0D3D-4791-BDCB-1B62A45D0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3D2ACB5-5309-4725-9F6D-699BD56AB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7EB5E98-268A-45B5-8767-A916AC1BF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66808E-3876-4B81-820E-5E93ECDAC4E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5B109A-9781-4C6A-BA59-BD66550E320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839934-CD24-4FBD-B436-DA2347B3FF5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510BE-6BAA-48E7-A379-B2997AB6C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88D810-5419-4E4C-B9F8-AD3A4469DBC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BE7151-0BE2-413D-9C7F-B1B528B426E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410EB9-CF12-4FA8-90C0-A5D95CC075C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5ADE46-CAF3-4DED-8B19-A8B2E514717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4FD51F-3767-4DBC-B896-643F81006188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800C9-EE23-4B92-A8AF-A0FB1FB52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AFA2E-B207-4F5D-8E77-C2426E0A6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3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4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4EFF55B-901B-4743-A1DE-C641B053A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48096-4BDF-4AA1-B96E-92EA5FC40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1F59BF1-0231-4F8F-AD37-7D8E3C54E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79C1149-6300-4DF5-B688-652BEDE48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1589C25-4840-46A7-870C-B23C916BA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08BF48D-FE1B-4625-A168-0212547C8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2730363-0726-4B72-8F3A-A59F3EFB6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26A3CE2-562D-4546-8EC5-37A596B9A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9F64930-D446-4F82-AD51-6BC9C8AE9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84EBBE9-3B15-42EF-B945-09DE00944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524D7AB-292D-448C-A99E-D3514FE27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60910D9-FDC4-44E9-A42E-F5274BAF5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A1A37-5D48-4270-A9B8-FF9DEA5E2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E49EB64-9D79-47A4-AAAE-71D5B45B1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F6D0826-1356-4042-B321-54A827572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C635AD1-C22B-479D-B0C7-A06467A2F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85C6C43-9DA6-42D6-855C-5ED12E447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C765C17-0318-4A94-956E-299EA8962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0C1C6DA-ED93-4CF2-ACDA-ACFBD1424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5C04E4F-353D-443D-9E21-10513CB49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1CC9D4D-7482-48F8-891E-538C7082D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4782E83-0E52-4F14-9EF3-3855D5A16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DAE7464-5B44-43B0-AFD7-785FB70C5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20D24-84C4-4CE9-882B-F0EEA81B3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464F6AC-1D88-426E-B876-531EF1A84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AB276BD-BB4F-4969-BEE1-174C39FD9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E9A2898-E64B-413F-BB0F-1457BB1D3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923F81E-F900-41FB-B613-F570FC9AF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2F42036-42E8-4896-BE0F-268EA9222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5593844-DC65-4EE1-AA15-3EB12641F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EA70B31-657F-4648-8740-2BFAD1AF7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7A58A35-3E19-44E8-A574-01F0A613A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E9534DE-34D9-417B-B622-89F92D07C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66E2A4B-A9CB-4F13-8096-78298A6ED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ECC9E-5A53-4926-8FED-A17F2914F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AAD0095-DD43-4D74-AA03-0868A8EE9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20530B3-66DF-4AF4-B7F2-D6EB4C434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225FF18-E2E5-496C-ACFB-B98EF95C4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1F1EE57-02A1-4AEA-942C-132334D1F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F397337-AD90-41D7-8AB5-993EB4782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3993074-F3C5-4E1D-8CFC-5807A363E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A420A9C-2331-43C6-818E-6E066F2E8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0CA4F71-8F82-43A5-B74A-0C48128B3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35AF58D-A359-4DCE-84F9-87EA2B5F6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F3ABB68-492C-4A0E-9B76-82B4B2066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DBB82-F0F0-4A16-BECA-3E519B461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CB14555-FA14-4389-BA3E-BC2D461B3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7910064-6DD7-4173-8B49-30F4645E9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7256A3A-760D-4480-AC91-A697B2684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E1FF965-0B4E-439E-B873-3D928A7ED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CB908F7-1F75-47C8-A82B-AD419558C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EB1D564-43B4-4BE8-95C0-117AF11D2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6D27537-DDFF-4CFC-8D21-53CC45246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47F023F-6B8A-48DA-957A-7ED4FFCA3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897708A-7AB1-4FE1-AC68-74478CD05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D3A0771-D58E-41D3-9D91-6A5B55FFD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ＭＳ Ｐ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  <a:ea typeface="ＭＳ Ｐ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748C1-A3AC-4AAD-B953-A462B47069A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 type="dt" idx="21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 type="ftr" idx="22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 type="sldNum" idx="23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5B400-FBA2-4939-BB00-044BD4877D3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 type="dt" idx="24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 type="ftr" idx="25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 type="sldNum" idx="26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2D4FC-B7AF-4C5C-B893-4E011E8EE70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 type="dt" idx="27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 type="ftr" idx="28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 type="sldNum" idx="29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F057F-5C80-436B-8EB1-4920051E173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 type="dt" idx="30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 type="ftr" idx="31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 type="sldNum" idx="32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C9031-7525-475D-8305-B4F60F7C952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 type="dt" idx="33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 type="ftr" idx="34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 type="sldNum" idx="35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EADA1-59AD-4E3B-A9F2-79DECF59AEF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4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5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0B1B9-2EA3-49DD-9773-9A20303A1F2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8"/>
          <p:cNvSpPr/>
          <p:nvPr/>
        </p:nvSpPr>
        <p:spPr>
          <a:xfrm>
            <a:off x="0" y="0"/>
            <a:ext cx="685800" cy="6858000"/>
          </a:xfrm>
          <a:prstGeom prst="rect">
            <a:avLst/>
          </a:prstGeom>
          <a:solidFill>
            <a:srgbClr val="b5d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Group 14"/>
          <p:cNvGrpSpPr/>
          <p:nvPr/>
        </p:nvGrpSpPr>
        <p:grpSpPr>
          <a:xfrm>
            <a:off x="152280" y="914400"/>
            <a:ext cx="990720" cy="990360"/>
            <a:chOff x="152280" y="914400"/>
            <a:chExt cx="990720" cy="990360"/>
          </a:xfrm>
        </p:grpSpPr>
        <p:sp>
          <p:nvSpPr>
            <p:cNvPr id="47" name="Oval 12"/>
            <p:cNvSpPr/>
            <p:nvPr/>
          </p:nvSpPr>
          <p:spPr>
            <a:xfrm>
              <a:off x="152280" y="914400"/>
              <a:ext cx="990720" cy="990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Oval 13"/>
            <p:cNvSpPr/>
            <p:nvPr/>
          </p:nvSpPr>
          <p:spPr>
            <a:xfrm>
              <a:off x="293760" y="1055520"/>
              <a:ext cx="708120" cy="7081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" name="Group 15"/>
          <p:cNvGrpSpPr/>
          <p:nvPr/>
        </p:nvGrpSpPr>
        <p:grpSpPr>
          <a:xfrm>
            <a:off x="152280" y="2209680"/>
            <a:ext cx="838440" cy="838440"/>
            <a:chOff x="152280" y="2209680"/>
            <a:chExt cx="838440" cy="838440"/>
          </a:xfrm>
        </p:grpSpPr>
        <p:sp>
          <p:nvSpPr>
            <p:cNvPr id="50" name="Oval 16"/>
            <p:cNvSpPr/>
            <p:nvPr/>
          </p:nvSpPr>
          <p:spPr>
            <a:xfrm>
              <a:off x="152280" y="2209680"/>
              <a:ext cx="838440" cy="838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Oval 17"/>
            <p:cNvSpPr/>
            <p:nvPr/>
          </p:nvSpPr>
          <p:spPr>
            <a:xfrm>
              <a:off x="271800" y="2328840"/>
              <a:ext cx="601560" cy="6019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" name="Group 18"/>
          <p:cNvGrpSpPr/>
          <p:nvPr/>
        </p:nvGrpSpPr>
        <p:grpSpPr>
          <a:xfrm>
            <a:off x="533520" y="3048120"/>
            <a:ext cx="457200" cy="457200"/>
            <a:chOff x="533520" y="3048120"/>
            <a:chExt cx="457200" cy="457200"/>
          </a:xfrm>
        </p:grpSpPr>
        <p:sp>
          <p:nvSpPr>
            <p:cNvPr id="53" name="Oval 19"/>
            <p:cNvSpPr/>
            <p:nvPr/>
          </p:nvSpPr>
          <p:spPr>
            <a:xfrm>
              <a:off x="533520" y="30481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Oval 20"/>
            <p:cNvSpPr/>
            <p:nvPr/>
          </p:nvSpPr>
          <p:spPr>
            <a:xfrm>
              <a:off x="598680" y="3113280"/>
              <a:ext cx="326880" cy="32688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5"/>
          <p:cNvSpPr/>
          <p:nvPr/>
        </p:nvSpPr>
        <p:spPr>
          <a:xfrm>
            <a:off x="1328760" y="1295280"/>
            <a:ext cx="6486480" cy="31528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8"/>
          <p:cNvSpPr/>
          <p:nvPr/>
        </p:nvSpPr>
        <p:spPr>
          <a:xfrm>
            <a:off x="0" y="0"/>
            <a:ext cx="685800" cy="6858000"/>
          </a:xfrm>
          <a:prstGeom prst="rect">
            <a:avLst/>
          </a:prstGeom>
          <a:solidFill>
            <a:srgbClr val="b5d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0"/>
          <p:cNvSpPr/>
          <p:nvPr/>
        </p:nvSpPr>
        <p:spPr>
          <a:xfrm>
            <a:off x="8534520" y="0"/>
            <a:ext cx="609480" cy="6858000"/>
          </a:xfrm>
          <a:prstGeom prst="rect">
            <a:avLst/>
          </a:prstGeom>
          <a:solidFill>
            <a:srgbClr val="b5d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Group 15"/>
          <p:cNvGrpSpPr/>
          <p:nvPr/>
        </p:nvGrpSpPr>
        <p:grpSpPr>
          <a:xfrm>
            <a:off x="152280" y="914400"/>
            <a:ext cx="990720" cy="990360"/>
            <a:chOff x="152280" y="914400"/>
            <a:chExt cx="990720" cy="990360"/>
          </a:xfrm>
        </p:grpSpPr>
        <p:sp>
          <p:nvSpPr>
            <p:cNvPr id="95" name="Oval 16"/>
            <p:cNvSpPr/>
            <p:nvPr/>
          </p:nvSpPr>
          <p:spPr>
            <a:xfrm>
              <a:off x="152280" y="914400"/>
              <a:ext cx="990720" cy="990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17"/>
            <p:cNvSpPr/>
            <p:nvPr/>
          </p:nvSpPr>
          <p:spPr>
            <a:xfrm>
              <a:off x="293760" y="1055520"/>
              <a:ext cx="708120" cy="7081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Group 18"/>
          <p:cNvGrpSpPr/>
          <p:nvPr/>
        </p:nvGrpSpPr>
        <p:grpSpPr>
          <a:xfrm>
            <a:off x="152280" y="2209680"/>
            <a:ext cx="838440" cy="838440"/>
            <a:chOff x="152280" y="2209680"/>
            <a:chExt cx="838440" cy="838440"/>
          </a:xfrm>
        </p:grpSpPr>
        <p:sp>
          <p:nvSpPr>
            <p:cNvPr id="98" name="Oval 19"/>
            <p:cNvSpPr/>
            <p:nvPr/>
          </p:nvSpPr>
          <p:spPr>
            <a:xfrm>
              <a:off x="152280" y="2209680"/>
              <a:ext cx="838440" cy="838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20"/>
            <p:cNvSpPr/>
            <p:nvPr/>
          </p:nvSpPr>
          <p:spPr>
            <a:xfrm>
              <a:off x="271800" y="2328840"/>
              <a:ext cx="601560" cy="6019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Group 21"/>
          <p:cNvGrpSpPr/>
          <p:nvPr/>
        </p:nvGrpSpPr>
        <p:grpSpPr>
          <a:xfrm>
            <a:off x="533520" y="3048120"/>
            <a:ext cx="457200" cy="457200"/>
            <a:chOff x="533520" y="3048120"/>
            <a:chExt cx="457200" cy="457200"/>
          </a:xfrm>
        </p:grpSpPr>
        <p:sp>
          <p:nvSpPr>
            <p:cNvPr id="101" name="Oval 22"/>
            <p:cNvSpPr/>
            <p:nvPr/>
          </p:nvSpPr>
          <p:spPr>
            <a:xfrm>
              <a:off x="533520" y="30481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23"/>
            <p:cNvSpPr/>
            <p:nvPr/>
          </p:nvSpPr>
          <p:spPr>
            <a:xfrm>
              <a:off x="598680" y="3113280"/>
              <a:ext cx="326880" cy="32688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Group 24"/>
          <p:cNvGrpSpPr/>
          <p:nvPr/>
        </p:nvGrpSpPr>
        <p:grpSpPr>
          <a:xfrm>
            <a:off x="7772400" y="6248520"/>
            <a:ext cx="457200" cy="457200"/>
            <a:chOff x="7772400" y="6248520"/>
            <a:chExt cx="457200" cy="457200"/>
          </a:xfrm>
        </p:grpSpPr>
        <p:sp>
          <p:nvSpPr>
            <p:cNvPr id="104" name="Oval 25"/>
            <p:cNvSpPr/>
            <p:nvPr/>
          </p:nvSpPr>
          <p:spPr>
            <a:xfrm>
              <a:off x="7772400" y="6248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26"/>
            <p:cNvSpPr/>
            <p:nvPr/>
          </p:nvSpPr>
          <p:spPr>
            <a:xfrm>
              <a:off x="7837560" y="6313680"/>
              <a:ext cx="326880" cy="32688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Group 27"/>
          <p:cNvGrpSpPr/>
          <p:nvPr/>
        </p:nvGrpSpPr>
        <p:grpSpPr>
          <a:xfrm>
            <a:off x="8305920" y="5638680"/>
            <a:ext cx="838080" cy="838440"/>
            <a:chOff x="8305920" y="5638680"/>
            <a:chExt cx="838080" cy="838440"/>
          </a:xfrm>
        </p:grpSpPr>
        <p:sp>
          <p:nvSpPr>
            <p:cNvPr id="107" name="Oval 28"/>
            <p:cNvSpPr/>
            <p:nvPr/>
          </p:nvSpPr>
          <p:spPr>
            <a:xfrm>
              <a:off x="8305920" y="5638680"/>
              <a:ext cx="838080" cy="838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Oval 29"/>
            <p:cNvSpPr/>
            <p:nvPr/>
          </p:nvSpPr>
          <p:spPr>
            <a:xfrm>
              <a:off x="8425440" y="5757840"/>
              <a:ext cx="601200" cy="6019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dt" idx="6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ftr" idx="7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sldNum" idx="8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3A5B6-B353-4328-AB63-FF3FF97A3A8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 type="dt" idx="9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 type="ftr" idx="10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 type="sldNum" idx="11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3E891-580D-47A7-B701-B1CFAE5B156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2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13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14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D8768-CBB1-4D0C-BF72-5AAB388F6BF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dt" idx="15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 type="ftr" idx="16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 type="sldNum" idx="17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B39A5-103A-4B9B-BAE1-1E3401FD1B4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18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19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0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285FC-6135-4378-B7A7-022B6267DA5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49000" y="762120"/>
            <a:ext cx="804204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  <a:ea typeface="Geneva"/>
              </a:rPr>
              <a:t>Chapter 7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03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54e73"/>
                </a:solidFill>
                <a:latin typeface="News Gothic MT"/>
                <a:ea typeface="Geneva"/>
              </a:rPr>
              <a:t>Merger and Acquisition Strategies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52280" y="108000"/>
            <a:ext cx="876312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Mergers, Acquisitions and Takeovers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05" name=""/>
          <p:cNvSpPr txBox="1"/>
          <p:nvPr/>
        </p:nvSpPr>
        <p:spPr>
          <a:xfrm>
            <a:off x="304920" y="121896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A </a:t>
            </a:r>
            <a:r>
              <a:rPr b="1" i="1" lang="en-US" sz="2800" spc="-1" strike="noStrike">
                <a:solidFill>
                  <a:srgbClr val="595959"/>
                </a:solidFill>
                <a:latin typeface="News Gothic MT"/>
              </a:rPr>
              <a:t>merger</a:t>
            </a: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 is a strategy through which two firms agree to integrate their operations on a relatively coequal basis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An </a:t>
            </a:r>
            <a:r>
              <a:rPr b="1" i="1" lang="en-US" sz="2800" spc="-1" strike="noStrike">
                <a:solidFill>
                  <a:srgbClr val="595959"/>
                </a:solidFill>
                <a:latin typeface="News Gothic MT"/>
              </a:rPr>
              <a:t>acquisition</a:t>
            </a: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 is a strategy through which one firm buys a controlling, or 100% interest, in another firm with the intent of making the acquired firm a subsidiary business within its portfolio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A </a:t>
            </a:r>
            <a:r>
              <a:rPr b="1" i="1" lang="en-US" sz="2800" spc="-1" strike="noStrike">
                <a:solidFill>
                  <a:srgbClr val="595959"/>
                </a:solidFill>
                <a:latin typeface="News Gothic MT"/>
              </a:rPr>
              <a:t>takeover</a:t>
            </a: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 is an unfriendly acquisition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035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Merger and Acquisition Strategies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are Very Popular Despite . . .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07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Research indicates the stockholders of the </a:t>
            </a:r>
            <a:r>
              <a:rPr b="1" i="1" lang="en-US" sz="2800" spc="-1" strike="noStrike">
                <a:solidFill>
                  <a:srgbClr val="595959"/>
                </a:solidFill>
                <a:latin typeface="News Gothic MT"/>
              </a:rPr>
              <a:t>acquired</a:t>
            </a: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 firm earn above normal returns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While stockholders of the </a:t>
            </a:r>
            <a:r>
              <a:rPr b="1" i="1" lang="en-US" sz="2800" spc="-1" strike="noStrike">
                <a:solidFill>
                  <a:srgbClr val="595959"/>
                </a:solidFill>
                <a:latin typeface="News Gothic MT"/>
              </a:rPr>
              <a:t>acquiring</a:t>
            </a: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 firm average returns of about zero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urther, in most acquisitions, the stock price of the </a:t>
            </a:r>
            <a:r>
              <a:rPr b="1" i="1" lang="en-US" sz="2800" spc="-1" strike="noStrike">
                <a:solidFill>
                  <a:srgbClr val="595959"/>
                </a:solidFill>
                <a:latin typeface="News Gothic MT"/>
              </a:rPr>
              <a:t>acquiring</a:t>
            </a: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 firm falls after the acquisition is announced. 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577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Reasons for Acquisitions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228600" y="91440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300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Achieving market power is the primary reason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300"/>
              </a:spcBef>
              <a:buClr>
                <a:srgbClr val="6fb7d7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Horizonta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300"/>
              </a:spcBef>
              <a:buClr>
                <a:srgbClr val="6fb7d7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Vertica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300"/>
              </a:spcBef>
              <a:buClr>
                <a:srgbClr val="6fb7d7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Related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300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Overcoming barriers to entry (cross-border)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300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Reduces cost of new product development and increases speed to market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300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Lowers risk relative to internal development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300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Increases diversification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300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Reshapes the firm’s competitive scope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300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Learning and developing new capabilities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Problems in Achieving Success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11" name=""/>
          <p:cNvSpPr txBox="1"/>
          <p:nvPr/>
        </p:nvSpPr>
        <p:spPr>
          <a:xfrm>
            <a:off x="549000" y="1142640"/>
            <a:ext cx="80420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Integration difficulties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Inadequate evaluation of the target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oo much debt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Inability to achieve synergy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oo much diversification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Overly focused on acquisitions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ompany becomes too big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Traits of Effective Acquisitions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13" name=""/>
          <p:cNvSpPr txBox="1"/>
          <p:nvPr/>
        </p:nvSpPr>
        <p:spPr>
          <a:xfrm>
            <a:off x="549000" y="1142640"/>
            <a:ext cx="80420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6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Assets of the acquired firm are complementary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6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Acquisition is friendly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6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Acquiring firm does effective due diligence (evaluates the target’s financial health, culture and systems)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6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Merged firm maintains low to moderate levels of debt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6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New firm emphasizes R&amp;D and innovation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6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rm is well managed and flexible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Restructuring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15" name=""/>
          <p:cNvSpPr txBox="1"/>
          <p:nvPr/>
        </p:nvSpPr>
        <p:spPr>
          <a:xfrm>
            <a:off x="549000" y="1218960"/>
            <a:ext cx="80420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595959"/>
                </a:solidFill>
                <a:latin typeface="News Gothic MT"/>
              </a:rPr>
              <a:t>Restructuring</a:t>
            </a: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 is a strategy through which a firm changes its financial structure or set of businesses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Downsizing – cost and/or asset retrenchment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Downscoping – eliminating business units (divestiture; spinoff)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LBO – A party (management; private equity firm) takes a company private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27960" indent="-32796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 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3T19:11:20Z</dcterms:created>
  <dc:creator>sara_hunter</dc:creator>
  <dc:description/>
  <dc:language>en-US</dc:language>
  <cp:lastModifiedBy>Morrow, Bert</cp:lastModifiedBy>
  <dcterms:modified xsi:type="dcterms:W3CDTF">2021-03-08T13:58:24Z</dcterms:modified>
  <cp:revision>318</cp:revision>
  <dc:subject/>
  <dc:title>Slide 1</dc:title>
</cp:coreProperties>
</file>