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D0BB-36BD-4B9D-95A7-F3BD5A14EB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F953-24E2-47EA-B340-68229C085C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3A11-B30B-41C4-B74C-51A63BFB1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FE80-3393-450D-920B-18D323FC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D2D883-CF5F-4593-9D1F-FDA4B30E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605D50-0AD1-4F91-A484-7C2B646E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A6EA99-B09F-47BA-B6BF-E8E405C3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405A6C-1467-4891-AFF5-7925E5EC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57FF7F-A4EC-4183-815E-88A6836E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8F2E30-D494-42AB-A4D3-00D1742B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7C6305-C8E9-409C-B910-25537FA6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8CADD4-CE46-4EBE-99C5-41512A8BD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EA845E-223E-455B-84F0-591029358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8364A8-DE6A-43C0-A9A4-4316891B0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A97C-06CE-499F-83D2-6EDDE28A7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1C6B96-50CA-4D7A-8493-F742DE24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9A1A46-962D-49CB-A24D-FADFE70C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14DADA-1D39-4147-9057-B977476F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CF1498-EC28-4491-ADA3-1A8D12AC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304344-CFFF-4A0E-90B0-524A6236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35C567-9FD4-4B43-A102-47B6590A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62B058-5037-45D3-82F3-46ACE781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EC9A48-8607-4DB7-AEF8-DCBDE6DC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13D4AD-F205-4B07-83F2-50D9D21C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E0D190-6594-437D-9C8A-1377AF4AD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868C-CD66-4366-91EE-7E4D3DB14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83240B-D759-424F-870E-1E7CCF578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F8124A-A9B1-433D-A361-6CEE2AABF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8D61A8-ADF9-4FC7-84C2-4395B16A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81844E-9769-41DF-823A-318DB05A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889F7C-4BFB-4DAE-9E70-CC11753B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842503-53DB-4718-9292-4D00B37D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3542C2-30AC-4B61-BD73-A1F7AEF8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87A9E6-0D47-4971-A8E2-7D12906C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C05801-6AC0-430F-A158-0DD05B62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1775FE-14BB-4220-AFA7-0C7B4316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31394-1F7D-4503-A15A-85728926EB5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62EEB8-2B0B-440B-80E2-9BB45BE7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B68CF7-FAEA-47B8-8AC0-B83F8744D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08F8E7-9A00-4D9B-ADC0-F3BFE1D8E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7A512D-48B6-42B0-BFEC-C0080117E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A41329-50BC-4927-B8F1-31FF188E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542D6E-7C31-4D03-82C6-50CC201B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F4455F-03B3-48C4-8DCD-FA8A9C00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7D67E5-771D-4997-B5E8-B8ED68B6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F89628-63CE-4AC1-ABD0-5F68B7E5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679862-22C9-4D83-B93A-948952A9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73D0E-F66E-45F3-A668-87EF0AB31AC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E64CDE-D655-4CC4-BFBA-61970FC1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8FAA70-BBAD-49DD-B38A-CBC33C16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6A8AF6-2D84-42CA-80EB-7FB28587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D4F499-7B8E-4F4B-A854-3B03A8673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CF99A0-60A3-474E-82FE-771AAD126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D2BB0B3-E13A-4154-B31C-EDB2A690F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7857131-F518-4A75-BB86-807651E2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90C65F-4C09-4FC8-AEBC-0566B851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AEA740-07A5-4636-A365-764D718B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D831FE3-7CD3-40D9-99BC-F95D6222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982CA-1A39-4A82-B3DD-A48431AA61E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B1D48B-DB16-4CBC-8510-66743B72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0D432A-8F31-4A11-8F77-95ADDDF6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6B1F6E-0890-4A1C-933E-CCE17E97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BA0FA53-D581-4AB6-934E-B1FAE2F9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0CDA2A8-404F-4B76-8DEF-0F2F3BD8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685F24-62F4-4CEE-9DEA-B1F931B2C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7AC68A-6D2C-464E-948C-9D68056FD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076CCEE-0C32-4DF2-AB9D-DB4CA02FD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D18EFB2-26B3-4AAD-A913-384FAE81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B046E2D-3E5A-4BD9-8597-24F167D8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C4E88-56F5-4640-8B42-A60028554D5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24F2935-2308-4478-A4AF-79A94932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624EBDF-29DA-4A81-807C-32452946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80DE1C3-008A-437D-B36F-89B6F155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C20E74B-B83D-4376-BC41-F81E6FF7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DBCC76C-0A58-4673-B2CB-3DC7DA2F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5C29D0D-BBE5-499F-9CEC-86147AAE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76E4951-B01B-4036-B612-D6BCC39C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47D5F58-B9F8-4089-8C89-0E9B7B6DB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113AED8-882F-43B1-8715-873F922AA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7BD72-714B-453C-9D4F-B1EEE00F11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A6D31-65BA-4B98-B0D8-C3FAAB7D9A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F4017-474F-41C2-8E44-7DE4AE212C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00A8-1B33-4109-A7CD-60CEEAF0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D6A07-99BB-4F6A-B62B-6F8128CEE6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9BA50-FC93-4BF3-9548-6B51AF1A42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46E40-060D-426D-AE99-74DA83A2D4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EF7C2-18F5-4A8D-A8EC-702FED051A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18982-0064-445A-BF2F-7EEE9461532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4AF9-F75E-4B1D-BAAD-3E038BE5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C641-F047-4AB3-9780-6EAB4473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044E82-35E3-4726-BB1F-924A72B3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DB1E-715D-4DC2-B9EA-183F5919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FB9534-B144-49AE-A0D9-B367BF65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31193E-F2D8-47FD-B2D3-5284ACCE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149E47-A5C9-434F-8682-1CD193BF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883376-CAAF-4D37-9E67-C250C022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777274-9E23-438A-8232-D0B0F6FC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CC5466-D7A6-4CAD-9AA0-8635AD31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332E56-1C27-405E-8386-4B5EE69B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10FE70-6528-4033-9B78-6F06653F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9617DD-4B8E-44E6-8684-E930A5B0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75D9D5-A00A-46BB-BBFD-AED548E27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930F-A7F1-4CF3-BBFF-0DB9AAE1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C72196-83B7-474B-A422-941EA4208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5336D5-6B37-446B-99EC-F67F73F7A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14DDB1-55AD-4538-A875-9760AA5E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AF8A93-4FAD-4746-8D81-9F2587CC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63D37C-D254-4BA7-9ADC-71E6F131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2ADF0E-AEBC-4BC0-B246-BF622B80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7EECE2-6D1E-421C-8143-9C5C5E86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DC5F21-6D0C-4533-9551-98DCD5F3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5C0135-5BA1-47FB-8CD8-3D904789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CDE1FA-9B30-4829-B14C-46183D94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BCC2-9B66-4F82-81CF-AD73109A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60469A-B675-412C-90C0-E14DD025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9E86E4-A19C-4BCB-99C0-FD6EC277A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0F0465-7D65-4E7F-9005-7A2ACA865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936391-5013-48FA-A884-2F06A93D4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AA0C6F-B234-496B-BEA0-5DF8DA23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DC1C89-451A-4CED-9EC4-2442B02A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4F7CA1-D2CE-4CE9-B2B6-E0B7A437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8786FC-88A8-44DD-BA19-20D2DE68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25272C-2892-470D-9C7B-91A1190F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49CC19-A1D5-4F9C-874A-54CF7BE9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A47A-694A-4E91-B41C-413166E9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AD5691-52F4-4B62-960C-6CADFD00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FA21B5-18FA-42E6-A396-9A37EB52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820758-E2F8-40A2-AD7F-D8957863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9E4F92-AEBE-41EB-926A-75BB32A4A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1452DF-A9AA-4F9C-B50C-69926713A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1118F3-6199-4F81-848B-B6A63DE40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CD1245-FA29-44A0-AF24-5E8732BB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5E6303-B659-45E1-AC62-64BF0088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A0F657-832E-460B-9A69-486D9556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7F0F9A-CB48-4840-B4D8-16511A33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3DA5-CD1F-485D-85E4-F93AFAA7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2D68DF-245D-4D96-8A98-73B5C9E1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19D1E1-C1B1-4913-B4AF-101A7BC3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81DAAD-3B3D-4383-8B51-B30615FA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49B6EE-4888-4352-9378-B773A27A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1A6F44-1951-4CB4-A8CD-5F1F526D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FB2E8A-5932-4D13-8AE8-71E8644E3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889C5B-A802-4293-BA2E-CA42E7247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EF0A6B-AAAE-4AB3-976B-3486A8D47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448F05-DDA2-4A4B-91DA-85295ABE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2BA70A-AFFD-4CCA-A74E-3B8F0810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6DC7-B96E-4233-A6CA-D8F834273A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5E31-388B-458D-9219-EE98A0B109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CDC3-DF2E-4814-879D-7AC1DA7B5E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9F85-964C-4C96-AD53-4A3CFFC1CA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5EA4-DE6F-401E-B634-BCA5F7F617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7D18-91E0-4FB6-A7BA-E3FD1EF29B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FE3B-B1A3-49E8-AFE6-EE1A6F3570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0A23-B985-4B9B-9A98-186FE4767E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D4D7-ACB5-4CCA-A904-BA42CB32BF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8C33-4561-44A5-84DC-32368F1729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A09C-3939-4354-B3F0-25EF28DE14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F370-122D-4C7C-94B2-3C92E5A278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7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Merger and Acquisition Strateg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2280" y="108000"/>
            <a:ext cx="876312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Mergers, Acquisitions and Takeover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04920" y="12189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merger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two firms agree to integrate their operations on a relatively coequal basi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n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sition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one firm buys a controlling, or 100% interest, in another firm with the intent of making the acquired firm a subsidiary business within its portfolio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takeover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n unfriendly acquisi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Merger and Acquisition Strategie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are Very Popular Despite . . .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earch indicates the stockholders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ed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earn above normal retur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While stockholders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average returns of about zero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urther, in most acquisitions, the stock price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falls after the acquisition is announced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57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easons for Acquisi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hieving market power is the primary reas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rizont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Vertic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lated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vercoming barriers to entry (cross-border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duces cost of new product development and increases speed to marke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ers risk relative to internal developmen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creases diversific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hapes the firm’s competitive scop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earning and developing new capabilit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Problems in Achieving Succes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tegration difficult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adequate evaluation of the targe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oo much deb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ability to achieve synerg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oo much diversific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verly focused on acquisitio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ompany becomes too big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raits of Effective Acquisi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ssets of the acquired firm are complementar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quisition is friendl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quiring firm does effective due diligence (evaluates the target’s financial health, culture and systems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Merged firm maintains low to moderate levels of deb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New firm emphasizes R&amp;D and innov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rm is well managed and flexibl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estructuring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218960"/>
            <a:ext cx="8042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Restructu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a firm changes its financial structure or set of business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ownsizing – cost and/or asset retrenchmen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ownscoping – eliminating business units (divestiture; spinoff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BO – A party (management; private equity firm) takes a company privat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21-03-08T13:58:24Z</dcterms:modified>
  <cp:revision>318</cp:revision>
  <dc:subject/>
  <dc:title>Slide 1</dc:title>
</cp:coreProperties>
</file>