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B684-FFF5-4A0A-AC52-170D63D4C7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F503-B217-4FAA-94B9-22EC8E40E4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333-A6E3-4FD1-AC9B-97B721AB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89E4-8614-4E21-AE33-1DE29DF2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E5535-4C23-457E-86DC-8579E7D3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3A3E2-7FA2-48B3-823F-3F684824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503B60-C946-48F3-AB68-C9070090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C58FE-195E-4020-B309-3264DE4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512B7-2850-468C-B9E4-176BCDC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0579A-92A0-47B1-B6C0-3CFB910F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E5362B-F7FF-4681-981E-7C332F19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73E49-4436-483D-87F6-1EAAC466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882B2-5539-4607-A662-C9649A9E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31FD9B-4BB5-45A9-86E7-20CFEBB7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8C9-F91C-4C59-9BBE-47E11E14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76DA3A-3469-462F-961E-7F713CB9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52531A-3DEF-4397-BACD-9CACC3E6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F0C587-201C-42CA-B35E-69BA565A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7DE6FB-AA68-4DEF-87CE-9469AB8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62809-D0ED-4834-8124-88D90432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6C837-5F85-4BFE-BEE8-65C5DE60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13FCD5-F5D1-498E-B119-3D71F4FB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B323C-859F-4E41-81C7-C9F6B20C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B46A27-2D1C-44F7-8E64-3BDD1CF1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E025C-4B3B-441A-8F92-7663B553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F59-2257-485D-9750-E0346134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D4DBD5-5225-48CB-9EA1-62B1ACE8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B36064-C68F-4D9B-BF43-AF10514A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EC9E93-7559-4344-9F3A-052E69BA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8668A4-D3A8-4599-9921-337F870A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05B3A4-A235-4198-AC82-F4106C78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9E25B9-3952-4428-A2CA-7B458970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950D3-AA5B-4183-9EEC-219BD0D6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388151-515C-40E6-90B5-BBA4D80A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AF360F-9842-42D7-B3CF-F12D396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999D4E-54F7-4DBA-B85B-0CB10906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083A5-B1E3-4668-A906-2507E2A6AC5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FD08D-F507-4E4B-B668-8D2B81D7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316ECF-803D-4922-A76D-2CED24DD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B3EBA4-1A83-4CB5-910D-59C16477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AFEBA0-E78A-4D0C-A861-12E286A6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608F28-2084-43DC-A220-A70ACF75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2E4C01-5A00-4E10-90D3-64353B21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E9B6FB-CA16-4989-BA36-15D814F0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DAA0D8-C205-4031-89C0-3FD3E05C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7B3D74-961A-40EA-9E05-F9FED7E0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579AF7-9950-414A-B9F7-DE0FB617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7734C-4BCB-40B1-A4B7-C5F45E0A84A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7AF394-FA23-40DF-8ED7-DA4573B2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FE1B13-C979-46E0-9C10-2EEE76D6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620E53-B6E3-4B67-A481-05793815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374D03-04FF-45EE-9859-7638F169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B094B2-6EB3-476F-A402-D88359C7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14AB40-D52B-4465-97DB-1FF6606C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9934A0-5D4C-4EE6-8B88-770B7174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316831-D8A4-451B-8056-6E0FCAC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2C7B9F-3031-4246-B45E-40BAAFC4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0579B8-7ACB-444A-A429-5422ADD3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46251-48A8-42BA-A4A4-F57C6ED33EE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2699C5-63CB-4017-BBD9-96F8B15B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12FD28-66A9-4DFC-9830-645A987A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8FD1B6-60F1-4125-A88D-DE8F9813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F50039-0FCA-4887-8FBF-03A7BC11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1A88A4-67E3-4128-AA17-BFEA9820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DBAE81-D0CC-4ACB-80B4-FBEED3BA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0C94DB-674D-44C1-A9BB-639CFF8D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83BCFF-94C1-4E60-8DB0-9548292B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DD193D-4983-42CE-98D3-360FEAF5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75399A-C131-488D-AFDA-69695BA1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9ADAB-FCA1-407D-8DD9-6E4B3045516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9CBF22-8A6C-4793-B5FD-32A4E226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431E71-A2CB-4B3F-A721-EE8F39E7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577F94-3B96-4D3E-89AE-FA7F62E3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9AFACD-8A0F-4BB2-BD1C-1F5F3855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E86E42-A969-4E57-A40F-227F598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B0B000-2F03-458B-BDA2-57A77EEF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187E7D3-B8A9-43C7-B4A0-F07642FC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E3D9CC-D2CA-4751-B21B-290D6FAB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D4A524-32DF-4C21-9B39-53CD13EA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7F3E41-B01E-4D0C-99F3-51A49F906A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EA246-FFAF-437F-B0D3-5A32D6EC5B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91687-5CCE-466E-80E4-6F066C1173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A11-8310-4E4A-87DF-7D71B21D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58638-85CD-480A-8DF0-ED72EB1BDE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4219C-2AEB-42C2-8736-7C78D8929B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989A2-7D66-4857-B176-98FE855ABE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A74C7-8EA2-4ECD-9B1A-A0092FDEDE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AE405-906C-46EE-9799-21976B0236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07F-634D-4CF6-A848-7B725922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0E6-E60F-46D6-95BD-6AE196DD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CC074-F275-451B-A779-4AF9925F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42F-394E-4557-B8D9-B15A753F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9D2F5-5B13-40CB-8DB6-2BF66F20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70547-C81C-4867-8D9B-010DA317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E19C0-FF7D-4676-8215-93062BA8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1FAC5-6144-4BE1-8C01-DE61ABD6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F0167-C0DB-4B3D-9582-075C052C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D670A-EECB-4E18-8125-45752437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14142-B98C-4B38-A88D-DDD0369B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9C686-D073-4158-B3AB-7C2E337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8F2D8-69B3-4EB0-8F2B-B069B39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26321-0A49-4689-8EE1-CA8F4A12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FCCE-395A-499D-BDF3-A95D58BC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20FFE-F83F-4686-8644-4E6E10F7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3647B0-E0C5-44F9-BEC3-38FFA3B6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9CE83-9022-49C4-AC97-2B0D93D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B39A6-42DC-4EC9-A983-2048A736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DF5DDF-4DA8-4EFE-80CD-B9A5FBF5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F83703-EBD2-466C-9369-47BEC17A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8BED3F-5CD6-4B41-9CBB-0D53707C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28E12-5B63-4CCC-A770-D5F9CFCF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ECACF-E23D-42F2-805C-67727D9F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0DD7C-BC78-41E6-8677-420A1DD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3FE-68C2-439A-AF3A-6594FFE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4FAA2-5317-4C7D-B07C-FB6E12FF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1D97F-DAD3-47A6-92C4-6A9A6B46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5B0440-03DA-4385-A8D3-BA267CC9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4E09B-2AD8-446E-A40B-F4D5EC2E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6652A-0F56-472A-A2BA-CCEA10FF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9F0AF-6C92-4370-B250-F270B4F0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1037FF-9927-4293-B53F-E82CC0E1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22E175-82A7-4A11-9A7B-EBCA27D1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72D7F-1049-47E3-AB65-4A25B38B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5F2E6-E16E-4D2E-ACF5-D8F6CD8B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50F-9DCD-481A-AC2B-D380A9CE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E928C-D485-4985-B9E1-C73FB11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41A27-5DA2-4970-A9D9-9690033D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AE160-A034-480F-8B82-88885716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409E8-6D3E-4A5D-B43E-041CC77D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D636A-6BFC-4C0B-ADC5-02C75156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60561-280E-48BF-94B5-8B0489AE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3E617-5806-4A60-8238-3D559A6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2B314-44B4-4C09-8AE0-45DD86EC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512DA-C9E7-4B01-A46C-3AD86FD1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88FAA-9775-431E-84B0-88FCA975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68B-8124-4EF4-9FB1-194F7E40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F326CA-1489-4C88-BC7C-42880C6D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B8D43E-22AA-4094-9E5F-A02FD7C6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FF1A6-E5E6-4547-862D-7B33E627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D0587-DDF4-446E-BE9B-FDE3E0F5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11499-CB9A-43F2-9DD5-77BA2B08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379FF-00CF-4FF6-9346-B3D1CF63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956C2-DA5B-46C7-B2DD-8883357F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B8A93-AC17-4A34-8578-0D0ABAF4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C95D65-3133-4F5F-9200-4B57AAB6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24BA31-CFC2-40E2-9D7E-0E7A6989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69BE-255C-44BB-A8E4-CC7B3DA791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EF70-5528-41F5-B3B5-56AF5D8A48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7C10-9015-4DC9-AB69-F1E76B3855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53F6-92C5-4B5E-BD74-4D2F8A4A74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6E45-C239-4493-B2E7-7033D9EF17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4F31-C673-45FA-BAA4-3CE9E2DF5C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FA54-5C01-4100-9C12-D05C1FCCC2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EB8-972F-4899-8ABB-945DEF6FA5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7AF2-0AE7-4F81-9C8F-C714800CBD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8041-D7D4-4DAC-8549-CD087D1FBA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A663-474D-44EE-B6F2-CFFD0B4E09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8C91-5FC5-4329-9ABF-37FC07B0F1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21-03-08T13:58:24Z</dcterms:modified>
  <cp:revision>318</cp:revision>
  <dc:subject/>
  <dc:title>Slide 1</dc:title>
</cp:coreProperties>
</file>