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D0EC-1A4D-4F44-B044-6F646988D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5E3-E85F-4B61-A599-2C1A5D98D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63E-C960-4A5A-8511-F3B8E861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17B-C342-4551-823B-BE7163EA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13B57-E8F0-40E6-BF9D-C384F7A7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FC971-B44D-4DD3-AB56-AE932081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7C43D-8685-49AB-8FAA-DEC6EE2E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837A8-9901-4941-ADFD-793BC95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B12B3-82C0-4D75-9FEC-4644F3D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1A7E2-7A7C-4A93-8DB3-1130B20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0BE1A-F2C8-430A-8315-EEE9C12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E5B8E-9731-4063-A4C2-2E4FB431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C6C6B-E6DE-4F9C-8157-731824BD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376F8-AB4D-4F52-9797-BD33B362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EAD-8018-45F7-B2A4-BDB5BB5F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46B94-9BFF-4F89-AC94-AC2EBA11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1310B-8CF6-4E40-A4A5-DB8C72F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7A7DAF-B792-4051-9241-8816788A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33526-CCA4-4B15-A2C2-0714EDC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43A74-F445-4F0B-A7E1-6B838DF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4F374D-2DE3-40C6-A9DC-D5FA952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BC75E-8358-46CB-A081-0FEBC2A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148F1-C6C6-4BE7-95BF-2F9C4DD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CE83B-3D8D-4890-871D-7186074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4A3C45-DE02-4455-A973-2BBCC00D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C92-8676-4996-B06A-5A041D7D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AF707-AB45-41AD-8831-B5ECDF1F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4004B4-1166-4E66-A9B6-79A6ACED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31E7AC-8300-4118-A6F0-1E401726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E5349-E603-4930-ABFD-9B9FEFB0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0286C-1E88-4B5E-984A-E1DEE6C6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E4C42-5BD6-4499-ADA7-9E67B337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0FD97-1DC0-4C29-A6FC-A5107E1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2DD9D-0C3B-40EE-952E-C5EC1FE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A5ED1-3658-49E4-B38C-CC0DDA5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F62472-24D4-4634-9A6F-7278111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505A3-728D-44CF-AFB8-478591F52B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0603E4-5519-45E1-84AB-49E177A5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367D1-6E0B-4CE7-ABEF-DBE68151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98A2E-B403-4D8A-B3D0-3EABCF44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6BB361-7C4A-4BC7-B69D-984277D9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153303-334E-4F81-85AE-FE102B38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682BF-B2B1-4411-B8F2-B702D3FD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8B0B0F-3E83-49A7-B4C2-91F5D09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0570C9-4D33-4DDC-A45A-FCA40AFE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52DAFE-F648-43D4-BB72-F6D27855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090841-8151-44BB-BF58-246FAB27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A51C1-A6C4-43B8-BB51-14340EE9BF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A096FA-3DA9-4B35-9ECA-B15EC9B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5650C-A305-49DB-86CC-766A0DB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0BDBAA-A722-46B4-90B0-B7D7932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5F25FD-0CEB-41A1-8981-2D9453E4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6A6A21-5893-4B33-98EF-671D6D4D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4B1AE7-0338-453C-9C88-430184EA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44EE32-4BEB-4D7B-8727-2A102D6B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49E6E4-B112-4861-B995-1F0D178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3D74F3-5979-4E80-8BD6-EF7BD4F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225F41-EE17-42AD-8461-CD2C012F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1722F-B0C8-4674-BAF8-3F402314CB5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9BA1B1-4898-4F92-8748-B4FE4EFB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F73FFB-D25C-42B1-9882-2FC2633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8D942-D183-41AC-B234-F860B60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03AD43-F181-4C33-A542-26FDEA4E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2A61C5-58FA-493E-8549-77131AA0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BE2190-1297-4094-84F1-33CC437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B44834-4046-4442-88A3-09669282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F93350-8987-4F8B-9AFE-64654BBC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F85499-95A8-43B1-816C-6B2D597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6D7883-5EC2-4A29-96F0-9919A371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F58F-95D4-401D-82F5-46F9BB84984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F2B70E-5365-4320-8892-6EAC940C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D0C54D-4D37-4071-8821-710A540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04E4B2-E618-4A61-A96F-FD3DD35E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2A75B2-BD75-4014-BE5D-1D78638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A87E5A-70E4-49EA-99C4-AA66E9A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6CAE10-E2EF-4740-BD79-8CBF654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DBB24A-376D-4477-AC70-D04BC16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D3E87F-671F-4983-9454-2A7AF526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B5BD4F-91E2-498E-88ED-F75B49AA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672B7-A9DF-4DB5-BC04-0ED2F21107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97E9F-CF2B-4036-AAD4-1FAD79FC9A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38498-0F87-4E86-95E3-114CA6CD1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860-089E-41CE-986F-66971A4D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DDA12-39F8-4493-A8D0-77EF65486C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0C742-2DE1-460A-BFE4-C8BCF9CBC2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5778C-47D6-4FFB-BE1C-0C2F959430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FCE86-6DDD-4F60-99BD-2E647FDD35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5595B-05A4-4C41-8C97-8A3B3D28F1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DAE-EACD-4F99-9626-3EDFAC1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395-CBF6-42BD-B675-617CB99E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4788B-48B5-4A6B-A843-8E7FE19B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3C5-58B7-44F1-BE8C-A11FD4CF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5261E-7A5D-47B9-87F9-26BFB6C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E598B-0730-44E4-A3AF-A5F063E1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553D8-93B8-4B6D-9568-D298B19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2EFEF-5502-4344-94FC-A55E0207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3BFED-F675-4ACB-BE1C-F43C0782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CB33E-C913-4851-8826-CF0EEE47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0D57A-2F35-4799-A0A8-6221A06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7CBE1-95AA-4665-B815-2C09AD3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AE417-827E-4B3D-ACDC-F7BB2D8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63DA9-C8E4-441A-950C-474CA88B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C47-28D2-4BE3-88ED-2569BA3D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61EA0-CC16-4543-A315-E85439BD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1CE4F-94D5-49A6-A70B-A384EFC0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6FBD4-55D6-4506-B3E9-47F811A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D02A0-5242-4A71-8EE7-6F50A0C4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83C33-5753-4351-A69A-53A2F1E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A0B81-4934-470B-9F34-22DC6F67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5D74B-290A-4E98-B594-8A37E947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FA61E-0285-4DCA-8E10-CFBC1BF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C7B08-936B-4605-ADFD-F252448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4FB5C-AD93-40B5-9E9A-3375D76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5B1-BF87-46CC-BA21-C7A5ADC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7853D-4EDE-409E-BB21-0A669149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913BE-038A-4FD4-AB0A-11603F86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D2F2D-947A-4AEA-B307-02F91BCF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037A6-F9E5-4E58-85C9-4D5B32D9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843BE-F282-44C1-92DE-04AED5F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AEF9E-81D4-4FDB-B753-51F1F384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C7360-1D39-4EE4-BDE6-8EECD91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E19EA-A908-4545-AC46-D9DE9BF2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C1D01-35A6-4F26-90F8-045A74BB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8C085-A359-4A4F-81CF-72BBBE82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689-6E61-4E01-8AD4-1E14409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5374E-064E-4606-9775-F8F343D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A5207-A77E-49E3-AE76-FF931F9F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3BE1F-5691-4BFF-B483-4E6A6BE2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62E69-3E9C-4AE2-99F7-8F68C225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8E5CD-E019-4EE2-BED1-57B94FC8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878D1-A8E0-4A97-AF7F-FA634B40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68D10-4E16-4382-AC2F-A82D4C0A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FB36D-3BF8-4FD2-A612-95F57EA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6E300-B2FC-4139-977E-9108CE69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E8DA5-F05A-43BD-804E-E2209D58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717-BAF4-4D6B-9D7A-C3A5EC2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D7AAD-0C61-41C3-BB8F-BFA53F1C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88D7A-80F4-4646-B499-4222F65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B009F-8959-4A0E-BE6A-9530DB2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0466B-B84C-4B13-8735-9FF0296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5AC66-1FEE-402E-B1CC-7A3D1A47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851D7-0511-487A-98C9-AF115D4A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FBF88-9213-44BA-B7DE-FD09BD92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D8095-ECFD-4111-86BD-BCE6C832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90241-EB4D-4F73-BC6E-945185C9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87DC2-A864-4FEA-827C-4203E454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1A4-5DFA-4BF9-9E94-E6D00402F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D8D7-E433-44C4-9B4D-B0169D9574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64C6-CF1F-49FB-899D-505308118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28D-A987-4D11-AF0F-8600547D4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A033-800F-4B4D-AEE3-FCADD986CF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742C-4CCC-42B8-B8D5-81E33BEB78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E3D8-C80B-4A52-BDCA-1EA8B9A21A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A24-0AD8-410E-9FD9-17622FD50F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2CB-3447-43DE-B61F-8B82AB75C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BDA0-7F77-4A5C-9F5A-E5B3E65659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EB8D-2B74-47D1-9010-E079C192C9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BF6-FF00-4013-99CA-228EA36537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, rather than the interests of stockholders. 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Governance Mechanisms: Actions Taken to Align the Actions of the Agent with the Wishes of the Princip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4:59Z</dcterms:modified>
  <cp:revision>320</cp:revision>
  <dc:subject/>
  <dc:title>Slide 1</dc:title>
</cp:coreProperties>
</file>