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6605-0711-4363-AA2C-A62DDF91FF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37F0-6CB1-4E24-9873-A7AE1043FA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CA5-1125-4686-82E2-1E6A6ADE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B3E-C05E-4DBE-AD16-780808C9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756240-9212-48B2-85A4-407B621B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30FFA4-BAA0-42A8-B1B0-BD2984B1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2F5B21-0D61-4289-A34F-BD01D056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866D2E-D3F7-4448-880D-F39DAAF5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9CDE6B-605B-400C-A151-450C25CC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17CE32-3E73-45D8-B294-8BF57F05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21D9FC-EF5C-44CF-BAA6-59F8A00E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486C80-5A2A-41B9-AEF9-C424FDB3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419D0A-AEFF-409B-8D2F-1B225436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073B8F-A910-4A15-84A8-59A3F885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76E-AA4D-41EF-930B-3CE61FEC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F957F1-B3CD-464A-9223-BF5CE139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D48990-EBDE-4288-8E31-52F7969C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E2CAD7-C377-413E-B933-25B37629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B95D64-72DB-4A7F-A4DF-1FF55530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D2813A-5B4C-49CA-A58E-DC08685B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F8941F-3A4E-4A63-AE1F-CC001827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5A174B-279D-4AA3-8405-A67E5AAD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C2FF33-C8C3-426A-9D2A-06B25D1C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35E3D9-FBEE-4849-8B1A-064BEC29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2DF125-2AB7-44B0-8847-E7202540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3D9-1F05-4FF6-A65F-F4EC7147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BB43D6-366E-467E-B23B-937450A4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847D7F-8977-410C-A7F7-30A0DD2F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5D958E-2EB2-4C47-AA16-FDA9D383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9AC514-4A4C-41F6-8BF6-4A7B981F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719447-5949-4790-9034-28A21E23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DD04DD-1EAF-46CB-A0AB-2FB22DB6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CC31FF-0495-4E6F-AD04-9E3FDE6A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B73CD6-62C1-42DA-B5C5-EC12D32A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9E25CE-4E5C-4AC2-A70A-ED3AAB97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11024D-FE32-4C94-ACB8-B9B34B3C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528A0-B1BD-4980-8E28-A70DF7FF241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1B82B7-E51A-4C74-B939-F0DCBD3D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EE4E5C-DA3D-402A-9E85-BC743139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0C6E8D-8E8E-407D-AEC7-9FA4249A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4E2488-2C1B-4071-9BA8-8E5EFC56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24D54E-5FC2-4A7A-8764-21F4A06B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750160-07DF-43BC-8022-A6696DD1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52C2DC-4BD8-4928-AE3B-C83F9F55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A77931-5392-4C25-811A-E9B91F0F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B0F0D1-4C74-441A-B3C0-9757EE93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7A47F6-F384-4ABA-93DF-182A4908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D24A0-749B-462C-841F-C3B7DCDD5BD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5DF3A1-8153-4427-A24C-26AB05DA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B2A85C-64C4-4AD5-9606-8E884138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C463E7-EDCB-425E-906A-FD1DFAE6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BD3179-1A8E-4086-B6D5-A84F3207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A43AE2-F677-4459-BBF4-4F8A14CD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691E9F-8B79-4DF8-BBE4-159CFDC0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EEF091-492D-42DD-87BA-338F0DB6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BD067B-C7EC-4755-8524-E335FFCF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7C0556-A48A-4CE2-B0C2-F6594803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53E961-BEDB-4BDE-ADA6-A0B55585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959C4-275A-40B2-9BAF-F8A96C3C707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E2391C-A7ED-4D73-8D66-E4018376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D0F2A9-719A-415A-97B0-B6851232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60CB29-A3F3-424E-A1EA-8A61D4D1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BCFA66-3D00-4FEF-B691-F48151BC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D0B2D3-9333-4E96-9099-B4C39944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D2A0EF-523A-4377-A62B-516EB2E6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D0B55D-B9A8-4E48-B890-746C9A76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339C12-D44A-48A4-BBBE-0BB64C96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CC4932-4942-4055-863C-8F6E5F96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0B8F25-D04C-43A1-9384-33061FB0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15020-813B-46C8-87BC-F7859F1A030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16E4FA-96D4-4537-B79D-E74579C3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BB51C6-C69F-4AE4-9EA2-E42DF9C2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1DAC0F-D36E-4E51-9D5C-F9F55378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D66391-759D-4F4A-91A2-A1AEC20F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8F6782-7989-4176-BA63-5298CADB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A508E9-52CA-4AAB-8E98-9F5068A3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51D903-3D73-4271-96B7-424BEF12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BA8922-757C-4ECB-A4FE-AE6C66F0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5A4D8B-EC4B-4B9C-B947-FD783365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B4F81-595E-425A-9160-4F59B108B1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EBE26-A223-4697-81A7-E8E78185F3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395EC-34AA-4EC6-B543-21BD636FF3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07D-0683-42D9-8797-ADC203D1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A43BE-2CBA-4DF6-8665-67FCA951FC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0F869-1FDC-48CB-947C-874A88A109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138B2-A0E6-44AC-9FC2-B9158359D1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AC518-E49F-4249-A476-4E2A548970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F127E-EB04-4067-9DF4-FDD2D414CE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252D-A8BF-48D7-8DEC-021918F4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34C-0666-43B5-B788-2D116D73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F95F5-E83C-4A3D-A5D2-A768C148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6DE-82AD-44E3-AB5F-F3E49D74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3B031-E5E8-48CA-B988-4F17A95F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AB3F7-AEB5-4891-BA97-BA9FB938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F9972-4EC9-45C2-9103-3AB5B3EF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D9AB3-E8D4-4C65-A09C-38673557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020B9-1828-4D40-8EE2-A90D53D9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F5096-5E14-45D5-AEE2-C014DB36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50043-7B6D-4EAA-B7C7-9E1EE5AE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66280-1F54-48B0-A9F7-F163E6DD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CEBCD-9C30-4042-99E2-AD43FD5E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9B2B4-D5DC-452C-99B2-8174D480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438-4803-48D7-B101-66CC31A3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F561F-F000-4B54-A91D-EFA013AF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914BF6-B041-48DA-8A93-CA7529B6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61159B-5F45-4C6E-B2DF-97BE234B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FC548F-3279-4B39-A642-109A7BB5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BDCE8B-84E8-4722-BF50-AC0908B4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3EA31F-299E-4F69-8633-C95531D5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F3C29E-D4C0-49BC-B076-BB00AD6E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66E7FB-7ABD-4C2E-9D76-84A5CC11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CAACF1-8F44-49C8-A9EB-006633EA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1004AA-CE2F-47A8-B990-A2933F9F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284-79B4-4A3C-89D1-8A7E504A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1310AF-ABA4-4B2E-9D5F-4DB52C9A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B6B88-5CD6-4BEA-BB34-5FD885CF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ADC31A-3F02-4688-901A-56073499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9E59F1-2574-4C99-9385-6760438B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1D2CE-DDC9-43BD-B317-0D1FAD1F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7BBC3-928F-4E0A-82E4-093C08EA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C97661-47E2-45A7-BF3F-9C951200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80571B-DF27-4692-B018-2BF38426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BF4B78-BCFC-4045-B53E-31E86290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07387-29C4-4977-9AFC-0380A7B8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D819-6DDD-4913-9CC4-5520BC6E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96746-CCAE-4018-913F-862261B0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173BD-B8AA-46B7-B242-CD764138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A82D7-C72A-49C2-9087-D10140AE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21573-E108-4D93-90EC-B10542CA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36670C-CF28-43F0-B668-0063159B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094D2-8823-47BE-AEAB-3463E7B5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6F7E60-5623-4352-B396-87D40DBE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3B93E-7900-4FA8-B9E4-ABB0A5BA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FE31C-4D4E-4BE6-9AD2-CBC9A6CB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139843-AD4A-464E-8250-1B6AEF6F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5BF-0E71-414A-A99F-B2C95316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537198-3036-4228-974B-F99CAE4F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5EF382-920E-40D4-A73B-F1EDB9B4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32F729-4E1D-49EA-B583-2177EB68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C5017-CFE8-48EB-9B13-D087C606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02749E-D3C7-4E37-91A6-4E66FBBF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FA6B24-70D7-4405-95BC-43252E41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4604F1-47A1-49D4-A6DC-DE0A4145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0D04AE-AFFC-439C-8496-544BA1A0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8F1D9B-88A9-4808-94BF-718573BA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28BB8F-33FA-4B42-960D-388863F7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E303-14A6-4DD9-8003-005F962262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A171-4B26-4330-8AD8-D1AB9AED8A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B5FE-3C72-427B-AB75-EFDEFB077E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C572-3671-44E2-997E-292DD93D0B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91A3-3BB2-4F9C-B308-A6AD1BD257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35F1-6277-4054-9CE4-41D24E31BA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BA40-84C1-4ABE-9837-EE3C661AD6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7A95-D176-4C5B-B696-0CF2E6DE6F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E7EF-B6BD-4D64-8707-3D69717E06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0A6E-ED32-4179-BFD6-B7438C2867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76F2-799C-4F1B-806A-87D7203A25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AA81-A28A-45C8-8BCC-5985737063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0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Corporate Gover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ternal Governance Mechanis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The market for corporate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Managers often adopt defensive mechanism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eparation of Ownership and Contro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agency relationship exists when one party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princip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 delegates decision-making authority to another person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gen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are agency problem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Agency problem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r when the actions of the agent are not aligned with the wishes of the principal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We assume that managers will act to serve their self-interests (managerial opportunism), rather than the interests of stockholders. 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  <a:ea typeface="Times New Roman"/>
              </a:rPr>
              <a:t>What are agency cost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56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gency costs are the costs of actions taken to solve agency problems (governance mechanisms) plus the cost of any unsolved agency problem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amples of Agency Proble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versification can create two benefits for managers that stockholders do not sha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sala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duction of employment risk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95959"/>
                </a:solidFill>
                <a:latin typeface="News Gothic MT"/>
              </a:rPr>
              <a:t>Free cash flow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y lead to over-diversificat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level of diversification that stockholders prefer is less than that preferred by manager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56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News Gothic MT"/>
              </a:rPr>
              <a:t>Governance Mechanisms: Actions Taken to Align the Actions of the Agent with the Wishes of the Principal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wnership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ffuse v. concentrated ownership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rge block owners (5%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titutional investo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What is the relationship between management and the board of director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iti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atification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mplement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nitoring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the composition of the board serve as a governance mechanism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ide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tsiders (related and unrelate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managerial compensation serve as a governance device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ash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onu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ock op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4:04:59Z</dcterms:modified>
  <cp:revision>320</cp:revision>
  <dc:subject/>
  <dc:title>Slide 1</dc:title>
</cp:coreProperties>
</file>