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71D4-5575-452A-8B0B-9FC0C60DB7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126B-ED91-435A-B817-F597E9DF44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8B90-A248-41B5-87B1-F9A6ADFB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8014-62A9-4888-A8BD-4E12CAE9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A625E2-708C-4E40-9B92-E9FBD0B0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9EF716-000E-4D19-A5B5-34721E3D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96E549-C08B-46C6-862A-4B4FD1C8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C991FF-E881-4408-99C2-92953345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A6E1E3-B1DD-49B4-9810-0FADE8CE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13C62B-B77D-4B2B-8E65-76DCFCF9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F0D98B-A12F-4D38-BD95-49DA2D63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AAA06D-6E6B-405E-88BE-19202D01D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A45D2D-A6AD-469D-8AD9-AFFCC221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1C3FAF-74C6-43A2-BFB8-725F2284D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E948-29BB-4B01-82F5-15613547D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8CB8DB-8373-43F3-B18A-9C814201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C13EC8-CD22-44E4-8A0D-B4E7793D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03F153-9D2B-44D3-A095-3F29562E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E40B0F-F8BC-407C-B119-A558D7BB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B360D9-DA04-4E22-9DD5-76D416A1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40554D-838B-45E5-AEEB-231B759E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509013-E49F-415A-8866-3B3C587A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9EB61F-7086-4900-83CE-FD1B8649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3ADDA6-4369-41D0-B0ED-B057D7D4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32607E-FE58-48CD-BC86-90BC4E1F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EA76-F8A6-4358-9CC7-CE1B64F44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0903D1-98B0-404C-9279-34418433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B52594-3B62-4D6C-838E-525E8D13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E2F635-1AD4-418D-84E6-41C67FCC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6ED0B9-70DF-4B81-9021-160C4F9E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A6E0A9-EF3B-4A91-8482-52BBD939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BAAE25-2111-4FFB-ABF1-6787286A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FCDDA2-AB38-4D77-92E9-62769B5F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105E8B-51CB-425F-8345-C9DC2EF8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6642C9-82B0-47BE-BFC9-F3C6AA1B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D222A7-BBF6-4559-9F5C-2114E073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4845C-D0C6-4BB9-9F07-4D8AB306B54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58EEA5-4291-4873-AE0E-1454F27B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484075-0F1E-4B46-BBC8-1718A9C7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971BCD-7016-422B-92FC-949FA626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95CDF7-B16B-43F4-884B-EDF078E8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EA4134-9050-4AFB-ADB4-26F336FD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DEB656-50C0-44A8-B83A-D48E9370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BE7D8B-20CB-48CA-9AF3-A39BAF29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B7EC42-6AA5-425F-ABE7-F882FDA8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C98D4A-E439-4372-9072-36AA3A13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015895-237E-48AC-BB5B-3D35BD71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3CE1D-9481-4DD6-B505-C388873691F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9A02BA-5F60-4EAC-8001-7758DA2C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15F43D-C85A-47F2-81F0-1B66F527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8A1966-8EC4-4B7A-AAE1-DD86F5E1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42FFD7-4903-4DCF-BA57-DA46C3D5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8A98DE-20C7-4929-BDDF-5A8F6F4A5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84E57F-8042-4505-ACDC-3DC9199C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12C8EF-7F75-45A3-8C39-3EF7E6DD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DB9171-8898-4923-8926-D23CFE79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FF6060-69E8-4720-AA38-2D75196E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27C4A0-0F37-4016-BC93-05E59AA4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D5034-8E9D-487B-9784-F109768ACBA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9AF565-708C-40CA-B903-A39555DE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5E66DB7-68CE-4861-8E56-D017AB56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B64554-4F81-4786-B6F7-FC2539C4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9DB088-180E-4BCB-B8CF-75A514AA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DE3589-5DA7-4F67-AF7E-B326B986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41332F-2ED6-45AB-858F-84A813D9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5EFC4B-FEA3-473D-A4AB-F59DA482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60C4626-CE43-40A9-A194-B8F201ACD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A6A3C2B-B6B3-4A79-AA52-3C39AC92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C98C3F-2408-4A78-AD42-2368739F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5EC31-1662-4F9B-A6F1-602A7DB1902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D9C713-BFA7-4DCB-AC8B-AAF7427D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B9463F-236D-43AD-A404-3B2C9D2B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374FC27-B048-4E61-90D3-B7C1745B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4D6B92-8798-4F1F-AE54-B0DF7865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F4693F3-B869-4EB5-8046-DBA610B6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35A88C-45CE-4C64-9D7A-1BA43272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466E8E-4A35-4823-9F5E-159C7EB4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4FF3ED9-6D0E-4C12-95B1-ED1E3CF6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CC5C38C-FB0A-4043-9B17-6D4F7B90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586CC-62BC-4E6B-BCF4-53997AED66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306B3-B214-462B-AD2C-168BB45AD1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F3CD5-5D72-4227-8820-AFCE506995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72FA-5C01-4007-9AA1-EAFDCE0D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4A8C5-4359-4A2C-BF9D-D3C6DA1C45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F2EA8-0D32-414F-AF76-E4E5B898A0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04A6F-40FE-48D4-AF60-8187D6A30F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28938-B52B-4A8F-A8CF-24502F1435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CDBBD-98D2-41D9-A445-EED45209020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4552-E792-4906-BF7A-54135ED1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445B-DF0F-433E-BE09-E3663781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F40588-FC53-4DD5-9179-E9BDEB70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19F8-870A-4205-91B4-D5EDEE23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56B76D-3F87-49AD-8F23-A36AD9EE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F439FA-EE0D-426A-9B76-1CBC2D5A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EC411F-4222-42AD-84F8-EBA74A35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3B95E4-2E23-4741-8C2D-8658A98A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CBC739-1AE8-44C4-813C-FE5CA146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E80487-04CD-44CA-A6DA-899FF785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3E4EF7-9187-4AC0-947F-E327FE4A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415E1C-597F-4F6D-8F21-BDA9AA70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41158C-1340-4DB3-9B9F-1A16DB88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CBBB0D-7113-41EB-B632-3B1F02FF2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BD8D-E179-4332-A2C7-21B79B5A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07ABBF-B30C-4927-8E4E-D4646ABAB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8979D3-B26B-41BE-86A7-6EDDA0D03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61C0CC-6534-468B-A095-C0C03473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1F06E0-86C5-479E-9978-88A326C8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410924-B217-4B3C-A323-4C7D5067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C79DB8-D0E5-4B19-8B66-B0D43C8B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ABACA2-76BA-471D-A0DF-BACAF844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03B411-E396-4EAB-9322-DA89C6D9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CCF667-4FC5-49D2-B57B-1C5A9985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AE3580-FFB7-4D76-B240-1F9E5FEB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C353-B8EF-4D07-9F76-F4714E43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3AC743-523A-424A-B242-09EA183A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E277F1-1B2A-48BF-96CF-53253FFD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AE0919-424C-4BEE-91F7-3EEBDF24E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7A348E-77B1-4E8E-A350-FFE11AC0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4ED003-FD14-4A46-AE5F-60E75168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B47DE1-3724-4341-A1CB-12B91B4C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2177FA-3514-425F-89AB-F165D0E0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E9D5F8-C915-4F7C-AC88-79C6D4B7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A48733-60BB-4079-ADD4-DB8F2FCD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CBEEF5-94FA-4AE7-BA3C-61F7315F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6D57-551D-43C7-9881-EEA238F5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3E31AB-D8B0-4247-80B1-DC24F379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681AE4-FF6B-476A-9955-87613EBE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FDAD99-0871-41CB-8199-1B485B69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AEE998-DCC8-482B-A14B-E863D95A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1C82CE-EA18-44CF-8743-2B6905E7C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5448AE-212C-4EE3-9199-113434027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9937BD-F9F9-4E37-B560-6DCA15DF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0CBA4B-6463-427B-85E4-4FE9AD2A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0DDD28-8904-4D45-9579-B0342F65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953E92-7725-4A12-A0C5-2819E120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8424-40DC-4B74-AD0C-89B2FF9D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E5A712-11BE-4B81-A237-093C565D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468747-A6D9-4134-A10B-DDC19424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D3FA51-52E5-48E7-A1DC-DE597FA3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F4955F-9F1A-4C6F-868C-15E79851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7F6872-F80B-4841-AF31-1D1474A3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7EE4CE-AF97-4A04-9481-33045F394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31C90D-F218-4C34-9E5A-1A49AC57E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821315-CF03-478D-B911-4C13D7D6C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65A4E3-1355-42DF-96F7-A8903F90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32FAF1-0C19-4A0E-87C9-E15EF400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7D09-D313-4889-ADE7-7E24E84317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7788-9F72-4D4C-860C-6F6FC92CB7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3A5F-6446-46A1-9E51-476B15FD60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E425-88F1-48C6-8E81-1765AA405F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0EEB-45EF-4546-A834-457B912420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113B-7093-4302-9636-97B1F98CE4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FC0B-B786-47B0-9979-0CFC0E1672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2F83-986F-403B-B33D-763D36543C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E903-B7FB-4E72-B1C1-AFA37DF7CE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5667-C2B8-4C6E-AB18-D8BC4DBAD2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4BB4-000B-4DAB-8A71-0482486596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A9EF-4F1B-48EC-9093-4879F2115A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11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Organizational Structure and Control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rganizational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ational structure specifies the firm’s formal reporting relationships, procedures, controls, authority and decision-making process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rganizational Control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organization’s control systems are developed to guide the implementation of the firm’s strategy, compare actual results to expected results and take corrective action where necessar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ategic v. Financial Control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4920" y="12189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Financial control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re largely objective criteria used to asses the firm’s performance relative to previously established quantitative standard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ic controls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are largely subjective criteria and examine the fit between what a company says it will do and what it actually does. There is much less emphasis on the importance of outcom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e Evolution of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imple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unctional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ultidivisional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ree Characteristics of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pecializa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entraliza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ormaliza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3628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News Gothic MT"/>
              </a:rPr>
              <a:t>Using the Functional Structure to Implement: </a:t>
            </a:r>
            <a:endParaRPr b="1" lang="en-US" sz="30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e Low Cost Strateg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e Production Differentiation Strateg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21-03-08T14:05:34Z</dcterms:modified>
  <cp:revision>317</cp:revision>
  <dc:subject/>
  <dc:title>Slide 1</dc:title>
</cp:coreProperties>
</file>