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C12D9-4116-4761-A942-8DE6F9EE1B0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move the slid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4ECA8-B19F-48B9-9191-A093E0817B5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I discusses the roles, skills and practices of a company’s human resource management (HRM)  function, implications of the economy, the makeup of the labor force, and ethics for company sustainability. It discusses how HRM affects a company’s balanced scorecard, what companies should do to compete in the global marketplace, how technology such as social networking is influencing HRM and what HRM practices support high-performance work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F987-3A16-4584-B8D1-452B0C834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2E98-7170-4B2F-87D3-967E9C219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3BEA1C-FB52-4E05-8A74-D08EE254A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90C0CE-3420-489E-8131-0AEF646BF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C81EB8-95F8-4AF8-9101-5E9C88396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920DA5-392E-4625-B88B-F744C8DB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C99CC2-EDFE-4A9B-B90C-755AF866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5C1CA4-D4B3-4410-9E38-E9FA62383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DFCC85-C922-4738-991E-ABECBAC0B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88ADC0-A222-46EB-9C52-9BEE69936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51732D-6DED-42C7-9949-955F45B31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5F3DA8F-DE49-4AE6-9EE3-0586E791D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94D6-DB24-4942-8E47-1B056FFE4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2EC3E3F-A870-4DF9-B4FA-C8C3605C5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FEE09D1-8F10-4D8D-B7E2-E5785B2D8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0BC8BF4-76D1-4CEA-B27D-019767284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5E1286-251A-463F-8D19-51408E56D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12A1D1C-1AAF-4299-A0C6-538174305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0328379-C7B2-45B2-8F19-98C666B04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DA065B-08E0-4740-8330-12DD51CA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B52E058-EDCD-420F-918D-CE86BD4B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AA2DEA0-E786-44A3-98C5-A2300B6B8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8212E52-39B6-44F2-9FB8-8CA2A21C1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11CC-DEEF-4CC1-9FC3-0748010A3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6084F3-69E5-4872-A326-D447E2FD3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0B149A-7176-4746-89EF-F011F7F24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84B2A4A-2836-4AE0-BA1A-C7D6063B7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BB4BADD-A6F3-47AC-A00D-B9129EB02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AC8B216-466C-4266-A952-20250C738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1206149-87FC-4F81-BD63-810C15B5C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4B455F1-4905-4C52-A66A-12AD55C53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C7620DE-BDCB-4D3D-A132-78A06B0C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00671F0-527A-4895-91AE-05C80461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99F1F5A-837F-464B-9544-77537576F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04B294-50DE-49BE-A56C-620EEBDCAB45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232C27-ACB3-4839-B303-5680D0C01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30741AD-015B-4B74-8CC8-75D75806A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0FC61CF-72D1-4041-A6DB-9E11E84BE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CB678C9-CB89-4FBB-A5FF-A2295CC11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B0434A0-A648-4A20-9FB5-1CC14D0D8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7BFEF01-123F-4454-B346-A63265A48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9BD26B8-7969-493C-8AA5-A99609A42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D41489F-06B6-4EED-9D62-7B94AD8F4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B302C8F-4A49-430D-8044-BD981CDC0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077764A-2142-495A-A14F-549AA37F1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A76483-CCBC-4DB3-BAA4-D33B6111659A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4BB3B98-BBBB-48BC-AC11-E708F3A5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1BA1B4F-C815-4076-A024-9524C300A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E1396FC-B502-4371-B787-B5B75040F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32E6843-FAF3-45A6-84F4-65E9BDB7E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E59A6D9-0047-49D2-A64F-3438DDB9E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D925C49-D44E-4160-88FF-73038ECB0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3610EB5-2915-447D-BB1A-900DCFF26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7F0A1A6-DF68-4F06-9270-6F20AFA22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A1E15AB-3BD6-4FE8-88BC-CED32A909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5501097-A962-401D-8938-43E9B36DE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796AED-CA85-4973-AA44-AEE35779C067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34C38A7-C5D3-4496-8A91-8C14D43AC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3C0DDC9-2785-4CFC-B15C-B6C4338E3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B6BD747-A78F-4E72-8512-252CA6AD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247BB51-4DD9-4F6D-AF86-45FBF771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6B6FF4F-59BE-45F6-B80D-9DF4DE015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8D42DB9-53A6-4527-8E67-2388A13E1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F6FD37D-6D21-435C-AA3D-EE9EDEA34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8762796-32B7-46AC-9E3D-68D38CE9A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413E9D6-5DDF-4E5D-BFC9-19C0FFF88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4637829-9861-4C10-A30C-7EA08F49B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D42786-A146-45DC-B038-088C6F36AD58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5C16602-6324-4DCB-8A9E-6F715DA58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BB64D7E-80B3-430B-95D3-B3364FE64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B98DAEF-E053-45BE-9AEE-2A22D9713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8284ADF-18D2-4303-92FF-F71DE0709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ED7BFAA-C53E-4038-BB4D-6649CF1E4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3CD6E55-E0C9-4F7C-9781-7B70B1095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DDD28BD-F631-4D28-A60E-6D17A41A7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D9A7736-EE8B-456E-855B-0B8C7E9DE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756631F-C781-409C-B350-C5E004131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3FD78F-A62D-4EF0-B2E2-185621EE92F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69B159-A8C4-4708-84C8-67445D474C3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A53A51-0E36-483D-8BED-DC764303DA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9CEC-261C-4250-8987-906AF2EF5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1B6D0A-0438-4AF3-A1B6-195BD961379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492C6B-BF51-4460-8943-FC18111E2A3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51C464-7F51-4DBC-94D4-CA455B704C4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CA15DE-F1CE-4425-A53A-4625D8AFEF0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46BE4A-8B7C-40AA-B88D-8B67456D32A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A387-D536-4008-A95E-05EDD7870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7AEB-5204-4642-BCAE-153A147CF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6A1E18-9C99-41D9-BCC0-6E48FF9FD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2E8E-6A6F-4378-B6B8-49460266B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067AD1-936F-4BBD-B9E4-B44AD443D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C43CAE-89D0-4867-941A-3196B783F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104B6E-F40F-4001-9F91-DEF6D9AC5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183D7C-FC6B-4149-B275-93FF28B36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4758EA-7A03-46E2-B1A6-0C1A3D9A9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6648F4-775D-4182-B4DC-6FE7C6B2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8C96E6-B783-4BB4-85E7-3F8F8818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981CB3-E422-44A3-899C-35B268E7F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A9352E-277A-438B-B6C8-DFA4180E3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088550-8541-465D-9341-50FD2A5FB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CEBF-F5D3-48DD-BB75-FD3549CEE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522CB6-F3D6-43D9-9EC8-94BF043C8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3B3576-B229-4D56-B486-9BFBFFEB0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A89434-7458-4853-A779-26DF58A25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387E68-388F-42C1-8D9E-3791F44EC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88D19A-5AF9-4585-9BC7-F791F82D5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D42756-060C-4650-86DB-C03F75EBB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A82FB6-11C0-4E6C-B1AD-D06556F7F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3B6C6C-E6D1-4FBC-9A64-5BDBB5733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4B6C8E-BFAF-400B-BEA9-FDF55F7F6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704DA1-D2E9-40ED-BFD5-16FB3D932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80EE-82ED-4CF9-936D-EB9E6F85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F8DB32-E4E5-4CDB-86CF-C2C787050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5AA28A-F303-4DE2-BD27-9BA82EE94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B7679E-6802-4764-8BEC-8339952E9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6831C5-AFF3-4735-ADD0-108C88BBD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4CDD6F-B448-4F53-925B-A43EAE3D1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D073C9-8C2E-4A5E-A8D7-F89EE7B14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23038A-FFAA-4242-9874-48D2ACC98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C86646-D28A-49B4-8359-F1F1A8585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AAC81B-012E-4008-BBAA-FF2E33B9A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C007DE-C38F-4CEA-A2F9-BC8DDB9B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FBF6-891D-4D01-A89C-B063FB90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525853-5F4A-4102-9317-F9DA6204F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BD249B-BEE5-4049-B3B0-D44654D6D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00861F-F7B4-4B4E-A124-DDAC58CBF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B45ECA-4E0D-4A45-B825-82D8650EB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D981DC-5B83-4545-AF53-3FACAF404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0A9C52-FB11-4872-B982-9108AFDC4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A3F310-DF29-492E-BA42-4316CC53C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5BFDED-0DB4-4037-AF13-098D7EBE3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C17662-D65E-4888-BDD7-A6B6FD218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EF8637-3034-43B8-A591-B75101C7D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8153-E891-4869-B0FC-CF51D82E3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E3A053-EA26-4858-B8C5-03E7D039E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65AE2C-11C9-420F-92A2-AE956C76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A99147-F6F4-4C6F-B1A5-538C9B5BB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AD547F-191E-4FF9-B0FA-44E04D6B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193AFB-AD6D-4086-9336-E8863351B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6B4125-95E5-4695-9FDA-B2FFF5C2F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4F3CEF-3FC4-4F9E-A152-7D1967830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2ED742-0E52-43A6-AE12-A3E0DA7C7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B5F776-93DB-4468-B5B3-413D5130B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08683C-140B-433A-880C-791954496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BEAB5-28F4-423A-861F-9B3C81EF7D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2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9ED4C-BDAE-49BC-A56A-B7853C1B841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5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2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BF23B-7D55-4AAB-B203-B87F6EFA8F8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7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8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9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1D6E7-0967-4ABE-871B-6B86D97F3B3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0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1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2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F6A63-FBF9-4034-9D4E-9D3B57347F3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3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A2918-8738-404A-A7AA-209EF4A0978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F9892-2E50-4B1F-8211-0651A6180D1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4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47" name="Oval 12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13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15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50" name="Oval 16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7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8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53" name="Oval 19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20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5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8534520" y="0"/>
            <a:ext cx="60948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5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95" name="Oval 16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7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98" name="Oval 19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0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1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101" name="Oval 22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3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4"/>
          <p:cNvGrpSpPr/>
          <p:nvPr/>
        </p:nvGrpSpPr>
        <p:grpSpPr>
          <a:xfrm>
            <a:off x="7772400" y="6248520"/>
            <a:ext cx="457200" cy="457200"/>
            <a:chOff x="7772400" y="6248520"/>
            <a:chExt cx="457200" cy="457200"/>
          </a:xfrm>
        </p:grpSpPr>
        <p:sp>
          <p:nvSpPr>
            <p:cNvPr id="104" name="Oval 25"/>
            <p:cNvSpPr/>
            <p:nvPr/>
          </p:nvSpPr>
          <p:spPr>
            <a:xfrm>
              <a:off x="7772400" y="6248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6"/>
            <p:cNvSpPr/>
            <p:nvPr/>
          </p:nvSpPr>
          <p:spPr>
            <a:xfrm>
              <a:off x="7837560" y="63136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7"/>
          <p:cNvGrpSpPr/>
          <p:nvPr/>
        </p:nvGrpSpPr>
        <p:grpSpPr>
          <a:xfrm>
            <a:off x="8305920" y="5638680"/>
            <a:ext cx="838080" cy="838440"/>
            <a:chOff x="8305920" y="5638680"/>
            <a:chExt cx="838080" cy="838440"/>
          </a:xfrm>
        </p:grpSpPr>
        <p:sp>
          <p:nvSpPr>
            <p:cNvPr id="107" name="Oval 28"/>
            <p:cNvSpPr/>
            <p:nvPr/>
          </p:nvSpPr>
          <p:spPr>
            <a:xfrm>
              <a:off x="8305920" y="5638680"/>
              <a:ext cx="83808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9"/>
            <p:cNvSpPr/>
            <p:nvPr/>
          </p:nvSpPr>
          <p:spPr>
            <a:xfrm>
              <a:off x="8425440" y="5757840"/>
              <a:ext cx="60120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6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7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8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7C2B6-9040-4C9A-BF8D-73FE8B08B70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9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0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1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AFD96-0D91-42EF-A6C3-470311FEC04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2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3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4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2EC1C-A0B2-4B91-86A4-A118295BDA4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16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17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82E98-4005-4529-8591-DC6C795B75B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9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0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6800C-9C7E-4432-834F-F14FA0D73B5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49000" y="762120"/>
            <a:ext cx="804204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  <a:ea typeface="Geneva"/>
              </a:rPr>
              <a:t>Chapter 11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4e73"/>
                </a:solidFill>
                <a:latin typeface="News Gothic MT"/>
                <a:ea typeface="Geneva"/>
              </a:rPr>
              <a:t>Organizational Structure and Control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Organizational Structur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rganizational structure specifies the firm’s formal reporting relationships, procedures, controls, authority and decision-making processe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Organizational Control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The organization’s control systems are developed to guide the implementation of the firm’s strategy, compare actual results to expected results and take corrective action where necessary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Strategic v. Financial Control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4920" y="12189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2000" indent="-3420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Financial controls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re largely objective criteria used to asses the firm’s performance relative to previously established quantitative standard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2000" indent="-3420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Strategic controls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 are largely subjective criteria and examine the fit between what a company says it will do and what it actually does. There is much less emphasis on the importance of outcome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The Evolution of Structur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1400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Simple structur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743040" indent="-285840">
              <a:spcBef>
                <a:spcPts val="1400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Functional structur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743040" indent="-285840">
              <a:spcBef>
                <a:spcPts val="1400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ultidivisional structur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Three Characteristics of Structur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Specialization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743040" indent="-28584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Centralization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743040" indent="-28584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Formalization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28600" y="108000"/>
            <a:ext cx="836280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News Gothic MT"/>
              </a:rPr>
              <a:t>Using the Functional Structure to Implement: </a:t>
            </a:r>
            <a:endParaRPr b="1" lang="en-US" sz="30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e Low Cost Strategy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e Production Differentiation Strategy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9:11:20Z</dcterms:created>
  <dc:creator>sara_hunter</dc:creator>
  <dc:description/>
  <dc:language>en-US</dc:language>
  <cp:lastModifiedBy>Morrow, Bert</cp:lastModifiedBy>
  <dcterms:modified xsi:type="dcterms:W3CDTF">2021-03-08T14:05:34Z</dcterms:modified>
  <cp:revision>317</cp:revision>
  <dc:subject/>
  <dc:title>Slide 1</dc:title>
</cp:coreProperties>
</file>