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5536-3648-44FB-9EC8-E9032F102D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F295-1CC5-4B32-B4FA-803797CFD8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F5B-534A-430E-A9D6-613C4061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601-0960-474B-854B-653CBF8D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BAC227-37CB-4A16-9E08-731387FD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52E13D-47F5-4D3C-930A-948EAAFC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DF1017-A9CB-4300-B859-5417516A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0F415-5B56-49BA-AF64-DBF8D885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E727C-FF64-459F-B51B-F5D2D0E8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50F1E3-40AB-4A5A-8B50-60846AB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1B631-FB0F-428E-AA8D-7FB20374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1A871-0715-4661-9D2E-7C85B778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E6A7EE-FDE1-4257-9905-030C2B91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C70574-ACFC-4A05-8446-70060A38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E4D-0AAD-4B57-A4FA-38A0E744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22928E-654D-4A2F-8922-6D126EE0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F2715-0B4E-4ACD-A457-A90EE688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C21A69-8B53-4F2D-967E-BB7771F3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9A08DB-EBBF-4E50-A867-6CA53709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05FED1-98E1-4691-A937-4B855554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3629AA-7DAF-428E-B808-927619C3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369DF1-6288-486C-BFDF-C3189E41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58064D-EDFA-468A-A9C8-D31C70E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6059C7-34B2-4835-84C3-89433909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F0E867-44F4-4F8E-B7EC-D16AC3AC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752-0794-4C25-BA71-AD0BA41E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C49216-1AB7-48B9-8DBC-0B7A8094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833775-1200-4B54-AFC4-EF68C84C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182A03-238E-415F-A46F-2DAD93A8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256205-F94E-4803-9E10-4D584FD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1B5312-4DE5-405A-9941-EC2975F4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7D038A-309E-4178-8F99-06882FDB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A24FC3-35ED-4332-9FC9-6E3B4D16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9863A-855D-4C76-9F75-0A3D9368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C31E09-8AA3-4AF0-8E7C-3C6FFF36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05BF9D-2456-4D36-96B9-D4A41EF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2B672-4480-4DF3-A98A-B75FDE91CA2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EC7D84-D970-4574-9938-32D484CE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DF6E08-5F8A-4541-9450-3F77B073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748617-2DD6-47E7-878F-87970FB3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C22848-6750-4EBF-A748-2262E833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76541A-3F8F-4107-897B-75342677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67B28C-0E15-4438-ADA9-4782866D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C18B72-E1E6-455A-A0E3-A089143D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CB37A9-643F-41D1-8579-D5975355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5E7086-0476-4902-B8F2-39EC5B13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DDE379-0F15-4A35-91DE-3C251CFC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397D1-B137-4E68-A3CD-D19FF9B423E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AB5831-6069-48DC-8339-B578D71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F85F84-47CF-4132-B250-D4D5A053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5CED88-4EDD-4280-96C3-DF9EAE72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19B9ED-A5B1-440D-8239-4D51FAA7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28E98B-2780-4E86-8437-090B5E30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361DF1-0B0B-4F50-9C49-239BDDAE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2FEE5E-57A1-4FAF-A066-AFA835E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466528-F738-4F1C-BA2A-BB8D62D7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D25F4C-9B04-4713-B67E-C75194EE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394FDD-2D92-448E-817D-09C405DB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C3702-7448-4823-8476-45ED415A0C6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308A1B-3A9B-4A23-A7DF-DA24A46F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7DC26F-2A46-4949-8E1D-F276B26C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244EC9-A420-4BB9-9C56-9B4C1695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9D2C97-F290-47B1-AB81-36EF2F98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679055-6C5E-4F2E-9BE0-C2234882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BC5D4C-D86B-4A9B-AE34-9CEC7BD0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89836E-FEE0-40ED-9133-B8787D35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1DFAF0-6D18-42A4-AA25-49A9253D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D448CE-14CE-47E2-8937-EFF55E38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9ACD1D-94DE-4253-A311-05BF5991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703EC-7CCA-4F37-959B-5412B18A98E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04DD23-8735-47F7-AE70-956A7D02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A6D662-84BA-4841-A7B4-35EC866E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0C9782-051C-4C68-A18C-95FFF6A4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BB6695-250F-4461-9F14-D16F355C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649374-D7CB-4E5F-B8A6-395BB5BA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CE40A1-EF02-499A-8876-292702E0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0EC18C-8320-4031-BC58-C1E66792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BBA26F-B58A-44A8-BB5B-27F80DF3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29FDD0-83AF-402E-BE05-64724510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CCBC7-4D24-4AFD-A075-0EFAAF86B0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794FC-CDEE-4B00-A811-F1D57AAA47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BA24F-26BA-4B69-8E8F-D6C8B59AA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4B2-9FFD-43B1-8320-15BB71B2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50D35-5C28-4F4D-85D6-204646CDB2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84019-AF2A-4813-815C-DA5EF061C9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CD724-742C-419F-BB4D-706DBB5464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DF3D6-524A-442A-A7F6-A4FD75DFF7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56AE1-7664-4DC2-93CD-57FA579E16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B7C-D2F3-4E71-BDD1-55CCF12E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1A9-3393-4013-8C1A-97F6D52E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A44E3-DA9E-4AA7-AB75-982FBAB5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456-66A6-4DB0-81C1-81BEA29D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0FA3D-F22F-4CF3-B886-F8468491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17511-635A-4F4E-B28D-40AACC00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B352D-CA37-4B2D-8D41-62077115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A0F50-E352-4792-A8E2-5D944B2A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5A4F1-6EF0-4A36-B0CE-E73D3AB9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D2FE6-BF15-4063-A49D-9A539E6F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ED739-387B-4FD4-8B88-C0E5BBC4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9C087-B8B5-4E55-8F66-253EAC83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40D28-C612-45CF-A48D-FC973EAF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2AA1C-BC44-49F0-8B94-F7F68C09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0BF-88C8-4FC0-B17E-21F0B0EC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37E82-4CEE-4D97-B93B-F5C986A6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9A2A3-4C60-411E-94EC-3171A84B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2B5E6-5D91-4A5B-800D-07E1025B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3D631-4671-4BA0-8D8B-CEA583DF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D0336-0B79-430F-8DC5-59DFB6E9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7D543D-BEA5-4AD1-9EEA-F05F7E83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FDEA2-C207-4246-9D36-361A6FCE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07779-44F5-4C45-ADE0-10A79EE3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83129-6E1B-4CDD-A597-1E0F444A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B879AA-BAC5-4DD0-88AC-70FEC5DC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C97-F3BB-477D-870E-C14841BD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D9C1C-985C-428F-AC5C-D628585F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D5666-B6C3-4717-A9E6-5D89AA2A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99354-D5C6-46CA-B216-A8D995DC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1FC1E9-AEE6-476B-BCA2-8B2B099B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74F84-974A-4473-9B01-1D62324B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4B920A-158E-487D-9D1D-E3B78282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ED0E7F-3F79-411D-81F9-0A647D97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B6476-24DB-4535-B0D8-73694DF0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C0108-9823-462C-B871-41BFBF48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635C4-E949-45CE-8E78-BFD177F7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74B-03E5-4082-B608-F2B568EB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20EE6-E921-43D0-A421-648F37BD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373103-5BE3-427D-9FB4-9B48C5D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052F1-80E0-451C-BF08-42E33B5A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00D31-853D-4585-B878-9EDDFD94B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98DB3-8A2F-43E8-A20A-41C207D3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57F17-CECF-466C-88F2-09AA176D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D6A82-7344-49EA-B35E-E2D9671C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9361E-F785-492A-B76C-1C81B003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B038C-0A53-4E70-B06C-CB8CDC68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8B30BD-856F-4DD4-8D96-6EE84A34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AA9-F3EB-4791-942D-0B1EDDCB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8BFBD-C553-4AB5-AB23-107F6272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C7E31-192E-41CD-968A-4DEE5A2C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5188C-98AC-473C-BD29-0ACC1EC0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CEE97-6BC6-4126-9F76-AB54ED2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969116-1CE4-4246-BE71-F4B2BBD4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9DCD8-59EC-462A-B1F6-24301154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C3C49-DFBB-403E-AAB5-A11937C8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D65F7-F816-462A-A492-F2DB48B6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B8575-D977-4C5D-8EB9-2ECFC7BC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C195E-6D9C-4050-BA63-4EDE1575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D66C-A3E8-4BE3-A8A3-1E3D2BCD5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B3EE-C138-4302-A9A2-76CDD6FAB0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E26A-D068-4B2B-BB69-27E577FB8A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4CBE-6585-491C-878F-E8F0ABA4EC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343F-78B5-49D2-AE3C-D7EC5CB2B2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3154-EC31-4A6F-B7AB-1F0E0B2716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848B-8F2A-4B69-8B3E-7E91288E7C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C4CC-386C-4423-93B9-A3A5208D69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D9DF-3A84-4E12-A052-64E8E4C2D0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E5AD-F35B-4D50-A538-A9922F466D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5D63-465E-42D4-AD02-CDDA1C6974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C41C-320E-418E-A4C7-2B4ECF06FC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ree Characteristic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peci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3628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Using the Functional Structure to Implement: 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Low Cost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Production Differentiation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5:34Z</dcterms:modified>
  <cp:revision>317</cp:revision>
  <dc:subject/>
  <dc:title>Slide 1</dc:title>
</cp:coreProperties>
</file>