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C1BD-DDE9-4F1D-A5EB-8CDF5A9D78F4}"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41803-3A3B-4768-93FC-3A0C0422CF5B}"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11DBB-35F3-478D-8CB9-F298506E7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22889-207A-4DED-AFDA-03E94C17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8DFFF7-4418-4ADF-87A2-981E2C39035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58B9B1-418E-491C-ACF8-0855B81EE79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32891D-5D41-4B9C-936B-8F715774F4B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0393CE-080F-4787-8D55-F1E9CE46F7C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0D2457-0A28-41B3-919D-FB827B91B1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F4055E-E550-462B-8CA3-6A871B6DBD9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08827C-0867-48A1-A7C9-87B9717285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54D3137-ACE2-4BEC-87E6-F7A0CF255F3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4914EC8-D678-481E-84D0-E64CE74CFC4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CCFE033-00B8-4ADB-BB97-9214629B749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8AE52-1EE8-462E-9F04-9464C312A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F4ACEE-42A9-4420-A9F5-B9EF0BA7DAD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CFAFCFC-7C36-4773-9722-AB75DB38D28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CCEE126-57C0-4DDE-9304-E399B54221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8EBE11B-8DD1-4637-9EC6-CCC6E74B4C8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BFF653-B217-4616-807E-3F3DE08A785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286CCD-B950-4793-BCEA-9EF09F01B6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A955DE-C03C-43C9-9F14-E0CAC7A5AF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8F859B-EA2C-46DB-9FE3-C1D2FFA28C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C31D2FC-050E-4ED0-A593-8742A1434FB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1F1E2AE-D2B2-44BA-B785-44B12E90297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75373-75CB-4095-BF6E-4510997F1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FB8669F-6818-4E02-9F6B-CEF6B93E9B1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3F95C24-2F4B-4DE1-BEDA-889552C9A5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2EC993-4F2F-4824-BF32-E837C229D65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D24F1CA-5625-49DF-82BA-125662F6E60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659B61-FB78-45D0-BAD1-4C13A9E75D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1FC29E0-D84C-43DB-B08D-7880EBD0984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A80E885-BD8E-4CDC-BDDE-79B5DB0986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16C550-5FE7-4CAA-94E9-5C93A209C6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47D9BC-3671-4E53-9915-6F72D02256B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0CB4E7-344D-4051-95F7-6E9C0E1225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D6F74F-19FB-47B9-90D4-D40208F4E76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CE32807-0A45-4D53-BE38-6CB3C82B43F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64F2A0A-0BA4-42EC-B6AF-8AE3387BA21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1298DDE-4068-4F5E-B612-062A537964A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1AB9D6F-5C8F-4073-9892-D921168E224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33BBDB-32D6-4F82-8991-6782B340D3F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D455A9A-5D99-4337-B042-CF067C15B2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389FF7-2A8E-4679-87AC-CF37E341A5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B1FC28F-C8C4-42FA-B0B9-D2181F621C5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C2AF9E-C0AF-4083-A6D1-946AA1C758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D136491-C640-4A4C-BE7E-77BD05265A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97DB57-0066-497D-8D7D-142375D6BF7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8F4B126-9A2B-405D-928B-058715555B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D73BE47-E5AB-4C73-A119-BA95F7A4EF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634F497-1C2B-4B5B-9E26-7AB2F84CF8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882E48C-6F1D-4BCE-9D32-05B1D92AC7F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F434906-1EAF-47E0-A47F-A3A7C981237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2F54ABD-5A88-4E79-86FD-4087AC67013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53E8D17-BDAA-4EAC-A3E6-3D2AC3F47D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559A3B-1B10-42B8-B482-B7D77BEC820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017BFD3-29B1-4235-9902-051C083E5EF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7F7A733-BAD8-4E89-9796-78686FCDD51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E27DFF-EDD0-4D88-9B19-402DCD2953E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141740D-A065-43FF-A84D-96108CB0929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3203DF3-7864-44E7-B468-0B6B7498343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3622208-7FB5-4774-8E35-38F8C154DC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127254-0F27-4F17-BAD1-769200279C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54D517D-5CB6-4682-B5C9-6234573E468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6CB3E96-DDA9-4BB7-AA02-FD543C8485D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3D15946-8160-4C69-8DA5-3AA8E175A68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FC7CD3F-8998-4D3D-A84B-2A3D3118C78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DDCAD82-5D16-4804-A119-BD8D12304B5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B6055F5-1E7B-4EF7-9D62-2B14C855A64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2353DA-F114-4063-AC64-699D156B86F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32CC164-312C-49E8-8140-EDFFFDFE9DC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2686E3F-1070-4745-9952-1A169FB85FD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F783F49-1F42-415E-A564-C9DE8CA6210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9891787-4F39-44E5-B368-115F5FF6D79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0B33104-5942-4D16-B6AD-7AF11D0A769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1AEB9FD-3B13-4309-8D0C-6991C97CE3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3D0CF88-39C5-4084-ABFA-9BCD15C10D5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1DB8515-F843-4BFA-9EC1-D6B861F24F33}"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9B802D7-638A-423F-BB66-E61F3B7D5E7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396CB9-14C3-45E7-93A2-0AEFB0B028A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168FC-645A-48E5-9021-75868AC3FBC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3EE19-0B47-41FE-B837-88FEBAC93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37B77-84B1-4BAC-BA8D-3FFCACECB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ABB36-17E5-45D3-B396-42C2B3318C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E52E8-8B44-454B-B68D-211E560A4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C66C2-AAA3-40E1-B554-47AFE509CE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6E8382-FB80-4678-A508-8D44D8C0A3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939AB7-C2CE-493D-8E89-631CF1B38F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63F1-BE35-4A40-AD48-B61846D5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7C75F-8EDA-4AD4-AF6D-08ED1BBA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F5FB9F-E598-43FB-990A-1DAE3FB2E9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535D4-1FA0-469F-9E62-A5FC4A0D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052F22-4D2E-4314-89D3-0F154C13F4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6052D7-5F97-4906-950C-F35B6E877D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5FEDA1-1B21-4A8D-813E-72E525145F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B3BD8A-C6B9-477C-A17D-E2883A996B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5450E1-AE89-462E-97F1-C9D584E476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A01354-00B4-45DA-A2C0-CBB81346B4F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AA861A-7D43-4873-B511-8510D8BDC9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04511D-7181-4A9C-824E-A0566A0031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870A57-8795-4913-8AFC-CE8DCFFA035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536B81-9511-437A-8870-4F899AE979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E983B-3879-4C20-9688-E2708A0BE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2D72BF-C8E4-4C10-917F-FA9A0125479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64F6AB8-3383-40E2-A655-F6A6DF00D5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652270-7034-4A9A-8986-31C0E55F94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57A45F-4E9D-4FB0-88CA-DEB17C82CD7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5AC9B2-20B7-4522-89DD-95F7591164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50AF17-FBAC-4E2A-91AB-B473A455EB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88439A-0568-4E14-BDB6-69B708C451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85C1E4-A3E8-4AE8-A55E-4CE7B9DC6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20D219-5B90-44A7-8CBD-29227EAE8D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A3B64E-062E-4EB9-B5F8-DDDFC99A4E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2E3AC-DC3B-41C4-9567-0D376170B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98A372-29E7-4D6C-82D8-7A9A9A037D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DE43D3-7D3A-46C9-8122-011004B1B2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60C82D-E7E4-4657-8791-A6A893C442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AB52860-CCBE-4554-9964-B48C643D4C0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AACB49-DEEE-4E76-87B4-7B87205B58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4842602-6D9C-4221-864E-915B6D3F93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A4BB6B-3E7C-4DB2-AB84-D7800A7156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1C4BAF2-52E9-4542-8E64-0FE937AB8BE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BAB5205-13F9-43FE-B1E4-099ED53B6F1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EF5266-7E0B-49F8-8E32-72EA07E592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B5027-7B33-48DB-832F-0B4A19856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97F2D8F-BEF7-436B-8A74-2B2EA7889C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8830FE-FDF9-40A1-BF61-CAE1FA0EC8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989140-EAFE-4E27-A50B-55F06B2355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D40F70A-5D66-4E95-911B-1145ADD9273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EEA45DD-E44A-4D86-9E06-4F118366441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EAEBE2D-4414-4097-B140-A0E6DF4BA4A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07F7DDF-A25F-46BA-8BCD-B827CC3F95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3F52E77-E0C0-4361-BD89-53943B371C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2DEE76D-645F-49F0-A47C-D9FF699B3B0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DA2B57-2EFE-4DC2-8A4E-81E7FC07407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B222B-2CCF-4168-A548-535E82D1B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0FA5CE-549F-4497-BD31-41B7498AF5E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7E811FA-511A-4F1D-947E-073896B185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020A67-659D-43B0-8604-3E33339075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3CBA2D-C408-41BC-BBE1-07004B0B25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41020E-7544-47A8-8F52-01B39C905EE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D3EFB08-0648-475A-887D-1DF14C38B4A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748BF9F-08AD-45AF-AC35-FA5A9F8CC28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41D8439-7CF1-406B-B16C-2B70A4A07D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C2A515B-38D7-4400-BA6D-69D025CC31C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D16B2B9-3010-4617-93A4-B33DA76A637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4B77-E449-41E0-92DF-C489ACAB88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D7D7-7E66-420D-B78C-43BE76EEAA6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0FF2-83F7-4A68-92DA-422AC4BDDD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A57B-2C63-4ACD-92BE-A4DF67E58AD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AB4A-F6C6-4464-95C7-DD4C3872F2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CCBD-BCD7-485F-83E0-7A6EEF22EE4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A359-1CA0-44E1-84C2-96597707CC8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BD0A-E187-4DA9-A0C1-542455E604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2B25-902C-485B-A7D3-9D5BDBE495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2C30-9CD2-455F-9520-849BD8657D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6371-D3C7-40C7-8A88-4028047ADA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D443-31D0-47A1-8669-E4DC19ADF8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 or internal develop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80920EC5-C286-44FA-B2EA-05B5D497E03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73AA082-877B-4894-BC6D-ADEDB40967F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05T13:45:34Z</dcterms:modified>
  <cp:revision>324</cp:revision>
  <dc:subject/>
  <dc:title>Slide 1</dc:title>
</cp:coreProperties>
</file>