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B37-EC82-4087-AC33-EA026D01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459-3975-4F55-A143-7EB2979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D49-C9FA-4753-93D2-EFBFBEDE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C1E-B7E7-429B-B7D0-A4959EBF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D12-B34A-4BC3-86DD-D8B32DCF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194-4FE2-4BA9-95BE-AE00286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A03-5857-491D-8D77-59AB2FEF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60D-1F07-4E8B-BC4C-84ED0914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A6A-D8BD-44E5-9DB7-4BBDAD9C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31D-C83C-4332-812A-CF557C9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47D-32DC-4537-BCAE-76BA936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755-9F1B-4860-B375-942B77D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66E2-B297-4E29-9317-B094BE681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sonphoto.com/Landmark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z.about.com/d/dc/1/0/h/Z/DSC031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ed States Marine Corps (Iwo Jima)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usmemorialday.org/images/IwoJima.jpg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rlington, VA : The Iwo Jima Memorial, 2007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owering the Flag at Iwo Jima Memorial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talkingproud.us/ImagesHistory/IwoJimaWhy/IwoJimaPhoto.jpg"/>
          <p:cNvPicPr/>
          <p:nvPr/>
        </p:nvPicPr>
        <p:blipFill>
          <a:blip r:embed="rId1"/>
          <a:stretch/>
        </p:blipFill>
        <p:spPr>
          <a:xfrm>
            <a:off x="990720" y="228600"/>
            <a:ext cx="730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wo Jima Picture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z.about.com/d/dc/1/0/g/Z/DSC0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talkingproud.us/ImagesHistory/IwoJimaWhy/IwoJimaMemorial.jpg"/>
          <p:cNvPicPr/>
          <p:nvPr/>
        </p:nvPicPr>
        <p:blipFill>
          <a:blip r:embed="rId1"/>
          <a:stretch/>
        </p:blipFill>
        <p:spPr>
          <a:xfrm>
            <a:off x="2209680" y="0"/>
            <a:ext cx="53341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rlingtonva.us/Departments/AED/images/4987IwoJima.JPG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t.gov/ltgovmfedele/lib/ltgovmfedele/Several_CT_Veterans_in_front_of_the_Iwo_Jima_Memorial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wo Jima Memorial - Hands by kiamatthews."/>
          <p:cNvPicPr/>
          <p:nvPr/>
        </p:nvPicPr>
        <p:blipFill>
          <a:blip r:embed="rId1"/>
          <a:stretch/>
        </p:blipFill>
        <p:spPr>
          <a:xfrm>
            <a:off x="2286000" y="-1440"/>
            <a:ext cx="457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hudsonphoto.com/images/Landmarks/Iwo-Jim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0"/>
            <a:ext cx="5867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wo Jima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24:40Z</dcterms:created>
  <dc:creator>mlevey</dc:creator>
  <dc:description/>
  <dc:language>en-US</dc:language>
  <cp:lastModifiedBy>mlevey</cp:lastModifiedBy>
  <dcterms:modified xsi:type="dcterms:W3CDTF">2008-12-02T16:39:47Z</dcterms:modified>
  <cp:revision>2</cp:revision>
  <dc:subject/>
  <dc:title>United States Marine Corps (Iwo Jima) Memorial</dc:title>
</cp:coreProperties>
</file>