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22F-CD15-4213-AD91-173B5881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DA4-332D-4448-835A-32D9B2C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594-EA36-499C-A2A2-E0D26C65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A50-91E5-4205-97BC-37843FF4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F86-8DB1-432A-B819-5114397B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0C2-7EED-4BD6-840B-9C06A16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E2C-069F-4751-A652-92D2392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09C-2143-4327-9882-11AA3AD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338-DBA5-473A-85A7-49C88CA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D63-3A28-4AEC-9DE0-BCC74B0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5D7-CC53-49BD-A369-57FADE3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362-3477-4B3D-BA62-D23D924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4FB-269C-4F32-BFDB-87E359F99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sonphoto.com/Landmarks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z.about.com/d/dc/1/0/h/Z/DSC0315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ed States Marine Corps (Iwo Jima) Mem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usmemorialday.org/images/IwoJima.jpg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rlington, VA : The Iwo Jima Memorial, 2007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owering the Flag at Iwo Jima Memorial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talkingproud.us/ImagesHistory/IwoJimaWhy/IwoJimaPhoto.jpg"/>
          <p:cNvPicPr/>
          <p:nvPr/>
        </p:nvPicPr>
        <p:blipFill>
          <a:blip r:embed="rId1"/>
          <a:stretch/>
        </p:blipFill>
        <p:spPr>
          <a:xfrm>
            <a:off x="990720" y="228600"/>
            <a:ext cx="7308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wo Jima Picture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z.about.com/d/dc/1/0/g/Z/DSC0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talkingproud.us/ImagesHistory/IwoJimaWhy/IwoJimaMemorial.jpg"/>
          <p:cNvPicPr/>
          <p:nvPr/>
        </p:nvPicPr>
        <p:blipFill>
          <a:blip r:embed="rId1"/>
          <a:stretch/>
        </p:blipFill>
        <p:spPr>
          <a:xfrm>
            <a:off x="2209680" y="0"/>
            <a:ext cx="53341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rlingtonva.us/Departments/AED/images/4987IwoJima.JPG"/>
          <p:cNvPicPr/>
          <p:nvPr/>
        </p:nvPicPr>
        <p:blipFill>
          <a:blip r:embed="rId1"/>
          <a:stretch/>
        </p:blipFill>
        <p:spPr>
          <a:xfrm>
            <a:off x="0" y="4222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t.gov/ltgovmfedele/lib/ltgovmfedele/Several_CT_Veterans_in_front_of_the_Iwo_Jima_Memorial.jpg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wo Jima Memorial - Hands by kiamatthews."/>
          <p:cNvPicPr/>
          <p:nvPr/>
        </p:nvPicPr>
        <p:blipFill>
          <a:blip r:embed="rId1"/>
          <a:stretch/>
        </p:blipFill>
        <p:spPr>
          <a:xfrm>
            <a:off x="2286000" y="-1440"/>
            <a:ext cx="457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hudsonphoto.com/images/Landmarks/Iwo-Jim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0"/>
            <a:ext cx="58676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wo Jima Memor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1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24:40Z</dcterms:created>
  <dc:creator>mlevey</dc:creator>
  <dc:description/>
  <dc:language>en-US</dc:language>
  <cp:lastModifiedBy>mlevey</cp:lastModifiedBy>
  <dcterms:modified xsi:type="dcterms:W3CDTF">2008-12-02T16:39:47Z</dcterms:modified>
  <cp:revision>2</cp:revision>
  <dc:subject/>
  <dc:title>United States Marine Corps (Iwo Jima) Memorial</dc:title>
</cp:coreProperties>
</file>