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B65-8984-4F1B-99C0-8FC63999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4F9-1F15-4D4A-A5ED-084C5E57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DA5-A1C0-4C90-A0C3-62CA181E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6DE-2381-44FE-93FD-FB4DBAB7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C0F-A3F6-4A27-8975-C5833203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94E-877C-4F6E-9ACB-0133B543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32D-31C7-47A8-8364-06137170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133-18A7-4790-B820-4CFF8F43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820-6A20-41AA-8F28-C5018969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C4A-B2D1-4D9A-BD86-394F5667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AC4-38D0-4E26-8155-443C8FA3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16A-335F-4B54-A1D6-56746A52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E3D0-0B8F-4FAE-B3D1-D2595B5F2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udsonphoto.com/Landmarks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z.about.com/d/dc/1/0/h/Z/DSC0315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ed States Marine Corps (Iwo Jima) Mem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usmemorialday.org/images/IwoJima.jpg"/>
          <p:cNvPicPr/>
          <p:nvPr/>
        </p:nvPicPr>
        <p:blipFill>
          <a:blip r:embed="rId1"/>
          <a:stretch/>
        </p:blipFill>
        <p:spPr>
          <a:xfrm>
            <a:off x="20574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rlington, VA : The Iwo Jima Memorial, 2007"/>
          <p:cNvPicPr/>
          <p:nvPr/>
        </p:nvPicPr>
        <p:blipFill>
          <a:blip r:embed="rId1"/>
          <a:stretch/>
        </p:blipFill>
        <p:spPr>
          <a:xfrm>
            <a:off x="20574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owering the Flag at Iwo Jima Memorial"/>
          <p:cNvPicPr/>
          <p:nvPr/>
        </p:nvPicPr>
        <p:blipFill>
          <a:blip r:embed="rId1"/>
          <a:stretch/>
        </p:blipFill>
        <p:spPr>
          <a:xfrm>
            <a:off x="2057400" y="0"/>
            <a:ext cx="495288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talkingproud.us/ImagesHistory/IwoJimaWhy/IwoJimaPhoto.jpg"/>
          <p:cNvPicPr/>
          <p:nvPr/>
        </p:nvPicPr>
        <p:blipFill>
          <a:blip r:embed="rId1"/>
          <a:stretch/>
        </p:blipFill>
        <p:spPr>
          <a:xfrm>
            <a:off x="990720" y="228600"/>
            <a:ext cx="730872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Iwo Jima Picture"/>
          <p:cNvPicPr/>
          <p:nvPr/>
        </p:nvPicPr>
        <p:blipFill>
          <a:blip r:embed="rId1"/>
          <a:stretch/>
        </p:blipFill>
        <p:spPr>
          <a:xfrm>
            <a:off x="0" y="0"/>
            <a:ext cx="92455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z.about.com/d/dc/1/0/g/Z/DSC03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talkingproud.us/ImagesHistory/IwoJimaWhy/IwoJimaMemorial.jpg"/>
          <p:cNvPicPr/>
          <p:nvPr/>
        </p:nvPicPr>
        <p:blipFill>
          <a:blip r:embed="rId1"/>
          <a:stretch/>
        </p:blipFill>
        <p:spPr>
          <a:xfrm>
            <a:off x="2209680" y="0"/>
            <a:ext cx="533412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arlingtonva.us/Departments/AED/images/4987IwoJima.JPG"/>
          <p:cNvPicPr/>
          <p:nvPr/>
        </p:nvPicPr>
        <p:blipFill>
          <a:blip r:embed="rId1"/>
          <a:stretch/>
        </p:blipFill>
        <p:spPr>
          <a:xfrm>
            <a:off x="0" y="42228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ct.gov/ltgovmfedele/lib/ltgovmfedele/Several_CT_Veterans_in_front_of_the_Iwo_Jima_Memorial.jpg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wo Jima Memorial - Hands by kiamatthews."/>
          <p:cNvPicPr/>
          <p:nvPr/>
        </p:nvPicPr>
        <p:blipFill>
          <a:blip r:embed="rId1"/>
          <a:stretch/>
        </p:blipFill>
        <p:spPr>
          <a:xfrm>
            <a:off x="2286000" y="-1440"/>
            <a:ext cx="4572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hudsonphoto.com/images/Landmarks/Iwo-Jima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0"/>
            <a:ext cx="586764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Iwo Jima Memori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18184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24:40Z</dcterms:created>
  <dc:creator>mlevey</dc:creator>
  <dc:description/>
  <dc:language>en-US</dc:language>
  <cp:lastModifiedBy>mlevey</cp:lastModifiedBy>
  <dcterms:modified xsi:type="dcterms:W3CDTF">2008-12-02T16:39:47Z</dcterms:modified>
  <cp:revision>2</cp:revision>
  <dc:subject/>
  <dc:title>United States Marine Corps (Iwo Jima) Memorial</dc:title>
</cp:coreProperties>
</file>