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23E-E5A4-400E-A48A-50A3FB3C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D9D-7374-4BAA-9C14-0C4B63CA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3F2-ACDF-4458-95D4-3790F600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337-9414-4399-94A0-79D6CE67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25B-FE5E-418A-8ABC-76A8F0AE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B72-000E-4AF9-BA57-2F7F8E8F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5CC-8ED3-4666-9505-628A670F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11B-2A1E-46B5-B0A3-4405ACFB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C4B-21BF-4126-844A-F6A05C6F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6D0-C938-4447-9C52-A44A1D61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20E-23A9-48A9-84F4-B6BF8516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E2F-ED03-4177-A0CD-09C00D2F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EC50-C77D-4A68-B4EB-14DE9104E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udsonphoto.com/Landmarks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z.about.com/d/dc/1/0/h/Z/DSC0315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ed States Marine Corps (Iwo Jima) Mem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usmemorialday.org/images/IwoJima.jpg"/>
          <p:cNvPicPr/>
          <p:nvPr/>
        </p:nvPicPr>
        <p:blipFill>
          <a:blip r:embed="rId1"/>
          <a:stretch/>
        </p:blipFill>
        <p:spPr>
          <a:xfrm>
            <a:off x="20574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rlington, VA : The Iwo Jima Memorial, 2007"/>
          <p:cNvPicPr/>
          <p:nvPr/>
        </p:nvPicPr>
        <p:blipFill>
          <a:blip r:embed="rId1"/>
          <a:stretch/>
        </p:blipFill>
        <p:spPr>
          <a:xfrm>
            <a:off x="20574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owering the Flag at Iwo Jima Memorial"/>
          <p:cNvPicPr/>
          <p:nvPr/>
        </p:nvPicPr>
        <p:blipFill>
          <a:blip r:embed="rId1"/>
          <a:stretch/>
        </p:blipFill>
        <p:spPr>
          <a:xfrm>
            <a:off x="2057400" y="0"/>
            <a:ext cx="495288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talkingproud.us/ImagesHistory/IwoJimaWhy/IwoJimaPhoto.jpg"/>
          <p:cNvPicPr/>
          <p:nvPr/>
        </p:nvPicPr>
        <p:blipFill>
          <a:blip r:embed="rId1"/>
          <a:stretch/>
        </p:blipFill>
        <p:spPr>
          <a:xfrm>
            <a:off x="990720" y="228600"/>
            <a:ext cx="730872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Iwo Jima Picture"/>
          <p:cNvPicPr/>
          <p:nvPr/>
        </p:nvPicPr>
        <p:blipFill>
          <a:blip r:embed="rId1"/>
          <a:stretch/>
        </p:blipFill>
        <p:spPr>
          <a:xfrm>
            <a:off x="0" y="0"/>
            <a:ext cx="92455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z.about.com/d/dc/1/0/g/Z/DSC03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talkingproud.us/ImagesHistory/IwoJimaWhy/IwoJimaMemorial.jpg"/>
          <p:cNvPicPr/>
          <p:nvPr/>
        </p:nvPicPr>
        <p:blipFill>
          <a:blip r:embed="rId1"/>
          <a:stretch/>
        </p:blipFill>
        <p:spPr>
          <a:xfrm>
            <a:off x="2209680" y="0"/>
            <a:ext cx="533412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arlingtonva.us/Departments/AED/images/4987IwoJima.JPG"/>
          <p:cNvPicPr/>
          <p:nvPr/>
        </p:nvPicPr>
        <p:blipFill>
          <a:blip r:embed="rId1"/>
          <a:stretch/>
        </p:blipFill>
        <p:spPr>
          <a:xfrm>
            <a:off x="0" y="42228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ct.gov/ltgovmfedele/lib/ltgovmfedele/Several_CT_Veterans_in_front_of_the_Iwo_Jima_Memorial.jpg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wo Jima Memorial - Hands by kiamatthews."/>
          <p:cNvPicPr/>
          <p:nvPr/>
        </p:nvPicPr>
        <p:blipFill>
          <a:blip r:embed="rId1"/>
          <a:stretch/>
        </p:blipFill>
        <p:spPr>
          <a:xfrm>
            <a:off x="2286000" y="-1440"/>
            <a:ext cx="4572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hudsonphoto.com/images/Landmarks/Iwo-Jima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0"/>
            <a:ext cx="586764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Iwo Jima Memori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18184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24:40Z</dcterms:created>
  <dc:creator>mlevey</dc:creator>
  <dc:description/>
  <dc:language>en-US</dc:language>
  <cp:lastModifiedBy>mlevey</cp:lastModifiedBy>
  <dcterms:modified xsi:type="dcterms:W3CDTF">2008-12-02T16:39:47Z</dcterms:modified>
  <cp:revision>2</cp:revision>
  <dc:subject/>
  <dc:title>United States Marine Corps (Iwo Jima) Memorial</dc:title>
</cp:coreProperties>
</file>