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AAE-5AEF-4AEF-8FCA-A73C6E3A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A0C-0CB8-429F-88FD-50B1BBC7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9B2-04F5-4171-BE5A-70CCB29D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398-CD56-4254-B0D5-77D313E8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DE0-AD19-40BB-BE31-DF9D4EBE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C66-F021-4FA6-9D2E-5E932F65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1AB-211D-48E1-8B20-63D8C585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1AE-B41E-4E6A-BA77-ADF0BE9F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0DC-A75F-4B4A-8984-3DCBB616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BD0-C8D3-4DCA-8DF5-115E5DE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EB6-7952-4EC1-835E-AF1B64B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242-2579-4488-BB77-6813B47C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A048-7D12-4BCE-AE5B-C9E04E73B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nswers.com/main/Record2?a=NR&amp;url=http%3A%2F%2Fcommons.wikimedia.org%2Fwiki%2FImage%3AKiev%2520Babi%2520Yar%2520Cross%2520070627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abiyarrequiem.com/Babi_pages/maquette_for_sale.htm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inarymuseum.org/MHV/PZImhv/Scrolltest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indagrave.com/cgi-bin/fg.cgi?page=pis&amp;GRid=4995&amp;PIgrid=4995&amp;PIcrid=639843&amp;PIpi=81451&amp;ShowCemPhotos=Y&amp;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i/Babyn Yar Memorials, Kiev/Ky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ew Le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al from th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Babi%20Yar-79"/>
          <p:cNvPicPr/>
          <p:nvPr/>
        </p:nvPicPr>
        <p:blipFill>
          <a:blip r:embed="rId1"/>
          <a:stretch/>
        </p:blipFill>
        <p:spPr>
          <a:xfrm>
            <a:off x="1066680" y="1693800"/>
            <a:ext cx="70866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abi-yar-sculpture-lg"/>
          <p:cNvPicPr/>
          <p:nvPr/>
        </p:nvPicPr>
        <p:blipFill>
          <a:blip r:embed="rId1"/>
          <a:stretch/>
        </p:blipFill>
        <p:spPr>
          <a:xfrm>
            <a:off x="1828800" y="0"/>
            <a:ext cx="46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Kiev - Monument at Babyn Jar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-Era Monument with Ravine Vi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Looking over the whole ravine.  Smaller than I'd thought it would be."/>
          <p:cNvPicPr/>
          <p:nvPr/>
        </p:nvPicPr>
        <p:blipFill>
          <a:blip r:embed="rId1"/>
          <a:stretch/>
        </p:blipFill>
        <p:spPr>
          <a:xfrm>
            <a:off x="1371600" y="1662120"/>
            <a:ext cx="59436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34856785_69462efbaa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34856786_94bdec77b3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134860912_320fec41c7"/>
          <p:cNvPicPr/>
          <p:nvPr/>
        </p:nvPicPr>
        <p:blipFill>
          <a:blip r:embed="rId1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134860916_61cc9d5761"/>
          <p:cNvPicPr/>
          <p:nvPr/>
        </p:nvPicPr>
        <p:blipFill>
          <a:blip r:embed="rId1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34860916_61cc9d5761"/>
          <p:cNvPicPr/>
          <p:nvPr/>
        </p:nvPicPr>
        <p:blipFill>
          <a:blip r:embed="rId1"/>
          <a:stretch/>
        </p:blipFill>
        <p:spPr>
          <a:xfrm>
            <a:off x="16002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ial to Jewish Victims, at the Spot of the Massacre (199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kiev89"/>
          <p:cNvPicPr/>
          <p:nvPr/>
        </p:nvPicPr>
        <p:blipFill>
          <a:blip r:embed="rId1"/>
          <a:stretch/>
        </p:blipFill>
        <p:spPr>
          <a:xfrm>
            <a:off x="762120" y="1636560"/>
            <a:ext cx="7848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ial to “Soviet Citizens” Who Perished (1950s)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0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en cross in memory of 621 Ukrainian nationalists executed in 1942 (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 monument to Christians killed"/>
          <p:cNvPicPr/>
          <p:nvPr/>
        </p:nvPicPr>
        <p:blipFill>
          <a:blip r:embed="rId1"/>
          <a:stretch/>
        </p:blipFill>
        <p:spPr>
          <a:xfrm>
            <a:off x="2286000" y="1523880"/>
            <a:ext cx="423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’s Monument (near the Dorohozhychi subway station, 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The children's monument just north of the metro stop"/>
          <p:cNvPicPr/>
          <p:nvPr/>
        </p:nvPicPr>
        <p:blipFill>
          <a:blip r:embed="rId1"/>
          <a:stretch/>
        </p:blipFill>
        <p:spPr>
          <a:xfrm>
            <a:off x="1523880" y="1670040"/>
            <a:ext cx="62485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Babi_Yar"/>
          <p:cNvPicPr/>
          <p:nvPr/>
        </p:nvPicPr>
        <p:blipFill>
          <a:blip r:embed="rId1"/>
          <a:stretch/>
        </p:blipFill>
        <p:spPr>
          <a:xfrm>
            <a:off x="1752480" y="46080"/>
            <a:ext cx="5097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418364829_3e8441ae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at the place where two Orthodox Christian priests were executed in Nov.1941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ross at the place where two Orthodox Christian priests were executed in Nov.1941 (200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523880"/>
            <a:ext cx="3969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ument to victims of the 1961 Kurenivka Mudslide in Kiev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ich Occurred as Work was Being Done on the Memorial???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starbei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centration camp prisoners (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34854015_f1fae35730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al to “Ostarbeiters” (Slave Laborers in/of the Eas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rance for the future”—There appears to be a triangle and the word “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34854017_db607f170d"/>
          <p:cNvPicPr/>
          <p:nvPr/>
        </p:nvPicPr>
        <p:blipFill>
          <a:blip r:embed="rId1"/>
          <a:stretch/>
        </p:blipFill>
        <p:spPr>
          <a:xfrm>
            <a:off x="2874960" y="16002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ument to Victims of Fascism in Ukraine (1966); Inscription, in Ukrainian, reads: "On this site there will be a monument for the victims of fascism (during the German occupation of Kiev, 1941 - 1943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abi%20Yar-82"/>
          <p:cNvPicPr/>
          <p:nvPr/>
        </p:nvPicPr>
        <p:blipFill>
          <a:blip r:embed="rId1"/>
          <a:stretch/>
        </p:blipFill>
        <p:spPr>
          <a:xfrm>
            <a:off x="685800" y="1614600"/>
            <a:ext cx="74674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34854014_7296a87740"/>
          <p:cNvPicPr/>
          <p:nvPr/>
        </p:nvPicPr>
        <p:blipFill>
          <a:blip r:embed="rId1"/>
          <a:stretch/>
        </p:blipFill>
        <p:spPr>
          <a:xfrm>
            <a:off x="1219320" y="1555920"/>
            <a:ext cx="7238880" cy="498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e word, made ugly by Nazis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34854016_95fed81167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dy Jackson’s “Requiem for Babi Ya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mage"/>
          <p:cNvPicPr/>
          <p:nvPr/>
        </p:nvPicPr>
        <p:blipFill>
          <a:blip r:embed="rId1"/>
          <a:stretch/>
        </p:blipFill>
        <p:spPr>
          <a:xfrm>
            <a:off x="155520" y="865080"/>
            <a:ext cx="89884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Requiem detail image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basrelief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babi_yar"/>
          <p:cNvPicPr/>
          <p:nvPr/>
        </p:nvPicPr>
        <p:blipFill>
          <a:blip r:embed="rId1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Monument to Soviet citizens and POWs shot by German fascists at Babi Yar" (1976)—Notice that the Original Plaque to “The Citizens of Kiev” is no Longer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ev87"/>
          <p:cNvPicPr/>
          <p:nvPr/>
        </p:nvPicPr>
        <p:blipFill>
          <a:blip r:embed="rId1"/>
          <a:stretch/>
        </p:blipFill>
        <p:spPr>
          <a:xfrm>
            <a:off x="2843280" y="1676520"/>
            <a:ext cx="3268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 of the Monument with the Plaque at the Base: “Here between 1941 and 1943, the German Fascist Invaders Executed More than 100,000 Citizens of Kiev and Prisoners of W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YoungHolocaust01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08240" y="1600200"/>
            <a:ext cx="3400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laque, now a Triptych, in Ukrainian, Russian and Yiddish/Hebrew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abi%20Yar-80"/>
          <p:cNvPicPr/>
          <p:nvPr/>
        </p:nvPicPr>
        <p:blipFill>
          <a:blip r:embed="rId1"/>
          <a:stretch/>
        </p:blipFill>
        <p:spPr>
          <a:xfrm>
            <a:off x="0" y="1681200"/>
            <a:ext cx="89154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abiyarmemorial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89884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Pla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iev88"/>
          <p:cNvPicPr/>
          <p:nvPr/>
        </p:nvPicPr>
        <p:blipFill>
          <a:blip r:embed="rId1"/>
          <a:stretch/>
        </p:blipFill>
        <p:spPr>
          <a:xfrm>
            <a:off x="1371600" y="165276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ice How the Victims Fall into the Ravine as They are S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biy-yar-monument"/>
          <p:cNvPicPr/>
          <p:nvPr/>
        </p:nvPicPr>
        <p:blipFill>
          <a:blip r:embed="rId1"/>
          <a:stretch/>
        </p:blipFill>
        <p:spPr>
          <a:xfrm>
            <a:off x="2790720" y="1447920"/>
            <a:ext cx="35672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22:15Z</dcterms:created>
  <dc:creator>Matthew Levey</dc:creator>
  <dc:description/>
  <dc:language>en-US</dc:language>
  <cp:lastModifiedBy>Levey, Matt A.</cp:lastModifiedBy>
  <dcterms:modified xsi:type="dcterms:W3CDTF">2015-03-09T15:21:22Z</dcterms:modified>
  <cp:revision>12</cp:revision>
  <dc:subject/>
  <dc:title>Babi Yar Memorial</dc:title>
</cp:coreProperties>
</file>