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BE3-904C-44DD-8061-84BCC680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6D34-79D9-4AD9-B2B5-29265C74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7B4A-5B1B-4D00-AD5B-22CA7821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1BD-8A84-4608-BC92-BA0B4F01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D9C-018D-47CE-834D-DD88171E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2FC-E852-4F5F-8DB2-C22CF9EA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D4D8-A450-4ED4-BDCC-C2B862D2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7D6-1B24-46DB-9255-926EC2C0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66EE-0AE4-4C28-8C2B-1D72E15D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89B4-5200-4991-A206-991A34DA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56E-5362-4247-8601-EF8BDA8F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261E-1EAA-42CB-B71A-2A2715B4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7ED6-CE60-4142-8FAD-BE26BC7AE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nswers.com/main/Record2?a=NR&amp;url=http%3A%2F%2Fcommons.wikimedia.org%2Fwiki%2FImage%3AKiev%2520Babi%2520Yar%2520Cross%2520070627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babiyarrequiem.com/Babi_pages/maquette_for_sale.htm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inarymuseum.org/MHV/PZImhv/Scrolltest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indagrave.com/cgi-bin/fg.cgi?page=pis&amp;GRid=4995&amp;PIgrid=4995&amp;PIcrid=639843&amp;PIpi=81451&amp;ShowCemPhotos=Y&amp;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bi/Babyn Yar Memorials, Kiev/Ky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hew Le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ial from the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Babi%20Yar-79"/>
          <p:cNvPicPr/>
          <p:nvPr/>
        </p:nvPicPr>
        <p:blipFill>
          <a:blip r:embed="rId1"/>
          <a:stretch/>
        </p:blipFill>
        <p:spPr>
          <a:xfrm>
            <a:off x="1066680" y="1693800"/>
            <a:ext cx="708660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babi-yar-sculpture-lg"/>
          <p:cNvPicPr/>
          <p:nvPr/>
        </p:nvPicPr>
        <p:blipFill>
          <a:blip r:embed="rId1"/>
          <a:stretch/>
        </p:blipFill>
        <p:spPr>
          <a:xfrm>
            <a:off x="1828800" y="0"/>
            <a:ext cx="46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Kiev - Monument at Babyn Jar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viet-Era Monument with Ravine Vis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Looking over the whole ravine.  Smaller than I'd thought it would be."/>
          <p:cNvPicPr/>
          <p:nvPr/>
        </p:nvPicPr>
        <p:blipFill>
          <a:blip r:embed="rId1"/>
          <a:stretch/>
        </p:blipFill>
        <p:spPr>
          <a:xfrm>
            <a:off x="1371600" y="1662120"/>
            <a:ext cx="59436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134856785_69462efbaa"/>
          <p:cNvPicPr/>
          <p:nvPr/>
        </p:nvPicPr>
        <p:blipFill>
          <a:blip r:embed="rId1"/>
          <a:stretch/>
        </p:blipFill>
        <p:spPr>
          <a:xfrm>
            <a:off x="19810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134856786_94bdec77b3"/>
          <p:cNvPicPr/>
          <p:nvPr/>
        </p:nvPicPr>
        <p:blipFill>
          <a:blip r:embed="rId1"/>
          <a:stretch/>
        </p:blipFill>
        <p:spPr>
          <a:xfrm>
            <a:off x="2286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134860912_320fec41c7"/>
          <p:cNvPicPr/>
          <p:nvPr/>
        </p:nvPicPr>
        <p:blipFill>
          <a:blip r:embed="rId1"/>
          <a:stretch/>
        </p:blipFill>
        <p:spPr>
          <a:xfrm>
            <a:off x="19810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134860916_61cc9d5761"/>
          <p:cNvPicPr/>
          <p:nvPr/>
        </p:nvPicPr>
        <p:blipFill>
          <a:blip r:embed="rId1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134860916_61cc9d5761"/>
          <p:cNvPicPr/>
          <p:nvPr/>
        </p:nvPicPr>
        <p:blipFill>
          <a:blip r:embed="rId1"/>
          <a:stretch/>
        </p:blipFill>
        <p:spPr>
          <a:xfrm>
            <a:off x="16002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orial to Jewish Victims, at the Spot of the Massacre (199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kiev89"/>
          <p:cNvPicPr/>
          <p:nvPr/>
        </p:nvPicPr>
        <p:blipFill>
          <a:blip r:embed="rId1"/>
          <a:stretch/>
        </p:blipFill>
        <p:spPr>
          <a:xfrm>
            <a:off x="762120" y="1636560"/>
            <a:ext cx="78483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orial to “Soviet Citizens” Who Perished (1950s)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00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den cross in memory of 621 Ukrainian nationalists executed in 1942 (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A monument to Christians killed"/>
          <p:cNvPicPr/>
          <p:nvPr/>
        </p:nvPicPr>
        <p:blipFill>
          <a:blip r:embed="rId1"/>
          <a:stretch/>
        </p:blipFill>
        <p:spPr>
          <a:xfrm>
            <a:off x="2286000" y="1523880"/>
            <a:ext cx="4232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’s Monument (near the Dorohozhychi subway station, 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The children's monument just north of the metro stop"/>
          <p:cNvPicPr/>
          <p:nvPr/>
        </p:nvPicPr>
        <p:blipFill>
          <a:blip r:embed="rId1"/>
          <a:stretch/>
        </p:blipFill>
        <p:spPr>
          <a:xfrm>
            <a:off x="1523880" y="1670040"/>
            <a:ext cx="62485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Babi_Yar"/>
          <p:cNvPicPr/>
          <p:nvPr/>
        </p:nvPicPr>
        <p:blipFill>
          <a:blip r:embed="rId1"/>
          <a:stretch/>
        </p:blipFill>
        <p:spPr>
          <a:xfrm>
            <a:off x="1752480" y="46080"/>
            <a:ext cx="50976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1418364829_3e8441ae2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at the place where two Orthodox Christian priests were executed in Nov.1941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ross at the place where two Orthodox Christian priests were executed in Nov.1941 (2001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523880"/>
            <a:ext cx="3969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ument to victims of the 1961 Kurenivka Mudslide in Kiev (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ich Occurred as Work was Being Done on the Memorial????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starbei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ncentration camp prisoners (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134854015_f1fae35730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ial to “Ostarbeiters” (Slave Laborers in/of the Eas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rance for the future”—There appears to be a triangle and the word “O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34854017_db607f170d"/>
          <p:cNvPicPr/>
          <p:nvPr/>
        </p:nvPicPr>
        <p:blipFill>
          <a:blip r:embed="rId1"/>
          <a:stretch/>
        </p:blipFill>
        <p:spPr>
          <a:xfrm>
            <a:off x="2874960" y="16002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ument to Victims of Fascism in Ukraine (1966); Inscription, in Ukrainian, reads: "On this site there will be a monument for the victims of fascism (during the German occupation of Kiev, 1941 - 1943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Babi%20Yar-82"/>
          <p:cNvPicPr/>
          <p:nvPr/>
        </p:nvPicPr>
        <p:blipFill>
          <a:blip r:embed="rId1"/>
          <a:stretch/>
        </p:blipFill>
        <p:spPr>
          <a:xfrm>
            <a:off x="685800" y="1614600"/>
            <a:ext cx="746748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134854014_7296a87740"/>
          <p:cNvPicPr/>
          <p:nvPr/>
        </p:nvPicPr>
        <p:blipFill>
          <a:blip r:embed="rId1"/>
          <a:stretch/>
        </p:blipFill>
        <p:spPr>
          <a:xfrm>
            <a:off x="1219320" y="1555920"/>
            <a:ext cx="7238880" cy="49813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the word, made ugly by Nazism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134854016_95fed81167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9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ndy Jackson’s “Requiem for Babi Ya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Image"/>
          <p:cNvPicPr/>
          <p:nvPr/>
        </p:nvPicPr>
        <p:blipFill>
          <a:blip r:embed="rId1"/>
          <a:stretch/>
        </p:blipFill>
        <p:spPr>
          <a:xfrm>
            <a:off x="155520" y="865080"/>
            <a:ext cx="898848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Requiem detail image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basrelief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0"/>
            <a:ext cx="535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babi_yar"/>
          <p:cNvPicPr/>
          <p:nvPr/>
        </p:nvPicPr>
        <p:blipFill>
          <a:blip r:embed="rId1"/>
          <a:stretch/>
        </p:blipFill>
        <p:spPr>
          <a:xfrm>
            <a:off x="15238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Monument to Soviet citizens and POWs shot by German fascists at Babi Yar" (1976)—Notice that the Original Plaque to “The Citizens of Kiev” is no Longer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ev87"/>
          <p:cNvPicPr/>
          <p:nvPr/>
        </p:nvPicPr>
        <p:blipFill>
          <a:blip r:embed="rId1"/>
          <a:stretch/>
        </p:blipFill>
        <p:spPr>
          <a:xfrm>
            <a:off x="2843280" y="1676520"/>
            <a:ext cx="3268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 of the Monument with the Plaque at the Base: “Here between 1941 and 1943, the German Fascist Invaders Executed More than 100,000 Citizens of Kiev and Prisoners of W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YoungHolocaust01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08240" y="1600200"/>
            <a:ext cx="3400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Plaque, now a Triptych, in Ukrainian, Russian and Yiddish/Hebrew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Babi%20Yar-80"/>
          <p:cNvPicPr/>
          <p:nvPr/>
        </p:nvPicPr>
        <p:blipFill>
          <a:blip r:embed="rId1"/>
          <a:stretch/>
        </p:blipFill>
        <p:spPr>
          <a:xfrm>
            <a:off x="0" y="1681200"/>
            <a:ext cx="89154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babiyarmemorial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47920"/>
            <a:ext cx="898848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Pla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kiev88"/>
          <p:cNvPicPr/>
          <p:nvPr/>
        </p:nvPicPr>
        <p:blipFill>
          <a:blip r:embed="rId1"/>
          <a:stretch/>
        </p:blipFill>
        <p:spPr>
          <a:xfrm>
            <a:off x="1371600" y="1652760"/>
            <a:ext cx="6400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ice How the Victims Fall into the Ravine as They are Sh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babiy-yar-monument"/>
          <p:cNvPicPr/>
          <p:nvPr/>
        </p:nvPicPr>
        <p:blipFill>
          <a:blip r:embed="rId1"/>
          <a:stretch/>
        </p:blipFill>
        <p:spPr>
          <a:xfrm>
            <a:off x="2790720" y="1447920"/>
            <a:ext cx="356724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22:15Z</dcterms:created>
  <dc:creator>Matthew Levey</dc:creator>
  <dc:description/>
  <dc:language>en-US</dc:language>
  <cp:lastModifiedBy>Levey, Matt A.</cp:lastModifiedBy>
  <dcterms:modified xsi:type="dcterms:W3CDTF">2015-03-09T15:21:22Z</dcterms:modified>
  <cp:revision>12</cp:revision>
  <dc:subject/>
  <dc:title>Babi Yar Memorial</dc:title>
</cp:coreProperties>
</file>