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6DAF-5F48-4B3A-9C88-D67FB89F8F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D07-AADF-4F6A-A9D5-E2AAE3E93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B5B-355E-439B-896C-B3462990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6BE-34B2-4BBF-953E-9A754237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B7F43-E678-458C-9163-AF2926ED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A5AFC-EAB5-4CDE-B97D-4F245241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84165E-548E-4321-B0BB-80D5E561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CF1B9A-CCE8-4785-8BEE-F68AA4DA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A22CFA-E850-498D-91A8-870E041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16FB6-9325-4A2D-9C19-5DFBB27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0EE3E-EE1A-4D43-8D75-C79F8A28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6D2D08-694B-4856-8EE9-A16C6927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238B7-3E5F-4CC0-BAE1-59FB3217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63193-CD31-415F-8F5D-8BAC9774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D8D-E55A-43EB-842F-29E89C4D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26BBC-FFD1-47B2-8AB2-22896E1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92EF6E-B418-4F33-BF0C-8AF6F9DC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CE92A3-127A-4898-BE3A-6FAFE94E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792E5-3082-447B-9E2D-4ED3452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F34F0-E7DC-4354-8ED5-2CBA09E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FACF6F-52CC-439A-9B9D-7FF6314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4CB46-2B25-4EA5-A463-BF8A5688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FEC27-3B8B-44E8-A34E-129A2D56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AE331E-7144-4D03-9B5C-CAED2A55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50349-9C78-4C3F-81AC-6228EAC7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C8B-51EF-42BC-9E53-E4F57A5B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611008-0322-463A-8DEC-73E5907F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00C66-D8F8-437F-B134-9EB326BC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5650A8-7E52-4A88-BA48-4DB51E63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EDECCD-5ED3-478C-B384-7DB0C716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D09DFB-5136-4BC4-9A1A-C3C5D971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EC4DE-4B92-4C61-88A8-9CDFAFE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F1CACD-131A-4E98-9702-A9DE8CA6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FEBE5-5D09-4C34-BF42-6334C65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BBA478-863F-4F4F-8D82-EA22F0B7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62B936-7F9A-4C0B-A3E6-7C9C7B71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29F7F-DF3C-472B-9DC5-09A879FE58A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FCBED7-3473-467B-BB68-5252DEA1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ACF50-8B91-46EF-8B1E-F849857D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5ED6CA-EEAA-46AD-B623-5B8D9832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7983C-76BE-4895-81D9-2B82E18F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21E3F-20A7-4DB0-8C1C-5DC47D1C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B1523-B2A4-4ED5-B7D9-2B64F94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DAAC57-F7EE-4173-8910-BE5695C2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E67585-5D41-46BA-9B3E-988E657B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45B6B-6EAD-48C4-86ED-16ECB953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A1A52A-09A9-4D6B-BFC1-B3A0E5B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06AD3-EF71-4F96-9FBA-C1BFD50E0C5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4A99ED-0C8F-4790-9307-5F7F296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680D1F-570C-4170-AE84-296FF960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5F527A-A51C-4FFB-AA16-41F9F67E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93CB63-2A69-4EFD-BF46-D11C5A05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BA1B5A-48AA-4ED7-93EE-9AAEB9F3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2E1A82-1352-40C3-893C-BB649B07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6DEB70-9ADF-4DB1-8882-D35AFD56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96CEDC-2D95-4AB5-A17F-1FC37D2E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4DA89C-9A93-4F6D-8448-0911FFFF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63E8E8-1395-49B5-954D-A34244D9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19C1D-026E-428B-B315-7C28E88B17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8E278F-B9D0-4283-810B-513F61CF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B3B9C2-0D25-4E12-AAEC-A03F3E32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28401A-611C-4939-BC90-806FDA4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7B2B68-6773-443F-A06D-BD719BE0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00E82D-7C62-465D-BB72-BF50108E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FFBDC1-AFA0-4896-8510-0E3C8F45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CCBB9A-90E5-41C4-8A2E-33D81B0E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06C7A3-698A-47E6-8792-B91F736E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451AA1-7037-4DBF-9582-694E67F4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EF80F8-9FAA-4CF3-B6DB-72A01A78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1A4F8-71EF-4A37-82C5-5B94C7F77E2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70EEAB-F4FD-4F78-8573-97B56549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CF0ECD-A3F6-4F92-B6EC-BB04CA1F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8E72B5-513F-4742-8657-86F179F2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40362F-75E3-4CA1-8A60-B8508BE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9D809D-D9CE-4EDD-9F51-06E4B8F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A608C1-3BE6-4625-97A1-E834481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DE326C-8FE5-4860-8EC5-E7C810F7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3A6BC0-186B-4909-9155-899F16D9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2A0819-87DE-45E6-8FE5-DD251F87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F2EC1-4612-4667-9DCB-B2DEA7F3C2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F514-5AFE-493A-8D6A-1E6E34D438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D9166-55D6-4F9E-982E-475891748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0BF-9CAE-4BE5-9CDA-50796CCF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7804B-E1ED-4E01-B187-8350CFCD7A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C9C98-886A-4F8A-A187-522B4F6999B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87C7D-6D7A-4A94-AE10-C157F0180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7D141-2A90-4ADA-906B-45749A296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83D83-1305-48CA-8771-E9AC37A9C4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502-F3FB-4B5C-88CF-365BEEC1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0E2-7DB3-4329-BFF2-ECDF7AEE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1D5E3-18B2-400D-9850-5C5ECC49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7EC-98F9-4CAC-89EB-C8D7296B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20262-0030-48E5-92A0-85F804D9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61968-444F-45FA-92AA-E8F0DD48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3B719-B51E-4D93-A4C3-F5524F64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6DB3B-8A5D-4C42-BC30-FEC69D2F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9FFF8-707A-4006-8457-E18844E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340F5-5C16-471A-89A0-064DC50F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DAFA36-EB8D-482A-AD41-C3C379A7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62BC6-E57B-4B2B-B186-3F06C8C4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BA13C-8F79-41D6-BC0A-F7B946B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0034B-D522-498F-AA0C-E3C90F49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7E2-EAFF-477B-AC73-44E862A6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1E11E-94AF-4309-8505-32A6321A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3D07E-518B-4344-ADE3-A419E918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64EF8-6796-4476-8261-C1A8AF2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72DD0-BF7D-4E12-8DD5-74D0E10B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CEC1F-6D92-479B-A0C1-030A17A1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DAB3D-E85B-4D5B-AAA5-42B829EF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8462C-6503-4717-827B-38A60810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76CC8E-2B55-4ECE-8B6A-AD7A1830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95404-FA0F-433B-AFA6-D87B914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E6647-A11A-4F9C-AF8F-C1E2848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F59-E99D-4A36-890E-7DEE9011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39658-FC51-49E6-956B-CB827B8F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2648E-AB61-41E6-B3BC-98661053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AF20F-CD09-4DAC-8ACC-A773D35C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0E350-6367-4EAC-AE34-242925B8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A8FBF-CD5D-4DB3-83B3-B673E2C8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3DCE62-E8CA-4FA8-97D7-F61292C2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BDE31-1E3F-49CD-BCB0-2B278705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1685A-2435-4371-9712-8349749D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DDC25D-3380-4770-940D-05430A2F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2A6B8-618A-4542-895D-75B0A7F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CE4E-D55C-4945-A08A-10E9A406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5748F-663C-42E2-B38C-94FE4EA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18663-DEA1-4A5A-AB3B-2D0D8A3A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7D832-BBC1-46B0-AEAA-00D82CA5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89752-90A9-444F-A1B9-5D47A74E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D6678-D410-4EB7-ABF4-7B344F5E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C2CAF-C2C7-48D6-BC19-64F0F594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E67DC-5685-474F-9943-68DCB775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355B1-C364-467E-A5D2-67EAFC2A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3B67F-3017-4036-A0E2-FD8E112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6D702-98B2-4F52-8BDA-73C8A7F1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271-9E54-49EF-8435-C9EB9F7F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8CD21-4714-442D-99A6-59ADA124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F08EFF-14F7-4B74-B315-E015DA0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5765D-2992-4585-ABB0-B4A6B92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F07BB-CDA8-478D-98CA-7F1A3AEC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1E99E-AF27-48DC-ABAE-C9A1BB6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4E1E4-E4EA-4218-9542-52717488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46CA1-CD15-4D19-AAE3-02CE355E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58743-A739-4A9F-AE3F-0681BDED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2FCD9-1FFC-4794-A12D-E41BE3F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63E6D9-8D0A-4AD0-A944-48402EC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3CE-7F3F-42DE-B087-42A8E3B1A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14A4-B5DF-43F8-876D-255E7DC30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8040-3329-46B3-8C7F-A6573D51A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283-A2B8-44DC-A6F9-651477D360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AA08-09CB-4C7F-9BB8-5DB25810F0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F7E-627C-44A7-B2AB-E323A626E7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4B19-1C8F-4A67-B85A-30E370BC36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36F-F14F-4EBB-BB8C-65ABB58AE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B77F-11DA-493A-B321-D4A7D1494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DF66-BB22-4993-B268-AB08B1E270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017F-F142-4E1F-A007-6EBAEA910C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0E3-669A-4808-A912-F8878D5584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 8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International Strateg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Modes of Entry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Note the tradeoffs between risk and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xport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icens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rategic Allianc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ergers and Acquisi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ew wholly owned subsidiary (greenfield venture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Exporting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ften the only available choices for small and new firms to go international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ermits international expansion with little invest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aperwork can be outsourced or handled in hous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ermits easy access to overseas marke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Strategy is usually transitional in na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Licensing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n agreement that allows one party to use an industrial property right in exchange for a payment to other part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ntry costs may be avoide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Strategic Allianc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49000" y="1066320"/>
            <a:ext cx="8042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llian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ny type of cooperative relationship among different firm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May be temporary or permanent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Joint venture (JV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greement under which two or more partners own or control a busines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lliance and JVs may take different for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Marketing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echnology sharing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roduction agreement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wo types of Alliances and JV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Nonequity ven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quity ventur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Alliances and Joint Ventur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dvanta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Improvement of efficiency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Access to knowledge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factors (local partners reduce political risk)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vercomes collusion or restrictions in competition from local governments (local partners help overcome local efforts to keep out foreign competition)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Mergers and Acquisitio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The cross-border purchase or exchange of equity involving two or more compan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ffers a quick means of expans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st-merger integration issues (e.g. culture) present a big challen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Wholly Owned Subsidia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042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Overseas operation is totally owned and controlled by a MNC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Driven by MNC’s desire for total control and a belief that managerial efficiency is better without outside partn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Carries high risk and integration difficult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Some host countries are concerned that MNCs will drive out local enterpri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Home country unions sometimes view foreign subsidiaries as an attempt to “export jobs.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Risk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olitic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The Nature of Political Ris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Risk – is the likelihood that a business’s foreign investment will be constrained by a host government’s polic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zing the movement of ass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mits on the remittance of profi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valuing the currenc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izing ass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fusing to abide by contractual term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  <a:ea typeface="新細明體"/>
              </a:rPr>
              <a:t>Political corruption and turmo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  <a:ea typeface="新細明體"/>
              </a:rPr>
              <a:t>The Nature of Economic Ris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conomic Risks – include fundamental weaknesses in a country’s economy with the potential to harm a company’s efforts to successfully implement their international strateg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lation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employment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rest rat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DP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dentifying International Opportuniti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360" y="1218960"/>
            <a:ext cx="821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international strategy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s one through which a firm sells it goods or services outside its domestic marke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centives for International Strateg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tending a product’s life cyc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cess to lower cost factors of produc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echnology lowers costs and makes internationalization more attractiv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ain access to consumers in emerging marke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Basic Benefit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market size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eign consumers provide   potential new customer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es of scale and learning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rating in international markets provides firms with new learning opportunit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ocation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5959"/>
                </a:solidFill>
                <a:latin typeface="News Gothic MT"/>
              </a:rPr>
              <a:t>International operations may provide firms with access to low-cost labor, energy and other inputs. 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752480"/>
            <a:ext cx="804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are some nations more competitive than others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y are industries within some nations more competitive relative to those same industries in other nation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actors of productio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nd, labor, natural resources, capital and infra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emand condi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ature and size of customers’ needs for the products that firms produ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eads to scale efficient plants and the development of capabiliti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Determinants of National Advantage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lated and supporting industr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 strategy, structure and rival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ll of the above are impacted by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formal institutions – cul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 institutions – regula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olitical institu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International Strategi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Multidomestic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decentralized structure so SBUs can tailor strategies to local markets (local responsivenes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Glob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home country office determines strategies that SBUs use (global efficiency and control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ransnation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seeks to achieve both local responsiveness and global efficienc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Liability of Foreignn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ultur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dministrativ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Geograph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Economic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2-02T20:11:43Z</dcterms:modified>
  <cp:revision>330</cp:revision>
  <dc:subject/>
  <dc:title>Slide 1</dc:title>
</cp:coreProperties>
</file>