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8F5E-44E8-4D5E-A10C-D217528987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4DA-E569-41A7-B1ED-12D19437C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050-FFFB-4E1C-8FA8-AC4DB357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0F7-CA07-4CBA-AB40-62287F07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2C900-CB39-43A6-B72C-0C7BB6CE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94884-A3B8-4C5C-AAF7-3EA2E53E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030BC-0AEB-435C-8593-BB7BF61D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FAEF3-957B-40A7-935A-9375AA3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3D2DB-7B0B-448F-8E95-C232631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34365-3F9F-450F-9AD7-EC267BC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7C7AD-C06F-4CFA-86BB-50F7A38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130BB-40B7-4904-9E52-B7EF92F0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732CE-114D-4692-900D-1C5F67BF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0391B7-CEA2-4112-8DB2-49F536DE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743-8196-4020-8D00-8D3C3FA6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65683-860A-4469-9586-C6DD5B25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2F6790-6A49-4A1D-987A-182F4738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DE8B5-6721-4720-A9CC-72233B3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F9456-169B-41CF-A776-5E592C9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6B079C-9135-487C-ADEF-65BCD5D6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D64742-2438-4CA3-A58A-F61564A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BC039-2B01-4A63-BD3B-7238A47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9D052-2226-4491-ABCA-EBF277DA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DE5CE-4A48-4E38-9A92-7F531FE4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C3757-2DC4-43BE-889B-1E0F6908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0B5-9850-4440-BFE3-89CC4A80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205BDB-473D-4D10-8854-C46FF728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24A91-E6B5-4493-8C09-4E5B5893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E8EB8-DCDB-42D5-A281-E151B06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EDFB3-A50D-4C26-B84C-F2594D58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F83B5-1A04-4902-BCC9-CE75581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FC26C-65A1-476F-B8FE-23D151B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BB930A-4A79-4521-9F2C-BFACE5A4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CCC9B-10F4-4EF1-B918-38E4644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4E4BB-E3B7-4FA8-94CE-9774D2D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E2140-7051-44DF-AE1B-D238844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D54EF-97A2-4D6D-B519-E557ED30ABE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1B660-623E-4896-976E-EC3AE13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297CF-7870-4EED-805D-EE10FE33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9FFDEE-EC22-4791-A0D0-349969E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107C8D-9F28-4BB3-85E5-61CD56D2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531494-2C69-477C-99DA-00656F8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F68D3A-B26E-44A9-AA3E-F26D90FF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9AA31-C394-4E67-B558-C43FCCE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36BC0-B731-4AD3-BA8E-511D4731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5E8CA6-DB73-4F28-BCC5-E0B344D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AD8CAB-809D-4C42-8995-4C0B95C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45AA-4922-48E8-9480-F15EB389F88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6AAA63-FB1E-4953-A6CA-83BBBF3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9708E-AA5C-4FFD-8180-A830FD1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6E7130-CEA3-435C-8C0F-C92746C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E4B984-1DC4-434C-995A-093E77D9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C7781-130B-4C95-9AB9-265482EF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CE9E2E-47B4-4D6B-B57F-5A6C2463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9044F-D2EF-4B44-888B-06A233B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540648-7CDF-40B2-AF41-7F94578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41395-897D-41DC-ABC4-BE83FABC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35F3DF-42FB-4509-9B9A-BAFC0DB3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D71B-C406-4E15-81FA-EB54554E31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D030B6-3194-49F9-B20A-BCBB572C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B88F30-7195-4BB8-9801-D27C804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15808E-8385-4599-913E-999C9C9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664520-3EB4-45B3-AA60-4D79FAA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A7F769-2B3D-46D6-A5F1-7A99E0FE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F542E0-468E-42AA-B797-69643AB0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55709-A33F-46CB-ADCE-C047D2A8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AB4F58-B168-4321-B5FB-F62B9F91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30AF0A-8CF8-403C-AD90-C7CE408B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7B0A57-C465-4B01-9968-49462FB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AAF88-CDF2-404F-9897-F015259EBB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650F08-21D5-41A4-9D57-0BBA698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D2D9AC-66A6-4D2A-A4B5-BD014B1E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3F8D61-9F60-4A2E-AB4E-3914454D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6F12BE-DC6F-4CDB-8618-C33DF3C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E694E1-C524-4FD2-A0DE-2ED381B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F6F5CA-A3E9-4E04-9321-0972C210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1DFCDC-7A4F-475A-A139-21F16BC4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8C099D-869D-4F7A-B64B-4245B6F0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D4342F-B70B-4598-8889-6D5EFEE0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E8DD8-E18D-43E8-99C9-B92181005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D44C8-9A02-4A9C-B2BF-290883358D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FD6D4-CFF3-47B5-A19F-B546CB3CC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609-E7AC-4DEC-A7E0-31C246D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C829A-B632-469F-BBC0-724F1E7BDF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119ED-0C71-4838-9DAE-5FBA1F8FE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C8A32-ED19-4C31-BF74-D6E52793D0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0C9AF-BD36-40C7-9145-F51555B75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917C7-3C92-433D-A2B1-213AE2CB7A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0A-6BC9-46CD-BCD2-940555F7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C4E-5896-47F4-98EC-C3CB6235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0320A-B87D-4D73-A1AF-70142CF6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996-0BBD-4C0F-9A30-B3187854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2A7DB-B53A-417E-8EDC-FA1E59EF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FAD0E-BF54-41E3-A880-45CEA1ED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20077-F481-4830-A311-F46AB3F3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0B826-7761-4753-A4EF-F01B844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B0BB2-83E7-4DF8-A279-3BE71A8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2A633-DCEA-4A6E-B269-124D91C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FE453-9629-4734-8CE3-B882F6F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47A6B-4D03-40AB-8C26-13B3796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B6B0D-EFC9-4A2D-B58E-23C10503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B0C4E-F7E9-4B29-8F65-97C41E92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762-1971-49E7-8580-20ACEFD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60A73-A6BA-4080-83A3-F627516E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6EB3B-D3B3-4E92-AEB5-F7A7DADB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37D5C-192D-4986-BD8A-1AFB79B7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8CBAD-6B05-4E32-88AC-00387F08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2DC94-BD8D-4387-A7F7-7732510F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E2411-E9E2-49E8-8059-AF24261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FBFDD-D3F4-4C39-B76D-7950B411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5930B-7006-4476-AFA1-8E79A35A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1A672-9FDB-4B0F-91FB-B63A26C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A5ADC-6920-47B4-996D-9E96727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72A-FAC1-4496-9F46-2AAAC02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53587-BB12-4105-BBBE-60BB02C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6086C-600E-47CA-BDD3-D69D2B8C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57D37-739D-460C-B360-FF62E3D2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4C5C9-53BD-43F8-96F8-40F0050D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9B456-61E5-4C96-BDD6-041582B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FE7B7-8D55-4373-A160-33C449DB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C1087-8998-4F82-92A9-549A1B9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2E291-B847-4F79-8D04-6AB02F2D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23120-347C-4712-A000-CBD621B5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2A864-52DD-4CD8-BDF0-A17AD3F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C88-3C62-4032-9832-6FBB726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76136-BA74-473E-9093-A240C6C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2FBD1-4B81-4DA5-975E-25FD7B4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2544A-B4BE-429B-A979-80BAFB6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2D7A7-C512-4BAB-B5B2-512E5C89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6B23E-2A5B-4D9F-8171-46B9BB44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AD148-7430-456D-BF24-60EA7B24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88578-C1F5-4AC0-937B-49BBDE36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2F797-CA5F-4AC4-96A2-411EC233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21384-B074-422C-865C-3F523921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5C498-FDD5-485A-A62F-09B0819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E8A-C2E4-4FC7-A938-71A2BF7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0FF4A-49BF-4F8F-8A44-AF80A9B2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11B6E-C90F-4A89-84A3-F8607DC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4417C-AC8E-41F8-8850-B32E648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E4DE5-752E-49AA-BCBD-905F949D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DC249-337B-46BA-9B1D-0E85101D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AA9E6-3302-4346-9864-C67487F0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A848C-FDD6-45A1-86D3-7068C604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49AA0-7619-40E5-AABA-3A91139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B3947-20A8-41BE-9CD8-BE78AD35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82BAD-6252-4ED9-AA88-7D350D29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5CB9-36E9-43D0-8AB2-704CAEB46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2282-CE14-465E-9962-B039C6C597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9F6B-4363-4C90-8634-3677CAD0E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14F-BDF6-478C-88F4-11B3A811F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BD07-AFD2-4B3E-AFE4-8F0C8D7209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6874-6349-47CE-8EBF-BA04679EE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89A-F044-4407-BD5A-4765C371A0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5EC9-3E6C-4BA2-B365-E686F8C58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3B2-679A-43CB-AE89-AE46896511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D840-429E-47F1-AF45-4949D8FD5B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6D05-7CB5-44B7-8E8A-CFF4DE9AC5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A7C-D947-4018-9B49-62DE85001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 8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International Strateg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Modes of Entry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Note the tradeoffs between risk and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port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icens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rategic Allianc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ergers and Acquisi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ew wholly owned subsidiary (greenfield venture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Exporting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ften the only available choices for small and new firms to go international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ermits international expansion with little invest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aperwork can be outsourced or handled in hous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ermits easy access to overseas marke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Strategy is usually transitional in na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Licensing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n agreement that allows one party to use an industrial property right in exchange for a payment to other part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ntry costs may be avoide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Strategic Allianc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49000" y="1066320"/>
            <a:ext cx="8042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llia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ny type of cooperative relationship among different firm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May be temporary or permanent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Joint venture (JV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greement under which two or more partners own or control a busines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lliance and JVs may take different for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Marketing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echnology sharing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roduction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wo types of Alliances and JV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Nonequity ven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quity ven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Alliances and Joint Ventur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dvanta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Improvement of efficiency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ccess to knowledge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factors (local partners reduce political risk)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vercomes collusion or restrictions in competition from local governments (local partners help overcome local efforts to keep out foreign competition)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Mergers and Acquisitio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he cross-border purchase or exchange of equity involving two or more compan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ffers a quick means of expans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st-merger integration issues (e.g. culture) present a big challen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Wholly Owned Subsidia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042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verseas operation is totally owned and controlled by a MNC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Driven by MNC’s desire for total control and a belief that managerial efficiency is better without outside partn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Carries high risk and integration difficult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Some host countries are concerned that MNCs will drive out local enterpri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Home country unions sometimes view foreign subsidiaries as an attempt to “export jobs.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Risk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olitic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The Nature of Political Ris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Risk – is the likelihood that a business’s foreign investment will be constrained by a host government’s polic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zing the movement of ass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mits on the remittance of profi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aluing the currenc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izing ass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fusing to abide by contractual term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corruption and turmo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The Nature of Economic Ris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conomic Risks – include fundamental weaknesses in a country’s economy with the potential to harm a company’s efforts to successfully implement their international strateg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lation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employment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rest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DP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dentifying International Opportuniti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360" y="1218960"/>
            <a:ext cx="821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nternational strategy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s one through which a firm sells it goods or services outside its domestic marke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centives for International Strateg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tending a product’s life cyc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cess to lower cost factors of produc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echnology lowers costs and makes internationalization more attractiv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ain access to consumers in emerging marke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Basic Benefit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market size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eign consumers provide   potential new customer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es of scale and learn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rating in international markets provides firms with new learning opportunit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ocation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5959"/>
                </a:solidFill>
                <a:latin typeface="News Gothic MT"/>
              </a:rPr>
              <a:t>International operations may provide firms with access to low-cost labor, energy and other inputs. 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752480"/>
            <a:ext cx="804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are some nations more competitive than others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are industries within some nations more competitive relative to those same industries in other nation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actors of productio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nd, labor, natural resources, capital and infra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emand condi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ature and size of customers’ needs for the products that firms produ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eads to scale efficient plants and the development of capabiliti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lated and supporting industr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 strategy, structure and rival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ll of the above are impacted by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formal institutions – cul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 institutions – regul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olitical institu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Strategi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Multidomestic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decentralized structure so SBUs can tailor strategies to local markets (local responsivenes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Glob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home country office determines strategies that SBUs use (global efficiency and control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ransnation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seeks to achieve both local responsiveness and global efficienc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Liability of Foreignn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ultur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dministrativ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Geograph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2-02T20:11:43Z</dcterms:modified>
  <cp:revision>330</cp:revision>
  <dc:subject/>
  <dc:title>Slide 1</dc:title>
</cp:coreProperties>
</file>