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C388-F412-4F76-842B-17EBC0D749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2E1F-9CC2-4D31-AA31-9257DBC13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7C4-2BC7-47B9-9CA8-CF6DBE52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7BE-2CD2-482C-A95E-A2E04E4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3E93B-C025-46C5-AEFB-54095CB9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DE824-A343-437F-A456-B338EF35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CCCB4-A1C7-46C3-A02C-230B0C14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8BAE9-109B-42EE-A6D8-804A6BD1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EF7D3-04D0-4EE4-95D3-F0BB2CA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0350B-6A86-437C-916A-ABAE1CB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59679-31B2-47DB-B677-6AED6BC9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A853A-0A6C-4855-B12B-C48E9C3E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8B921-3529-4F84-A960-0964AC7A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52431-49BE-4D3B-A574-DAE6DC7B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179-3B3B-4DA0-85A7-230606D7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5B75D-145E-4524-A592-96B65A2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130C1-BAAC-4B0E-861F-C7F428E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F7C45-C09C-471D-9534-DB1E3B0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BDE211-8C72-4F51-B83F-2002D930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ECB37-845D-4CC8-9C4C-8F96DB2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C96C4-3721-4146-9A72-A39B5D7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1E71D-C47F-490D-AA0A-099664A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A6C7B-778D-4AE9-A87C-19E91A3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66278-B7E1-4672-B322-5F4F504C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DCD0D4-0A91-4CE9-BABB-484A59C6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B39-37EF-4867-B471-19BB8528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47297-AEE9-4DED-81FB-9ED717FF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C4B70D-C01A-4597-83FB-123ABA02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76DDFC-C6E8-4A0D-B282-02D7A273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AF6A9-D175-4AF0-BED6-5AC03F64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D5B5A-A562-4DA3-A44E-FFF92AC3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6657BE-47B5-420A-A0BA-7B2CCE5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DBA15-16C0-4DEB-A354-BC43FCB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7DEB7-6C7E-4640-A271-7FBD680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7A38E-E7DA-49CE-8415-0D41D0D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BEBC8-422B-49F5-A5AF-308342EC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A267E-E2C2-4E53-A443-EBF6144850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6A2E6-825E-40B2-8D3D-12DE8DD8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248EF6-E806-481F-B148-791BE12E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E9328-EA83-40D3-B282-A85957DA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52ED95-8EDD-4BB2-B045-DCB3D3DF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9EC71-46B3-4A9C-AC2F-3594F2CA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5BC2FE-F18E-44E3-B098-7BE950E5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8267E4-56A9-4D83-8B2F-B7CAAD9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C60EDB-0C45-4F03-8B1A-335002F5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26BAD6-DF0B-4998-8135-FEA13EC2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8B6502-C390-4160-9E3D-D90DEEE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E4708-4902-4101-8063-DDE2208DD4B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678C70-70A8-4185-91E5-F60FA1F9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DA2CC-F664-4AEB-9F7A-C0F893B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4C1863-C4C9-4D66-92FB-B28C997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86D35D-CC24-423E-98CD-667EF8F7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AFD4C-BDA4-4E91-9B42-06915182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43F416-8471-436C-A17F-E04C8569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5E0119-DDE3-431D-B223-1F9FDAAD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9DC5B6-EA3E-4146-9163-6394AA9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B61E78-C9CE-46D9-A604-CEDF9AB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B86670-7260-44BE-8188-E5E5CEE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11D21-D497-46C4-912C-057F979BA76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0D5C1E-A835-4598-91E8-A323711A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9A4070-911D-4610-9B31-B8655D5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073B2-FC75-4EB3-B6CC-106310E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4EF0BC-F4DC-40AD-9F0A-6C2E037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76775-F460-4CEA-A757-629F758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620500-4389-46AA-8E55-69DCDBD4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F141B1-5CB6-460A-951C-2D8858D7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80AEB6-34FC-4427-AEFE-62C82933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E25438-4A60-4D84-86C4-50C879F0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7EC785-08EC-4CA6-AC53-C817AA5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3AB4-DE63-4625-9A8B-43BB1FB1E98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D77F40-4BB8-47B0-AE59-E521138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B2F827-111F-40CD-88D6-81F5A38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8425CB-F117-410B-9384-397FCF06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B497F0-CE20-44E8-8618-5A2BE6E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DBA342-734E-4EFC-8BD2-B2ED197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17B9C-B0D2-4A77-ABBD-607C10A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E4B82F-9E64-4A79-82D9-BFDE8131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D98B22-DD38-47DE-BC09-4D16DCDC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E3C79E-D9FA-4839-A734-5D1DF931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0F046-B0E5-4F43-8A36-78D0B67B0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60EDE-65E1-433D-AEF5-119107015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9E4A0-63C0-41ED-A1F2-BC16E7335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364-E324-411A-904A-CF6FE319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DD36A-89B4-4EEB-8209-69C7B5672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C9E9A-2F05-4FD5-8BC0-08080ED563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0F2D8-B2C2-48E2-BFAE-7D217B305D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D698-FDEC-4D76-996B-C53381EAC2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601F5-5119-4E52-A6D6-C8DA21E491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08E-242C-444E-B895-45A79D47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AA4-2537-4483-8B72-C996AC8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460D-CE26-41E0-ADFD-AAFC1CB6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732-19CF-48CB-BB15-AFB9DC18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39C38-C796-4141-B047-3F188451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9B133-CD12-4E3F-A65B-00B746F4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6F458-A30C-4970-B2C6-9C6BA2CE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AF7B4-885D-4FAF-92BB-5CB1073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9134A-966F-452D-BF98-2F8E3F67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15242-40DB-48D0-BE7D-585BA17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C35E6-9AA4-4326-8C3E-688DB593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3A505-2A03-4701-A333-7A7C9140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2CC0D-323C-4E64-A4FE-8B8C4F1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EF889-F3E0-4870-94B0-B8B8538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906-102E-4482-9BBD-6FF81B79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7F2A7-D9F0-42B0-88B7-56082E98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66339-C706-4A42-A245-36CBBDAE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F7776-E5D2-4B83-B47C-13087F26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FE293-DF3F-431F-9E2F-EA92CA4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EA328-6A62-49E4-8501-B0F450BD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F27A2-AA70-4608-8F98-1BAFC694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A9942-6559-4A77-9023-0DEC1530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CD783-C041-4CCB-919C-441DA68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07EE7-6BFF-401D-8A0A-67E9E66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C086C-FAEB-4821-8169-E210C37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C6B-061F-4BDD-88AF-B6186E8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F243E-FDFB-428D-85D6-15821EDD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2A200-C17C-49B4-A2F8-BA9EB0BA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7C373-BC48-45C9-8CC4-E9DCD762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0BF79-7AB6-4B43-9373-AB4AA7BE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09EC0-31ED-4AF7-819C-7667B99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832D0-7BF4-41BE-84CD-A527699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E08F7-A923-4B77-820E-6290F36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B4188-3A97-4A7D-88FA-6AE5F7CB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BA93A-2D74-4AEA-AF04-207C6AF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9ED8E-7109-45BF-8F8E-C44F8AF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9F7-91C3-4CAC-9A07-1FC80BE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3D876-0507-4E99-9BC6-D025662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FFA64-0D14-42C7-9746-12C4FC19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B1DAA-66BB-47DC-8F0D-36ED5B9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E984B-9EA3-4723-BEAB-00A03DAC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5F769-1242-471D-B7DB-0C0EE167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C7DA2-0CD6-4E3A-9EC8-8AC2967C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DC13F-A6D4-4008-B5E3-83D7C848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9BB55-C86F-4CD2-BDA8-05AE9B4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2A921-CE95-4D5D-937B-6DADAE9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85187-20EE-407D-A24F-298F1612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7C9-D0BE-4CE3-93C3-2BB062E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52907-5E9E-42B3-A73E-51CBBF42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F8EEA-3765-4908-B44D-50B6E5A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87159-83FA-4809-8B64-77805059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FCD76-74A5-419F-9084-8090EC3E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FDC44-6581-4E74-A578-8775F38E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9EEF7-3FA1-43EA-8236-7173DB80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FF314-C8A4-4522-988B-21B3ADF2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99D52-8125-4369-A34A-0B29E62F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F4BAC-304C-4250-832A-6CF22AC6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54CA9-9559-490D-9C72-555D063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2DA1-E502-4100-8D85-369107B42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FE6E-32BD-4CB7-9CE1-26CEAE9132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204-DD0D-4E94-B8B0-82A52A04B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0B47-F214-43DE-BD84-E06EB3A037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AA4-C79A-489F-8392-D2DA5FEA6B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2EF-0AB8-430D-B601-F22AC341E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B3F2-9050-400D-929E-D4BC447AA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521-468C-4457-B79F-181094852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9145-C6B0-49A4-A79A-3470EEBFA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9B5-A8C0-41C6-8BB4-3F7C0FBFF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B347-6CF7-4C8A-B3F5-82CB36799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1DDE-1A81-49AB-8B6E-600B602AD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 8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International Strateg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Modes of Entry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Note the tradeoffs between risk and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port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icens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rategic Allianc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ergers and Acquisi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ew wholly owned subsidiary (greenfield venture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Exporting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ften the only available choices for small and new firms to go international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ermits international expansion with little invest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aperwork can be outsourced or handled in hous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ermits easy access to overseas marke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Strategy is usually transitional in na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Licensing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n agreement that allows one party to use an industrial property right in exchange for a payment to other part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ntry costs may be avoide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Strategic Allianc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49000" y="1066320"/>
            <a:ext cx="8042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llia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ny type of cooperative relationship among different firm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May be temporary or permanent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Joint venture (JV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greement under which two or more partners own or control a busines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lliance and JVs may take different for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Marketing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echnology sharing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roduction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wo types of Alliances and JV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Nonequity ven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quity ven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Alliances and Joint Ventur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dvanta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Improvement of efficiency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ccess to knowledge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factors (local partners reduce political risk)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vercomes collusion or restrictions in competition from local governments (local partners help overcome local efforts to keep out foreign competition)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Mergers and Acquisitio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he cross-border purchase or exchange of equity involving two or more compan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ffers a quick means of expans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st-merger integration issues (e.g. culture) present a big challen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Wholly Owned Subsidia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042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verseas operation is totally owned and controlled by a MNC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Driven by MNC’s desire for total control and a belief that managerial efficiency is better without outside partn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Carries high risk and integration difficult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Some host countries are concerned that MNCs will drive out local enterpri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Home country unions sometimes view foreign subsidiaries as an attempt to “export jobs.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Risk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olitic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The Nature of Political Ris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Risk – is the likelihood that a business’s foreign investment will be constrained by a host government’s polic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zing the movement of ass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mits on the remittance of profi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aluing the currenc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izing ass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fusing to abide by contractual term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corruption and turmo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The Nature of Economic Ris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conomic Risks – include fundamental weaknesses in a country’s economy with the potential to harm a company’s efforts to successfully implement their international strateg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lation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employment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rest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DP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dentifying International Opportuniti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360" y="1218960"/>
            <a:ext cx="821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nternational strategy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s one through which a firm sells it goods or services outside its domestic marke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centives for International Strateg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tending a product’s life cyc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cess to lower cost factors of produc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echnology lowers costs and makes internationalization more attractiv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ain access to consumers in emerging marke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Basic Benefit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market size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eign consumers provide   potential new customer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es of scale and learn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rating in international markets provides firms with new learning opportunit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ocation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5959"/>
                </a:solidFill>
                <a:latin typeface="News Gothic MT"/>
              </a:rPr>
              <a:t>International operations may provide firms with access to low-cost labor, energy and other inputs. 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752480"/>
            <a:ext cx="804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are some nations more competitive than others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are industries within some nations more competitive relative to those same industries in other nation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actors of productio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nd, labor, natural resources, capital and infra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emand condi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ature and size of customers’ needs for the products that firms produ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eads to scale efficient plants and the development of capabiliti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lated and supporting industr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 strategy, structure and rival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ll of the above are impacted by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formal institutions – cul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 institutions – regul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olitical institu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Strategi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Multidomestic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decentralized structure so SBUs can tailor strategies to local markets (local responsivenes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Glob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home country office determines strategies that SBUs use (global efficiency and control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ransnation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seeks to achieve both local responsiveness and global efficienc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Liability of Foreignn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ultur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dministrativ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Geograph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2-02T20:11:43Z</dcterms:modified>
  <cp:revision>330</cp:revision>
  <dc:subject/>
  <dc:title>Slide 1</dc:title>
</cp:coreProperties>
</file>