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2A64-4864-49A6-8283-6BC5E0E37E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1B2-2D45-4FBD-9D46-9961A9F35E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A3D-71F5-4A50-893A-A27954C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8AE-20D5-440B-87FB-DB927D4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D97DC-2894-4F2C-B650-01BDD767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2D433-5D85-4314-A55D-8D86B6D6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CC9539-8155-4062-BBBE-B2A09DE9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88E5D-3455-4709-99DA-3546E12D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D315B5-DB5D-4947-94BB-C01B376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8D592-9307-4DCE-AEED-B7D9B2E8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F208C1-AD94-4CC9-AF4E-5234A876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CCD4E8-ADC7-49E6-AAA4-306A1D38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7FC75-4356-4488-81AE-AE8A7D13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CA1FCF-7B0B-42BC-B41C-7E300BFF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6F6-3FD1-4B22-9474-A5342940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A4906F-2F99-42BC-B9CF-1FCA62A2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18078-F95E-4DEF-B89E-FB8700C6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854F2-9F83-411C-A9DD-BC3F9445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E21947-CF71-4362-8283-F71128D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7C565F-0FED-459D-BD82-A0A80C8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150EB-A03B-477E-A358-7E311B2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86A7E-E20E-498E-B944-DA24617A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BFB428-89E8-445A-A172-D5CE3368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59480-2A2E-4948-AF4C-B5B12EF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09592-B8A9-4EEA-AFFF-AB1C537E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886-8F34-472C-8186-681DF6EF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060027-2505-42DC-9DBA-6171C77E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D12F5-41F7-4BFE-83D7-A84F5919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4D02A1-5680-405A-9893-56D1351B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E7DC3-697F-4CC7-9740-89C0C819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5946AE-8904-4DA1-AA46-E97CC5F9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BF8EF-06EB-4CC7-8B4D-134583E2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BAB5CA-BC01-40EC-AFAC-924730C3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5CB61D-1501-43D8-A27D-BD8B497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BB10CC-9BE9-4E26-B720-3201888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237F1-2EA1-414D-9CEC-603857C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362E7-6ECF-40F3-976D-94CA9A5C72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D32976-5EAB-45A7-B335-5C55C56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3486FB-6EA2-48AF-8509-98C8482E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B153D-12ED-4E1F-9190-C391CCB3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E019A-8EBD-4E38-ACE2-8EC103D1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E92691-2008-42D3-AE86-9E298D3D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FD8B0-C144-4C0C-89E0-9CCFB9E6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6A7551-35DF-4CB1-8967-C9310FD8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011C9-7327-4F92-AB74-246DA827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FCFF5F-477C-447C-8EFA-53BB84A5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1117E2-C605-44B7-A0D5-60EFD14F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883C6-B348-4F86-8AAF-8DA921A41D7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F9034-3127-4DAA-8A55-FFC63055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DA51C4-1CA6-4873-BE67-3D4B92B7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5DA896-D6A0-4746-94D9-E68A155B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5ACA71-831E-4774-9931-B8BFE64A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D2509-D9B0-4C16-9D3B-D5974DEF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497AEB-302C-44DB-86F1-167244EF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D14192-9D90-466D-BBA3-CA36F69F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4DA6EC-048B-4FDA-B892-83CCFEDA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301CF4-9B85-45A1-AC6A-7A423A83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D5AB57-A240-4D47-8ABF-3741BB4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75D0B-38A4-42DD-B262-BAEB2F596CC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09B3F6-571C-49FB-801D-77E5587F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CDBE9-D95B-4385-A6D1-740A476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1B2732-BFF1-48B6-9578-E4026DF3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46721E-94B1-4BC5-89CD-E95AE42E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2D7727-8764-488C-96BC-E4666CB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38A68C-01FF-4826-9E71-62425285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AE6006-7FA3-4C8A-BF92-5D0E5C27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88351D-C086-4DC0-B3B7-2EAE72D9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B0F043-D7F6-4E05-BEE3-892D2CF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0349D3-0BE3-418C-B06E-F416AF83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9B38-9EB2-4BDD-8E11-9E148D69E3B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9C11CE-D1B7-487F-AEA0-DE4052FA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368A2C-AD4F-4A68-86AD-B2B7EAAE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888151-9E84-48FD-A633-DD5C2DD2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70FAE5-BF0E-495B-B08F-A8E7BBA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806D3C-4638-4DE4-88B6-CFC7070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B60B89-BD61-4A3D-ACE8-5E45BA6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CEEE4A-E493-4824-BB44-A7784D62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7A22F8-EB9D-47CF-879B-10CD2B3B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FB1C7C-45DC-4CC0-9238-2669586D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A8A06-A2EB-4440-81C4-F368EEE4F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952C3-EF69-4F4C-A504-F11DF4FDE1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86038-1A13-420C-9B85-1F96A2812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22A-5CBA-4ED3-B71E-C79A31F4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9DDB4-5B7B-4DE8-A280-6793BCE158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2C403-2AFF-4F4C-88BF-49CCD8301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81C95-0779-47B4-AC64-AF24CC3D02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B9579-7CA0-4184-9AE3-5F2528BC76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0D54-0427-48F2-A331-E204AB7617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583-B1DD-40E5-AA28-75475F8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164-BD9C-447C-98B9-8857C2C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B5720-85D2-428C-BB5B-FE211AA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F34-3BF7-4D30-9A43-3A1B895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13491-1730-44B2-ACF0-CF73FA0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E8EFF-52DE-46B7-8A3B-A32F1189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8BBCC-61CA-4CF3-A3BA-DB4C543F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0BCF6-1134-495A-A986-7030F178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59E69-33EE-478C-9AFE-3211CDA1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C7C83-E8BA-4B1D-8AE5-4F7AA9B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6C3C8-46BD-4949-9E2C-B784DFA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36B346-8388-4DAF-8328-2D907BCB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A74E0-61E7-43AA-86C5-3A4E543A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629CE-4350-41BC-99CF-49CF4916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3F6-2BA0-4760-AB23-733587C1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A4F3C-BBBB-4669-9F57-5BB88F64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732B9-AB02-44D4-947E-D527E06A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71F3F-ABDB-47FC-B0F6-63E823E0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9AD09-8BDF-41FE-A01F-368B8606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EEE45-9C52-4DAE-857C-9418696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15480-57A6-48A9-8F43-B49A2890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18711-6575-4A05-B1D7-4020B01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9662A-9812-4796-B730-1EEE6575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601AF-30CB-47DC-B239-F235C612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46BA1-A0CA-4DEE-A69B-B16877C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FC8-4CB4-45EA-BA03-89EB3B7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8DCC5-0447-4618-87D9-116352B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4526B-19EB-43EC-98C4-2D1630CE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5821C-17A5-441A-9AF6-0049E9D4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1C9EA-7EB5-4E3F-B2E9-BD646F98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233B10-47AC-49BD-9600-67D9CFFB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473F1-A89D-4B76-84B0-29FB46D5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DB0AF-A69D-4AD1-9C88-A4007273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0B8D1-1803-437F-8A72-77064541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E684D-A1B3-4CED-8397-FDCA7104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AFCF1-FE3F-4F9F-926B-51E0ABB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C506-BDB0-4DC1-BB0F-FA5CAE6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0A1F7-B8E6-4580-BB61-1EBF6815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735A2-6A0C-4DB7-925D-46C77D9C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98A4F-42ED-4A1F-9D7A-954F01F8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56FE6-4C37-4B78-8DFB-60B7D572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61E30-B23E-45B7-8BC8-00A3D23B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D89ACB-6009-4578-A6B4-0B851A0B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9A9FD-0291-43EC-9F7F-D356BBF5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ADFD1-7107-49EE-9F06-63BBB761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3D250A-E584-4A86-8D31-03C5EC6C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0FEBF-8C2E-4BFC-B158-C8490301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A7C-F935-4B0C-AA47-B236AE1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3C48F-08B5-49BE-8CC5-ECC73BFD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B3C34-1367-42BF-9CBD-0AA704C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B03E0-1ECD-4C80-BBB7-AEBC91BB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31D7A-0260-46FC-8E64-9A74194C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B3616B-E139-45E7-A9DB-1015CCA5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7FCD3-C539-4A27-B229-7884ADFB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A68C5-02CF-40BE-B4ED-160B77D5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58703-36B6-4ABE-A5B7-0E166358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4BF5B-280B-4551-BB6C-16589D81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1ADD3-5E3B-41C9-983C-1C08E03C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8265-A58E-4C2C-8BB7-5532BA8D1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F267-AD85-44D9-9772-30D6F5E029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BA29-DE72-480E-9A23-DECB553955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2D0F-5E96-48F0-8841-524D11CEF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E4C-02F7-421E-A1C9-A76802F070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0566-5EEF-4F5F-94E6-EA8461C3E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78A7-E45F-4EE3-9D87-48C3C3058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49E-22AB-4BEE-803F-18957A293D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8413-C494-4DB3-BE62-F30D2F15EF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6AEE-52AC-47CE-823D-E3573F176F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378-666A-4647-BD7C-09ADCFE58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5F3-D22C-4E2C-BF45-81B5900BFB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Porter Chapter  2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The Competitive Advantage of Firms in Global Industrie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Note: </a:t>
            </a:r>
            <a:r>
              <a:rPr b="1" i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Competitive Advantage of Nations </a:t>
            </a: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was published in 1989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onsider the Chocolate Candy Industry: United States and Switzerland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at comes to mind when you think of chocolate candy in the United States?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22" name="Online Media 3" descr="Hershey's Kiss Commercial"/>
          <p:cNvPicPr/>
          <p:nvPr/>
        </p:nvPicPr>
        <p:blipFill>
          <a:blip r:embed="rId1"/>
          <a:stretch/>
        </p:blipFill>
        <p:spPr>
          <a:xfrm>
            <a:off x="1295280" y="2711520"/>
            <a:ext cx="62485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What about in Switzerland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24" name="Online Media 3" descr="Lindt LINDOR Truffles – Made to Melt You – TV Commercial"/>
          <p:cNvPicPr/>
          <p:nvPr/>
        </p:nvPicPr>
        <p:blipFill>
          <a:blip r:embed="rId1"/>
          <a:stretch/>
        </p:blipFill>
        <p:spPr>
          <a:xfrm>
            <a:off x="727200" y="1600200"/>
            <a:ext cx="76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Sources of Competitive Advantage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firm may gain an advantage when it engages in an activity that creates more value than it cost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firm’s value chain represents its activities, both primary and seconda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, a resource in one country may be more or less valuable if competing in the same industry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9000" y="151920"/>
            <a:ext cx="804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 Innovations may Change the Source of Competitive Advantage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Typical causes of Innovations: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technologies – vacuum tubes to semiconductor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ew or shifting buyer needs – American fas- food chains in Europe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Emerging industry segments – Japanese firms moving into pickup truck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Shifting input costs of availability – labor costs.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Changes in governmental regulations – environmental and labor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st Mover Advantage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49000" y="159984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en innovation occurs, first-movers, those firms that can perceive the significance and move quickly to exploit them, can become industry lead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conomies of sca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st reductions from learn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stablishing brand nam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minating distribution chann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novation itself may be copied but competitive advantages may remain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ole of Luck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metimes, when innovations occur, firms are just in the right place at the right tim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se Basic Principles of Competitive Advantage Apply to both Domestic and Internation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ut we are interested in how firms create competitive advantage through international strategy and how this reinforces advantages and were gained at hom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4920" y="107640"/>
            <a:ext cx="8286480" cy="95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International Competition may be Multidomestic or Glob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Multidomestic competition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ccurs when competition in one country is independent of competition in another coun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industry is present in many nations, but competition takes place on a country-by-country basi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anking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tauran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tel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Global Competition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s occurs when a firm’s competitive position in one nation significantly affects (and is affected by) its position in other nation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ivals compete against each other on a truly worldwide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mercial aircraf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utomobile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elevision se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A Global Strategy offers Two Ways in which a Firm may Gain a Competitive Advantage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preading activities among nations to serve the world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eveloping a distinctive ability to coordinate and manage these dispersed activ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Firms, not nations, compete in international markets.”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in order to understand what role a country plays in the process, we must first remember how firms themselves create and sustain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 other words, we will start with a review of BA 400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News Gothic MT"/>
              </a:rPr>
              <a:t>The Global Strategy has Two Dimensions</a:t>
            </a:r>
            <a:endParaRPr b="1" lang="en-US" sz="31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nfigur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where, and in how many nations, each activity in the value chain is performe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manufacturing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is the sales func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re are suppliers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95959"/>
                </a:solidFill>
                <a:latin typeface="News Gothic MT"/>
              </a:rPr>
              <a:t>Coordination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fers to how the dispersed activities are managed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oes each marketing location choose a different brand?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re the same inputs used in each location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Global Configuratio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Concentrating or Dispersing?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49000" y="99072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concentrat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one country and exporting components or finished goods to another. This usually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conomies of scale are present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earning curve that accrues in one location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Normally, activities are concentrated in the home countr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vantages may occur from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dispersing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ctivities in a few or many countries. This often occurs whe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ocal product needs differ substantially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ransportation costs are high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torage costs lead to inefficiencies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isks that may increase from performing an activity in one location (e.g. exchange rates; political risks; interruption of supply chains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hoosing a Global Strategy</a:t>
            </a: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	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49000" y="990360"/>
            <a:ext cx="8042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best choice depends on the particular industry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dustries engage in globalization because of shifts in technology, buyer needs, governmental policies and country’s infrastructur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alliances are a prominent tool when carrying out global strateg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5600" indent="-3456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erent strategies are better in different coun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News Gothic MT"/>
              </a:rPr>
              <a:t>The Basic Unit of Analysis for Understanding Competition is the Industry </a:t>
            </a:r>
            <a:endParaRPr b="1" lang="en-US" sz="33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360" y="2437920"/>
            <a:ext cx="8213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is an industry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e careful not to define an overly broad industry, such as restaurants, banking and automobile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y is how we choose to compete within our industry.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752480"/>
            <a:ext cx="8042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wo issues underlie our choice of strategy: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ustry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r positioning within the indust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Industry Structure and Firm Positioning 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600200"/>
            <a:ext cx="804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Note, that both of these issues are dynamic, in that they may change over tim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ne nation’s firms may overtake another’s in international competition if they are better able to anticipate and respond to these change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228240"/>
            <a:ext cx="8042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News Gothic MT"/>
              </a:rPr>
              <a:t>How do we analyze an industry’s structure? </a:t>
            </a:r>
            <a:endParaRPr b="1" lang="en-US" sz="29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new entrant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suppli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argaining power of buy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reat of substitut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18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tensity of rival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member S – C – P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95280"/>
            <a:ext cx="8042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onduct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erform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t remember: Firms within an industry, through their choice of strategy, can influence the five forces, for better or wors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News Gothic MT"/>
              </a:rPr>
              <a:t>Industry Structure is Important in International Competition </a:t>
            </a:r>
            <a:endParaRPr b="1" lang="en-US" sz="28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industry in one country may be more attractive relative to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structural change in the industry of one country may create an opportunity for members of the same industry in another coun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Firms’ Strategies within an Industry May Vary from one Country to Another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676160"/>
            <a:ext cx="8042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member the two business-level strategie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oduct Differentia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s in the same industry may choose to pursue low cost in one country but product differentiation in another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9T20:13:16Z</dcterms:modified>
  <cp:revision>353</cp:revision>
  <dc:subject/>
  <dc:title>Slide 1</dc:title>
</cp:coreProperties>
</file>