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E6A4-EC84-485C-9B85-476A14A27A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F23A-2223-4390-854B-EBC710E6B8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9D7-4A3A-427C-BED9-C60AC515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B1B-5635-4783-9F6A-54C79589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406D1-65BB-4794-AB4F-B9C3844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F615E-6116-4CD7-9A20-F654C6D3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B277A-2B33-4D5B-B156-0B61D6F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9D231-F6CF-408F-8C54-E0AC47A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529DC-AA22-4DB1-BA26-C20C730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47E83-9947-48C4-BBA3-DAFC833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4535B-274F-46F6-8A42-39D7B436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3D34-86B9-4995-810D-2F5BF5FD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2F44E-E756-4458-9D9F-4C10EF3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620B4-9B33-42D4-BD7D-7CABB112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CBA-C200-4729-84B7-48E2F29D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E8C57-0D9C-4D96-8C61-CE73B0B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96E0B-1AAE-4785-909A-513D6233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FEAD2-E92C-4C61-B820-E49CFB61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8647E-5DB5-4EC5-B7E9-AC76EB5C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D34E3-C047-4C2D-B2AD-A10F002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F20BA-7825-44B5-8F12-CCE9CDE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3CB044-9DE6-4520-944F-2D15048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698D9-19B0-4DFD-9983-0A1F4B7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71B68-F2B4-45EB-9242-A712D9FD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73DC8-8A42-4423-81FA-9074F759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674-A3D5-46C3-B6E2-6DF196EA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A71AE-AF33-4A72-9BF1-75836291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AAC77-A490-4871-80F6-3093E666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F95AD-F14B-445A-A906-EE76CF4E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BBFA1-8CA5-4EAF-A256-B40FCBAA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DAD57-CAE2-4511-BA3C-15E74451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AA808-937E-491B-AF8E-8F6AE3D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7EEC6-6B24-4BCE-92FA-5C8278E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CF1F45-5F3A-4DBA-B464-207078B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6DF17-0175-4AD2-99EC-CCB358CC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47D71-EE43-4F0C-9420-217D3D2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94CF-9EAC-430D-A65F-8C7C8ADC39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31B8B-D0F7-450D-BE27-6E01D1F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2D58A-B535-4288-8A65-2FF2F0B0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DB48F-68D1-4AEC-88D6-A042C2B4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3C5110-457A-490A-B2D8-6017DD0D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B3BA3-9616-4189-829F-DA66100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FDA0B-6705-4565-BB14-CEA9671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312C2-8810-4F75-9EE8-871ACC0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5F030-1ECF-46C5-98E9-9C94971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BC015-7FA5-453B-8382-E632AF22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63F82-9239-4A2D-B320-224A852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254F-00D7-4056-9D3B-6136F51B32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BDDEA3-3406-4FCA-80D9-5FD31E7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FB935-CA89-422F-9DDF-45EED39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4DED4-06F3-4132-A12A-67264F8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B2A465-19CA-4377-ACE3-1A4470B6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73FF4-397E-4617-9AA2-D4CDA89F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200F43-ECB2-4FE2-BC2F-EA182F4C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FFD8F0-8E6B-4B59-8907-3BAFFB5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8D79B-0184-43D0-95FC-8213FCC1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F849B2-FF33-4015-90C7-A98C47F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7DB1A7-B320-42B6-A3E3-79E1E1D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E207A-A39C-47D4-9105-DC0F23ED337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B4A98B-3476-48FB-9499-653B878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2DC6A4-3AB2-4EFC-985A-B2C4B3C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525F60-9649-4289-85CA-7E33277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D7004-4420-4F97-90DD-527B306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1F21E-FFB8-44C3-BD16-74E24C7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919D6-B894-494A-B618-DF218B3E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4AEBD-AA9D-4732-A02D-C0474E63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92D3A7-CC24-4655-A1D4-C2085A3C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15384C-6580-4CAC-9777-1CB8139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84137B-FD3D-449E-BBD0-47309AC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1A9D3-01FD-4896-903D-6D77914742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99DE10-E5AB-4E20-8655-929A724F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4E581D-6886-45E6-99C8-232D2589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56DEA-D1FC-49C4-BEFC-3D7E864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24D8A-2106-491A-991D-6289DA9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282CD9-2FB9-4E6F-8A35-9B23C0A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A2B076-643C-4D7E-9696-CC68382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A5C8F8-2A76-4857-8B98-8CFC175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723CA2-87C5-44A1-97A4-0AB99B0B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652955-4819-473A-9102-9BFCC8C2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1484-3CAD-4C79-ACCA-D30FF1E0BD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BF8A6-0DC3-4ED7-B62E-4C3C6A207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DC75-B6DE-47BA-8EBA-573038585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AFA-86F2-4C77-975D-065A6F4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04CC6-523C-455D-B20E-E55E073DD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EEA07-5834-4B90-83ED-9019D6CE4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4BC6-385B-498C-8D05-500E4056D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C4ED-265C-4AFD-8791-4507EE42C3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3FE90-DF5A-48C0-8DF8-6C93520651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51E-D1E0-4867-A941-FD83973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F09-2EF8-41D4-97F7-F854B2F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90AAB-2FCE-43B5-8C4C-665FB66F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072-196E-46CA-8521-4257112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8621C-596B-4425-9813-72ED483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CF8F2-C246-4076-9B69-ADFBC16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C7B99-BF62-4BF5-861A-B30EF7D6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4C5A-9658-4B83-9B39-A795EBF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285F2-648E-4367-8124-E03633BD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45014-01AB-4494-BF38-09D26FB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3A5FF-750F-4004-A109-075521F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1BC74-92CB-478D-BD71-911D424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2CCCA-D0FE-4993-AD94-B4EDEA2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EA6D8-EF1A-4F0D-BCF6-263E735D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775-D997-4E38-9911-3E76B17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487AB-C2FF-44C3-B4B5-4771D9CD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FE995-8C07-4BD1-BB73-ADC595E5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81C02-141B-43FC-8DE9-F7D03564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2F6DD-7634-44AC-B0F8-548265DB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F6C39-B154-4854-8633-2DA62CB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07EDF-8038-49E6-8732-B19F752D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7FF44-C651-46F9-BB08-16FC9C6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7CF0C-241A-4779-A509-108CC29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E3834-2686-45E1-BD37-BAC9CA8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ACE04-4391-414F-97D0-25FC9B7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E25-5A5C-4157-9C8A-309DC2E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9B681-BF99-4670-858E-E2077C2A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4A9CD-6373-4344-A5CA-81A3742E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7CF67-B656-445C-9B01-B350A3C9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7E3AA-0255-4F05-885F-A14885DC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D45D3-4335-40FF-9D40-BA545090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66E6A-5006-4A41-9EFA-C4558E2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1DDF1-065A-49DA-AE4C-F965BAC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2B9D3-CDEA-49C6-9B99-2F25083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F3F6E-BA72-468D-9C00-1D90EA8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6EFA1-74E5-4870-9C00-963F4B3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20B-FA12-4544-AE7A-80AC659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F7FF0-57FE-4FCB-801B-4594872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861FA-3E83-4846-BA4A-36D0295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3FA72-1CD2-423E-B1CD-2DABAEBD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112BA-38F2-4175-90F2-F99A3D41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63FA2-0209-4692-AF63-147FAA65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DE742-6560-418A-B44A-3D0E204D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21325-4F05-4480-8299-C113D5F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83A5F-2792-4647-958B-F6A49FCB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9C575-5559-425F-B089-D78771B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713C0-CADB-41FA-B5F5-327B2F8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D19-4632-4D3C-8A7C-D19FD7C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E0872-E49B-457E-A04F-B09D636F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C7E15-9718-4E17-BCAD-FD238819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364F3-4339-4D2B-B083-5365DD0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E2A17-69DA-4A24-9671-EE86BA0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E118F-D54A-461A-80FB-162492CA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0472B-FBB8-411F-8BA2-FD466998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EAAA9-0BF1-473A-BDB6-4ACA6980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5A24D-AA06-4EF4-8B01-A564EF8D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5CD0D-C832-48FB-93E7-C0CAB8F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5D45F-41FB-49ED-8DC8-50F67AC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C86-85AC-4713-A4B4-87A131DF1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79B6-6A46-4407-AB7C-41074CE33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A2D-A2AF-4C70-90DA-5A4EBE5725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8B3-8BBD-4419-B740-DBB3FB1D7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D889-475E-4F0F-A8E8-25F8F25F8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D8E-928E-491D-9AD4-B35CF787E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A09-B6F9-4829-95DA-A3BBA7780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3CF-B2A3-4DE1-8818-3F7659A63F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E5E-5C15-43A8-A421-9915B4A1C5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A06B-56C8-4DB8-808A-3E586685F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8B2-9E11-4B70-8C16-07397AFE8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841-FBCF-4163-98A9-F622211C2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2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Competitive Advantage of Firms in Global Industrie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Note: </a:t>
            </a:r>
            <a:r>
              <a:rPr b="1" i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Competitive Advantage of Nations </a:t>
            </a: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was published in 1989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nsider the Chocolate Candy Industry: United States and Switzerland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comes to mind when you think of chocolate candy in the United Stat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22" name="Online Media 3" descr="Hershey's Kiss Commercial"/>
          <p:cNvPicPr/>
          <p:nvPr/>
        </p:nvPicPr>
        <p:blipFill>
          <a:blip r:embed="rId1"/>
          <a:stretch/>
        </p:blipFill>
        <p:spPr>
          <a:xfrm>
            <a:off x="1295280" y="2711520"/>
            <a:ext cx="6248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What about in Switzerlan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4" name="Online Media 3" descr="Lindt LINDOR Truffles – Made to Melt You – TV Commercial"/>
          <p:cNvPicPr/>
          <p:nvPr/>
        </p:nvPicPr>
        <p:blipFill>
          <a:blip r:embed="rId1"/>
          <a:stretch/>
        </p:blipFill>
        <p:spPr>
          <a:xfrm>
            <a:off x="727200" y="1600200"/>
            <a:ext cx="76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Sources of Competitive Advantage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firm may gain an advantage when it engages in an activity that creates more value than it cos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firm’s value chain represents its activities, both primary and seconda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resource in one country may be more or less valuable if competing in the same industry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9000" y="151920"/>
            <a:ext cx="804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Innovations may Change the Source of Competitive Advantage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Typical causes of Innovations: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technologies – vacuum tubes to semiconductor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or shifting buyer needs – American fas- food chains in Europe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Emerging industry segments – Japanese firms moving into pickup truck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Shifting input costs of availability – labor cost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Changes in governmental regulations – environmental and labor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st Mover Advantag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49000" y="159984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en innovation occurs, first-movers, those firms that can perceive the significance and move quickly to exploit them, can become industry lead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conomies of sca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st reductions from learn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tablishing brand nam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inating distribution chann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novation itself may be copied but competitive advantages may rema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Luc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times, when innovations occur, firms are just in the right place at the right tim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se Basic Principles of Competitive Advantage Apply to both Domestic and Internation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ut we are interested in how firms create competitive advantage through international strategy and how this reinforces advantages and were gained at hom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International Competition may be Multidomestic or Glob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Multidomestic competition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ccurs when competition in one country is independent of competition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dustry is present in many nations, but competition takes place on a country-by-country basi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anking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taura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tel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Glob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occurs when a firm’s competitive position in one nation significantly affects (and is affected by) its position in other nation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ivals compete against each other on a truly worldwide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mercial aircraf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utomobil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levision se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A Global Strategy offers Two Ways in which a Firm may Gain a Competitive Advantage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preading activities among nations to serve the worl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veloping a distinctive ability to coordinate and manage these dispersed activ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Firms, not nations, compete in international markets.”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in order to understand what role a country plays in the process, we must first remember how firms themselves create and sustain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 other words, we will start with a review of BA 400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Global Strategy has Two Dimensions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nfigur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where, and in how many nations, each activity in the value chain is perform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manufacturing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the sales func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are suppliers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ordin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how the dispersed activities are manage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oes each marketing location choose a different brand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re the same inputs used in each loca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Global Configuratio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Concentrating or Dispersing?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49000" y="99072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concentrat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one country and exporting components or finished goods to another. This usually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conomies of scale are present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earning curve that accrues in one location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Normally, activities are concentrated in the home countr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dispers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a few or many countries. This often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ocal product needs differ substantiall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ransportation costs are high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torage costs lead to inefficiencies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isks that may increase from performing an activity in one location (e.g. exchange rates; political risks; interruption of supply chains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hoosing a Global Strategy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49000" y="990360"/>
            <a:ext cx="8042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best choice depends on the particular indus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dustries engage in globalization because of shifts in technology, buyer needs, governmental policies and country’s infrastructur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alliances are a prominent tool when carrying out global strateg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erent strategies are better in different coun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The Basic Unit of Analysis for Understanding Competition is the Industry 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360" y="2437920"/>
            <a:ext cx="82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is an industr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e careful not to define an overly broad industry, such as restaurants, banking and automobile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y is how we choose to compete within our industry.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wo issues underlie our choice of strategy: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ustry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r positioning within the indust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dustry Structure and Firm Positioning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600200"/>
            <a:ext cx="804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ote, that both of these issues are dynamic, in that they may change over tim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ne nation’s firms may overtake another’s in international competition if they are better able to anticipate and respond to these change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228240"/>
            <a:ext cx="8042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How do we analyze an industry’s structure?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new entrant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suppli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buy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substitut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tensity of rival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member S – C – P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onduct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erform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t remember: Firms within an industry, through their choice of strategy, can influence the five forces, for better or wors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dustry Structure is Important in International Competition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industry in one country may be more attractive relative to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structural change in the industry of one country may create an opportunity for members of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s’ Strategies within an Industry May Vary from one Country to Another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 the two business-level strateg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duct Differenti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s in the same industry may choose to pursue low cost in one country but product differentiation in anothe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9T20:13:16Z</dcterms:modified>
  <cp:revision>353</cp:revision>
  <dc:subject/>
  <dc:title>Slide 1</dc:title>
</cp:coreProperties>
</file>