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7793-E599-41C9-9DB9-D0E59DFBF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34FB-03C5-4375-8205-3EF07DBB4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475-39C9-4D15-A216-2F9F025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5A9-FAEC-4BA3-B9E3-E5386993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FA99B-2646-43C5-BBDD-F618FA4D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5FBBF-CE79-4F43-A792-CF5F90B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F4DB4-18A8-43E4-86D5-4E747E77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C03D3-6270-4768-BA36-48BB4E3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D4182-B039-4538-9DED-49864ED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21CFD-48AD-4287-9EC2-8B8B13C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81C6F-18A4-4062-815B-2C0CF5B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3E530-F0A3-41A4-8AFB-CC32A4B1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DA8ED-3A04-421B-A4A0-E23203AF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8B538-CBCA-46A2-9252-B497E8BA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2F7-4854-41A1-B743-5BBFEEC7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B75A5-2803-49CD-82FE-C0FF5424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1D30B-2774-40D5-B5E8-6B216FF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165CF9-F225-426B-9CBC-232A570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EE2D2-DDBE-4AAE-BBE3-D09B387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8AF6E-3097-47E6-B866-0743775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7EC14-D44B-4726-8721-FA170DE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322EE-B795-4FF2-8DBC-287C047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F51CA-B9C9-4E8F-A7A6-B26186EE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5A2BA-7962-44CD-A833-96B3053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133F3-A799-4760-8961-47617122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2EB-FF81-4C51-B76E-FEAE4C98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B06E2-6335-4B1B-80BD-49BF0C84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21BF6-6891-4AF6-B102-B0B17542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E9340-827E-4786-B4E1-F325E5C5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AC23DD-F725-4AE0-9295-489FE33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8E2B9-943F-4183-A685-883738E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4E31F-E879-41FA-AA86-0F00513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E5D08-A69E-4CDA-B7B4-89A5503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DDB7E-32C4-49CD-ACC2-C9AA872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6D57A-E7CA-4022-A9FD-C3F381F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F4E4EE-1633-476B-B3A4-19D86B3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0BB9D-B62F-419D-993D-9A805BD7C8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12FD3-BDE5-46BC-8BE9-D8EB0A7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D96CA-8A50-4D9E-B1BB-5762999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A5B260-D01F-42FB-89F7-682FED6B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4B7BFC-994C-49DF-9E5B-B5DFEF59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47E70A-5370-47E3-98E1-DE3A47F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D2D8BF-930F-4D62-834A-6E93E73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B0455-796B-463D-89C5-9FE8917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BC0D4F-FEE5-4C3A-BCE7-F535736D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AEDF9-59B8-40FE-81C0-6A8CE91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A96CF-8607-46AC-8988-58857EA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A2564-552B-45FC-B38D-50AEF5963F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AFC097-506E-45EE-98A6-FE438D5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F9D55D-B918-497D-8B22-380B1A6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A0D60B-3F88-4919-A063-478C39E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DA77F-2970-4038-95A7-780285D4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5857D4-D436-4445-A3D5-2DFF4814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DFAA6-4FBB-453A-BB2E-3BD25827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CEDCCF-296B-4A88-9003-403B454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E7852E-8B5E-48A8-80F4-304C139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124653-941A-4274-8F51-874A862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0D329-3BF5-4630-A7DF-982218C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A31B-6766-4BC6-A3F6-A431D195DE6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8C070-EAA7-4D27-B4CE-39C6448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DF9E94-7402-4278-9543-EB66BA7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F2D411-B27C-4967-A488-BF89791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E36022-523F-480B-B181-D11B635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AD5984-2D2B-4658-953E-0D4C45CA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D9AC2F-B528-4F81-86AF-1E1ADA39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0DA825-8C26-4A9B-87D1-E57EF988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E46EB3-7EFB-40BD-95FF-2EFF0CD4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6BE57B-D45C-472B-B41B-1C7DC8EB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9B48DB-2A42-470B-8594-7305598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2C418-C6E7-4DEF-9951-12B2B724A6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D68D6-4896-4693-851B-2ED69BA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A1546F-2BFA-4B99-9E39-1A667EC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9EE3C0-93EA-45E5-B94C-28FDCC18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BCABA1-E609-4535-968D-32928EE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761AAD-C308-4EF0-A45A-2744201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756253-45AE-47B4-97E1-30C7880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87DE2C-8D9F-4BAA-B4D3-C5E8E46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22BBB6-0F07-4AEB-AE81-85BB2034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6A0145-2CC5-4CC1-9899-FB71D058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4A4D-F64C-4DD0-B1F1-2693C04E44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D6231-C669-4DAF-B49B-A96FD9590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9FC9F-7BCA-41C8-A59A-F300357DE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E81-2D15-45C9-BB0C-F9321CF1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5B553-8CD0-411D-B5C4-8E1CED741E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3CC7B-0AF4-415A-995D-464E19780A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29A2-368C-4A5C-933B-BE19C47F7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967B8-425C-42EF-829E-167ECFA68B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E0E14-0050-4E06-B288-6F4C07F6BA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EFB-3D91-47DB-B8EE-6B26BB7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B19-6C53-421A-9C45-51CFAB71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9BA0D-E59D-41D4-BBFA-7EBCCBD0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F58-257E-471E-8378-4A7A248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3D2D2-FD75-4321-AAC4-4ABDEC1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F8A86-A91A-42CC-92FD-8A2C01BB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F7276-75C0-4D19-AAF5-04CEF9E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7B468-937B-4977-8A54-DAB5C813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1BFF1-3FDA-4E9D-A1DB-4D87EC1F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8651F-BD4C-4914-AC4B-107CC64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53651-B93D-4B01-87E9-9B9F9D7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082FB-CF93-40BF-8DC6-BFBFBA8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B24FB-A8D8-4E95-A4CB-97A0B542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7FA1E-CFC3-4ECA-8183-05466CA4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BB9-6856-4184-9FE5-0D9D8BA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C8935-AA8C-430E-A234-094B5469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D2486-4220-4E55-871F-64580804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71485-6056-4B92-A9C8-75912342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A870A-6C1F-4F72-8040-13FF9408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6D044-6D46-405D-8055-4E765D87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5B70A-4F7A-4142-9E9C-B2FDC05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D3F6B-F957-46EE-A521-D4C13D8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94D05-8F14-419E-8BA7-9FE4391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47404-AAB6-459F-B6EF-D676551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C7A53-35E6-4F2C-B45C-431C54A5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6C1-6C42-4953-92F7-50720C3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DBF50-B78E-4539-B5E1-CCF112F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01E90-4012-48A5-98F1-8463D850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830E5-A97E-437D-A00C-1BF4EDE8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2BB2F-919D-4465-9B24-4F6FFDB0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9A81D-6746-41F5-A71B-7C606978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D68BC-E2BC-499C-AF2D-874ACFA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25E27-3682-4042-8067-F26C499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5916C-8949-4E91-B1B2-07DB7ACF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82047-6CBF-41A5-9C75-E886842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F26D5-DE7A-4F1D-A403-78C5812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258-0260-401D-BE47-2E87BB3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D85C8-8927-4BC5-A56B-886B6A4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6B8A2-E21E-4A6E-936D-56D5B16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E3423-B73A-4E10-8649-3E879C1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DA366-190C-41CF-ADE7-062731D5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29BA0-C086-47EE-8FB5-09A00B13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0A110-E6FE-441E-BE6A-8D72715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43886-6A83-44DD-8758-C53A0220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6A921-0A86-42A6-8768-FAC874A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9C938-1512-47F4-9859-BAE0EBBE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36EF5-2B78-4199-8EC3-E2BD289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79A-0EBA-487A-AFD4-40EB5E2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A0652-2135-4904-8AF2-6D74DCBC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D4DF0-D53B-4D8D-94E4-1BA8EBD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819D9-DF56-441A-A4C2-4187F64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23B17-D882-4CF1-9FA3-6755706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2F65D-CEFA-4BD7-994A-AD9040B3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00F14-2BA6-459F-AE37-5CC65350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2B992-8DB9-42D0-BEA1-EE58618F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C237E-3AC3-4BB2-B323-721D819B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ECA57-BF98-43D8-89BA-8C194BA5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7C03C-87E5-49AB-A08C-3CBC525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2B24-469C-45C2-8DE5-C33577DC0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48B6-CFB4-4C85-8744-351E7576B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22D-8E96-421A-86FC-71A4034E0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794-A4F1-4AB2-AFBC-AB943F42B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A0F2-961B-4EC4-AB8C-611F16AE4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0C5-08ED-452D-AD35-366D1CF4A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AB7D-E620-40ED-A825-AE81DF206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DBDE-18D2-4CD6-B1D6-E3FBA8D74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8378-3D1A-47BF-92C2-EB7BB55B3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150-4B80-423C-AF46-117E478BB0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905-0E76-4CA0-954F-B549C764F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CA76-EF7B-4C44-901B-B480AE063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2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Competitive Advantage of Firms in Global Industrie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Note: </a:t>
            </a:r>
            <a:r>
              <a:rPr b="1" i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Competitive Advantage of Nations </a:t>
            </a: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was published in 1989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nsider the Chocolate Candy Industry: United States and Switzerland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comes to mind when you think of chocolate candy in the United Stat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22" name="Online Media 3" descr="Hershey's Kiss Commercial"/>
          <p:cNvPicPr/>
          <p:nvPr/>
        </p:nvPicPr>
        <p:blipFill>
          <a:blip r:embed="rId1"/>
          <a:stretch/>
        </p:blipFill>
        <p:spPr>
          <a:xfrm>
            <a:off x="1295280" y="2711520"/>
            <a:ext cx="6248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What about in Switzerlan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4" name="Online Media 3" descr="Lindt LINDOR Truffles – Made to Melt You – TV Commercial"/>
          <p:cNvPicPr/>
          <p:nvPr/>
        </p:nvPicPr>
        <p:blipFill>
          <a:blip r:embed="rId1"/>
          <a:stretch/>
        </p:blipFill>
        <p:spPr>
          <a:xfrm>
            <a:off x="727200" y="1600200"/>
            <a:ext cx="76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Sources of Competitive Advantage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firm may gain an advantage when it engages in an activity that creates more value than it cos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firm’s value chain represents its activities, both primary and seconda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resource in one country may be more or less valuable if competing in the same industry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9000" y="151920"/>
            <a:ext cx="804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Innovations may Change the Source of Competitive Advantage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Typical causes of Innovations: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technologies – vacuum tubes to semiconductor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or shifting buyer needs – American fas- food chains in Europe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Emerging industry segments – Japanese firms moving into pickup truck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Shifting input costs of availability – labor cost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Changes in governmental regulations – environmental and labor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st Mover Advantag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49000" y="159984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en innovation occurs, first-movers, those firms that can perceive the significance and move quickly to exploit them, can become industry lead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conomies of sca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st reductions from learn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tablishing brand nam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inating distribution chann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novation itself may be copied but competitive advantages may rema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Luc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times, when innovations occur, firms are just in the right place at the right tim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se Basic Principles of Competitive Advantage Apply to both Domestic and Internation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ut we are interested in how firms create competitive advantage through international strategy and how this reinforces advantages and were gained at hom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International Competition may be Multidomestic or Glob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Multidomestic competition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ccurs when competition in one country is independent of competition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dustry is present in many nations, but competition takes place on a country-by-country basi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anking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taura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tel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Glob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occurs when a firm’s competitive position in one nation significantly affects (and is affected by) its position in other nation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ivals compete against each other on a truly worldwide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mercial aircraf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utomobil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levision se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A Global Strategy offers Two Ways in which a Firm may Gain a Competitive Advantage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preading activities among nations to serve the worl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veloping a distinctive ability to coordinate and manage these dispersed activ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Firms, not nations, compete in international markets.”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in order to understand what role a country plays in the process, we must first remember how firms themselves create and sustain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 other words, we will start with a review of BA 400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Global Strategy has Two Dimensions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nfigur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where, and in how many nations, each activity in the value chain is perform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manufacturing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the sales func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are suppliers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ordin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how the dispersed activities are manage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oes each marketing location choose a different brand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re the same inputs used in each loca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Global Configuratio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Concentrating or Dispersing?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49000" y="99072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concentrat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one country and exporting components or finished goods to another. This usually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conomies of scale are present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earning curve that accrues in one location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Normally, activities are concentrated in the home countr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dispers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a few or many countries. This often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ocal product needs differ substantiall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ransportation costs are high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torage costs lead to inefficiencies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isks that may increase from performing an activity in one location (e.g. exchange rates; political risks; interruption of supply chains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hoosing a Global Strategy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49000" y="990360"/>
            <a:ext cx="8042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best choice depends on the particular indus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dustries engage in globalization because of shifts in technology, buyer needs, governmental policies and country’s infrastructur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alliances are a prominent tool when carrying out global strateg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erent strategies are better in different coun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The Basic Unit of Analysis for Understanding Competition is the Industry 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360" y="2437920"/>
            <a:ext cx="82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is an industr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e careful not to define an overly broad industry, such as restaurants, banking and automobile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y is how we choose to compete within our industry.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wo issues underlie our choice of strategy: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ustry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r positioning within the indust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dustry Structure and Firm Positioning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600200"/>
            <a:ext cx="804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ote, that both of these issues are dynamic, in that they may change over tim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ne nation’s firms may overtake another’s in international competition if they are better able to anticipate and respond to these change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228240"/>
            <a:ext cx="8042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How do we analyze an industry’s structure?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new entrant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suppli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buy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substitut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tensity of rival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member S – C – P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onduct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erform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t remember: Firms within an industry, through their choice of strategy, can influence the five forces, for better or wors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dustry Structure is Important in International Competition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industry in one country may be more attractive relative to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structural change in the industry of one country may create an opportunity for members of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s’ Strategies within an Industry May Vary from one Country to Another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 the two business-level strateg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duct Differenti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s in the same industry may choose to pursue low cost in one country but product differentiation in anothe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9T20:13:16Z</dcterms:modified>
  <cp:revision>353</cp:revision>
  <dc:subject/>
  <dc:title>Slide 1</dc:title>
</cp:coreProperties>
</file>