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  <p:sldId id="274" r:id="rId35"/>
    <p:sldId id="275" r:id="rId36"/>
    <p:sldId id="276" r:id="rId37"/>
    <p:sldId id="277" r:id="rId38"/>
    <p:sldId id="278" r:id="rId39"/>
    <p:sldId id="279" r:id="rId40"/>
    <p:sldId id="280" r:id="rId41"/>
    <p:sldId id="281" r:id="rId42"/>
    <p:sldId id="282" r:id="rId43"/>
    <p:sldId id="283" r:id="rId44"/>
    <p:sldId id="284" r:id="rId45"/>
    <p:sldId id="285" r:id="rId46"/>
    <p:sldId id="286" r:id="rId47"/>
    <p:sldId id="287" r:id="rId48"/>
    <p:sldId id="288" r:id="rId49"/>
    <p:sldId id="289" r:id="rId50"/>
    <p:sldId id="290" r:id="rId51"/>
    <p:sldId id="291" r:id="rId52"/>
    <p:sldId id="292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slide" Target="slides/slide19.xml"/><Relationship Id="rId36" Type="http://schemas.openxmlformats.org/officeDocument/2006/relationships/slide" Target="slides/slide20.xml"/><Relationship Id="rId37" Type="http://schemas.openxmlformats.org/officeDocument/2006/relationships/slide" Target="slides/slide21.xml"/><Relationship Id="rId38" Type="http://schemas.openxmlformats.org/officeDocument/2006/relationships/slide" Target="slides/slide22.xml"/><Relationship Id="rId39" Type="http://schemas.openxmlformats.org/officeDocument/2006/relationships/slide" Target="slides/slide23.xml"/><Relationship Id="rId40" Type="http://schemas.openxmlformats.org/officeDocument/2006/relationships/slide" Target="slides/slide24.xml"/><Relationship Id="rId41" Type="http://schemas.openxmlformats.org/officeDocument/2006/relationships/slide" Target="slides/slide25.xml"/><Relationship Id="rId42" Type="http://schemas.openxmlformats.org/officeDocument/2006/relationships/slide" Target="slides/slide26.xml"/><Relationship Id="rId43" Type="http://schemas.openxmlformats.org/officeDocument/2006/relationships/slide" Target="slides/slide27.xml"/><Relationship Id="rId44" Type="http://schemas.openxmlformats.org/officeDocument/2006/relationships/slide" Target="slides/slide28.xml"/><Relationship Id="rId45" Type="http://schemas.openxmlformats.org/officeDocument/2006/relationships/slide" Target="slides/slide29.xml"/><Relationship Id="rId46" Type="http://schemas.openxmlformats.org/officeDocument/2006/relationships/slide" Target="slides/slide30.xml"/><Relationship Id="rId47" Type="http://schemas.openxmlformats.org/officeDocument/2006/relationships/slide" Target="slides/slide31.xml"/><Relationship Id="rId48" Type="http://schemas.openxmlformats.org/officeDocument/2006/relationships/slide" Target="slides/slide32.xml"/><Relationship Id="rId49" Type="http://schemas.openxmlformats.org/officeDocument/2006/relationships/slide" Target="slides/slide33.xml"/><Relationship Id="rId50" Type="http://schemas.openxmlformats.org/officeDocument/2006/relationships/slide" Target="slides/slide34.xml"/><Relationship Id="rId51" Type="http://schemas.openxmlformats.org/officeDocument/2006/relationships/slide" Target="slides/slide35.xml"/><Relationship Id="rId52" Type="http://schemas.openxmlformats.org/officeDocument/2006/relationships/slide" Target="slides/slide36.xml"/><Relationship Id="rId53" Type="http://schemas.openxmlformats.org/officeDocument/2006/relationships/slide" Target="slides/slide37.xml"/><Relationship Id="rId5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 type="dt" idx="3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Geneva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53264-66BF-449D-B52B-7C9A51ACD7A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Genev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move the slide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 type="ftr" idx="3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6"/>
          <p:cNvSpPr>
            <a:spLocks noGrp="1"/>
          </p:cNvSpPr>
          <p:nvPr>
            <p:ph type="sldNum" idx="3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Geneva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4ED95-0D6A-44A7-9AB9-176A13FC26C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Gene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Rectangle 8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apter I discusses the roles, skills and practices of a company’s human resource management (HRM)  function, implications of the economy, the makeup of the labor force, and ethics for company sustainability. It discusses how HRM affects a company’s balanced scorecard, what companies should do to compete in the global marketplace, how technology such as social networking is influencing HRM and what HRM practices support high-performance work system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94896-A63A-48DA-B2C2-9B55093C5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7B112-FADE-476C-B9A5-637F03F76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FC526F0-3767-46BA-9180-6758F1334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9C5832C-A448-4B89-A58C-1E3AA7656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6E0140E-8B1D-46D0-85E0-6EA0384A9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2D60FAC-9491-433A-8023-EFA7865B9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82C4194-9D39-415C-BDB2-62A43B4D2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67B20EA-3F27-4C88-B528-30753A6C5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172B1A3-B86C-415C-9AFB-4E1E69170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A64D9FB-5CB8-4BD1-99EB-3588603BD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50C20D3-50F0-489D-A193-26E2719C0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075A7E2-ABD6-40CF-8E04-5D0D60467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2E49D-AED0-476D-A9F7-F2F2CC3EE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593EC9D-27F2-447B-9751-428B92320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FC52EB1-29DE-4EE2-8652-1E22FAE58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0D6E50B-B8E7-4856-96C2-8C3F2538B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5BBFCB6-54E7-4D6C-9A5A-63186C5CD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624CEAC-9B61-46E6-A585-A3626C37A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DD79B72-1BD9-4080-9601-BA6E37D38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58A4670-ECAD-453B-841B-766612291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7AE91EE-43BB-4999-B265-F866EE0BF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33BABBF-2179-4FC2-9AF0-CB1B6684D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81EF8B1-D8C5-4DC3-96F0-7783E27E7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F04A0-A819-429C-A67E-FE7ED59EA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9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30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C642ADF-9644-4597-8E75-8EC3DD9FB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F30D5C7-9980-44AD-90FC-AC0855D47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2B2168A-41F3-4C5A-93D1-5148D05EB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44783AF-F174-4937-8BCD-FFB16DB7E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45656E3-F4B4-4D81-A07E-D8B0DD5C0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B1D75FA-5DB3-400B-BFDB-79793CEFA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8064A1B-8BCE-4471-B39F-27616EC94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71E73FE-2CB8-45BD-85AC-2D19A6195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9BAE2C5-DDA6-42D6-88DE-6A4F14B01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A855C5A-6781-4131-ACE5-A317CD767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B724CA-86D9-4D1E-BF30-19778C1BFEAA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FBEDB49-5E7D-4294-BEA3-7832380CF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23F725D-AA94-4E02-8FFD-ACDD7F7DD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70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71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493AD93-3009-4C4B-85E2-1B2BFCE01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98A144A-A373-4F35-9FFB-CCABC8CBE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A01E6C7-04F7-4611-A601-482E15879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7CD0CF9-974B-4260-B5D6-769004449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7314233-8FA3-4306-82C8-1EC38C274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755CC7E-F8EE-471F-B1CD-8461C9344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46744C9-FBE5-4271-8C56-FE04A3A65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AC146BE-0486-4C63-9E77-79E69E707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B686E7-3687-4DE6-B186-9E641B1E124E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478054F-6517-48E5-9373-97A7B2848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2AEE90E-A55B-4CDF-9842-6C1F9E881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82D814B-3AD8-4B3B-8166-FFDEB0423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1EABC21-568E-4BB0-83EF-EE0387BAB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6AE49B3-B178-4331-ACBC-AE93D522B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4D905D0-0038-4496-B0C2-55A0200F6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C18B6D4-5107-41C1-97C7-F1BFF3E1B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BA5ABB4-04B3-419E-A4C0-B52A66278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51E1AB7-BB23-4A40-905C-64D13D8E6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DD7E735-F8A3-4217-9405-49109A38D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7B9C0A-00AF-4840-8693-49E3D064E98E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FED1F15-08ED-410E-9596-68554BAAD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E2839A5-4923-4F56-B627-862E99386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90FD312-C435-439D-A079-1AC90A92D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B9C523F-7610-4A60-BDCA-92F5765A5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5AB17B7-8D9B-49B5-810D-314829354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FB981C2-2A2F-4F2F-8BFF-D0D54C103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2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3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129FFA5-D512-4F9D-8CB7-07D241B72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47C1F14-274A-45AA-8EE0-7C6BFCC0D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25A634F-B6AE-4A7D-8F9F-9F22FF743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C85CF4A-8EA9-4D0C-A70D-897066D77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91BE72-17C8-479C-BED7-8516905C3D49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9D3FC60-8DC4-49A2-92E8-B6BE90EE4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700B35D-0E65-4E2B-8F39-05854D409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3B07024-4333-4B30-B372-7FA02B41F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306E727-760D-4A0A-A42A-046B7F2ED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57A70BC-9097-4266-BDDF-BF2B22D52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C3C07D2-CBEE-4F53-993F-4AF4A01A0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95F822C-FEF5-4A18-9230-7E663F1BA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806B49D-69F8-48E1-A926-5157BED16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A45C4A6-A8F2-4AD3-ABB3-6EF451E49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C39CB5-A4F1-4FC6-9BEE-7BA964682F2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67138C-743B-41EB-8521-09130EC5E65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67639C-3EF5-4AE5-9DF6-0BB8337A809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268ED-DD98-4DFF-A91C-480E74A3A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9295A9-B5B2-4CD0-828A-C531B06DB49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D07AAE-5AD0-43E5-AA27-BD68E2CB9A0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011B7D-8BDF-4109-A5BD-EB3CAEEC537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EFA1AD-B6FB-4971-A1EC-85550767212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2F073C-045C-4AE2-B91F-331BE2A276EF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1B9F7-E7A9-4D98-892C-AEB5EA302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196A9-6093-4E36-A288-81D0C1821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3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4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74AB3A3-20AF-4975-9B9A-AFD833F18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9A0F5-E00E-45B4-9E81-45430E302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08B6689-A61D-4961-A418-B7D8CD978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015348B-4FBD-4C09-9661-6A208CD20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60134E9-80D0-4F8E-BAF3-184420C8F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1487D16-DD2B-49D5-8F89-9DAC2DB22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E1BE720-63F7-4933-B6BF-D2B0730A8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0C8B78E-F80E-4730-A199-D014BD110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E93BADF-F59A-4039-AC37-C0F283EB3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A794FC-F14A-4EEB-928E-79E8FD7FA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9CD0C0-944E-4CE7-BB0A-C3ACDDB27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86DEB39-2E37-4536-B6F6-6EB539F88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46992-058F-4487-923A-8B6BE0DE9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4F3CBB0-28E6-4F1E-8A83-B417CD0EE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D343CA5-7494-48BA-A44A-EEAB6BE89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8AADCD7-1979-4E82-915E-1366EBF38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F3DDE26-BF4E-443A-A454-0812713BA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78DCB51-5C8C-4884-95B9-3D0FD454D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060BC8E-38B8-49FA-9768-ADD0C25C3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E91ABBC-0166-4F4A-AA30-468E598AB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EC06064-7DAB-4679-A664-346CC524F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D17BEBC-A175-47BA-B151-197438656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30744A6-7CA4-4D6B-9C2F-FD8DB2660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99EEB-B4FB-4CB9-9819-223641940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18968BF-3B14-48C6-B3E8-2F6C521D4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832F2D3-C89F-4309-A59A-835AB1A5C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AF91545-D47F-427D-82C3-18F02FF13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171D682-72DF-4303-9898-7BB41431E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D185A78-4D24-4A23-A1E2-2B89EED41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190BE7E-AB91-4AED-B826-76FB60BAE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D881A3E-FBA2-4C18-882F-2A0111B7B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5750B9E-B8CD-4CA5-9E28-76E923544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A31CE60-B446-403E-9D11-869A7137D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95DFF02-0934-4C42-AA2C-DFCE20AF5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14458-D0DD-4995-968E-B132A20C6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EE59C4F-F55A-4C40-8C02-A068281A8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E909548-BCC7-443B-B802-6BDC41FE1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C5C5831-D270-40C1-AB2A-9B8C99CED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1C1E503-899B-4253-AB14-3ADA8B556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E404F35-D7AF-4134-A317-3995D1481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EB43E0A-2416-452B-9FC0-575F393AC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88C123D-CF1F-46B1-84D1-781EE6C60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10E3366-8F84-4E0C-872D-CE3B74E0B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D82090C-646E-4462-B289-CDEC9AA62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A178817-E960-4C23-8102-D8CB8A12C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9B3EB-F6D9-4477-92D4-CFD7C28DC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4A6748B-6D85-4869-B7D8-7A8D022A5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404021C-DD4C-4CE7-A130-578B31D47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578011E-0E19-4B32-9767-935E101CF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B59AE26-9C4F-49FA-A8F5-E953F3395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1B04623-7723-4A0B-9261-B28D7A78A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EDAD0F4-6192-4666-8FE5-CE2C5F659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3CBA413-15E1-4363-BAFB-C679AF12D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930FED9-8D20-4B1A-9F05-14C9C4E2C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30F6295-609B-4292-A073-F2F16C821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2D1FED6-84CF-45D7-8E22-2D12F43BC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ＭＳ Ｐ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FA285-41D6-4301-A7F2-FC414995417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dt" idx="21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 type="ftr" idx="22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 type="sldNum" idx="23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1FAE9-74DF-4EC2-8288-64297F9B16E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 type="dt" idx="24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 type="ftr" idx="25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 type="sldNum" idx="26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CC2D0-8FFC-4986-A7F0-A20A3A929E1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 type="dt" idx="27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 type="ftr" idx="28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 type="sldNum" idx="29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B2B3A-C268-43B1-8152-76F18E47053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 type="dt" idx="30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 type="ftr" idx="31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 type="sldNum" idx="32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B5B92-9146-44A5-BC8B-E605827A090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 type="dt" idx="33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 type="ftr" idx="34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 type="sldNum" idx="35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440FF-2CB3-4E35-B081-7585F85A1C7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4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5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8B01A-2AAA-4892-8E56-71EEABFE67C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8"/>
          <p:cNvSpPr/>
          <p:nvPr/>
        </p:nvSpPr>
        <p:spPr>
          <a:xfrm>
            <a:off x="0" y="0"/>
            <a:ext cx="685800" cy="6858000"/>
          </a:xfrm>
          <a:prstGeom prst="rect">
            <a:avLst/>
          </a:prstGeom>
          <a:solidFill>
            <a:srgbClr val="b5d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Group 14"/>
          <p:cNvGrpSpPr/>
          <p:nvPr/>
        </p:nvGrpSpPr>
        <p:grpSpPr>
          <a:xfrm>
            <a:off x="152280" y="914400"/>
            <a:ext cx="990720" cy="990360"/>
            <a:chOff x="152280" y="914400"/>
            <a:chExt cx="990720" cy="990360"/>
          </a:xfrm>
        </p:grpSpPr>
        <p:sp>
          <p:nvSpPr>
            <p:cNvPr id="47" name="Oval 12"/>
            <p:cNvSpPr/>
            <p:nvPr/>
          </p:nvSpPr>
          <p:spPr>
            <a:xfrm>
              <a:off x="152280" y="914400"/>
              <a:ext cx="990720" cy="990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Oval 13"/>
            <p:cNvSpPr/>
            <p:nvPr/>
          </p:nvSpPr>
          <p:spPr>
            <a:xfrm>
              <a:off x="293760" y="1055520"/>
              <a:ext cx="708120" cy="7081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" name="Group 15"/>
          <p:cNvGrpSpPr/>
          <p:nvPr/>
        </p:nvGrpSpPr>
        <p:grpSpPr>
          <a:xfrm>
            <a:off x="152280" y="2209680"/>
            <a:ext cx="838440" cy="838440"/>
            <a:chOff x="152280" y="2209680"/>
            <a:chExt cx="838440" cy="838440"/>
          </a:xfrm>
        </p:grpSpPr>
        <p:sp>
          <p:nvSpPr>
            <p:cNvPr id="50" name="Oval 16"/>
            <p:cNvSpPr/>
            <p:nvPr/>
          </p:nvSpPr>
          <p:spPr>
            <a:xfrm>
              <a:off x="152280" y="2209680"/>
              <a:ext cx="838440" cy="838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17"/>
            <p:cNvSpPr/>
            <p:nvPr/>
          </p:nvSpPr>
          <p:spPr>
            <a:xfrm>
              <a:off x="271800" y="2328840"/>
              <a:ext cx="601560" cy="6019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Group 18"/>
          <p:cNvGrpSpPr/>
          <p:nvPr/>
        </p:nvGrpSpPr>
        <p:grpSpPr>
          <a:xfrm>
            <a:off x="533520" y="3048120"/>
            <a:ext cx="457200" cy="457200"/>
            <a:chOff x="533520" y="3048120"/>
            <a:chExt cx="457200" cy="457200"/>
          </a:xfrm>
        </p:grpSpPr>
        <p:sp>
          <p:nvSpPr>
            <p:cNvPr id="53" name="Oval 19"/>
            <p:cNvSpPr/>
            <p:nvPr/>
          </p:nvSpPr>
          <p:spPr>
            <a:xfrm>
              <a:off x="533520" y="30481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Oval 20"/>
            <p:cNvSpPr/>
            <p:nvPr/>
          </p:nvSpPr>
          <p:spPr>
            <a:xfrm>
              <a:off x="598680" y="3113280"/>
              <a:ext cx="326880" cy="32688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5"/>
          <p:cNvSpPr/>
          <p:nvPr/>
        </p:nvSpPr>
        <p:spPr>
          <a:xfrm>
            <a:off x="1328760" y="1295280"/>
            <a:ext cx="6486480" cy="31528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8"/>
          <p:cNvSpPr/>
          <p:nvPr/>
        </p:nvSpPr>
        <p:spPr>
          <a:xfrm>
            <a:off x="0" y="0"/>
            <a:ext cx="685800" cy="6858000"/>
          </a:xfrm>
          <a:prstGeom prst="rect">
            <a:avLst/>
          </a:prstGeom>
          <a:solidFill>
            <a:srgbClr val="b5d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0"/>
          <p:cNvSpPr/>
          <p:nvPr/>
        </p:nvSpPr>
        <p:spPr>
          <a:xfrm>
            <a:off x="8534520" y="0"/>
            <a:ext cx="609480" cy="6858000"/>
          </a:xfrm>
          <a:prstGeom prst="rect">
            <a:avLst/>
          </a:prstGeom>
          <a:solidFill>
            <a:srgbClr val="b5d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Group 15"/>
          <p:cNvGrpSpPr/>
          <p:nvPr/>
        </p:nvGrpSpPr>
        <p:grpSpPr>
          <a:xfrm>
            <a:off x="152280" y="914400"/>
            <a:ext cx="990720" cy="990360"/>
            <a:chOff x="152280" y="914400"/>
            <a:chExt cx="990720" cy="990360"/>
          </a:xfrm>
        </p:grpSpPr>
        <p:sp>
          <p:nvSpPr>
            <p:cNvPr id="95" name="Oval 16"/>
            <p:cNvSpPr/>
            <p:nvPr/>
          </p:nvSpPr>
          <p:spPr>
            <a:xfrm>
              <a:off x="152280" y="914400"/>
              <a:ext cx="990720" cy="990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17"/>
            <p:cNvSpPr/>
            <p:nvPr/>
          </p:nvSpPr>
          <p:spPr>
            <a:xfrm>
              <a:off x="293760" y="1055520"/>
              <a:ext cx="708120" cy="7081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Group 18"/>
          <p:cNvGrpSpPr/>
          <p:nvPr/>
        </p:nvGrpSpPr>
        <p:grpSpPr>
          <a:xfrm>
            <a:off x="152280" y="2209680"/>
            <a:ext cx="838440" cy="838440"/>
            <a:chOff x="152280" y="2209680"/>
            <a:chExt cx="838440" cy="838440"/>
          </a:xfrm>
        </p:grpSpPr>
        <p:sp>
          <p:nvSpPr>
            <p:cNvPr id="98" name="Oval 19"/>
            <p:cNvSpPr/>
            <p:nvPr/>
          </p:nvSpPr>
          <p:spPr>
            <a:xfrm>
              <a:off x="152280" y="2209680"/>
              <a:ext cx="838440" cy="838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20"/>
            <p:cNvSpPr/>
            <p:nvPr/>
          </p:nvSpPr>
          <p:spPr>
            <a:xfrm>
              <a:off x="271800" y="2328840"/>
              <a:ext cx="601560" cy="6019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Group 21"/>
          <p:cNvGrpSpPr/>
          <p:nvPr/>
        </p:nvGrpSpPr>
        <p:grpSpPr>
          <a:xfrm>
            <a:off x="533520" y="3048120"/>
            <a:ext cx="457200" cy="457200"/>
            <a:chOff x="533520" y="3048120"/>
            <a:chExt cx="457200" cy="457200"/>
          </a:xfrm>
        </p:grpSpPr>
        <p:sp>
          <p:nvSpPr>
            <p:cNvPr id="101" name="Oval 22"/>
            <p:cNvSpPr/>
            <p:nvPr/>
          </p:nvSpPr>
          <p:spPr>
            <a:xfrm>
              <a:off x="533520" y="30481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23"/>
            <p:cNvSpPr/>
            <p:nvPr/>
          </p:nvSpPr>
          <p:spPr>
            <a:xfrm>
              <a:off x="598680" y="3113280"/>
              <a:ext cx="326880" cy="32688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Group 24"/>
          <p:cNvGrpSpPr/>
          <p:nvPr/>
        </p:nvGrpSpPr>
        <p:grpSpPr>
          <a:xfrm>
            <a:off x="7772400" y="6248520"/>
            <a:ext cx="457200" cy="457200"/>
            <a:chOff x="7772400" y="6248520"/>
            <a:chExt cx="457200" cy="457200"/>
          </a:xfrm>
        </p:grpSpPr>
        <p:sp>
          <p:nvSpPr>
            <p:cNvPr id="104" name="Oval 25"/>
            <p:cNvSpPr/>
            <p:nvPr/>
          </p:nvSpPr>
          <p:spPr>
            <a:xfrm>
              <a:off x="7772400" y="6248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26"/>
            <p:cNvSpPr/>
            <p:nvPr/>
          </p:nvSpPr>
          <p:spPr>
            <a:xfrm>
              <a:off x="7837560" y="6313680"/>
              <a:ext cx="326880" cy="32688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Group 27"/>
          <p:cNvGrpSpPr/>
          <p:nvPr/>
        </p:nvGrpSpPr>
        <p:grpSpPr>
          <a:xfrm>
            <a:off x="8305920" y="5638680"/>
            <a:ext cx="838080" cy="838440"/>
            <a:chOff x="8305920" y="5638680"/>
            <a:chExt cx="838080" cy="838440"/>
          </a:xfrm>
        </p:grpSpPr>
        <p:sp>
          <p:nvSpPr>
            <p:cNvPr id="107" name="Oval 28"/>
            <p:cNvSpPr/>
            <p:nvPr/>
          </p:nvSpPr>
          <p:spPr>
            <a:xfrm>
              <a:off x="8305920" y="5638680"/>
              <a:ext cx="838080" cy="838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Oval 29"/>
            <p:cNvSpPr/>
            <p:nvPr/>
          </p:nvSpPr>
          <p:spPr>
            <a:xfrm>
              <a:off x="8425440" y="5757840"/>
              <a:ext cx="601200" cy="6019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6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ftr" idx="7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sldNum" idx="8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AD25A-076B-4AD2-8764-6CA3B0FA7C2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dt" idx="9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 type="ftr" idx="10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 type="sldNum" idx="11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A9206-CA5A-4D6A-BF8A-6D796C6D97A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2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13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14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24979-7B07-4211-A8A6-861B4C6682D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15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ftr" idx="16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 type="sldNum" idx="17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E5AE8-DEFF-440F-9C30-B2B2F306402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18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19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0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FE949-FA39-44AB-9671-7B0AB02A809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49000" y="762120"/>
            <a:ext cx="804204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  <a:ea typeface="Geneva"/>
              </a:rPr>
              <a:t>Porter Chapter  3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3" name=""/>
          <p:cNvSpPr txBox="1"/>
          <p:nvPr/>
        </p:nvSpPr>
        <p:spPr>
          <a:xfrm>
            <a:off x="555480" y="1731600"/>
            <a:ext cx="804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News Gothic MT"/>
              </a:rPr>
              <a:t>The Determinants of 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News Gothic MT"/>
              </a:rPr>
              <a:t>National Competitive Advantage 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The Standard Theory of Trade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23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Nations are endowed with differing stocks of factors of production. 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A nation will export those goods which make extensive use of the factors with which it is well endowed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6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6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The Factors most Important for Competitive Advantage are Created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25" name=""/>
          <p:cNvSpPr txBox="1"/>
          <p:nvPr/>
        </p:nvSpPr>
        <p:spPr>
          <a:xfrm>
            <a:off x="549000" y="1294920"/>
            <a:ext cx="804204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Human resources – education and training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Knowledge resources – scientific, technical and market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apital resources – access to debt and equity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Infrastructure – transportation and communication systems; health care; housing stock and cultural institutions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595959"/>
                </a:solidFill>
                <a:latin typeface="News Gothic MT"/>
              </a:rPr>
              <a:t>Many of these factors are mobile. 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6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6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6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6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6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6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6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ompetitive Advantage from Factors . . .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27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depends on how </a:t>
            </a:r>
            <a:r>
              <a:rPr b="1" i="1" lang="en-US" sz="2800" spc="-1" strike="noStrike">
                <a:solidFill>
                  <a:srgbClr val="595959"/>
                </a:solidFill>
                <a:latin typeface="News Gothic MT"/>
              </a:rPr>
              <a:t>efficiently</a:t>
            </a: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 and </a:t>
            </a:r>
            <a:r>
              <a:rPr b="1" i="1" lang="en-US" sz="2800" spc="-1" strike="noStrike">
                <a:solidFill>
                  <a:srgbClr val="595959"/>
                </a:solidFill>
                <a:latin typeface="News Gothic MT"/>
              </a:rPr>
              <a:t>effectively</a:t>
            </a: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 they are deployed. 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s reflects the choices made by a nation’s firms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e mere availability of suitable factors is not sufficient. 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6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6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6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6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Factors may be Basic or Advanced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29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595959"/>
                </a:solidFill>
                <a:latin typeface="News Gothic MT"/>
              </a:rPr>
              <a:t>Basic factors </a:t>
            </a: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include: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	</a:t>
            </a: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Natural resources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	</a:t>
            </a: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mate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	</a:t>
            </a: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Location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	</a:t>
            </a: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Unskilled and semi-skilled labor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	</a:t>
            </a: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Debt capita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6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6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6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6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6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6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6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6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6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6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Advanced factors</a:t>
            </a:r>
            <a:r>
              <a:rPr b="1" i="1" lang="en-US" sz="3200" spc="-1" strike="noStrike">
                <a:solidFill>
                  <a:srgbClr val="ff0000"/>
                </a:solidFill>
                <a:latin typeface="News Gothic MT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include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31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Modern communication infrastructure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Highly educated personn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University research institutions in sophisticated disciplines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595959"/>
                </a:solidFill>
                <a:latin typeface="News Gothic MT"/>
              </a:rPr>
              <a:t>Advanced factors are the most important for competitive advantage!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6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6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6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6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6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6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Are Factors Inherited or Developed?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33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ew factors of production are inherited, and most of these are basic factors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Advanced factors on the other hand are developed over time through investments by either the public or the private sector. 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595959"/>
                </a:solidFill>
                <a:latin typeface="News Gothic MT"/>
              </a:rPr>
              <a:t>Think about the implications of this! 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595959"/>
                </a:solidFill>
                <a:latin typeface="News Gothic MT"/>
              </a:rPr>
              <a:t>If a country has mostly basic factors, what types of industry does that suggest?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6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6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6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6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6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6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6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6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228240" y="108000"/>
            <a:ext cx="845820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Factors may be Generalized or Specialized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35" name=""/>
          <p:cNvSpPr txBox="1"/>
          <p:nvPr/>
        </p:nvSpPr>
        <p:spPr>
          <a:xfrm>
            <a:off x="550800" y="1371240"/>
            <a:ext cx="804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Generalized factors are those that are valuable to all industries. Examples include: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Roads and bridges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Communication infrastructure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A pool of well motivated employees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pecialized factors have value in limited industries. Examples include: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Narrowly skilled personn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pecialized ports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pecialized knowledge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6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6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6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6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6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6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6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6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6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6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6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6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6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6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6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6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228600" y="108000"/>
            <a:ext cx="8610480" cy="1263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News Gothic MT"/>
              </a:rPr>
              <a:t>The Development of Advanced Factors through Innovation can Increase the Value of Basic Factors</a:t>
            </a:r>
            <a:endParaRPr b="1" lang="en-US" sz="27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37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Air conditioning was invented in 1902 but did not become widely available in homes until the 1950s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In 1900, the population of Florida was 530,000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In 1950, it was 2,810,000 an increase of 530%. 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In 2020, it was 21,733,000 an increase of 773%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595959"/>
                </a:solidFill>
                <a:latin typeface="News Gothic MT"/>
              </a:rPr>
              <a:t>Arguably, the invention of air conditioning neutralized the negative effect of a hot climate!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6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6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6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6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6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6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6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6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6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6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Home Demand Composition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39" name=""/>
          <p:cNvSpPr txBox="1"/>
          <p:nvPr/>
        </p:nvSpPr>
        <p:spPr>
          <a:xfrm>
            <a:off x="549000" y="1142640"/>
            <a:ext cx="80420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A robust home demand from consumers sharpens a firm’s ability to meet their customer’s needs. 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Nations gain an advantage if home buyers pressure local firms to innovate faster. 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s allows local firms to achieve more sophisticated competitive advantages compared to foreign rivals. 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6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6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6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6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228600" y="107640"/>
            <a:ext cx="8686800" cy="654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News Gothic MT"/>
              </a:rPr>
              <a:t>Three Important Characteristics of Home Demand</a:t>
            </a:r>
            <a:endParaRPr b="1" lang="en-US" sz="28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41" name=""/>
          <p:cNvSpPr txBox="1"/>
          <p:nvPr/>
        </p:nvSpPr>
        <p:spPr>
          <a:xfrm>
            <a:off x="549000" y="1066320"/>
            <a:ext cx="80420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News Gothic MT"/>
              </a:rPr>
              <a:t>Segment Structure of Demand: </a:t>
            </a:r>
            <a:r>
              <a:rPr b="0" lang="en-US" sz="2600" spc="-1" strike="noStrike">
                <a:solidFill>
                  <a:srgbClr val="595959"/>
                </a:solidFill>
                <a:latin typeface="News Gothic MT"/>
              </a:rPr>
              <a:t>In most industries, demand is segmented (e.g. different customers desire different product attributes). </a:t>
            </a:r>
            <a:endParaRPr b="0" lang="en-US" sz="26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News Gothic MT"/>
              </a:rPr>
              <a:t>A nation’s firms are likely to gain a competitive advantage in global segments that represent a large share of a firm’s home demand. </a:t>
            </a:r>
            <a:endParaRPr b="0" lang="en-US" sz="26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News Gothic MT"/>
              </a:rPr>
              <a:t>Boeing specializes in long haul commercial aircraft which provided Airbus with an opening in the short haul segment. </a:t>
            </a:r>
            <a:endParaRPr b="0" lang="en-US" sz="26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6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6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6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6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49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News Gothic MT"/>
              </a:rPr>
              <a:t>In the last chapter, we discussed how firms choose to compete. In this chapter, we focus on how nations impact that competition. </a:t>
            </a:r>
            <a:endParaRPr b="1" lang="en-US" sz="28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5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Why are firms in some nations better able to compete than firms from the same industries in other nations? What is the “country effect?”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It’s not enough to recognize that some countries have better businesses than others. The question for us is to understand </a:t>
            </a:r>
            <a:r>
              <a:rPr b="1" i="1" lang="en-US" sz="2800" spc="-1" strike="noStrike">
                <a:solidFill>
                  <a:srgbClr val="595959"/>
                </a:solidFill>
                <a:latin typeface="News Gothic MT"/>
              </a:rPr>
              <a:t>why</a:t>
            </a: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?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380520" y="108000"/>
            <a:ext cx="821052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News Gothic MT"/>
              </a:rPr>
              <a:t>Sophisticated and Demanding Buyers </a:t>
            </a: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. . .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43" name=""/>
          <p:cNvSpPr txBox="1"/>
          <p:nvPr/>
        </p:nvSpPr>
        <p:spPr>
          <a:xfrm>
            <a:off x="549000" y="1295280"/>
            <a:ext cx="80420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an lead to local firm’s gaining a competitive advantage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ese buyers pressure firms to meet high standards in terms of product quality, features and service. 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6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6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6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6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News Gothic MT"/>
              </a:rPr>
              <a:t>Anticipatory Buyer Needs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45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A nation’s firms gain advantages if the needs of home buyers anticipate those of other nations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s means that home demand provides an early indicator of buyer needs that are likely to become widespread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6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6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Demand Size and Pattern of Growth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47" name=""/>
          <p:cNvSpPr txBox="1"/>
          <p:nvPr/>
        </p:nvSpPr>
        <p:spPr>
          <a:xfrm>
            <a:off x="549000" y="1066320"/>
            <a:ext cx="80420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5959"/>
                </a:solidFill>
                <a:latin typeface="News Gothic MT"/>
              </a:rPr>
              <a:t>Size of Home Demand</a:t>
            </a: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. This can be most important in industries: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68400" indent="-282600">
              <a:spcBef>
                <a:spcPts val="601"/>
              </a:spcBef>
              <a:buClr>
                <a:srgbClr val="6fb7d7"/>
              </a:buClr>
              <a:buSzPct val="11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With economies of scale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68400" indent="-282600">
              <a:spcBef>
                <a:spcPts val="601"/>
              </a:spcBef>
              <a:buClr>
                <a:srgbClr val="6fb7d7"/>
              </a:buClr>
              <a:buSzPct val="11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Heavy R&amp;D requirements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68400" indent="-282600">
              <a:spcBef>
                <a:spcPts val="601"/>
              </a:spcBef>
              <a:buClr>
                <a:srgbClr val="6fb7d7"/>
              </a:buClr>
              <a:buSzPct val="11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Large leaps in technology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5959"/>
                </a:solidFill>
                <a:latin typeface="News Gothic MT"/>
              </a:rPr>
              <a:t>Number of Independent Buyers. </a:t>
            </a: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rving a large number of buyers motivates firms to respond to various needs (as opposed to serving one or two large customers). 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68400" indent="-282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6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6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6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6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6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6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6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6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6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6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304920" y="107640"/>
            <a:ext cx="8286480" cy="577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News Gothic MT"/>
              </a:rPr>
              <a:t>Demand Size and Pattern of Growth Continued</a:t>
            </a:r>
            <a:endParaRPr b="1" lang="en-US" sz="28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49" name=""/>
          <p:cNvSpPr txBox="1"/>
          <p:nvPr/>
        </p:nvSpPr>
        <p:spPr>
          <a:xfrm>
            <a:off x="456840" y="837720"/>
            <a:ext cx="81342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45600" indent="-345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Home Demand Growth Rate. 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78600" indent="-333000">
              <a:buClr>
                <a:srgbClr val="215d77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Rapid growth leads firms to adopt new technologies faster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78600" indent="-333000">
              <a:spcBef>
                <a:spcPts val="601"/>
              </a:spcBef>
              <a:buClr>
                <a:srgbClr val="215d77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Rapid growth encourages firms to build new facilities with confidence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5600" indent="-345600"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Early Home Demand. 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78600" indent="-333000">
              <a:spcBef>
                <a:spcPts val="601"/>
              </a:spcBef>
              <a:buClr>
                <a:srgbClr val="215d77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Leads to first-mover advantages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78600" indent="-333000">
              <a:spcBef>
                <a:spcPts val="601"/>
              </a:spcBef>
              <a:buClr>
                <a:srgbClr val="215d77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Especially important if home demand leads to foreign demand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5600" indent="-345600"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Early Saturation. 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78600" indent="-333000">
              <a:spcBef>
                <a:spcPts val="601"/>
              </a:spcBef>
              <a:buClr>
                <a:srgbClr val="215d77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orces firms to continue innovating and upgrading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78600" indent="-333000">
              <a:spcBef>
                <a:spcPts val="601"/>
              </a:spcBef>
              <a:buClr>
                <a:srgbClr val="215d77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Encourages a focus on efficiency. 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78600" indent="-333000">
              <a:spcBef>
                <a:spcPts val="601"/>
              </a:spcBef>
              <a:buClr>
                <a:srgbClr val="215d77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Causes firms to look toward foreign markets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6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6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6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6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6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6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6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6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6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6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6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6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6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6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6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6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6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6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6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6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304920" y="108000"/>
            <a:ext cx="828648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Internationalization of Domestic Demand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51" name=""/>
          <p:cNvSpPr txBox="1"/>
          <p:nvPr/>
        </p:nvSpPr>
        <p:spPr>
          <a:xfrm>
            <a:off x="304560" y="1218960"/>
            <a:ext cx="80420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Mobile or Multinational Local Buyers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Domestic buyers become foreign buyers. 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Provides an opportunity for establishing an overseas presence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U.S. hotel, rent-a-car and fast-food industries have benefited. 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	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6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6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6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6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6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6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6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6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6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6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730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Related and Supporting Industries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53" name=""/>
          <p:cNvSpPr txBox="1"/>
          <p:nvPr/>
        </p:nvSpPr>
        <p:spPr>
          <a:xfrm>
            <a:off x="549000" y="1066320"/>
            <a:ext cx="804204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News Gothic MT"/>
              </a:rPr>
              <a:t>Industries that supply inputs (e.g. suppliers) or support services to other industries, are considered “related and supporting industries.” </a:t>
            </a:r>
            <a:endParaRPr b="0" lang="en-US" sz="26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News Gothic MT"/>
              </a:rPr>
              <a:t>The presence of internationally competitive </a:t>
            </a:r>
            <a:r>
              <a:rPr b="1" i="1" lang="en-US" sz="2600" spc="-1" strike="noStrike">
                <a:solidFill>
                  <a:srgbClr val="595959"/>
                </a:solidFill>
                <a:latin typeface="News Gothic MT"/>
              </a:rPr>
              <a:t>supplier</a:t>
            </a:r>
            <a:r>
              <a:rPr b="0" lang="en-US" sz="2600" spc="-1" strike="noStrike">
                <a:solidFill>
                  <a:srgbClr val="595959"/>
                </a:solidFill>
                <a:latin typeface="News Gothic MT"/>
              </a:rPr>
              <a:t> industries may create advantages by providing:</a:t>
            </a:r>
            <a:endParaRPr b="0" lang="en-US" sz="26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News Gothic MT"/>
              </a:rPr>
              <a:t>Rapid access to low-cost inputs</a:t>
            </a:r>
            <a:endParaRPr b="0" lang="en-US" sz="26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News Gothic MT"/>
              </a:rPr>
              <a:t>Potential innovations in various inputs</a:t>
            </a:r>
            <a:endParaRPr b="0" lang="en-US" sz="26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595959"/>
                </a:solidFill>
                <a:latin typeface="News Gothic MT"/>
              </a:rPr>
              <a:t>Note: A nation need not possess national advantage in all supplier industries. Inputs that don’t benefit from innovation or influence a product’s performance may be sourced from other countries. </a:t>
            </a:r>
            <a:endParaRPr b="0" lang="en-US" sz="23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6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6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6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6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6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6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6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6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Related (Support) Industries 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55" name=""/>
          <p:cNvSpPr txBox="1"/>
          <p:nvPr/>
        </p:nvSpPr>
        <p:spPr>
          <a:xfrm>
            <a:off x="549000" y="1371600"/>
            <a:ext cx="80420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Related industries are those in which firms can share activities in the value chain when competing, or those that involve products that are complementary. Examples include: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349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349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graphicFrame>
        <p:nvGraphicFramePr>
          <p:cNvPr id="656" name=""/>
          <p:cNvGraphicFramePr/>
          <p:nvPr/>
        </p:nvGraphicFramePr>
        <p:xfrm>
          <a:off x="1486080" y="3581280"/>
          <a:ext cx="6172200" cy="1828800"/>
        </p:xfrm>
        <a:graphic>
          <a:graphicData uri="http://schemas.openxmlformats.org/drawingml/2006/table">
            <a:tbl>
              <a:tblPr/>
              <a:tblGrid>
                <a:gridCol w="2476440"/>
                <a:gridCol w="36957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News Gothic MT"/>
                        </a:rPr>
                        <a:t>Indust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News Gothic MT"/>
                        </a:rPr>
                        <a:t>Related/Support Indust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News Gothic MT"/>
                        </a:rPr>
                        <a:t>Camer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News Gothic MT"/>
                        </a:rPr>
                        <a:t>Copi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News Gothic MT"/>
                        </a:rPr>
                        <a:t>Port Servic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News Gothic MT"/>
                        </a:rPr>
                        <a:t>Ship repai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News Gothic MT"/>
                        </a:rPr>
                        <a:t>Engin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News Gothic MT"/>
                        </a:rPr>
                        <a:t>Lubrica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News Gothic MT"/>
                        </a:rPr>
                        <a:t>Comput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News Gothic MT"/>
                        </a:rPr>
                        <a:t>Print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958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Firm Strategy, Structure and Rivalry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58" name=""/>
          <p:cNvSpPr txBox="1"/>
          <p:nvPr/>
        </p:nvSpPr>
        <p:spPr>
          <a:xfrm>
            <a:off x="549000" y="1295280"/>
            <a:ext cx="80420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45600" indent="-345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95959"/>
                </a:solidFill>
                <a:latin typeface="News Gothic MT"/>
              </a:rPr>
              <a:t>The context in which firms are created, organized and managed, as well as the nature of domestic rivalry, are factors in determining national competitive advantage in an industry. </a:t>
            </a: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  <a:p>
            <a:pPr marL="345600" indent="-345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95959"/>
                </a:solidFill>
                <a:latin typeface="News Gothic MT"/>
              </a:rPr>
              <a:t>The goals, strategies and ways of organizing firms in industries vary widely among nations. </a:t>
            </a: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  <a:p>
            <a:pPr marL="345600" indent="-345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95959"/>
                </a:solidFill>
                <a:latin typeface="News Gothic MT"/>
              </a:rPr>
              <a:t>National advantage results from a good match between these choices and the sources of competitive advantage in a particular industry. </a:t>
            </a: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6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6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6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6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Firm Strategy, Structure and Rivalry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60" name=""/>
          <p:cNvSpPr txBox="1"/>
          <p:nvPr/>
        </p:nvSpPr>
        <p:spPr>
          <a:xfrm>
            <a:off x="549000" y="1295280"/>
            <a:ext cx="80420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e way in which firms are managed and choose to compete varies by nations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News Gothic MT"/>
              </a:rPr>
              <a:t>In Italy, many successful international competitors are often small or medium-sized firms that are privately owned and run like families.</a:t>
            </a:r>
            <a:endParaRPr b="0" lang="en-US" sz="26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News Gothic MT"/>
              </a:rPr>
              <a:t>In Germany, top management often consists of individuals with technical backgrounds and companies are hierarchical in organization and practices. </a:t>
            </a:r>
            <a:endParaRPr b="0" lang="en-US" sz="26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6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6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6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6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6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6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304920" y="107640"/>
            <a:ext cx="8286480" cy="1035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News Gothic MT"/>
              </a:rPr>
              <a:t>Important national differences in management practices occur in such areas as:</a:t>
            </a:r>
            <a:endParaRPr b="1" lang="en-US" sz="28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62" name=""/>
          <p:cNvSpPr txBox="1"/>
          <p:nvPr/>
        </p:nvSpPr>
        <p:spPr>
          <a:xfrm>
            <a:off x="549000" y="1295280"/>
            <a:ext cx="80420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lvl="1" marL="664920" indent="-326160">
              <a:spcBef>
                <a:spcPts val="601"/>
              </a:spcBef>
              <a:buClr>
                <a:srgbClr val="215d77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Training, background and orientation of leaders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64920" indent="-326160">
              <a:spcBef>
                <a:spcPts val="601"/>
              </a:spcBef>
              <a:buClr>
                <a:srgbClr val="215d77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Group versus hierarchical style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64920" indent="-326160">
              <a:spcBef>
                <a:spcPts val="601"/>
              </a:spcBef>
              <a:buClr>
                <a:srgbClr val="215d77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trength of individual initiative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64920" indent="-326160">
              <a:spcBef>
                <a:spcPts val="601"/>
              </a:spcBef>
              <a:buClr>
                <a:srgbClr val="215d77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Decision-making processes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64920" indent="-326160">
              <a:spcBef>
                <a:spcPts val="601"/>
              </a:spcBef>
              <a:buClr>
                <a:srgbClr val="215d77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The nature of relationships with customers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64920" indent="-326160">
              <a:spcBef>
                <a:spcPts val="601"/>
              </a:spcBef>
              <a:buClr>
                <a:srgbClr val="215d77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The ability to coordinate across functions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64920" indent="-326160">
              <a:spcBef>
                <a:spcPts val="601"/>
              </a:spcBef>
              <a:buClr>
                <a:srgbClr val="215d77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The attitude toward international activities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64920" indent="-326160">
              <a:spcBef>
                <a:spcPts val="601"/>
              </a:spcBef>
              <a:buClr>
                <a:srgbClr val="215d77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The relationship between labor and management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64920" indent="-326160">
              <a:spcBef>
                <a:spcPts val="601"/>
              </a:spcBef>
              <a:buClr>
                <a:srgbClr val="215d77"/>
              </a:buClr>
              <a:buSzPct val="11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These differences can create advantages and disadvantages when competing in different industries. 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38400" indent="-3384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6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6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6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6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6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6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6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6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6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6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6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6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6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6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6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6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6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6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0000"/>
                </a:solidFill>
                <a:latin typeface="News Gothic MT"/>
              </a:rPr>
              <a:t>The Determinants of National Advantage</a:t>
            </a:r>
            <a:endParaRPr b="1" lang="en-US" sz="31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7" name=""/>
          <p:cNvSpPr txBox="1"/>
          <p:nvPr/>
        </p:nvSpPr>
        <p:spPr>
          <a:xfrm>
            <a:off x="549000" y="1218960"/>
            <a:ext cx="80420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How does a nation achieve international success in a particular industry? 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ere are four broad attributes of a nation that shape, promote or impede competitive advantage in an industry: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1133640" indent="-514440">
              <a:spcBef>
                <a:spcPts val="601"/>
              </a:spcBef>
              <a:buClr>
                <a:srgbClr val="6fb7d7"/>
              </a:buClr>
              <a:buSzPct val="110000"/>
              <a:buFont typeface="News Gothic MT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actor Conditions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1133640" indent="-514440">
              <a:spcBef>
                <a:spcPts val="601"/>
              </a:spcBef>
              <a:buClr>
                <a:srgbClr val="6fb7d7"/>
              </a:buClr>
              <a:buSzPct val="110000"/>
              <a:buFont typeface="News Gothic MT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Demand Conditions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1133640" indent="-514440">
              <a:spcBef>
                <a:spcPts val="601"/>
              </a:spcBef>
              <a:buClr>
                <a:srgbClr val="6fb7d7"/>
              </a:buClr>
              <a:buSzPct val="110000"/>
              <a:buFont typeface="News Gothic MT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Related and Supporting Industries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1133640" indent="-514440">
              <a:spcBef>
                <a:spcPts val="601"/>
              </a:spcBef>
              <a:buClr>
                <a:srgbClr val="6fb7d7"/>
              </a:buClr>
              <a:buSzPct val="110000"/>
              <a:buFont typeface="News Gothic MT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rm Strategy, Structure and Rivalry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6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6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6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6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228600" y="107640"/>
            <a:ext cx="8610480" cy="1111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News Gothic MT"/>
              </a:rPr>
              <a:t>Many aspects of a nation influence the ways in which firms are organized and managed, such as: </a:t>
            </a:r>
            <a:endParaRPr b="1" lang="en-US" sz="28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64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Attitudes toward authority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Norms of interpersonal interaction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Attitudes of workers toward management and vice versa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ocial norms of individualistic or group behavior and professional standards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9" dur="indefinite" restart="never" nodeType="tmRoot">
          <p:childTnLst>
            <p:seq>
              <p:cTn id="600" dur="indefinite" nodeType="mainSeq">
                <p:childTnLst>
                  <p:par>
                    <p:cTn id="601" nodeType="clickEffect" fill="hold">
                      <p:stCondLst>
                        <p:cond delay="indefinite"/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6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6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6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6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6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6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6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6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The preceding aspects grow out of: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66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Educational systems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ocial and religious history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amily structures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Many other often intangible but unique national conditions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nodeType="clickEffect" fill="hold">
                      <p:stCondLst>
                        <p:cond delay="indefinite"/>
                      </p:stCondLst>
                      <p:childTnLst>
                        <p:par>
                          <p:cTn id="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6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6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6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6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6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6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6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6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549360" y="107640"/>
            <a:ext cx="8137440" cy="1111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Nations succeed in industries where there is a strong commitment and effort.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68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499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595959"/>
                </a:solidFill>
                <a:latin typeface="News Gothic MT"/>
              </a:rPr>
              <a:t>Company Goals </a:t>
            </a: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are most strongly determined by ownership structure, the motives of debt and equity holders, the nature of corporate governance and the incentives provided to senior managers. 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499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The </a:t>
            </a:r>
            <a:r>
              <a:rPr b="1" i="1" lang="en-US" sz="2400" spc="-1" strike="noStrike">
                <a:solidFill>
                  <a:srgbClr val="595959"/>
                </a:solidFill>
                <a:latin typeface="News Gothic MT"/>
              </a:rPr>
              <a:t>Goals of Individuals </a:t>
            </a: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can enhance or detract from succusses in particular industries. These may be determined by work values, reward systems and attitudes toward wealth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499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The influence of </a:t>
            </a:r>
            <a:r>
              <a:rPr b="1" i="1" lang="en-US" sz="2400" spc="-1" strike="noStrike">
                <a:solidFill>
                  <a:srgbClr val="595959"/>
                </a:solidFill>
                <a:latin typeface="News Gothic MT"/>
              </a:rPr>
              <a:t>National Priorities on Goals: </a:t>
            </a: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Nations tend to be competitive in activities that are admired and depended upon. 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9" dur="indefinite" restart="never" nodeType="tmRoot">
          <p:childTnLst>
            <p:seq>
              <p:cTn id="640" dur="indefinite" nodeType="mainSeq">
                <p:childTnLst>
                  <p:par>
                    <p:cTn id="641" nodeType="clickEffect" fill="hold">
                      <p:stCondLst>
                        <p:cond delay="indefinite"/>
                      </p:stCondLst>
                      <p:childTnLst>
                        <p:par>
                          <p:cTn id="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nodeType="clickEffect" fill="hold">
                      <p:stCondLst>
                        <p:cond delay="indefinite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6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6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nodeType="clickEffect" fill="hold">
                      <p:stCondLst>
                        <p:cond delay="indefinite"/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6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6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1339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News Gothic MT"/>
              </a:rPr>
              <a:t>Research suggests that vigorous domestic rivalry can create a persistence competitive advantage within an industry. </a:t>
            </a:r>
            <a:endParaRPr b="1" lang="en-US" sz="28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70" name=""/>
          <p:cNvSpPr txBox="1"/>
          <p:nvPr/>
        </p:nvSpPr>
        <p:spPr>
          <a:xfrm>
            <a:off x="549000" y="1676160"/>
            <a:ext cx="80420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499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Improvement and innovation are essential ingredients for competitive advantage in an industry. 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499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Domestic rivalry creates pressure on firms to improve and innovate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499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Rivals push each other to lower costs, improve quality and service and create new products and processes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499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Intense domestic rivalry leads to new business formation which feeds the process of innovation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499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Toughened by domestic rivalry, firms are better equipped to succeed abroad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9" dur="indefinite" restart="never" nodeType="tmRoot">
          <p:childTnLst>
            <p:seq>
              <p:cTn id="660" dur="indefinite" nodeType="mainSeq">
                <p:childTnLst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6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6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6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6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nodeType="clickEffect" fill="hold">
                      <p:stCondLst>
                        <p:cond delay="indefinite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6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6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6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6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nodeType="clickEffect" fill="hold">
                      <p:stCondLst>
                        <p:cond delay="indefinite"/>
                      </p:stCondLst>
                      <p:childTnLst>
                        <p:par>
                          <p:cTn id="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6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6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The Role of Chance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72" name=""/>
          <p:cNvSpPr txBox="1"/>
          <p:nvPr/>
        </p:nvSpPr>
        <p:spPr>
          <a:xfrm>
            <a:off x="549000" y="1218960"/>
            <a:ext cx="80420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hance events are occurrences that have little to do with circumstances in a nation and are largely outside the power of firms and governments to control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hance events create discontinuities that allow shifts in competitive position. 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hance events have asymmetric impacts on different nations.  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1" dur="indefinite" restart="never" nodeType="tmRoot">
          <p:childTnLst>
            <p:seq>
              <p:cTn id="692" dur="indefinite" nodeType="mainSeq">
                <p:childTnLst>
                  <p:par>
                    <p:cTn id="693" nodeType="clickEffect" fill="hold">
                      <p:stCondLst>
                        <p:cond delay="indefinite"/>
                      </p:stCondLst>
                      <p:childTnLst>
                        <p:par>
                          <p:cTn id="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6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6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nodeType="clickEffect" fill="hold">
                      <p:stCondLst>
                        <p:cond delay="indefinite"/>
                      </p:stCondLst>
                      <p:childTnLst>
                        <p:par>
                          <p:cTn id="7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6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6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nodeType="clickEffect" fill="hold">
                      <p:stCondLst>
                        <p:cond delay="indefinite"/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6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6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Examples of Chance Events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74" name=""/>
          <p:cNvSpPr txBox="1"/>
          <p:nvPr/>
        </p:nvSpPr>
        <p:spPr>
          <a:xfrm>
            <a:off x="549000" y="1218960"/>
            <a:ext cx="80420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2020 Pandemic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Wars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ptember 11</a:t>
            </a:r>
            <a:r>
              <a:rPr b="0" lang="en-US" sz="2400" spc="-1" strike="noStrike" baseline="30000">
                <a:solidFill>
                  <a:srgbClr val="595959"/>
                </a:solidFill>
                <a:latin typeface="News Gothic MT"/>
              </a:rPr>
              <a:t>th</a:t>
            </a: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 Terrorists Attacks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2008 Financial Crisis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Cold War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Oil Shocks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595959"/>
                </a:solidFill>
                <a:latin typeface="News Gothic MT"/>
              </a:rPr>
              <a:t>Nations with the most favorable “Diamond” will be most likely to convert chance events into competitive advantage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1" dur="indefinite" restart="never" nodeType="tmRoot">
          <p:childTnLst>
            <p:seq>
              <p:cTn id="712" dur="indefinite" nodeType="mainSeq">
                <p:childTnLst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6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6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6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6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6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6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6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6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6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6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6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6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6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6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06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The Role of Governmen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76" name=""/>
          <p:cNvSpPr txBox="1"/>
          <p:nvPr/>
        </p:nvSpPr>
        <p:spPr>
          <a:xfrm>
            <a:off x="549000" y="1066320"/>
            <a:ext cx="80420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45600" indent="-345600">
              <a:spcBef>
                <a:spcPts val="499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News Gothic MT"/>
              </a:rPr>
              <a:t>Government’s role is to positively influence the four determinants. </a:t>
            </a:r>
            <a:endParaRPr b="0" lang="en-US" sz="2600" spc="-1" strike="noStrike">
              <a:solidFill>
                <a:srgbClr val="595959"/>
              </a:solidFill>
              <a:latin typeface="News Gothic MT"/>
            </a:endParaRPr>
          </a:p>
          <a:p>
            <a:pPr marL="345600" indent="-345600">
              <a:spcBef>
                <a:spcPts val="499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News Gothic MT"/>
              </a:rPr>
              <a:t>Government can influence, and be influenced by, each of the four determinants either positively or negatively.</a:t>
            </a:r>
            <a:endParaRPr b="0" lang="en-US" sz="2600" spc="-1" strike="noStrike">
              <a:solidFill>
                <a:srgbClr val="595959"/>
              </a:solidFill>
              <a:latin typeface="News Gothic MT"/>
            </a:endParaRPr>
          </a:p>
          <a:p>
            <a:pPr marL="345600" indent="-345600">
              <a:spcBef>
                <a:spcPts val="499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News Gothic MT"/>
              </a:rPr>
              <a:t>Examples of governmental policies:</a:t>
            </a:r>
            <a:endParaRPr b="0" lang="en-US" sz="2600" spc="-1" strike="noStrike">
              <a:solidFill>
                <a:srgbClr val="595959"/>
              </a:solidFill>
              <a:latin typeface="News Gothic MT"/>
            </a:endParaRPr>
          </a:p>
          <a:p>
            <a:pPr lvl="1" marL="678600" indent="-333000">
              <a:spcBef>
                <a:spcPts val="499"/>
              </a:spcBef>
              <a:buClr>
                <a:srgbClr val="215d77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News Gothic MT"/>
              </a:rPr>
              <a:t>Subsidies</a:t>
            </a:r>
            <a:endParaRPr b="0" lang="en-US" sz="2600" spc="-1" strike="noStrike">
              <a:solidFill>
                <a:srgbClr val="595959"/>
              </a:solidFill>
              <a:latin typeface="News Gothic MT"/>
            </a:endParaRPr>
          </a:p>
          <a:p>
            <a:pPr lvl="1" marL="678600" indent="-333000">
              <a:spcBef>
                <a:spcPts val="499"/>
              </a:spcBef>
              <a:buClr>
                <a:srgbClr val="215d77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News Gothic MT"/>
              </a:rPr>
              <a:t>Education</a:t>
            </a:r>
            <a:endParaRPr b="0" lang="en-US" sz="2600" spc="-1" strike="noStrike">
              <a:solidFill>
                <a:srgbClr val="595959"/>
              </a:solidFill>
              <a:latin typeface="News Gothic MT"/>
            </a:endParaRPr>
          </a:p>
          <a:p>
            <a:pPr lvl="1" marL="678600" indent="-333000">
              <a:spcBef>
                <a:spcPts val="499"/>
              </a:spcBef>
              <a:buClr>
                <a:srgbClr val="215d77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News Gothic MT"/>
              </a:rPr>
              <a:t>Capital markets</a:t>
            </a:r>
            <a:endParaRPr b="0" lang="en-US" sz="2600" spc="-1" strike="noStrike">
              <a:solidFill>
                <a:srgbClr val="595959"/>
              </a:solidFill>
              <a:latin typeface="News Gothic MT"/>
            </a:endParaRPr>
          </a:p>
          <a:p>
            <a:pPr lvl="1" marL="678600" indent="-333000">
              <a:spcBef>
                <a:spcPts val="499"/>
              </a:spcBef>
              <a:buClr>
                <a:srgbClr val="215d77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News Gothic MT"/>
              </a:rPr>
              <a:t>Consumer protection</a:t>
            </a:r>
            <a:endParaRPr b="0" lang="en-US" sz="2600" spc="-1" strike="noStrike">
              <a:solidFill>
                <a:srgbClr val="595959"/>
              </a:solidFill>
              <a:latin typeface="News Gothic MT"/>
            </a:endParaRPr>
          </a:p>
          <a:p>
            <a:pPr lvl="1" marL="678600" indent="-333000">
              <a:spcBef>
                <a:spcPts val="499"/>
              </a:spcBef>
              <a:buClr>
                <a:srgbClr val="215d77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News Gothic MT"/>
              </a:rPr>
              <a:t>Government as consumer</a:t>
            </a:r>
            <a:endParaRPr b="0" lang="en-US" sz="2600" spc="-1" strike="noStrike">
              <a:solidFill>
                <a:srgbClr val="595959"/>
              </a:solidFill>
              <a:latin typeface="News Gothic MT"/>
            </a:endParaRPr>
          </a:p>
          <a:p>
            <a:pPr lvl="1" marL="678600" indent="-333000">
              <a:spcBef>
                <a:spcPts val="499"/>
              </a:spcBef>
              <a:buClr>
                <a:srgbClr val="215d77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News Gothic MT"/>
            </a:endParaRPr>
          </a:p>
          <a:p>
            <a:pPr lvl="1" marL="678600" indent="-333000"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3" dur="indefinite" restart="never" nodeType="tmRoot">
          <p:childTnLst>
            <p:seq>
              <p:cTn id="744" dur="indefinite" nodeType="mainSeq">
                <p:childTnLst>
                  <p:par>
                    <p:cTn id="745" nodeType="clickEffect" fill="hold">
                      <p:stCondLst>
                        <p:cond delay="indefinite"/>
                      </p:stCondLst>
                      <p:childTnLst>
                        <p:par>
                          <p:cTn id="7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6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6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nodeType="clickEffect" fill="hold">
                      <p:stCondLst>
                        <p:cond delay="indefinite"/>
                      </p:stCondLst>
                      <p:childTnLst>
                        <p:par>
                          <p:cTn id="7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6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6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nodeType="clickEffect" fill="hold">
                      <p:stCondLst>
                        <p:cond delay="indefinite"/>
                      </p:stCondLst>
                      <p:childTnLst>
                        <p:par>
                          <p:cTn id="7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6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6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6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6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9" dur="500" fill="hold"/>
                                        <p:tgtEl>
                                          <p:spTgt spid="6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6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6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6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6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6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6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6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The Top 10 Economies in the World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78" name=""/>
          <p:cNvSpPr txBox="1"/>
          <p:nvPr/>
        </p:nvSpPr>
        <p:spPr>
          <a:xfrm>
            <a:off x="549000" y="1218960"/>
            <a:ext cx="80420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499"/>
              </a:spcBef>
              <a:buClr>
                <a:srgbClr val="6fb7d7"/>
              </a:buClr>
              <a:buSzPct val="110000"/>
              <a:buFont typeface="News Gothic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News Gothic MT"/>
              </a:rPr>
              <a:t> </a:t>
            </a:r>
            <a:r>
              <a:rPr b="0" lang="en-US" sz="2600" spc="-1" strike="noStrike">
                <a:solidFill>
                  <a:srgbClr val="595959"/>
                </a:solidFill>
                <a:latin typeface="News Gothic MT"/>
              </a:rPr>
              <a:t>United States</a:t>
            </a:r>
            <a:endParaRPr b="0" lang="en-US" sz="2600" spc="-1" strike="noStrike">
              <a:solidFill>
                <a:srgbClr val="595959"/>
              </a:solidFill>
              <a:latin typeface="News Gothic MT"/>
            </a:endParaRPr>
          </a:p>
          <a:p>
            <a:pPr marL="514440" indent="-514440">
              <a:spcBef>
                <a:spcPts val="499"/>
              </a:spcBef>
              <a:buClr>
                <a:srgbClr val="6fb7d7"/>
              </a:buClr>
              <a:buSzPct val="110000"/>
              <a:buFont typeface="News Gothic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News Gothic MT"/>
              </a:rPr>
              <a:t> </a:t>
            </a:r>
            <a:r>
              <a:rPr b="0" lang="en-US" sz="2600" spc="-1" strike="noStrike">
                <a:solidFill>
                  <a:srgbClr val="595959"/>
                </a:solidFill>
                <a:latin typeface="News Gothic MT"/>
              </a:rPr>
              <a:t>China</a:t>
            </a:r>
            <a:endParaRPr b="0" lang="en-US" sz="2600" spc="-1" strike="noStrike">
              <a:solidFill>
                <a:srgbClr val="595959"/>
              </a:solidFill>
              <a:latin typeface="News Gothic MT"/>
            </a:endParaRPr>
          </a:p>
          <a:p>
            <a:pPr marL="514440" indent="-514440">
              <a:spcBef>
                <a:spcPts val="499"/>
              </a:spcBef>
              <a:buClr>
                <a:srgbClr val="6fb7d7"/>
              </a:buClr>
              <a:buSzPct val="110000"/>
              <a:buFont typeface="News Gothic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News Gothic MT"/>
              </a:rPr>
              <a:t> </a:t>
            </a:r>
            <a:r>
              <a:rPr b="0" lang="en-US" sz="2600" spc="-1" strike="noStrike">
                <a:solidFill>
                  <a:srgbClr val="595959"/>
                </a:solidFill>
                <a:latin typeface="News Gothic MT"/>
              </a:rPr>
              <a:t>Japan</a:t>
            </a:r>
            <a:endParaRPr b="0" lang="en-US" sz="2600" spc="-1" strike="noStrike">
              <a:solidFill>
                <a:srgbClr val="595959"/>
              </a:solidFill>
              <a:latin typeface="News Gothic MT"/>
            </a:endParaRPr>
          </a:p>
          <a:p>
            <a:pPr marL="514440" indent="-514440">
              <a:spcBef>
                <a:spcPts val="499"/>
              </a:spcBef>
              <a:buClr>
                <a:srgbClr val="6fb7d7"/>
              </a:buClr>
              <a:buSzPct val="110000"/>
              <a:buFont typeface="News Gothic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News Gothic MT"/>
              </a:rPr>
              <a:t> </a:t>
            </a:r>
            <a:r>
              <a:rPr b="0" lang="en-US" sz="2600" spc="-1" strike="noStrike">
                <a:solidFill>
                  <a:srgbClr val="595959"/>
                </a:solidFill>
                <a:latin typeface="News Gothic MT"/>
              </a:rPr>
              <a:t>Germany</a:t>
            </a:r>
            <a:endParaRPr b="0" lang="en-US" sz="2600" spc="-1" strike="noStrike">
              <a:solidFill>
                <a:srgbClr val="595959"/>
              </a:solidFill>
              <a:latin typeface="News Gothic MT"/>
            </a:endParaRPr>
          </a:p>
          <a:p>
            <a:pPr marL="514440" indent="-514440">
              <a:spcBef>
                <a:spcPts val="499"/>
              </a:spcBef>
              <a:buClr>
                <a:srgbClr val="6fb7d7"/>
              </a:buClr>
              <a:buSzPct val="110000"/>
              <a:buFont typeface="News Gothic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News Gothic MT"/>
              </a:rPr>
              <a:t> </a:t>
            </a:r>
            <a:r>
              <a:rPr b="0" lang="en-US" sz="2600" spc="-1" strike="noStrike">
                <a:solidFill>
                  <a:srgbClr val="595959"/>
                </a:solidFill>
                <a:latin typeface="News Gothic MT"/>
              </a:rPr>
              <a:t>India</a:t>
            </a:r>
            <a:endParaRPr b="0" lang="en-US" sz="2600" spc="-1" strike="noStrike">
              <a:solidFill>
                <a:srgbClr val="595959"/>
              </a:solidFill>
              <a:latin typeface="News Gothic MT"/>
            </a:endParaRPr>
          </a:p>
          <a:p>
            <a:pPr marL="514440" indent="-514440">
              <a:spcBef>
                <a:spcPts val="499"/>
              </a:spcBef>
              <a:buClr>
                <a:srgbClr val="6fb7d7"/>
              </a:buClr>
              <a:buSzPct val="110000"/>
              <a:buFont typeface="News Gothic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News Gothic MT"/>
              </a:rPr>
              <a:t> </a:t>
            </a:r>
            <a:r>
              <a:rPr b="0" lang="en-US" sz="2600" spc="-1" strike="noStrike">
                <a:solidFill>
                  <a:srgbClr val="595959"/>
                </a:solidFill>
                <a:latin typeface="News Gothic MT"/>
              </a:rPr>
              <a:t>United Kingdom</a:t>
            </a:r>
            <a:endParaRPr b="0" lang="en-US" sz="2600" spc="-1" strike="noStrike">
              <a:solidFill>
                <a:srgbClr val="595959"/>
              </a:solidFill>
              <a:latin typeface="News Gothic MT"/>
            </a:endParaRPr>
          </a:p>
          <a:p>
            <a:pPr marL="514440" indent="-514440">
              <a:spcBef>
                <a:spcPts val="499"/>
              </a:spcBef>
              <a:buClr>
                <a:srgbClr val="6fb7d7"/>
              </a:buClr>
              <a:buSzPct val="110000"/>
              <a:buFont typeface="News Gothic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News Gothic MT"/>
              </a:rPr>
              <a:t> </a:t>
            </a:r>
            <a:r>
              <a:rPr b="0" lang="en-US" sz="2600" spc="-1" strike="noStrike">
                <a:solidFill>
                  <a:srgbClr val="595959"/>
                </a:solidFill>
                <a:latin typeface="News Gothic MT"/>
              </a:rPr>
              <a:t>France</a:t>
            </a:r>
            <a:endParaRPr b="0" lang="en-US" sz="2600" spc="-1" strike="noStrike">
              <a:solidFill>
                <a:srgbClr val="595959"/>
              </a:solidFill>
              <a:latin typeface="News Gothic MT"/>
            </a:endParaRPr>
          </a:p>
          <a:p>
            <a:pPr marL="514440" indent="-514440">
              <a:spcBef>
                <a:spcPts val="499"/>
              </a:spcBef>
              <a:buClr>
                <a:srgbClr val="6fb7d7"/>
              </a:buClr>
              <a:buSzPct val="110000"/>
              <a:buFont typeface="News Gothic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News Gothic MT"/>
              </a:rPr>
              <a:t> </a:t>
            </a:r>
            <a:r>
              <a:rPr b="0" lang="en-US" sz="2600" spc="-1" strike="noStrike">
                <a:solidFill>
                  <a:srgbClr val="595959"/>
                </a:solidFill>
                <a:latin typeface="News Gothic MT"/>
              </a:rPr>
              <a:t>Italy</a:t>
            </a:r>
            <a:endParaRPr b="0" lang="en-US" sz="2600" spc="-1" strike="noStrike">
              <a:solidFill>
                <a:srgbClr val="595959"/>
              </a:solidFill>
              <a:latin typeface="News Gothic MT"/>
            </a:endParaRPr>
          </a:p>
          <a:p>
            <a:pPr marL="514440" indent="-514440">
              <a:spcBef>
                <a:spcPts val="499"/>
              </a:spcBef>
              <a:buClr>
                <a:srgbClr val="6fb7d7"/>
              </a:buClr>
              <a:buSzPct val="110000"/>
              <a:buFont typeface="News Gothic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News Gothic MT"/>
              </a:rPr>
              <a:t> </a:t>
            </a:r>
            <a:r>
              <a:rPr b="0" lang="en-US" sz="2600" spc="-1" strike="noStrike">
                <a:solidFill>
                  <a:srgbClr val="595959"/>
                </a:solidFill>
                <a:latin typeface="News Gothic MT"/>
              </a:rPr>
              <a:t>Brazil</a:t>
            </a:r>
            <a:endParaRPr b="0" lang="en-US" sz="2600" spc="-1" strike="noStrike">
              <a:solidFill>
                <a:srgbClr val="595959"/>
              </a:solidFill>
              <a:latin typeface="News Gothic MT"/>
            </a:endParaRPr>
          </a:p>
          <a:p>
            <a:pPr marL="514440" indent="-514440">
              <a:spcBef>
                <a:spcPts val="499"/>
              </a:spcBef>
              <a:buClr>
                <a:srgbClr val="6fb7d7"/>
              </a:buClr>
              <a:buSzPct val="110000"/>
              <a:buFont typeface="News Gothic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News Gothic MT"/>
              </a:rPr>
              <a:t> </a:t>
            </a:r>
            <a:r>
              <a:rPr b="0" lang="en-US" sz="2600" spc="-1" strike="noStrike">
                <a:solidFill>
                  <a:srgbClr val="595959"/>
                </a:solidFill>
                <a:latin typeface="News Gothic MT"/>
              </a:rPr>
              <a:t>Canada</a:t>
            </a:r>
            <a:endParaRPr b="0" lang="en-US" sz="2600" spc="-1" strike="noStrike">
              <a:solidFill>
                <a:srgbClr val="595959"/>
              </a:solidFill>
              <a:latin typeface="News Gothic MT"/>
            </a:endParaRPr>
          </a:p>
          <a:p>
            <a:pPr marL="514440" indent="-514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595959"/>
                </a:solidFill>
                <a:latin typeface="News Gothic MT"/>
              </a:rPr>
              <a:t>Source: Investopedia, December 24, 2020</a:t>
            </a:r>
            <a:endParaRPr b="0" lang="en-US" sz="26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111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0000"/>
                </a:solidFill>
                <a:latin typeface="News Gothic MT"/>
              </a:rPr>
              <a:t>Firms are Founded and Develop Competitive Advantages in their Home Country </a:t>
            </a:r>
            <a:endParaRPr b="1" lang="en-US" sz="29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News Gothic MT"/>
              </a:rPr>
              <a:t>This suggests that ultimately, nations succeed in particular industries because they offer an environment that is dynamic and challenging. </a:t>
            </a:r>
            <a:endParaRPr b="0" lang="en-US" sz="26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News Gothic MT"/>
              </a:rPr>
              <a:t>This environment in turn stimulates and pushes firms to upgrade and increase their advantages over time.</a:t>
            </a:r>
            <a:endParaRPr b="0" lang="en-US" sz="26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News Gothic MT"/>
              </a:rPr>
              <a:t>Competition is dynamic, and the home country either fosters or impedes these conditions. </a:t>
            </a:r>
            <a:endParaRPr b="0" lang="en-US" sz="26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6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The National Diamond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pic>
        <p:nvPicPr>
          <p:cNvPr id="611" name="Picture 2" descr="Diamond Model (Michael Porter)"/>
          <p:cNvPicPr/>
          <p:nvPr/>
        </p:nvPicPr>
        <p:blipFill>
          <a:blip r:embed="rId1"/>
          <a:stretch/>
        </p:blipFill>
        <p:spPr>
          <a:xfrm>
            <a:off x="2208240" y="1371600"/>
            <a:ext cx="4724280" cy="3886200"/>
          </a:xfrm>
          <a:prstGeom prst="rect">
            <a:avLst/>
          </a:prstGeom>
          <a:ln w="0">
            <a:noFill/>
          </a:ln>
        </p:spPr>
      </p:pic>
      <p:sp>
        <p:nvSpPr>
          <p:cNvPr id="612" name="TextBox 3"/>
          <p:cNvSpPr/>
          <p:nvPr/>
        </p:nvSpPr>
        <p:spPr>
          <a:xfrm>
            <a:off x="1905120" y="5715000"/>
            <a:ext cx="53337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s is a Mutually Reinforcing System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1187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Two Additional Variables can 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Influence the Diamond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14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Luck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Governmen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68400" indent="-282600">
              <a:spcBef>
                <a:spcPts val="601"/>
              </a:spcBef>
              <a:buClr>
                <a:srgbClr val="6fb7d7"/>
              </a:buClr>
              <a:buSzPct val="11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Antitrust policies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68400" indent="-282600">
              <a:spcBef>
                <a:spcPts val="601"/>
              </a:spcBef>
              <a:buClr>
                <a:srgbClr val="6fb7d7"/>
              </a:buClr>
              <a:buSzPct val="11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Regulations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68400" indent="-282600">
              <a:spcBef>
                <a:spcPts val="601"/>
              </a:spcBef>
              <a:buClr>
                <a:srgbClr val="6fb7d7"/>
              </a:buClr>
              <a:buSzPct val="11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Investments in education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68400" indent="-282600">
              <a:spcBef>
                <a:spcPts val="601"/>
              </a:spcBef>
              <a:buClr>
                <a:srgbClr val="6fb7d7"/>
              </a:buClr>
              <a:buSzPct val="11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Governmental purchases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380880" y="107640"/>
            <a:ext cx="8382240" cy="1035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News Gothic MT"/>
              </a:rPr>
              <a:t>Firms are most Likely to Succeed in Industries where the National Diamond is most Favorable</a:t>
            </a:r>
            <a:endParaRPr b="1" lang="en-US" sz="28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16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Why?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Paradoxically, these nations may also experience the most business failures?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68400" indent="-282600">
              <a:spcBef>
                <a:spcPts val="6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Why?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6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Factors of Production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18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actors of production are the inputs necessary to compete in any industry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68400" indent="-282600">
              <a:spcBef>
                <a:spcPts val="601"/>
              </a:spcBef>
              <a:buClr>
                <a:srgbClr val="6fb7d7"/>
              </a:buClr>
              <a:buSzPct val="11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Land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68400" indent="-282600">
              <a:spcBef>
                <a:spcPts val="601"/>
              </a:spcBef>
              <a:buClr>
                <a:srgbClr val="6fb7d7"/>
              </a:buClr>
              <a:buSzPct val="11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Labor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68400" indent="-282600">
              <a:spcBef>
                <a:spcPts val="601"/>
              </a:spcBef>
              <a:buClr>
                <a:srgbClr val="6fb7d7"/>
              </a:buClr>
              <a:buSzPct val="11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apital 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68400" indent="-282600">
              <a:spcBef>
                <a:spcPts val="601"/>
              </a:spcBef>
              <a:buClr>
                <a:srgbClr val="6fb7d7"/>
              </a:buClr>
              <a:buSzPct val="11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Natural resources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68400" indent="-282600">
              <a:spcBef>
                <a:spcPts val="601"/>
              </a:spcBef>
              <a:buClr>
                <a:srgbClr val="6fb7d7"/>
              </a:buClr>
              <a:buSzPct val="11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Infrastructure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111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Arable Land – Any land that is plowable and used to grow crops.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pic>
        <p:nvPicPr>
          <p:cNvPr id="620" name="Content Placeholder 4" descr="Table&#10;&#10;Description automatically generated"/>
          <p:cNvPicPr/>
          <p:nvPr/>
        </p:nvPicPr>
        <p:blipFill>
          <a:blip r:embed="rId1"/>
          <a:stretch/>
        </p:blipFill>
        <p:spPr>
          <a:xfrm>
            <a:off x="2819520" y="1477800"/>
            <a:ext cx="3276360" cy="4313520"/>
          </a:xfrm>
          <a:prstGeom prst="rect">
            <a:avLst/>
          </a:prstGeom>
          <a:ln w="0">
            <a:noFill/>
          </a:ln>
        </p:spPr>
      </p:pic>
      <p:sp>
        <p:nvSpPr>
          <p:cNvPr id="621" name="TextBox 5"/>
          <p:cNvSpPr/>
          <p:nvPr/>
        </p:nvSpPr>
        <p:spPr>
          <a:xfrm>
            <a:off x="2286000" y="579132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nd is given in square K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centages are worldw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3T19:11:20Z</dcterms:created>
  <dc:creator>sara_hunter</dc:creator>
  <dc:description/>
  <dc:language>en-US</dc:language>
  <cp:lastModifiedBy>Morrow, Bert</cp:lastModifiedBy>
  <dcterms:modified xsi:type="dcterms:W3CDTF">2021-03-02T20:06:11Z</dcterms:modified>
  <cp:revision>402</cp:revision>
  <dc:subject/>
  <dc:title>Slide 1</dc:title>
</cp:coreProperties>
</file>