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  <p:sldId id="274" r:id="rId35"/>
    <p:sldId id="275" r:id="rId36"/>
    <p:sldId id="276" r:id="rId37"/>
    <p:sldId id="277" r:id="rId38"/>
    <p:sldId id="278" r:id="rId39"/>
    <p:sldId id="279" r:id="rId40"/>
    <p:sldId id="280" r:id="rId41"/>
    <p:sldId id="281" r:id="rId42"/>
    <p:sldId id="282" r:id="rId43"/>
    <p:sldId id="283" r:id="rId44"/>
    <p:sldId id="284" r:id="rId45"/>
    <p:sldId id="285" r:id="rId46"/>
    <p:sldId id="286" r:id="rId47"/>
    <p:sldId id="287" r:id="rId48"/>
    <p:sldId id="288" r:id="rId49"/>
    <p:sldId id="289" r:id="rId50"/>
    <p:sldId id="290" r:id="rId51"/>
    <p:sldId id="291" r:id="rId52"/>
    <p:sldId id="292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slide" Target="slides/slide19.xml"/><Relationship Id="rId36" Type="http://schemas.openxmlformats.org/officeDocument/2006/relationships/slide" Target="slides/slide20.xml"/><Relationship Id="rId37" Type="http://schemas.openxmlformats.org/officeDocument/2006/relationships/slide" Target="slides/slide21.xml"/><Relationship Id="rId38" Type="http://schemas.openxmlformats.org/officeDocument/2006/relationships/slide" Target="slides/slide22.xml"/><Relationship Id="rId39" Type="http://schemas.openxmlformats.org/officeDocument/2006/relationships/slide" Target="slides/slide23.xml"/><Relationship Id="rId40" Type="http://schemas.openxmlformats.org/officeDocument/2006/relationships/slide" Target="slides/slide24.xml"/><Relationship Id="rId41" Type="http://schemas.openxmlformats.org/officeDocument/2006/relationships/slide" Target="slides/slide25.xml"/><Relationship Id="rId42" Type="http://schemas.openxmlformats.org/officeDocument/2006/relationships/slide" Target="slides/slide26.xml"/><Relationship Id="rId43" Type="http://schemas.openxmlformats.org/officeDocument/2006/relationships/slide" Target="slides/slide27.xml"/><Relationship Id="rId44" Type="http://schemas.openxmlformats.org/officeDocument/2006/relationships/slide" Target="slides/slide28.xml"/><Relationship Id="rId45" Type="http://schemas.openxmlformats.org/officeDocument/2006/relationships/slide" Target="slides/slide29.xml"/><Relationship Id="rId46" Type="http://schemas.openxmlformats.org/officeDocument/2006/relationships/slide" Target="slides/slide30.xml"/><Relationship Id="rId47" Type="http://schemas.openxmlformats.org/officeDocument/2006/relationships/slide" Target="slides/slide31.xml"/><Relationship Id="rId48" Type="http://schemas.openxmlformats.org/officeDocument/2006/relationships/slide" Target="slides/slide32.xml"/><Relationship Id="rId49" Type="http://schemas.openxmlformats.org/officeDocument/2006/relationships/slide" Target="slides/slide33.xml"/><Relationship Id="rId50" Type="http://schemas.openxmlformats.org/officeDocument/2006/relationships/slide" Target="slides/slide34.xml"/><Relationship Id="rId51" Type="http://schemas.openxmlformats.org/officeDocument/2006/relationships/slide" Target="slides/slide35.xml"/><Relationship Id="rId52" Type="http://schemas.openxmlformats.org/officeDocument/2006/relationships/slide" Target="slides/slide36.xml"/><Relationship Id="rId53" Type="http://schemas.openxmlformats.org/officeDocument/2006/relationships/slide" Target="slides/slide37.xml"/><Relationship Id="rId5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 type="dt" idx="3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Geneva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C1432-186A-40F3-A611-DC80AB6CC10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Geneva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move the slide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 type="ftr" idx="3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6"/>
          <p:cNvSpPr>
            <a:spLocks noGrp="1"/>
          </p:cNvSpPr>
          <p:nvPr>
            <p:ph type="sldNum" idx="3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Geneva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4D283-2658-42C7-84F5-E9B229640B1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Gene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Rectangle 8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apter I discusses the roles, skills and practices of a company’s human resource management (HRM)  function, implications of the economy, the makeup of the labor force, and ethics for company sustainability. It discusses how HRM affects a company’s balanced scorecard, what companies should do to compete in the global marketplace, how technology such as social networking is influencing HRM and what HRM practices support high-performance work system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1AB89-5547-4B28-97EC-DB7EEF7AC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3B447-F5BD-4BF9-8859-AE28899EB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830B0E5-3608-4043-A057-25F0A2138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61F55D6-FB2A-45E9-A1E8-6F7EECE5F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FB9A7E5-F0F9-444F-BE48-6A089DDE9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FB86D67-0FFF-4970-BF35-670890119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D3278D7-C36E-4DB4-B563-41A824A4E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4587DDC-65E2-4C1F-B1DB-C65710B4B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FA1B51D-FB2D-479C-9247-329E1D85B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2329538-7004-471F-B4DB-50CAAF940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8635B87-E6DD-4A8D-9B47-5DE61BACC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8AB4AAE-D35A-41D6-80F8-859D21797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056CA-384F-457C-957B-E8B52F450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C99743D-1A4C-4EF8-8ADB-B367953C4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1658434-0891-40A1-A1C7-17D499E88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DB94091-59EF-4A54-9C7E-A6BF61650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E6DA424-EF58-4727-9CCF-49B987C44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A484E3A-7948-457C-80F8-B40774363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BF0AC82-BF98-421E-AE8A-D3A69F49F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ACF171F-98DA-428C-8D9B-E016EA726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7DDA6DE-19EE-4892-A5DB-BBD14EEA5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E46CCD5-B116-4249-9286-D15F7CD4C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4465320-D363-4512-9349-618CC97A8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BB72C-A26B-4EF0-903A-6F6FE3C98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9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30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AC9E59C-F999-48DD-8A27-1D1CCBD2B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2DAA0C5-1BCC-477B-BB00-4D2A66860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56DC257-B272-4A52-9FE0-6D0D4EDE9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CCC88A2-6D4A-4B5A-91AF-A6DA0887A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5033F4E-97E1-4CA7-9E43-F2F7A1734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78B9F7C-F684-4541-9827-647D66427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B151107-1CA0-4105-8891-E354F7ADF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5C9FE38-017F-494F-80FB-548CCADE8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33D2009-B7E9-4F2B-9DB8-BE1896312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DA0208E-533A-4BF2-AF6D-28CE5FA9F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DD0CE8-4475-40F6-9612-9EA695E95F0A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150D657-149C-46AE-BCE9-62C2E3A68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2DBEF09-3BFC-4ABE-833D-28A710FBE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70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71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D722846-9841-4FDB-9E82-D8DEE62A1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926D767-1833-4B84-BDD9-059E98F1D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A369DED-0F60-49A5-919B-C844E2A69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D94EA78-EBBA-4A6A-AE4D-CF8A8898C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4A4BDDC-C6F6-477F-B572-BF4B447C3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93CD110-4828-4852-B80F-EBB66E925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43FF06E-49EE-4634-84C2-C40B22D74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DF581C2-C65F-4BFD-96A7-DEDDC3D9A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1C6BF0-4BB5-49F2-B7DC-9930806AB090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896D06B-0DB8-4263-B823-85F6801D0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8E7E6D6-A77E-4C7D-AE21-1849BFD8B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DF4DB3E-186E-48F3-A4AD-682B7535E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A0727E2-E588-4667-B29E-2921FE612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A3A2BEC-D759-47EC-9154-039C17CA0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B7C23BC-E4C1-43C0-A70F-EA71C7FA7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2E71370-D860-4F89-AEED-48317B075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46F2A60-AEF2-42DE-8A18-DCE2F123A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3783978-89C4-43C4-AB76-483C48E61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D1F73B9-5556-406E-A4D0-FED2F0347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D75951-D292-4B81-ABAF-50A2CF1B9272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1AD24C4-DCEA-4F1F-AE4E-D2F8A92F8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9007531-BEE6-411A-A437-1C5BE2FF2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5C90223-619F-4E53-BFEC-77FBE12F0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53AB5A1-8042-4962-A275-CB4DE7509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837D92F-6813-47F2-932C-857CE6C59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D219934-9FD7-4F79-9A0E-E0B5C554A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2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3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D7460AB-F1CC-497B-BB10-A9410505B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6BC64ED-A021-4200-B15E-D62F4FBA2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C6FD7B2-7171-456F-81DF-0D2688BE4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01B3B8C-36C4-4A1B-8977-CE037F807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741BFA-C924-4C7C-8CE2-7D356F15EA07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720EBA5-9562-459C-9660-8530F0D29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7E9B4A3-C736-4C9F-AC0A-79052F4CF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58CEB22-286B-477D-B6EF-DA1FF4F04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102D36D-688E-439C-AC99-D628ED602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E88CEED-A543-4758-9CE4-468023837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2757121-A76E-40D5-977A-A694EF582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A50A408-7E39-47EB-912E-B85978EC2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410460C-5BB9-4B2D-842D-F1F59B846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7E32249-2C09-4AE7-8EB6-7DFDB81B4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C2426C-C7E8-4473-A8C5-AF23D248B27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ACD45A-33A1-406D-80F9-AAD9C37E8D5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D3CF13-047F-47C1-93FB-D65E27FEB1E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0CEDF-DC38-45B8-8D91-9090F0DBF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588969-92F6-49C6-B457-6BCFDDD909C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038491-2F01-481A-9376-93308FC9E20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5F7A31-54DA-4BD9-83A2-239FC6AABA1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1BCFBC-3A3F-4AD5-B47A-C7F62E7E845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41634A-2B7E-435B-9D6B-71AB534CF167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2AC30-9D8A-4D2C-ABBF-711B28F65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735A8-519E-4F7B-BB80-80E978CB6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3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4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242C9D1-D5B3-4FF4-8E94-7567FA8D9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A3BFB-2E9E-496B-95E2-04871D15D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C115D7F-D6A1-4DC7-9B02-EFEB2CF06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AD9FD75-0B54-4118-B4CF-3B328D5D4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CCFD7FA-EE2D-42FE-9237-A3F777901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8923BE3-2082-47C3-B4FC-F1069DF5A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8128E23-9171-4515-843C-35A833849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8176A05-F434-48CA-A396-3B0895CD2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2E90029-4CC2-4D95-B598-FBD5BCFA0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B94E7CD-DC27-4A85-97DE-0EA6C36A0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C76F0F1-B9A0-4678-B770-537FBDB00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B2D3E73-4535-4E7A-A27F-FE6765310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7DEC6-E595-42B1-BBAA-3D36E5B7F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5B47DB2-1CC4-4B55-8101-622F3A549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E46D1F6-B2EE-4257-8F11-4CA5486B9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DE7C3F0-E934-46D1-9CAD-AEE434AC4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E160827-8F2D-4435-82B9-7EDDAEDFE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9FC3A33-74B7-48EC-9A7D-764D968FE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A75014B-67A1-49F7-A563-6D104D874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596CA29-EF5F-45E0-BED9-10D6C8946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26790EA-2E22-406E-8394-DD316B6DA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CB0A929-CA92-47E7-8852-92DB48141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20BDE91-F5A9-459B-B826-14AA19773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84158-5BA2-4DD2-B90A-D273292F9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029A14C-4A39-467C-AF28-82D75CD7D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3045773-BBC3-4BBA-95CB-E49BF2DC9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F01A0A8-4471-4C1B-9948-F6A14CD02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4C99AB3-2C59-4529-AC94-CCD11E06B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4537B79-A859-40F5-ABC7-CC924ABB7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72525AC-2530-41D7-AB23-F3093D0F8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3A61781-4ADE-4823-9674-CC9C95D65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93C14AD-476D-4CBA-847D-43E68A1D0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30A1503-FA97-43C1-A67F-8D0434935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9DC63E9-FE36-4525-B216-CF30DEF8B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192D5-61BE-403E-B64F-51EF6C087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4DC1E47-31C4-446A-937E-1665BE982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E7B93AB-9264-428C-B3AC-2EA8E6864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1412AE0-AD57-4A63-AA61-1153362A7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9AD5871-70D3-41C7-ACDF-D4BEE2B8C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7C09FDC-689C-42CE-BE69-12E5887AA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7D10E98-F9DA-46B5-953B-5EEAB00F9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BC122D5-FEDC-428B-912A-925FC2AC0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C8635BF-C3FC-4E29-A9C8-9FBF7ABF7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779E463-2D35-4FB5-A5FA-99FE07E6D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A912CB6-E9EF-4431-9F23-9CDB50FE9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F03CE-EEA6-42A5-AE3C-FC13759D2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C13BD86-5E59-4B17-A2CF-D81B9EA00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E3452BE-9A45-4686-A641-CFCAF71DC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DB65AD7-92D0-447F-8F4F-594EC1E2C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01E563F-5383-4E6A-B877-44F95CB98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A7D4196-D0C5-4CE8-9B8C-5A8A2E256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6166DC0-9309-4F1D-A168-307A3783F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9295B37-405A-4C96-900B-ADFD3983B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FD6C13B-870A-448C-A360-0A7144B67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CFC7B66-BCDC-4658-A36C-18304441A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6131ED8-B386-47AA-992D-8B4CAC8C1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ＭＳ Ｐ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43F42-F59F-469A-B993-E17FCC27AAD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dt" idx="21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 type="ftr" idx="22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 type="sldNum" idx="23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E554B-70CC-4203-ABF0-34E4253A880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 type="dt" idx="24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 type="ftr" idx="25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 type="sldNum" idx="26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0D10B-610B-42C3-B23F-A6DFCDA489B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 type="dt" idx="27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 type="ftr" idx="28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 type="sldNum" idx="29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72D60-9B4D-4190-B9A8-9119CEAC0B1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 type="dt" idx="30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 type="ftr" idx="31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 type="sldNum" idx="32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DE36A-BA66-4B52-9B92-95779581852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 type="dt" idx="33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 type="ftr" idx="34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 type="sldNum" idx="35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1CF31-57D0-4F9A-8BE6-5D2558C9343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4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5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2F079-4B11-4100-9CAE-43E249B238B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8"/>
          <p:cNvSpPr/>
          <p:nvPr/>
        </p:nvSpPr>
        <p:spPr>
          <a:xfrm>
            <a:off x="0" y="0"/>
            <a:ext cx="685800" cy="6858000"/>
          </a:xfrm>
          <a:prstGeom prst="rect">
            <a:avLst/>
          </a:prstGeom>
          <a:solidFill>
            <a:srgbClr val="b5d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Group 14"/>
          <p:cNvGrpSpPr/>
          <p:nvPr/>
        </p:nvGrpSpPr>
        <p:grpSpPr>
          <a:xfrm>
            <a:off x="152280" y="914400"/>
            <a:ext cx="990720" cy="990360"/>
            <a:chOff x="152280" y="914400"/>
            <a:chExt cx="990720" cy="990360"/>
          </a:xfrm>
        </p:grpSpPr>
        <p:sp>
          <p:nvSpPr>
            <p:cNvPr id="47" name="Oval 12"/>
            <p:cNvSpPr/>
            <p:nvPr/>
          </p:nvSpPr>
          <p:spPr>
            <a:xfrm>
              <a:off x="152280" y="914400"/>
              <a:ext cx="990720" cy="990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Oval 13"/>
            <p:cNvSpPr/>
            <p:nvPr/>
          </p:nvSpPr>
          <p:spPr>
            <a:xfrm>
              <a:off x="293760" y="1055520"/>
              <a:ext cx="708120" cy="7081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" name="Group 15"/>
          <p:cNvGrpSpPr/>
          <p:nvPr/>
        </p:nvGrpSpPr>
        <p:grpSpPr>
          <a:xfrm>
            <a:off x="152280" y="2209680"/>
            <a:ext cx="838440" cy="838440"/>
            <a:chOff x="152280" y="2209680"/>
            <a:chExt cx="838440" cy="838440"/>
          </a:xfrm>
        </p:grpSpPr>
        <p:sp>
          <p:nvSpPr>
            <p:cNvPr id="50" name="Oval 16"/>
            <p:cNvSpPr/>
            <p:nvPr/>
          </p:nvSpPr>
          <p:spPr>
            <a:xfrm>
              <a:off x="152280" y="2209680"/>
              <a:ext cx="838440" cy="838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17"/>
            <p:cNvSpPr/>
            <p:nvPr/>
          </p:nvSpPr>
          <p:spPr>
            <a:xfrm>
              <a:off x="271800" y="2328840"/>
              <a:ext cx="601560" cy="6019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Group 18"/>
          <p:cNvGrpSpPr/>
          <p:nvPr/>
        </p:nvGrpSpPr>
        <p:grpSpPr>
          <a:xfrm>
            <a:off x="533520" y="3048120"/>
            <a:ext cx="457200" cy="457200"/>
            <a:chOff x="533520" y="3048120"/>
            <a:chExt cx="457200" cy="457200"/>
          </a:xfrm>
        </p:grpSpPr>
        <p:sp>
          <p:nvSpPr>
            <p:cNvPr id="53" name="Oval 19"/>
            <p:cNvSpPr/>
            <p:nvPr/>
          </p:nvSpPr>
          <p:spPr>
            <a:xfrm>
              <a:off x="533520" y="30481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Oval 20"/>
            <p:cNvSpPr/>
            <p:nvPr/>
          </p:nvSpPr>
          <p:spPr>
            <a:xfrm>
              <a:off x="598680" y="3113280"/>
              <a:ext cx="326880" cy="32688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5"/>
          <p:cNvSpPr/>
          <p:nvPr/>
        </p:nvSpPr>
        <p:spPr>
          <a:xfrm>
            <a:off x="1328760" y="1295280"/>
            <a:ext cx="6486480" cy="31528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8"/>
          <p:cNvSpPr/>
          <p:nvPr/>
        </p:nvSpPr>
        <p:spPr>
          <a:xfrm>
            <a:off x="0" y="0"/>
            <a:ext cx="685800" cy="6858000"/>
          </a:xfrm>
          <a:prstGeom prst="rect">
            <a:avLst/>
          </a:prstGeom>
          <a:solidFill>
            <a:srgbClr val="b5d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0"/>
          <p:cNvSpPr/>
          <p:nvPr/>
        </p:nvSpPr>
        <p:spPr>
          <a:xfrm>
            <a:off x="8534520" y="0"/>
            <a:ext cx="609480" cy="6858000"/>
          </a:xfrm>
          <a:prstGeom prst="rect">
            <a:avLst/>
          </a:prstGeom>
          <a:solidFill>
            <a:srgbClr val="b5d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Group 15"/>
          <p:cNvGrpSpPr/>
          <p:nvPr/>
        </p:nvGrpSpPr>
        <p:grpSpPr>
          <a:xfrm>
            <a:off x="152280" y="914400"/>
            <a:ext cx="990720" cy="990360"/>
            <a:chOff x="152280" y="914400"/>
            <a:chExt cx="990720" cy="990360"/>
          </a:xfrm>
        </p:grpSpPr>
        <p:sp>
          <p:nvSpPr>
            <p:cNvPr id="95" name="Oval 16"/>
            <p:cNvSpPr/>
            <p:nvPr/>
          </p:nvSpPr>
          <p:spPr>
            <a:xfrm>
              <a:off x="152280" y="914400"/>
              <a:ext cx="990720" cy="990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17"/>
            <p:cNvSpPr/>
            <p:nvPr/>
          </p:nvSpPr>
          <p:spPr>
            <a:xfrm>
              <a:off x="293760" y="1055520"/>
              <a:ext cx="708120" cy="7081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Group 18"/>
          <p:cNvGrpSpPr/>
          <p:nvPr/>
        </p:nvGrpSpPr>
        <p:grpSpPr>
          <a:xfrm>
            <a:off x="152280" y="2209680"/>
            <a:ext cx="838440" cy="838440"/>
            <a:chOff x="152280" y="2209680"/>
            <a:chExt cx="838440" cy="838440"/>
          </a:xfrm>
        </p:grpSpPr>
        <p:sp>
          <p:nvSpPr>
            <p:cNvPr id="98" name="Oval 19"/>
            <p:cNvSpPr/>
            <p:nvPr/>
          </p:nvSpPr>
          <p:spPr>
            <a:xfrm>
              <a:off x="152280" y="2209680"/>
              <a:ext cx="838440" cy="838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20"/>
            <p:cNvSpPr/>
            <p:nvPr/>
          </p:nvSpPr>
          <p:spPr>
            <a:xfrm>
              <a:off x="271800" y="2328840"/>
              <a:ext cx="601560" cy="6019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Group 21"/>
          <p:cNvGrpSpPr/>
          <p:nvPr/>
        </p:nvGrpSpPr>
        <p:grpSpPr>
          <a:xfrm>
            <a:off x="533520" y="3048120"/>
            <a:ext cx="457200" cy="457200"/>
            <a:chOff x="533520" y="3048120"/>
            <a:chExt cx="457200" cy="457200"/>
          </a:xfrm>
        </p:grpSpPr>
        <p:sp>
          <p:nvSpPr>
            <p:cNvPr id="101" name="Oval 22"/>
            <p:cNvSpPr/>
            <p:nvPr/>
          </p:nvSpPr>
          <p:spPr>
            <a:xfrm>
              <a:off x="533520" y="30481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23"/>
            <p:cNvSpPr/>
            <p:nvPr/>
          </p:nvSpPr>
          <p:spPr>
            <a:xfrm>
              <a:off x="598680" y="3113280"/>
              <a:ext cx="326880" cy="32688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Group 24"/>
          <p:cNvGrpSpPr/>
          <p:nvPr/>
        </p:nvGrpSpPr>
        <p:grpSpPr>
          <a:xfrm>
            <a:off x="7772400" y="6248520"/>
            <a:ext cx="457200" cy="457200"/>
            <a:chOff x="7772400" y="6248520"/>
            <a:chExt cx="457200" cy="457200"/>
          </a:xfrm>
        </p:grpSpPr>
        <p:sp>
          <p:nvSpPr>
            <p:cNvPr id="104" name="Oval 25"/>
            <p:cNvSpPr/>
            <p:nvPr/>
          </p:nvSpPr>
          <p:spPr>
            <a:xfrm>
              <a:off x="7772400" y="6248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26"/>
            <p:cNvSpPr/>
            <p:nvPr/>
          </p:nvSpPr>
          <p:spPr>
            <a:xfrm>
              <a:off x="7837560" y="6313680"/>
              <a:ext cx="326880" cy="32688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Group 27"/>
          <p:cNvGrpSpPr/>
          <p:nvPr/>
        </p:nvGrpSpPr>
        <p:grpSpPr>
          <a:xfrm>
            <a:off x="8305920" y="5638680"/>
            <a:ext cx="838080" cy="838440"/>
            <a:chOff x="8305920" y="5638680"/>
            <a:chExt cx="838080" cy="838440"/>
          </a:xfrm>
        </p:grpSpPr>
        <p:sp>
          <p:nvSpPr>
            <p:cNvPr id="107" name="Oval 28"/>
            <p:cNvSpPr/>
            <p:nvPr/>
          </p:nvSpPr>
          <p:spPr>
            <a:xfrm>
              <a:off x="8305920" y="5638680"/>
              <a:ext cx="838080" cy="838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Oval 29"/>
            <p:cNvSpPr/>
            <p:nvPr/>
          </p:nvSpPr>
          <p:spPr>
            <a:xfrm>
              <a:off x="8425440" y="5757840"/>
              <a:ext cx="601200" cy="6019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6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ftr" idx="7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sldNum" idx="8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CDB61-E253-4FDA-AD91-235DFAB50E7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dt" idx="9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 type="ftr" idx="10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 type="sldNum" idx="11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C6732-4FBA-4E19-A071-193987A54DE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2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13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14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5E31E-DAFC-446D-B1AB-D633F7692A3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15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ftr" idx="16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 type="sldNum" idx="17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13286-D3C1-489C-8E18-26611C041AA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18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19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0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24D62-7BAB-4482-9F95-D41EF65D5D2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49000" y="762120"/>
            <a:ext cx="804204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  <a:ea typeface="Geneva"/>
              </a:rPr>
              <a:t>Porter Chapter  3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3" name=""/>
          <p:cNvSpPr txBox="1"/>
          <p:nvPr/>
        </p:nvSpPr>
        <p:spPr>
          <a:xfrm>
            <a:off x="555480" y="1731600"/>
            <a:ext cx="804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News Gothic MT"/>
              </a:rPr>
              <a:t>The Determinants of 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News Gothic MT"/>
              </a:rPr>
              <a:t>National Competitive Advantage 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The Standard Theory of Trade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23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Nations are endowed with differing stocks of factors of production. 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A nation will export those goods which make extensive use of the factors with which it is well endowed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6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6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The Factors most Important for Competitive Advantage are Created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25" name=""/>
          <p:cNvSpPr txBox="1"/>
          <p:nvPr/>
        </p:nvSpPr>
        <p:spPr>
          <a:xfrm>
            <a:off x="549000" y="1294920"/>
            <a:ext cx="804204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Human resources – education and training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Knowledge resources – scientific, technical and market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apital resources – access to debt and equity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Infrastructure – transportation and communication systems; health care; housing stock and cultural institutions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595959"/>
                </a:solidFill>
                <a:latin typeface="News Gothic MT"/>
              </a:rPr>
              <a:t>Many of these factors are mobile. 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6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6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6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6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6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6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6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ompetitive Advantage from Factors . . .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27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depends on how </a:t>
            </a:r>
            <a:r>
              <a:rPr b="1" i="1" lang="en-US" sz="2800" spc="-1" strike="noStrike">
                <a:solidFill>
                  <a:srgbClr val="595959"/>
                </a:solidFill>
                <a:latin typeface="News Gothic MT"/>
              </a:rPr>
              <a:t>efficiently</a:t>
            </a: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 and </a:t>
            </a:r>
            <a:r>
              <a:rPr b="1" i="1" lang="en-US" sz="2800" spc="-1" strike="noStrike">
                <a:solidFill>
                  <a:srgbClr val="595959"/>
                </a:solidFill>
                <a:latin typeface="News Gothic MT"/>
              </a:rPr>
              <a:t>effectively</a:t>
            </a: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 they are deployed. 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s reflects the choices made by a nation’s firms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e mere availability of suitable factors is not sufficient. 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6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6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6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6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Factors may be Basic or Advanced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29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595959"/>
                </a:solidFill>
                <a:latin typeface="News Gothic MT"/>
              </a:rPr>
              <a:t>Basic factors </a:t>
            </a: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include: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	</a:t>
            </a: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Natural resources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	</a:t>
            </a: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mate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	</a:t>
            </a: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Location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	</a:t>
            </a: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Unskilled and semi-skilled labor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	</a:t>
            </a: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Debt capita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6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6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6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6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6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6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6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6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6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6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Advanced factors</a:t>
            </a:r>
            <a:r>
              <a:rPr b="1" i="1" lang="en-US" sz="3200" spc="-1" strike="noStrike">
                <a:solidFill>
                  <a:srgbClr val="ff0000"/>
                </a:solidFill>
                <a:latin typeface="News Gothic MT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include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31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Modern communication infrastructure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Highly educated personn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University research institutions in sophisticated disciplines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595959"/>
                </a:solidFill>
                <a:latin typeface="News Gothic MT"/>
              </a:rPr>
              <a:t>Advanced factors are the most important for competitive advantage!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6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6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6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6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6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6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Are Factors Inherited or Developed?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33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ew factors of production are inherited, and most of these are basic factors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Advanced factors on the other hand are developed over time through investments by either the public or the private sector. 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595959"/>
                </a:solidFill>
                <a:latin typeface="News Gothic MT"/>
              </a:rPr>
              <a:t>Think about the implications of this! 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595959"/>
                </a:solidFill>
                <a:latin typeface="News Gothic MT"/>
              </a:rPr>
              <a:t>If a country has mostly basic factors, what types of industry does that suggest?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6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6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6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6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6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6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6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6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228240" y="108000"/>
            <a:ext cx="845820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Factors may be Generalized or Specialized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35" name=""/>
          <p:cNvSpPr txBox="1"/>
          <p:nvPr/>
        </p:nvSpPr>
        <p:spPr>
          <a:xfrm>
            <a:off x="550800" y="1371240"/>
            <a:ext cx="804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Generalized factors are those that are valuable to all industries. Examples include: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Roads and bridges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Communication infrastructure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A pool of well motivated employees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pecialized factors have value in limited industries. Examples include: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Narrowly skilled personn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pecialized ports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pecialized knowledge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6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6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6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6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6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6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6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6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6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6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6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6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6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6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6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6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228600" y="108000"/>
            <a:ext cx="8610480" cy="1263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News Gothic MT"/>
              </a:rPr>
              <a:t>The Development of Advanced Factors through Innovation can Increase the Value of Basic Factors</a:t>
            </a:r>
            <a:endParaRPr b="1" lang="en-US" sz="27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37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Air conditioning was invented in 1902 but did not become widely available in homes until the 1950s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In 1900, the population of Florida was 530,000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In 1950, it was 2,810,000 an increase of 530%. 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In 2020, it was 21,733,000 an increase of 773%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595959"/>
                </a:solidFill>
                <a:latin typeface="News Gothic MT"/>
              </a:rPr>
              <a:t>Arguably, the invention of air conditioning neutralized the negative effect of a hot climate!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6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6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6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6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6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6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6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6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6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6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Home Demand Composition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39" name=""/>
          <p:cNvSpPr txBox="1"/>
          <p:nvPr/>
        </p:nvSpPr>
        <p:spPr>
          <a:xfrm>
            <a:off x="549000" y="1142640"/>
            <a:ext cx="80420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A robust home demand from consumers sharpens a firm’s ability to meet their customer’s needs. 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Nations gain an advantage if home buyers pressure local firms to innovate faster. 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s allows local firms to achieve more sophisticated competitive advantages compared to foreign rivals. 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6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6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6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6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228600" y="107640"/>
            <a:ext cx="8686800" cy="654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News Gothic MT"/>
              </a:rPr>
              <a:t>Three Important Characteristics of Home Demand</a:t>
            </a:r>
            <a:endParaRPr b="1" lang="en-US" sz="28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41" name=""/>
          <p:cNvSpPr txBox="1"/>
          <p:nvPr/>
        </p:nvSpPr>
        <p:spPr>
          <a:xfrm>
            <a:off x="549000" y="1066320"/>
            <a:ext cx="80420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News Gothic MT"/>
              </a:rPr>
              <a:t>Segment Structure of Demand: </a:t>
            </a:r>
            <a:r>
              <a:rPr b="0" lang="en-US" sz="2600" spc="-1" strike="noStrike">
                <a:solidFill>
                  <a:srgbClr val="595959"/>
                </a:solidFill>
                <a:latin typeface="News Gothic MT"/>
              </a:rPr>
              <a:t>In most industries, demand is segmented (e.g. different customers desire different product attributes). </a:t>
            </a:r>
            <a:endParaRPr b="0" lang="en-US" sz="26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News Gothic MT"/>
              </a:rPr>
              <a:t>A nation’s firms are likely to gain a competitive advantage in global segments that represent a large share of a firm’s home demand. </a:t>
            </a:r>
            <a:endParaRPr b="0" lang="en-US" sz="26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News Gothic MT"/>
              </a:rPr>
              <a:t>Boeing specializes in long haul commercial aircraft which provided Airbus with an opening in the short haul segment. </a:t>
            </a:r>
            <a:endParaRPr b="0" lang="en-US" sz="26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6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6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6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6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49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News Gothic MT"/>
              </a:rPr>
              <a:t>In the last chapter, we discussed how firms choose to compete. In this chapter, we focus on how nations impact that competition. </a:t>
            </a:r>
            <a:endParaRPr b="1" lang="en-US" sz="28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5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Why are firms in some nations better able to compete than firms from the same industries in other nations? What is the “country effect?”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It’s not enough to recognize that some countries have better businesses than others. The question for us is to understand </a:t>
            </a:r>
            <a:r>
              <a:rPr b="1" i="1" lang="en-US" sz="2800" spc="-1" strike="noStrike">
                <a:solidFill>
                  <a:srgbClr val="595959"/>
                </a:solidFill>
                <a:latin typeface="News Gothic MT"/>
              </a:rPr>
              <a:t>why</a:t>
            </a: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?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380520" y="108000"/>
            <a:ext cx="821052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News Gothic MT"/>
              </a:rPr>
              <a:t>Sophisticated and Demanding Buyers </a:t>
            </a: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. . .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43" name=""/>
          <p:cNvSpPr txBox="1"/>
          <p:nvPr/>
        </p:nvSpPr>
        <p:spPr>
          <a:xfrm>
            <a:off x="549000" y="1295280"/>
            <a:ext cx="80420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an lead to local firm’s gaining a competitive advantage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ese buyers pressure firms to meet high standards in terms of product quality, features and service. 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6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6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6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6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News Gothic MT"/>
              </a:rPr>
              <a:t>Anticipatory Buyer Needs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45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A nation’s firms gain advantages if the needs of home buyers anticipate those of other nations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s means that home demand provides an early indicator of buyer needs that are likely to become widespread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6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6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Demand Size and Pattern of Growth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47" name=""/>
          <p:cNvSpPr txBox="1"/>
          <p:nvPr/>
        </p:nvSpPr>
        <p:spPr>
          <a:xfrm>
            <a:off x="549000" y="1066320"/>
            <a:ext cx="80420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5959"/>
                </a:solidFill>
                <a:latin typeface="News Gothic MT"/>
              </a:rPr>
              <a:t>Size of Home Demand</a:t>
            </a: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. This can be most important in industries: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68400" indent="-282600">
              <a:spcBef>
                <a:spcPts val="601"/>
              </a:spcBef>
              <a:buClr>
                <a:srgbClr val="6fb7d7"/>
              </a:buClr>
              <a:buSzPct val="11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With economies of scale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68400" indent="-282600">
              <a:spcBef>
                <a:spcPts val="601"/>
              </a:spcBef>
              <a:buClr>
                <a:srgbClr val="6fb7d7"/>
              </a:buClr>
              <a:buSzPct val="11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Heavy R&amp;D requirements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68400" indent="-282600">
              <a:spcBef>
                <a:spcPts val="601"/>
              </a:spcBef>
              <a:buClr>
                <a:srgbClr val="6fb7d7"/>
              </a:buClr>
              <a:buSzPct val="11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Large leaps in technology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5959"/>
                </a:solidFill>
                <a:latin typeface="News Gothic MT"/>
              </a:rPr>
              <a:t>Number of Independent Buyers. </a:t>
            </a: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rving a large number of buyers motivates firms to respond to various needs (as opposed to serving one or two large customers). 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68400" indent="-282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6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6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6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6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6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6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6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6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6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6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304920" y="107640"/>
            <a:ext cx="8286480" cy="577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News Gothic MT"/>
              </a:rPr>
              <a:t>Demand Size and Pattern of Growth Continued</a:t>
            </a:r>
            <a:endParaRPr b="1" lang="en-US" sz="28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49" name=""/>
          <p:cNvSpPr txBox="1"/>
          <p:nvPr/>
        </p:nvSpPr>
        <p:spPr>
          <a:xfrm>
            <a:off x="456840" y="837720"/>
            <a:ext cx="81342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45600" indent="-345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Home Demand Growth Rate. 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78600" indent="-333000">
              <a:buClr>
                <a:srgbClr val="215d77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Rapid growth leads firms to adopt new technologies faster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78600" indent="-333000">
              <a:spcBef>
                <a:spcPts val="601"/>
              </a:spcBef>
              <a:buClr>
                <a:srgbClr val="215d77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Rapid growth encourages firms to build new facilities with confidence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5600" indent="-345600"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Early Home Demand. 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78600" indent="-333000">
              <a:spcBef>
                <a:spcPts val="601"/>
              </a:spcBef>
              <a:buClr>
                <a:srgbClr val="215d77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Leads to first-mover advantages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78600" indent="-333000">
              <a:spcBef>
                <a:spcPts val="601"/>
              </a:spcBef>
              <a:buClr>
                <a:srgbClr val="215d77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Especially important if home demand leads to foreign demand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5600" indent="-345600"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Early Saturation. 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78600" indent="-333000">
              <a:spcBef>
                <a:spcPts val="601"/>
              </a:spcBef>
              <a:buClr>
                <a:srgbClr val="215d77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orces firms to continue innovating and upgrading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78600" indent="-333000">
              <a:spcBef>
                <a:spcPts val="601"/>
              </a:spcBef>
              <a:buClr>
                <a:srgbClr val="215d77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Encourages a focus on efficiency. 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78600" indent="-333000">
              <a:spcBef>
                <a:spcPts val="601"/>
              </a:spcBef>
              <a:buClr>
                <a:srgbClr val="215d77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Causes firms to look toward foreign markets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6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6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6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6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6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6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6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6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6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6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6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6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6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6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6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6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6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6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6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6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304920" y="108000"/>
            <a:ext cx="828648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Internationalization of Domestic Demand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51" name=""/>
          <p:cNvSpPr txBox="1"/>
          <p:nvPr/>
        </p:nvSpPr>
        <p:spPr>
          <a:xfrm>
            <a:off x="304560" y="1218960"/>
            <a:ext cx="80420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Mobile or Multinational Local Buyers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Domestic buyers become foreign buyers. 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Provides an opportunity for establishing an overseas presence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U.S. hotel, rent-a-car and fast-food industries have benefited. 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	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6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6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6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6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6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6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6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6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6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6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730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Related and Supporting Industries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53" name=""/>
          <p:cNvSpPr txBox="1"/>
          <p:nvPr/>
        </p:nvSpPr>
        <p:spPr>
          <a:xfrm>
            <a:off x="549000" y="1066320"/>
            <a:ext cx="804204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News Gothic MT"/>
              </a:rPr>
              <a:t>Industries that supply inputs (e.g. suppliers) or support services to other industries, are considered “related and supporting industries.” </a:t>
            </a:r>
            <a:endParaRPr b="0" lang="en-US" sz="26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News Gothic MT"/>
              </a:rPr>
              <a:t>The presence of internationally competitive </a:t>
            </a:r>
            <a:r>
              <a:rPr b="1" i="1" lang="en-US" sz="2600" spc="-1" strike="noStrike">
                <a:solidFill>
                  <a:srgbClr val="595959"/>
                </a:solidFill>
                <a:latin typeface="News Gothic MT"/>
              </a:rPr>
              <a:t>supplier</a:t>
            </a:r>
            <a:r>
              <a:rPr b="0" lang="en-US" sz="2600" spc="-1" strike="noStrike">
                <a:solidFill>
                  <a:srgbClr val="595959"/>
                </a:solidFill>
                <a:latin typeface="News Gothic MT"/>
              </a:rPr>
              <a:t> industries may create advantages by providing:</a:t>
            </a:r>
            <a:endParaRPr b="0" lang="en-US" sz="26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News Gothic MT"/>
              </a:rPr>
              <a:t>Rapid access to low-cost inputs</a:t>
            </a:r>
            <a:endParaRPr b="0" lang="en-US" sz="26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News Gothic MT"/>
              </a:rPr>
              <a:t>Potential innovations in various inputs</a:t>
            </a:r>
            <a:endParaRPr b="0" lang="en-US" sz="26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595959"/>
                </a:solidFill>
                <a:latin typeface="News Gothic MT"/>
              </a:rPr>
              <a:t>Note: A nation need not possess national advantage in all supplier industries. Inputs that don’t benefit from innovation or influence a product’s performance may be sourced from other countries. </a:t>
            </a:r>
            <a:endParaRPr b="0" lang="en-US" sz="23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6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6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6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6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6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6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6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6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Related (Support) Industries 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55" name=""/>
          <p:cNvSpPr txBox="1"/>
          <p:nvPr/>
        </p:nvSpPr>
        <p:spPr>
          <a:xfrm>
            <a:off x="549000" y="1371600"/>
            <a:ext cx="80420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Related industries are those in which firms can share activities in the value chain when competing, or those that involve products that are complementary. Examples include: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349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349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graphicFrame>
        <p:nvGraphicFramePr>
          <p:cNvPr id="656" name=""/>
          <p:cNvGraphicFramePr/>
          <p:nvPr/>
        </p:nvGraphicFramePr>
        <p:xfrm>
          <a:off x="1486080" y="3581280"/>
          <a:ext cx="6172200" cy="1828800"/>
        </p:xfrm>
        <a:graphic>
          <a:graphicData uri="http://schemas.openxmlformats.org/drawingml/2006/table">
            <a:tbl>
              <a:tblPr/>
              <a:tblGrid>
                <a:gridCol w="2476440"/>
                <a:gridCol w="36957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News Gothic MT"/>
                        </a:rPr>
                        <a:t>Indust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News Gothic MT"/>
                        </a:rPr>
                        <a:t>Related/Support Indust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News Gothic MT"/>
                        </a:rPr>
                        <a:t>Camer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News Gothic MT"/>
                        </a:rPr>
                        <a:t>Copi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News Gothic MT"/>
                        </a:rPr>
                        <a:t>Port Servic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News Gothic MT"/>
                        </a:rPr>
                        <a:t>Ship repai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News Gothic MT"/>
                        </a:rPr>
                        <a:t>Engin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News Gothic MT"/>
                        </a:rPr>
                        <a:t>Lubrica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News Gothic MT"/>
                        </a:rPr>
                        <a:t>Comput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News Gothic MT"/>
                        </a:rPr>
                        <a:t>Print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958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Firm Strategy, Structure and Rivalry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58" name=""/>
          <p:cNvSpPr txBox="1"/>
          <p:nvPr/>
        </p:nvSpPr>
        <p:spPr>
          <a:xfrm>
            <a:off x="549000" y="1295280"/>
            <a:ext cx="80420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45600" indent="-345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95959"/>
                </a:solidFill>
                <a:latin typeface="News Gothic MT"/>
              </a:rPr>
              <a:t>The context in which firms are created, organized and managed, as well as the nature of domestic rivalry, are factors in determining national competitive advantage in an industry. </a:t>
            </a: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  <a:p>
            <a:pPr marL="345600" indent="-345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95959"/>
                </a:solidFill>
                <a:latin typeface="News Gothic MT"/>
              </a:rPr>
              <a:t>The goals, strategies and ways of organizing firms in industries vary widely among nations. </a:t>
            </a: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  <a:p>
            <a:pPr marL="345600" indent="-345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95959"/>
                </a:solidFill>
                <a:latin typeface="News Gothic MT"/>
              </a:rPr>
              <a:t>National advantage results from a good match between these choices and the sources of competitive advantage in a particular industry. </a:t>
            </a: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6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6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6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6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Firm Strategy, Structure and Rivalry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60" name=""/>
          <p:cNvSpPr txBox="1"/>
          <p:nvPr/>
        </p:nvSpPr>
        <p:spPr>
          <a:xfrm>
            <a:off x="549000" y="1295280"/>
            <a:ext cx="80420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e way in which firms are managed and choose to compete varies by nations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News Gothic MT"/>
              </a:rPr>
              <a:t>In Italy, many successful international competitors are often small or medium-sized firms that are privately owned and run like families.</a:t>
            </a:r>
            <a:endParaRPr b="0" lang="en-US" sz="26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News Gothic MT"/>
              </a:rPr>
              <a:t>In Germany, top management often consists of individuals with technical backgrounds and companies are hierarchical in organization and practices. </a:t>
            </a:r>
            <a:endParaRPr b="0" lang="en-US" sz="26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6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6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6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6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6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6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304920" y="107640"/>
            <a:ext cx="8286480" cy="1035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News Gothic MT"/>
              </a:rPr>
              <a:t>Important national differences in management practices occur in such areas as:</a:t>
            </a:r>
            <a:endParaRPr b="1" lang="en-US" sz="28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62" name=""/>
          <p:cNvSpPr txBox="1"/>
          <p:nvPr/>
        </p:nvSpPr>
        <p:spPr>
          <a:xfrm>
            <a:off x="549000" y="1295280"/>
            <a:ext cx="80420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lvl="1" marL="664920" indent="-326160">
              <a:spcBef>
                <a:spcPts val="601"/>
              </a:spcBef>
              <a:buClr>
                <a:srgbClr val="215d77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Training, background and orientation of leaders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64920" indent="-326160">
              <a:spcBef>
                <a:spcPts val="601"/>
              </a:spcBef>
              <a:buClr>
                <a:srgbClr val="215d77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Group versus hierarchical style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64920" indent="-326160">
              <a:spcBef>
                <a:spcPts val="601"/>
              </a:spcBef>
              <a:buClr>
                <a:srgbClr val="215d77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trength of individual initiative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64920" indent="-326160">
              <a:spcBef>
                <a:spcPts val="601"/>
              </a:spcBef>
              <a:buClr>
                <a:srgbClr val="215d77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Decision-making processes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64920" indent="-326160">
              <a:spcBef>
                <a:spcPts val="601"/>
              </a:spcBef>
              <a:buClr>
                <a:srgbClr val="215d77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The nature of relationships with customers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64920" indent="-326160">
              <a:spcBef>
                <a:spcPts val="601"/>
              </a:spcBef>
              <a:buClr>
                <a:srgbClr val="215d77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The ability to coordinate across functions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64920" indent="-326160">
              <a:spcBef>
                <a:spcPts val="601"/>
              </a:spcBef>
              <a:buClr>
                <a:srgbClr val="215d77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The attitude toward international activities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64920" indent="-326160">
              <a:spcBef>
                <a:spcPts val="601"/>
              </a:spcBef>
              <a:buClr>
                <a:srgbClr val="215d77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The relationship between labor and management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64920" indent="-326160">
              <a:spcBef>
                <a:spcPts val="601"/>
              </a:spcBef>
              <a:buClr>
                <a:srgbClr val="215d77"/>
              </a:buClr>
              <a:buSzPct val="11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These differences can create advantages and disadvantages when competing in different industries. 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38400" indent="-3384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6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6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6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6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6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6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6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6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6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6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6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6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6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6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6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6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6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6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0000"/>
                </a:solidFill>
                <a:latin typeface="News Gothic MT"/>
              </a:rPr>
              <a:t>The Determinants of National Advantage</a:t>
            </a:r>
            <a:endParaRPr b="1" lang="en-US" sz="31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7" name=""/>
          <p:cNvSpPr txBox="1"/>
          <p:nvPr/>
        </p:nvSpPr>
        <p:spPr>
          <a:xfrm>
            <a:off x="549000" y="1218960"/>
            <a:ext cx="80420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How does a nation achieve international success in a particular industry? 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ere are four broad attributes of a nation that shape, promote or impede competitive advantage in an industry: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1133640" indent="-514440">
              <a:spcBef>
                <a:spcPts val="601"/>
              </a:spcBef>
              <a:buClr>
                <a:srgbClr val="6fb7d7"/>
              </a:buClr>
              <a:buSzPct val="110000"/>
              <a:buFont typeface="News Gothic MT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actor Conditions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1133640" indent="-514440">
              <a:spcBef>
                <a:spcPts val="601"/>
              </a:spcBef>
              <a:buClr>
                <a:srgbClr val="6fb7d7"/>
              </a:buClr>
              <a:buSzPct val="110000"/>
              <a:buFont typeface="News Gothic MT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Demand Conditions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1133640" indent="-514440">
              <a:spcBef>
                <a:spcPts val="601"/>
              </a:spcBef>
              <a:buClr>
                <a:srgbClr val="6fb7d7"/>
              </a:buClr>
              <a:buSzPct val="110000"/>
              <a:buFont typeface="News Gothic MT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Related and Supporting Industries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1133640" indent="-514440">
              <a:spcBef>
                <a:spcPts val="601"/>
              </a:spcBef>
              <a:buClr>
                <a:srgbClr val="6fb7d7"/>
              </a:buClr>
              <a:buSzPct val="110000"/>
              <a:buFont typeface="News Gothic MT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rm Strategy, Structure and Rivalry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6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6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6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6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228600" y="107640"/>
            <a:ext cx="8610480" cy="1111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News Gothic MT"/>
              </a:rPr>
              <a:t>Many aspects of a nation influence the ways in which firms are organized and managed, such as: </a:t>
            </a:r>
            <a:endParaRPr b="1" lang="en-US" sz="28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64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Attitudes toward authority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Norms of interpersonal interaction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Attitudes of workers toward management and vice versa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ocial norms of individualistic or group behavior and professional standards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9" dur="indefinite" restart="never" nodeType="tmRoot">
          <p:childTnLst>
            <p:seq>
              <p:cTn id="600" dur="indefinite" nodeType="mainSeq">
                <p:childTnLst>
                  <p:par>
                    <p:cTn id="601" nodeType="clickEffect" fill="hold">
                      <p:stCondLst>
                        <p:cond delay="indefinite"/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6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6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6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6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6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6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6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6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The preceding aspects grow out of: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66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Educational systems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ocial and religious history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amily structures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Many other often intangible but unique national conditions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nodeType="clickEffect" fill="hold">
                      <p:stCondLst>
                        <p:cond delay="indefinite"/>
                      </p:stCondLst>
                      <p:childTnLst>
                        <p:par>
                          <p:cTn id="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6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6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6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6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6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6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6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6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549360" y="107640"/>
            <a:ext cx="8137440" cy="1111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Nations succeed in industries where there is a strong commitment and effort.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68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499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595959"/>
                </a:solidFill>
                <a:latin typeface="News Gothic MT"/>
              </a:rPr>
              <a:t>Company Goals </a:t>
            </a: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are most strongly determined by ownership structure, the motives of debt and equity holders, the nature of corporate governance and the incentives provided to senior managers. 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499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The </a:t>
            </a:r>
            <a:r>
              <a:rPr b="1" i="1" lang="en-US" sz="2400" spc="-1" strike="noStrike">
                <a:solidFill>
                  <a:srgbClr val="595959"/>
                </a:solidFill>
                <a:latin typeface="News Gothic MT"/>
              </a:rPr>
              <a:t>Goals of Individuals </a:t>
            </a: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can enhance or detract from succusses in particular industries. These may be determined by work values, reward systems and attitudes toward wealth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499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The influence of </a:t>
            </a:r>
            <a:r>
              <a:rPr b="1" i="1" lang="en-US" sz="2400" spc="-1" strike="noStrike">
                <a:solidFill>
                  <a:srgbClr val="595959"/>
                </a:solidFill>
                <a:latin typeface="News Gothic MT"/>
              </a:rPr>
              <a:t>National Priorities on Goals: </a:t>
            </a: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Nations tend to be competitive in activities that are admired and depended upon. 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9" dur="indefinite" restart="never" nodeType="tmRoot">
          <p:childTnLst>
            <p:seq>
              <p:cTn id="640" dur="indefinite" nodeType="mainSeq">
                <p:childTnLst>
                  <p:par>
                    <p:cTn id="641" nodeType="clickEffect" fill="hold">
                      <p:stCondLst>
                        <p:cond delay="indefinite"/>
                      </p:stCondLst>
                      <p:childTnLst>
                        <p:par>
                          <p:cTn id="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nodeType="clickEffect" fill="hold">
                      <p:stCondLst>
                        <p:cond delay="indefinite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6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6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nodeType="clickEffect" fill="hold">
                      <p:stCondLst>
                        <p:cond delay="indefinite"/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6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6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1339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News Gothic MT"/>
              </a:rPr>
              <a:t>Research suggests that vigorous domestic rivalry can create a persistence competitive advantage within an industry. </a:t>
            </a:r>
            <a:endParaRPr b="1" lang="en-US" sz="28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70" name=""/>
          <p:cNvSpPr txBox="1"/>
          <p:nvPr/>
        </p:nvSpPr>
        <p:spPr>
          <a:xfrm>
            <a:off x="549000" y="1676160"/>
            <a:ext cx="80420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499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Improvement and innovation are essential ingredients for competitive advantage in an industry. 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499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Domestic rivalry creates pressure on firms to improve and innovate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499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Rivals push each other to lower costs, improve quality and service and create new products and processes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499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Intense domestic rivalry leads to new business formation which feeds the process of innovation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499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Toughened by domestic rivalry, firms are better equipped to succeed abroad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9" dur="indefinite" restart="never" nodeType="tmRoot">
          <p:childTnLst>
            <p:seq>
              <p:cTn id="660" dur="indefinite" nodeType="mainSeq">
                <p:childTnLst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6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6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6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6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nodeType="clickEffect" fill="hold">
                      <p:stCondLst>
                        <p:cond delay="indefinite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6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6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6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6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nodeType="clickEffect" fill="hold">
                      <p:stCondLst>
                        <p:cond delay="indefinite"/>
                      </p:stCondLst>
                      <p:childTnLst>
                        <p:par>
                          <p:cTn id="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6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6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The Role of Chance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72" name=""/>
          <p:cNvSpPr txBox="1"/>
          <p:nvPr/>
        </p:nvSpPr>
        <p:spPr>
          <a:xfrm>
            <a:off x="549000" y="1218960"/>
            <a:ext cx="80420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hance events are occurrences that have little to do with circumstances in a nation and are largely outside the power of firms and governments to control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hance events create discontinuities that allow shifts in competitive position. 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hance events have asymmetric impacts on different nations.  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1" dur="indefinite" restart="never" nodeType="tmRoot">
          <p:childTnLst>
            <p:seq>
              <p:cTn id="692" dur="indefinite" nodeType="mainSeq">
                <p:childTnLst>
                  <p:par>
                    <p:cTn id="693" nodeType="clickEffect" fill="hold">
                      <p:stCondLst>
                        <p:cond delay="indefinite"/>
                      </p:stCondLst>
                      <p:childTnLst>
                        <p:par>
                          <p:cTn id="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6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6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nodeType="clickEffect" fill="hold">
                      <p:stCondLst>
                        <p:cond delay="indefinite"/>
                      </p:stCondLst>
                      <p:childTnLst>
                        <p:par>
                          <p:cTn id="7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6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6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nodeType="clickEffect" fill="hold">
                      <p:stCondLst>
                        <p:cond delay="indefinite"/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6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6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Examples of Chance Events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74" name=""/>
          <p:cNvSpPr txBox="1"/>
          <p:nvPr/>
        </p:nvSpPr>
        <p:spPr>
          <a:xfrm>
            <a:off x="549000" y="1218960"/>
            <a:ext cx="80420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2020 Pandemic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Wars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ptember 11</a:t>
            </a:r>
            <a:r>
              <a:rPr b="0" lang="en-US" sz="2400" spc="-1" strike="noStrike" baseline="30000">
                <a:solidFill>
                  <a:srgbClr val="595959"/>
                </a:solidFill>
                <a:latin typeface="News Gothic MT"/>
              </a:rPr>
              <a:t>th</a:t>
            </a: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 Terrorists Attacks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2008 Financial Crisis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Cold War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Oil Shocks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595959"/>
                </a:solidFill>
                <a:latin typeface="News Gothic MT"/>
              </a:rPr>
              <a:t>Nations with the most favorable “Diamond” will be most likely to convert chance events into competitive advantage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1" dur="indefinite" restart="never" nodeType="tmRoot">
          <p:childTnLst>
            <p:seq>
              <p:cTn id="712" dur="indefinite" nodeType="mainSeq">
                <p:childTnLst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6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6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6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6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6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6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6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6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6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6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6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6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6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6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06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The Role of Governmen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76" name=""/>
          <p:cNvSpPr txBox="1"/>
          <p:nvPr/>
        </p:nvSpPr>
        <p:spPr>
          <a:xfrm>
            <a:off x="549000" y="1066320"/>
            <a:ext cx="80420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45600" indent="-345600">
              <a:spcBef>
                <a:spcPts val="499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News Gothic MT"/>
              </a:rPr>
              <a:t>Government’s role is to positively influence the four determinants. </a:t>
            </a:r>
            <a:endParaRPr b="0" lang="en-US" sz="2600" spc="-1" strike="noStrike">
              <a:solidFill>
                <a:srgbClr val="595959"/>
              </a:solidFill>
              <a:latin typeface="News Gothic MT"/>
            </a:endParaRPr>
          </a:p>
          <a:p>
            <a:pPr marL="345600" indent="-345600">
              <a:spcBef>
                <a:spcPts val="499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News Gothic MT"/>
              </a:rPr>
              <a:t>Government can influence, and be influenced by, each of the four determinants either positively or negatively.</a:t>
            </a:r>
            <a:endParaRPr b="0" lang="en-US" sz="2600" spc="-1" strike="noStrike">
              <a:solidFill>
                <a:srgbClr val="595959"/>
              </a:solidFill>
              <a:latin typeface="News Gothic MT"/>
            </a:endParaRPr>
          </a:p>
          <a:p>
            <a:pPr marL="345600" indent="-345600">
              <a:spcBef>
                <a:spcPts val="499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News Gothic MT"/>
              </a:rPr>
              <a:t>Examples of governmental policies:</a:t>
            </a:r>
            <a:endParaRPr b="0" lang="en-US" sz="2600" spc="-1" strike="noStrike">
              <a:solidFill>
                <a:srgbClr val="595959"/>
              </a:solidFill>
              <a:latin typeface="News Gothic MT"/>
            </a:endParaRPr>
          </a:p>
          <a:p>
            <a:pPr lvl="1" marL="678600" indent="-333000">
              <a:spcBef>
                <a:spcPts val="499"/>
              </a:spcBef>
              <a:buClr>
                <a:srgbClr val="215d77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News Gothic MT"/>
              </a:rPr>
              <a:t>Subsidies</a:t>
            </a:r>
            <a:endParaRPr b="0" lang="en-US" sz="2600" spc="-1" strike="noStrike">
              <a:solidFill>
                <a:srgbClr val="595959"/>
              </a:solidFill>
              <a:latin typeface="News Gothic MT"/>
            </a:endParaRPr>
          </a:p>
          <a:p>
            <a:pPr lvl="1" marL="678600" indent="-333000">
              <a:spcBef>
                <a:spcPts val="499"/>
              </a:spcBef>
              <a:buClr>
                <a:srgbClr val="215d77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News Gothic MT"/>
              </a:rPr>
              <a:t>Education</a:t>
            </a:r>
            <a:endParaRPr b="0" lang="en-US" sz="2600" spc="-1" strike="noStrike">
              <a:solidFill>
                <a:srgbClr val="595959"/>
              </a:solidFill>
              <a:latin typeface="News Gothic MT"/>
            </a:endParaRPr>
          </a:p>
          <a:p>
            <a:pPr lvl="1" marL="678600" indent="-333000">
              <a:spcBef>
                <a:spcPts val="499"/>
              </a:spcBef>
              <a:buClr>
                <a:srgbClr val="215d77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News Gothic MT"/>
              </a:rPr>
              <a:t>Capital markets</a:t>
            </a:r>
            <a:endParaRPr b="0" lang="en-US" sz="2600" spc="-1" strike="noStrike">
              <a:solidFill>
                <a:srgbClr val="595959"/>
              </a:solidFill>
              <a:latin typeface="News Gothic MT"/>
            </a:endParaRPr>
          </a:p>
          <a:p>
            <a:pPr lvl="1" marL="678600" indent="-333000">
              <a:spcBef>
                <a:spcPts val="499"/>
              </a:spcBef>
              <a:buClr>
                <a:srgbClr val="215d77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News Gothic MT"/>
              </a:rPr>
              <a:t>Consumer protection</a:t>
            </a:r>
            <a:endParaRPr b="0" lang="en-US" sz="2600" spc="-1" strike="noStrike">
              <a:solidFill>
                <a:srgbClr val="595959"/>
              </a:solidFill>
              <a:latin typeface="News Gothic MT"/>
            </a:endParaRPr>
          </a:p>
          <a:p>
            <a:pPr lvl="1" marL="678600" indent="-333000">
              <a:spcBef>
                <a:spcPts val="499"/>
              </a:spcBef>
              <a:buClr>
                <a:srgbClr val="215d77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News Gothic MT"/>
              </a:rPr>
              <a:t>Government as consumer</a:t>
            </a:r>
            <a:endParaRPr b="0" lang="en-US" sz="2600" spc="-1" strike="noStrike">
              <a:solidFill>
                <a:srgbClr val="595959"/>
              </a:solidFill>
              <a:latin typeface="News Gothic MT"/>
            </a:endParaRPr>
          </a:p>
          <a:p>
            <a:pPr lvl="1" marL="678600" indent="-333000">
              <a:spcBef>
                <a:spcPts val="499"/>
              </a:spcBef>
              <a:buClr>
                <a:srgbClr val="215d77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News Gothic MT"/>
            </a:endParaRPr>
          </a:p>
          <a:p>
            <a:pPr lvl="1" marL="678600" indent="-333000"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3" dur="indefinite" restart="never" nodeType="tmRoot">
          <p:childTnLst>
            <p:seq>
              <p:cTn id="744" dur="indefinite" nodeType="mainSeq">
                <p:childTnLst>
                  <p:par>
                    <p:cTn id="745" nodeType="clickEffect" fill="hold">
                      <p:stCondLst>
                        <p:cond delay="indefinite"/>
                      </p:stCondLst>
                      <p:childTnLst>
                        <p:par>
                          <p:cTn id="7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6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6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nodeType="clickEffect" fill="hold">
                      <p:stCondLst>
                        <p:cond delay="indefinite"/>
                      </p:stCondLst>
                      <p:childTnLst>
                        <p:par>
                          <p:cTn id="7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6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6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nodeType="clickEffect" fill="hold">
                      <p:stCondLst>
                        <p:cond delay="indefinite"/>
                      </p:stCondLst>
                      <p:childTnLst>
                        <p:par>
                          <p:cTn id="7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6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6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6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6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9" dur="500" fill="hold"/>
                                        <p:tgtEl>
                                          <p:spTgt spid="6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6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6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6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6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6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6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6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The Top 10 Economies in the World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78" name=""/>
          <p:cNvSpPr txBox="1"/>
          <p:nvPr/>
        </p:nvSpPr>
        <p:spPr>
          <a:xfrm>
            <a:off x="549000" y="1218960"/>
            <a:ext cx="80420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499"/>
              </a:spcBef>
              <a:buClr>
                <a:srgbClr val="6fb7d7"/>
              </a:buClr>
              <a:buSzPct val="110000"/>
              <a:buFont typeface="News Gothic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News Gothic MT"/>
              </a:rPr>
              <a:t> </a:t>
            </a:r>
            <a:r>
              <a:rPr b="0" lang="en-US" sz="2600" spc="-1" strike="noStrike">
                <a:solidFill>
                  <a:srgbClr val="595959"/>
                </a:solidFill>
                <a:latin typeface="News Gothic MT"/>
              </a:rPr>
              <a:t>United States</a:t>
            </a:r>
            <a:endParaRPr b="0" lang="en-US" sz="2600" spc="-1" strike="noStrike">
              <a:solidFill>
                <a:srgbClr val="595959"/>
              </a:solidFill>
              <a:latin typeface="News Gothic MT"/>
            </a:endParaRPr>
          </a:p>
          <a:p>
            <a:pPr marL="514440" indent="-514440">
              <a:spcBef>
                <a:spcPts val="499"/>
              </a:spcBef>
              <a:buClr>
                <a:srgbClr val="6fb7d7"/>
              </a:buClr>
              <a:buSzPct val="110000"/>
              <a:buFont typeface="News Gothic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News Gothic MT"/>
              </a:rPr>
              <a:t> </a:t>
            </a:r>
            <a:r>
              <a:rPr b="0" lang="en-US" sz="2600" spc="-1" strike="noStrike">
                <a:solidFill>
                  <a:srgbClr val="595959"/>
                </a:solidFill>
                <a:latin typeface="News Gothic MT"/>
              </a:rPr>
              <a:t>China</a:t>
            </a:r>
            <a:endParaRPr b="0" lang="en-US" sz="2600" spc="-1" strike="noStrike">
              <a:solidFill>
                <a:srgbClr val="595959"/>
              </a:solidFill>
              <a:latin typeface="News Gothic MT"/>
            </a:endParaRPr>
          </a:p>
          <a:p>
            <a:pPr marL="514440" indent="-514440">
              <a:spcBef>
                <a:spcPts val="499"/>
              </a:spcBef>
              <a:buClr>
                <a:srgbClr val="6fb7d7"/>
              </a:buClr>
              <a:buSzPct val="110000"/>
              <a:buFont typeface="News Gothic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News Gothic MT"/>
              </a:rPr>
              <a:t> </a:t>
            </a:r>
            <a:r>
              <a:rPr b="0" lang="en-US" sz="2600" spc="-1" strike="noStrike">
                <a:solidFill>
                  <a:srgbClr val="595959"/>
                </a:solidFill>
                <a:latin typeface="News Gothic MT"/>
              </a:rPr>
              <a:t>Japan</a:t>
            </a:r>
            <a:endParaRPr b="0" lang="en-US" sz="2600" spc="-1" strike="noStrike">
              <a:solidFill>
                <a:srgbClr val="595959"/>
              </a:solidFill>
              <a:latin typeface="News Gothic MT"/>
            </a:endParaRPr>
          </a:p>
          <a:p>
            <a:pPr marL="514440" indent="-514440">
              <a:spcBef>
                <a:spcPts val="499"/>
              </a:spcBef>
              <a:buClr>
                <a:srgbClr val="6fb7d7"/>
              </a:buClr>
              <a:buSzPct val="110000"/>
              <a:buFont typeface="News Gothic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News Gothic MT"/>
              </a:rPr>
              <a:t> </a:t>
            </a:r>
            <a:r>
              <a:rPr b="0" lang="en-US" sz="2600" spc="-1" strike="noStrike">
                <a:solidFill>
                  <a:srgbClr val="595959"/>
                </a:solidFill>
                <a:latin typeface="News Gothic MT"/>
              </a:rPr>
              <a:t>Germany</a:t>
            </a:r>
            <a:endParaRPr b="0" lang="en-US" sz="2600" spc="-1" strike="noStrike">
              <a:solidFill>
                <a:srgbClr val="595959"/>
              </a:solidFill>
              <a:latin typeface="News Gothic MT"/>
            </a:endParaRPr>
          </a:p>
          <a:p>
            <a:pPr marL="514440" indent="-514440">
              <a:spcBef>
                <a:spcPts val="499"/>
              </a:spcBef>
              <a:buClr>
                <a:srgbClr val="6fb7d7"/>
              </a:buClr>
              <a:buSzPct val="110000"/>
              <a:buFont typeface="News Gothic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News Gothic MT"/>
              </a:rPr>
              <a:t> </a:t>
            </a:r>
            <a:r>
              <a:rPr b="0" lang="en-US" sz="2600" spc="-1" strike="noStrike">
                <a:solidFill>
                  <a:srgbClr val="595959"/>
                </a:solidFill>
                <a:latin typeface="News Gothic MT"/>
              </a:rPr>
              <a:t>India</a:t>
            </a:r>
            <a:endParaRPr b="0" lang="en-US" sz="2600" spc="-1" strike="noStrike">
              <a:solidFill>
                <a:srgbClr val="595959"/>
              </a:solidFill>
              <a:latin typeface="News Gothic MT"/>
            </a:endParaRPr>
          </a:p>
          <a:p>
            <a:pPr marL="514440" indent="-514440">
              <a:spcBef>
                <a:spcPts val="499"/>
              </a:spcBef>
              <a:buClr>
                <a:srgbClr val="6fb7d7"/>
              </a:buClr>
              <a:buSzPct val="110000"/>
              <a:buFont typeface="News Gothic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News Gothic MT"/>
              </a:rPr>
              <a:t> </a:t>
            </a:r>
            <a:r>
              <a:rPr b="0" lang="en-US" sz="2600" spc="-1" strike="noStrike">
                <a:solidFill>
                  <a:srgbClr val="595959"/>
                </a:solidFill>
                <a:latin typeface="News Gothic MT"/>
              </a:rPr>
              <a:t>United Kingdom</a:t>
            </a:r>
            <a:endParaRPr b="0" lang="en-US" sz="2600" spc="-1" strike="noStrike">
              <a:solidFill>
                <a:srgbClr val="595959"/>
              </a:solidFill>
              <a:latin typeface="News Gothic MT"/>
            </a:endParaRPr>
          </a:p>
          <a:p>
            <a:pPr marL="514440" indent="-514440">
              <a:spcBef>
                <a:spcPts val="499"/>
              </a:spcBef>
              <a:buClr>
                <a:srgbClr val="6fb7d7"/>
              </a:buClr>
              <a:buSzPct val="110000"/>
              <a:buFont typeface="News Gothic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News Gothic MT"/>
              </a:rPr>
              <a:t> </a:t>
            </a:r>
            <a:r>
              <a:rPr b="0" lang="en-US" sz="2600" spc="-1" strike="noStrike">
                <a:solidFill>
                  <a:srgbClr val="595959"/>
                </a:solidFill>
                <a:latin typeface="News Gothic MT"/>
              </a:rPr>
              <a:t>France</a:t>
            </a:r>
            <a:endParaRPr b="0" lang="en-US" sz="2600" spc="-1" strike="noStrike">
              <a:solidFill>
                <a:srgbClr val="595959"/>
              </a:solidFill>
              <a:latin typeface="News Gothic MT"/>
            </a:endParaRPr>
          </a:p>
          <a:p>
            <a:pPr marL="514440" indent="-514440">
              <a:spcBef>
                <a:spcPts val="499"/>
              </a:spcBef>
              <a:buClr>
                <a:srgbClr val="6fb7d7"/>
              </a:buClr>
              <a:buSzPct val="110000"/>
              <a:buFont typeface="News Gothic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News Gothic MT"/>
              </a:rPr>
              <a:t> </a:t>
            </a:r>
            <a:r>
              <a:rPr b="0" lang="en-US" sz="2600" spc="-1" strike="noStrike">
                <a:solidFill>
                  <a:srgbClr val="595959"/>
                </a:solidFill>
                <a:latin typeface="News Gothic MT"/>
              </a:rPr>
              <a:t>Italy</a:t>
            </a:r>
            <a:endParaRPr b="0" lang="en-US" sz="2600" spc="-1" strike="noStrike">
              <a:solidFill>
                <a:srgbClr val="595959"/>
              </a:solidFill>
              <a:latin typeface="News Gothic MT"/>
            </a:endParaRPr>
          </a:p>
          <a:p>
            <a:pPr marL="514440" indent="-514440">
              <a:spcBef>
                <a:spcPts val="499"/>
              </a:spcBef>
              <a:buClr>
                <a:srgbClr val="6fb7d7"/>
              </a:buClr>
              <a:buSzPct val="110000"/>
              <a:buFont typeface="News Gothic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News Gothic MT"/>
              </a:rPr>
              <a:t> </a:t>
            </a:r>
            <a:r>
              <a:rPr b="0" lang="en-US" sz="2600" spc="-1" strike="noStrike">
                <a:solidFill>
                  <a:srgbClr val="595959"/>
                </a:solidFill>
                <a:latin typeface="News Gothic MT"/>
              </a:rPr>
              <a:t>Brazil</a:t>
            </a:r>
            <a:endParaRPr b="0" lang="en-US" sz="2600" spc="-1" strike="noStrike">
              <a:solidFill>
                <a:srgbClr val="595959"/>
              </a:solidFill>
              <a:latin typeface="News Gothic MT"/>
            </a:endParaRPr>
          </a:p>
          <a:p>
            <a:pPr marL="514440" indent="-514440">
              <a:spcBef>
                <a:spcPts val="499"/>
              </a:spcBef>
              <a:buClr>
                <a:srgbClr val="6fb7d7"/>
              </a:buClr>
              <a:buSzPct val="110000"/>
              <a:buFont typeface="News Gothic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News Gothic MT"/>
              </a:rPr>
              <a:t> </a:t>
            </a:r>
            <a:r>
              <a:rPr b="0" lang="en-US" sz="2600" spc="-1" strike="noStrike">
                <a:solidFill>
                  <a:srgbClr val="595959"/>
                </a:solidFill>
                <a:latin typeface="News Gothic MT"/>
              </a:rPr>
              <a:t>Canada</a:t>
            </a:r>
            <a:endParaRPr b="0" lang="en-US" sz="2600" spc="-1" strike="noStrike">
              <a:solidFill>
                <a:srgbClr val="595959"/>
              </a:solidFill>
              <a:latin typeface="News Gothic MT"/>
            </a:endParaRPr>
          </a:p>
          <a:p>
            <a:pPr marL="514440" indent="-514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595959"/>
                </a:solidFill>
                <a:latin typeface="News Gothic MT"/>
              </a:rPr>
              <a:t>Source: Investopedia, December 24, 2020</a:t>
            </a:r>
            <a:endParaRPr b="0" lang="en-US" sz="26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111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0000"/>
                </a:solidFill>
                <a:latin typeface="News Gothic MT"/>
              </a:rPr>
              <a:t>Firms are Founded and Develop Competitive Advantages in their Home Country </a:t>
            </a:r>
            <a:endParaRPr b="1" lang="en-US" sz="29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News Gothic MT"/>
              </a:rPr>
              <a:t>This suggests that ultimately, nations succeed in particular industries because they offer an environment that is dynamic and challenging. </a:t>
            </a:r>
            <a:endParaRPr b="0" lang="en-US" sz="26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News Gothic MT"/>
              </a:rPr>
              <a:t>This environment in turn stimulates and pushes firms to upgrade and increase their advantages over time.</a:t>
            </a:r>
            <a:endParaRPr b="0" lang="en-US" sz="26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News Gothic MT"/>
              </a:rPr>
              <a:t>Competition is dynamic, and the home country either fosters or impedes these conditions. </a:t>
            </a:r>
            <a:endParaRPr b="0" lang="en-US" sz="26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6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The National Diamond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pic>
        <p:nvPicPr>
          <p:cNvPr id="611" name="Picture 2" descr="Diamond Model (Michael Porter)"/>
          <p:cNvPicPr/>
          <p:nvPr/>
        </p:nvPicPr>
        <p:blipFill>
          <a:blip r:embed="rId1"/>
          <a:stretch/>
        </p:blipFill>
        <p:spPr>
          <a:xfrm>
            <a:off x="2208240" y="1371600"/>
            <a:ext cx="4724280" cy="3886200"/>
          </a:xfrm>
          <a:prstGeom prst="rect">
            <a:avLst/>
          </a:prstGeom>
          <a:ln w="0">
            <a:noFill/>
          </a:ln>
        </p:spPr>
      </p:pic>
      <p:sp>
        <p:nvSpPr>
          <p:cNvPr id="612" name="TextBox 3"/>
          <p:cNvSpPr/>
          <p:nvPr/>
        </p:nvSpPr>
        <p:spPr>
          <a:xfrm>
            <a:off x="1905120" y="5715000"/>
            <a:ext cx="53337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s is a Mutually Reinforcing System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1187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Two Additional Variables can 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Influence the Diamond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14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Luck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Governmen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68400" indent="-282600">
              <a:spcBef>
                <a:spcPts val="601"/>
              </a:spcBef>
              <a:buClr>
                <a:srgbClr val="6fb7d7"/>
              </a:buClr>
              <a:buSzPct val="11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Antitrust policies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68400" indent="-282600">
              <a:spcBef>
                <a:spcPts val="601"/>
              </a:spcBef>
              <a:buClr>
                <a:srgbClr val="6fb7d7"/>
              </a:buClr>
              <a:buSzPct val="11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Regulations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68400" indent="-282600">
              <a:spcBef>
                <a:spcPts val="601"/>
              </a:spcBef>
              <a:buClr>
                <a:srgbClr val="6fb7d7"/>
              </a:buClr>
              <a:buSzPct val="11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Investments in education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68400" indent="-282600">
              <a:spcBef>
                <a:spcPts val="601"/>
              </a:spcBef>
              <a:buClr>
                <a:srgbClr val="6fb7d7"/>
              </a:buClr>
              <a:buSzPct val="11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Governmental purchases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380880" y="107640"/>
            <a:ext cx="8382240" cy="1035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News Gothic MT"/>
              </a:rPr>
              <a:t>Firms are most Likely to Succeed in Industries where the National Diamond is most Favorable</a:t>
            </a:r>
            <a:endParaRPr b="1" lang="en-US" sz="28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16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Why?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Paradoxically, these nations may also experience the most business failures?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68400" indent="-282600">
              <a:spcBef>
                <a:spcPts val="6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Why?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6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Factors of Production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18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actors of production are the inputs necessary to compete in any industry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68400" indent="-282600">
              <a:spcBef>
                <a:spcPts val="601"/>
              </a:spcBef>
              <a:buClr>
                <a:srgbClr val="6fb7d7"/>
              </a:buClr>
              <a:buSzPct val="11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Land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68400" indent="-282600">
              <a:spcBef>
                <a:spcPts val="601"/>
              </a:spcBef>
              <a:buClr>
                <a:srgbClr val="6fb7d7"/>
              </a:buClr>
              <a:buSzPct val="11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Labor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68400" indent="-282600">
              <a:spcBef>
                <a:spcPts val="601"/>
              </a:spcBef>
              <a:buClr>
                <a:srgbClr val="6fb7d7"/>
              </a:buClr>
              <a:buSzPct val="11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apital 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68400" indent="-282600">
              <a:spcBef>
                <a:spcPts val="601"/>
              </a:spcBef>
              <a:buClr>
                <a:srgbClr val="6fb7d7"/>
              </a:buClr>
              <a:buSzPct val="11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Natural resources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68400" indent="-282600">
              <a:spcBef>
                <a:spcPts val="601"/>
              </a:spcBef>
              <a:buClr>
                <a:srgbClr val="6fb7d7"/>
              </a:buClr>
              <a:buSzPct val="11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Infrastructure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111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Arable Land – Any land that is plowable and used to grow crops.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pic>
        <p:nvPicPr>
          <p:cNvPr id="620" name="Content Placeholder 4" descr="Table&#10;&#10;Description automatically generated"/>
          <p:cNvPicPr/>
          <p:nvPr/>
        </p:nvPicPr>
        <p:blipFill>
          <a:blip r:embed="rId1"/>
          <a:stretch/>
        </p:blipFill>
        <p:spPr>
          <a:xfrm>
            <a:off x="2819520" y="1477800"/>
            <a:ext cx="3276360" cy="4313520"/>
          </a:xfrm>
          <a:prstGeom prst="rect">
            <a:avLst/>
          </a:prstGeom>
          <a:ln w="0">
            <a:noFill/>
          </a:ln>
        </p:spPr>
      </p:pic>
      <p:sp>
        <p:nvSpPr>
          <p:cNvPr id="621" name="TextBox 5"/>
          <p:cNvSpPr/>
          <p:nvPr/>
        </p:nvSpPr>
        <p:spPr>
          <a:xfrm>
            <a:off x="2286000" y="579132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nd is given in square K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centages are worldw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3T19:11:20Z</dcterms:created>
  <dc:creator>sara_hunter</dc:creator>
  <dc:description/>
  <dc:language>en-US</dc:language>
  <cp:lastModifiedBy>Morrow, Bert</cp:lastModifiedBy>
  <dcterms:modified xsi:type="dcterms:W3CDTF">2021-03-02T20:06:11Z</dcterms:modified>
  <cp:revision>402</cp:revision>
  <dc:subject/>
  <dc:title>Slide 1</dc:title>
</cp:coreProperties>
</file>