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  <p:sldId id="274" r:id="rId35"/>
    <p:sldId id="275" r:id="rId36"/>
    <p:sldId id="276" r:id="rId37"/>
    <p:sldId id="277" r:id="rId38"/>
    <p:sldId id="278" r:id="rId39"/>
    <p:sldId id="279" r:id="rId40"/>
    <p:sldId id="280" r:id="rId41"/>
    <p:sldId id="281" r:id="rId42"/>
    <p:sldId id="282" r:id="rId43"/>
    <p:sldId id="283" r:id="rId44"/>
    <p:sldId id="284" r:id="rId45"/>
    <p:sldId id="285" r:id="rId46"/>
    <p:sldId id="286" r:id="rId47"/>
    <p:sldId id="287" r:id="rId48"/>
    <p:sldId id="288" r:id="rId49"/>
    <p:sldId id="289" r:id="rId50"/>
    <p:sldId id="290" r:id="rId51"/>
    <p:sldId id="291" r:id="rId52"/>
    <p:sldId id="292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slide" Target="slides/slide19.xml"/><Relationship Id="rId36" Type="http://schemas.openxmlformats.org/officeDocument/2006/relationships/slide" Target="slides/slide20.xml"/><Relationship Id="rId37" Type="http://schemas.openxmlformats.org/officeDocument/2006/relationships/slide" Target="slides/slide21.xml"/><Relationship Id="rId38" Type="http://schemas.openxmlformats.org/officeDocument/2006/relationships/slide" Target="slides/slide22.xml"/><Relationship Id="rId39" Type="http://schemas.openxmlformats.org/officeDocument/2006/relationships/slide" Target="slides/slide23.xml"/><Relationship Id="rId40" Type="http://schemas.openxmlformats.org/officeDocument/2006/relationships/slide" Target="slides/slide24.xml"/><Relationship Id="rId41" Type="http://schemas.openxmlformats.org/officeDocument/2006/relationships/slide" Target="slides/slide25.xml"/><Relationship Id="rId42" Type="http://schemas.openxmlformats.org/officeDocument/2006/relationships/slide" Target="slides/slide26.xml"/><Relationship Id="rId43" Type="http://schemas.openxmlformats.org/officeDocument/2006/relationships/slide" Target="slides/slide27.xml"/><Relationship Id="rId44" Type="http://schemas.openxmlformats.org/officeDocument/2006/relationships/slide" Target="slides/slide28.xml"/><Relationship Id="rId45" Type="http://schemas.openxmlformats.org/officeDocument/2006/relationships/slide" Target="slides/slide29.xml"/><Relationship Id="rId46" Type="http://schemas.openxmlformats.org/officeDocument/2006/relationships/slide" Target="slides/slide30.xml"/><Relationship Id="rId47" Type="http://schemas.openxmlformats.org/officeDocument/2006/relationships/slide" Target="slides/slide31.xml"/><Relationship Id="rId48" Type="http://schemas.openxmlformats.org/officeDocument/2006/relationships/slide" Target="slides/slide32.xml"/><Relationship Id="rId49" Type="http://schemas.openxmlformats.org/officeDocument/2006/relationships/slide" Target="slides/slide33.xml"/><Relationship Id="rId50" Type="http://schemas.openxmlformats.org/officeDocument/2006/relationships/slide" Target="slides/slide34.xml"/><Relationship Id="rId51" Type="http://schemas.openxmlformats.org/officeDocument/2006/relationships/slide" Target="slides/slide35.xml"/><Relationship Id="rId52" Type="http://schemas.openxmlformats.org/officeDocument/2006/relationships/slide" Target="slides/slide36.xml"/><Relationship Id="rId53" Type="http://schemas.openxmlformats.org/officeDocument/2006/relationships/slide" Target="slides/slide37.xml"/><Relationship Id="rId5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 type="dt" idx="3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Geneva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76DBF-EFC9-412A-845F-0D383757FB3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Genev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move the slide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 type="ftr" idx="3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6"/>
          <p:cNvSpPr>
            <a:spLocks noGrp="1"/>
          </p:cNvSpPr>
          <p:nvPr>
            <p:ph type="sldNum" idx="3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Geneva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1C25F-9F0B-4A9E-934E-0367C86B4D8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Gene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Rectangle 8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apter I discusses the roles, skills and practices of a company’s human resource management (HRM)  function, implications of the economy, the makeup of the labor force, and ethics for company sustainability. It discusses how HRM affects a company’s balanced scorecard, what companies should do to compete in the global marketplace, how technology such as social networking is influencing HRM and what HRM practices support high-performance work system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C619B-FD28-4ECB-8B89-0EF8B89EE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B7B20-969D-497B-9C9E-B5389C470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47F370F-BE1E-464C-A146-A57D9D58E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0306B46-F49B-41AD-842A-6163B69FF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29553D2-1AB2-4995-A657-30AFFC882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286C4D2-1F66-4AA1-948E-60FB8A8A4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E279877-7CF3-46C5-BEC7-7210BBACA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D3396CF-2F78-41A9-BE3D-C2162D3F8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0D2006E-BE58-45F0-8500-50DC0B731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D422B39-9806-4510-9AE2-56ABCD6E1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02A2F6F-CD40-4F6C-A1C0-94BA82C70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ABD4667-8326-4B71-AE37-A991EA7C4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7C9F1-88C8-44A0-97D8-DC143786B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54DD230-9A39-46DF-A431-AE1074B1D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6B7AD39-D903-4549-9EF3-21A9D8D73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7A0B533-C69B-4CF7-A27D-D9514303D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C39E36F-AD91-40F3-9E94-6A99E03FF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750403B-D5DF-4CAA-BEE3-F07CF8F2C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386400A-DACC-423D-BF9F-6B52F5E28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633496D-AE43-4E97-BDA2-9B7308FE9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0E4AC7A-10E2-433A-A674-00E2FC4A8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8BFAA28-7A45-46FD-95D3-2741119C9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D810A0E-EA41-49E5-B9B5-8CF82D8EA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6F8E4-5718-4660-9C30-304D745AE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9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30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AA6F776-9122-4B87-A54A-A909C715C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EEC0BBA-F2A1-4480-8F07-A628DDD10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B1DDD3F-6CA9-462D-9060-F10841018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F451F93-1672-461D-AB06-80369C8C7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107ABC6-9C84-4118-8345-0F61BEF0A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A0DB922-F14C-495C-A38E-649F0122B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B925B50-DC47-4E2D-B45B-E4E71DECD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A538C07-FCE0-48F1-8E87-A051EA3EE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D2F3D6B-4034-4FA2-8556-C289C7681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BDD76B2-2AC8-4D5C-86FA-576F17AA5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5EEF13-F8BC-4124-BAC1-9F9B1EC11BD9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91F4CEF-3BD3-4A40-955F-8DD905CD5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3B82A9F-BD24-4A94-9CD0-5CF85B1CD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70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71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B14A485-327C-4BBB-8303-C0BE3CD01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DD5E882-4A95-42DD-92C8-5BFEC44B6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40552C9-AEF8-4556-88A4-3FFB8D31E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FD358C1-81F7-4897-AEEA-159531336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0022407-56FD-4086-B935-8C0F54DCA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CDF3104-64C9-4CAA-B198-F152EA49F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AD1BCC5-C53E-4C7D-B9FC-C0FFD778E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709BE8E-FF3C-445D-9A38-0711CA8F2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6C6B46-E9AB-4383-9848-71FE909A9089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DFA4451-2C29-4922-B69C-C68D5266E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22FB941-5F5F-4191-9878-FE16823D7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8FC3118-F23C-4B22-9600-EF0E8F28B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2F366BF-4896-4311-ACF1-293324EEE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D3A05D6-0031-4162-88C8-92BE1C486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39792D5-AD45-4F37-B94D-36B95F311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F80F7F4-3AB6-4E44-8430-960AFC39C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CA0549E-B175-467B-9B91-B01CB6092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B25FAAB-3A42-4874-B12C-C13FA57EA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9036FB2-189C-428B-9179-C58E4588E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232E90-347A-4623-B53B-B8A2C7FA751A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19D9EBA-7654-4450-BF1E-9E6B8460B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05EFC95-44A3-4C22-AB94-D02E36BBA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5A61691-1C75-47E3-BC06-1701DDA66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DEB6F91-1444-4777-9B66-BA6A25BAA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E070AB1-2C5D-42B7-807F-E42A08DFE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2E14F1F-C2EB-49A9-8F18-FFFA579A7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2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3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A17A5B4-7284-4C16-A01E-4302FDB66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5254374-9F8D-429A-9D17-A33C2C361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14019C1-806E-4F47-BE2F-4DA7F53B4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6EAA033-C1C6-49EA-B68A-1EA99BD29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BA1855-671F-4B12-80FC-F32761C34CC9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216B953-EB65-415F-A838-902DF6CE8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572EAF9-6044-4014-A3C4-12EAB73B9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81378C5-F96A-4EBC-BA06-8A07F291B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97DAAF4-C027-4466-B3D7-328D1FDEF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4F7BCCA-AD9D-490A-8B83-0CD8F9EE4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2BD8658-1468-4B71-9451-08A7BC1EE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6020BBA-A353-49AF-B479-DAE6D5809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4D9E50D-A8F3-4704-B9EA-228B1D602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07ACEFB-550A-4B5E-9CE2-34E9315F4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7DE372-0EC5-4A33-93DD-E61F411E67B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ADF948-07E8-4B32-967B-1F6EC8DD0C2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032776-7160-4A2C-82F2-4CA1DEFBDA7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C3BD3-AEDE-4B5D-8A48-29EFDADE2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C91814-E784-4165-AD4C-D51156115B0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C8BDFC-6BBD-49CE-94A4-54E06C12646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1B1334-9B0A-476F-9C6F-691B5FEDF69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75E42B-1584-4869-B009-85D5FE37375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B71F1A-9891-410F-AD6D-795A78551435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0CFC8-5B74-4198-A0FA-3A724DBA9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28D9A-DA49-47A1-B7A1-ED8B04302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3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4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631F4E-B05D-4DF7-A1F5-9B43971BE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6D762-458C-481B-AAEC-B523C6B89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64B7023-C267-4072-99F8-D26FA5E7B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9B4728B-4E80-4796-9E5C-597888FED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EC5BB01-24F3-4703-B4CB-3614F0DDA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9A4D0FD-61DD-4467-9119-D087DF095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CBA6E14-CBE9-4C88-BA4D-F091D7708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473E50C-0747-470C-9117-325A375BA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E72E17C-CEA7-4B1A-9F6D-56D1694D5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C1DA5F2-DEE0-4DBF-867B-EC3F4F8BB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E07B36D-2A99-488B-A8C3-B831243C5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B0C5366-8FDA-484D-9043-8AFF97D25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CF4F7-E637-433F-AA54-246DE8066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74CA222-D04A-4721-A152-B4F07E215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562EC6C-BE16-4E76-AADE-421657BF1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B7E0356-09CA-476B-94D1-3297B34D8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1BF2C3F-1F0A-4BA0-AE82-96BDE52FB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621659A-6F81-439A-BBD1-A2C996CCD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28A7D4E-5774-46DA-9BAA-8A41839C0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D58F472-5687-4735-86C6-9E59E234F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DF22880-43AB-4D4F-B0AA-92FC6EA48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FC59220-481F-4FD8-AD72-6234BEC0B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E71169A-235C-444D-BEE1-DBB679CD1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5D617-DEDD-4682-8C3D-92E137C22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02E3A97-8E14-4904-BA8B-0C198C363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A086E9D-F02B-4FE5-8474-4BED9CCFD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5EE0740-A1D4-44D7-BB42-2161C8240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976A9A3-FB6E-40C3-AEC5-5343AF9AC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E1C9BCD-538E-4DC5-9F2E-FA4EB10C2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423ABDB-2D38-4134-B818-560178C3A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6C66788-F462-497C-9B22-044D84105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8364A18-F9EB-4832-BD39-C97B9CC38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AFF0312-E51F-481D-A5AA-492E9D726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84034EC-45C0-4026-A716-E0B160346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DE5FF-FC82-4160-8D9C-82B140665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BEA4C83-9621-4CEE-95B3-1DE826D71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1D9478B-1D1C-4C77-BF07-E012B6012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988067B-28FA-4815-A0C2-5E0026469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990CD0D-4D6B-468A-B54F-41EA0BC92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D32A11A-D51B-4BC5-AFDE-C1C173CB2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A5D70CF-51CF-492A-B809-4F519EF55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63CEF14-5575-4059-8A08-D56FAAA52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74063E8-C942-44B0-A930-F9266D2E1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D145854-0764-4FC8-BF57-26C5BFA4C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FBE78C5-83B1-4680-A2B0-06A92250A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3A1E2-6C50-4139-9812-9778CDF1A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8B0D80A-B484-4C67-9F3C-790E3F6E9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82E070D-D8A4-4B96-9053-3FDACE44D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A97DE68-E408-4367-8C42-95A5866C4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63F340E-030C-4513-BE6A-AD2E9E1BB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7F001D9-5510-4F91-A8CF-B7EA2941A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C07A970-9B67-441E-8913-D9AEF33A4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59AECE4-4538-4ECC-91A6-B5B11CB60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CE0C453-1F22-412B-804D-ECDD14DB1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E644882-7988-45CB-8D99-A3C5627F5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21B908F-AEB8-4EF8-ABB1-990E2D1FB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ＭＳ Ｐ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032B2-5F74-48EE-A193-B6EF8A6717E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dt" idx="21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 type="ftr" idx="22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 type="sldNum" idx="23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9479B-2829-4ED3-B132-7FB462A639C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 type="dt" idx="24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 type="ftr" idx="25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 type="sldNum" idx="26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EEFBF-D238-4EFA-A1D9-502E6F22CA7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 type="dt" idx="27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 type="ftr" idx="28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 type="sldNum" idx="29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25F6F-8D36-4747-91E7-91493A5967A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 type="dt" idx="30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 type="ftr" idx="31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 type="sldNum" idx="32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91F53-3455-4239-9B26-E0F3A5ABAFD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 type="dt" idx="33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 type="ftr" idx="34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 type="sldNum" idx="35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EACF6-33C9-4664-BB49-08D40E74C14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4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5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D0F24-A9B1-4994-AF90-037496D39CD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8"/>
          <p:cNvSpPr/>
          <p:nvPr/>
        </p:nvSpPr>
        <p:spPr>
          <a:xfrm>
            <a:off x="0" y="0"/>
            <a:ext cx="685800" cy="6858000"/>
          </a:xfrm>
          <a:prstGeom prst="rect">
            <a:avLst/>
          </a:prstGeom>
          <a:solidFill>
            <a:srgbClr val="b5d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Group 14"/>
          <p:cNvGrpSpPr/>
          <p:nvPr/>
        </p:nvGrpSpPr>
        <p:grpSpPr>
          <a:xfrm>
            <a:off x="152280" y="914400"/>
            <a:ext cx="990720" cy="990360"/>
            <a:chOff x="152280" y="914400"/>
            <a:chExt cx="990720" cy="990360"/>
          </a:xfrm>
        </p:grpSpPr>
        <p:sp>
          <p:nvSpPr>
            <p:cNvPr id="47" name="Oval 12"/>
            <p:cNvSpPr/>
            <p:nvPr/>
          </p:nvSpPr>
          <p:spPr>
            <a:xfrm>
              <a:off x="152280" y="914400"/>
              <a:ext cx="990720" cy="990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Oval 13"/>
            <p:cNvSpPr/>
            <p:nvPr/>
          </p:nvSpPr>
          <p:spPr>
            <a:xfrm>
              <a:off x="293760" y="1055520"/>
              <a:ext cx="708120" cy="7081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" name="Group 15"/>
          <p:cNvGrpSpPr/>
          <p:nvPr/>
        </p:nvGrpSpPr>
        <p:grpSpPr>
          <a:xfrm>
            <a:off x="152280" y="2209680"/>
            <a:ext cx="838440" cy="838440"/>
            <a:chOff x="152280" y="2209680"/>
            <a:chExt cx="838440" cy="838440"/>
          </a:xfrm>
        </p:grpSpPr>
        <p:sp>
          <p:nvSpPr>
            <p:cNvPr id="50" name="Oval 16"/>
            <p:cNvSpPr/>
            <p:nvPr/>
          </p:nvSpPr>
          <p:spPr>
            <a:xfrm>
              <a:off x="152280" y="2209680"/>
              <a:ext cx="838440" cy="838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17"/>
            <p:cNvSpPr/>
            <p:nvPr/>
          </p:nvSpPr>
          <p:spPr>
            <a:xfrm>
              <a:off x="271800" y="2328840"/>
              <a:ext cx="601560" cy="6019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Group 18"/>
          <p:cNvGrpSpPr/>
          <p:nvPr/>
        </p:nvGrpSpPr>
        <p:grpSpPr>
          <a:xfrm>
            <a:off x="533520" y="3048120"/>
            <a:ext cx="457200" cy="457200"/>
            <a:chOff x="533520" y="3048120"/>
            <a:chExt cx="457200" cy="457200"/>
          </a:xfrm>
        </p:grpSpPr>
        <p:sp>
          <p:nvSpPr>
            <p:cNvPr id="53" name="Oval 19"/>
            <p:cNvSpPr/>
            <p:nvPr/>
          </p:nvSpPr>
          <p:spPr>
            <a:xfrm>
              <a:off x="533520" y="30481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Oval 20"/>
            <p:cNvSpPr/>
            <p:nvPr/>
          </p:nvSpPr>
          <p:spPr>
            <a:xfrm>
              <a:off x="598680" y="3113280"/>
              <a:ext cx="326880" cy="32688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5"/>
          <p:cNvSpPr/>
          <p:nvPr/>
        </p:nvSpPr>
        <p:spPr>
          <a:xfrm>
            <a:off x="1328760" y="1295280"/>
            <a:ext cx="6486480" cy="31528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8"/>
          <p:cNvSpPr/>
          <p:nvPr/>
        </p:nvSpPr>
        <p:spPr>
          <a:xfrm>
            <a:off x="0" y="0"/>
            <a:ext cx="685800" cy="6858000"/>
          </a:xfrm>
          <a:prstGeom prst="rect">
            <a:avLst/>
          </a:prstGeom>
          <a:solidFill>
            <a:srgbClr val="b5d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0"/>
          <p:cNvSpPr/>
          <p:nvPr/>
        </p:nvSpPr>
        <p:spPr>
          <a:xfrm>
            <a:off x="8534520" y="0"/>
            <a:ext cx="609480" cy="6858000"/>
          </a:xfrm>
          <a:prstGeom prst="rect">
            <a:avLst/>
          </a:prstGeom>
          <a:solidFill>
            <a:srgbClr val="b5d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Group 15"/>
          <p:cNvGrpSpPr/>
          <p:nvPr/>
        </p:nvGrpSpPr>
        <p:grpSpPr>
          <a:xfrm>
            <a:off x="152280" y="914400"/>
            <a:ext cx="990720" cy="990360"/>
            <a:chOff x="152280" y="914400"/>
            <a:chExt cx="990720" cy="990360"/>
          </a:xfrm>
        </p:grpSpPr>
        <p:sp>
          <p:nvSpPr>
            <p:cNvPr id="95" name="Oval 16"/>
            <p:cNvSpPr/>
            <p:nvPr/>
          </p:nvSpPr>
          <p:spPr>
            <a:xfrm>
              <a:off x="152280" y="914400"/>
              <a:ext cx="990720" cy="990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17"/>
            <p:cNvSpPr/>
            <p:nvPr/>
          </p:nvSpPr>
          <p:spPr>
            <a:xfrm>
              <a:off x="293760" y="1055520"/>
              <a:ext cx="708120" cy="7081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Group 18"/>
          <p:cNvGrpSpPr/>
          <p:nvPr/>
        </p:nvGrpSpPr>
        <p:grpSpPr>
          <a:xfrm>
            <a:off x="152280" y="2209680"/>
            <a:ext cx="838440" cy="838440"/>
            <a:chOff x="152280" y="2209680"/>
            <a:chExt cx="838440" cy="838440"/>
          </a:xfrm>
        </p:grpSpPr>
        <p:sp>
          <p:nvSpPr>
            <p:cNvPr id="98" name="Oval 19"/>
            <p:cNvSpPr/>
            <p:nvPr/>
          </p:nvSpPr>
          <p:spPr>
            <a:xfrm>
              <a:off x="152280" y="2209680"/>
              <a:ext cx="838440" cy="838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20"/>
            <p:cNvSpPr/>
            <p:nvPr/>
          </p:nvSpPr>
          <p:spPr>
            <a:xfrm>
              <a:off x="271800" y="2328840"/>
              <a:ext cx="601560" cy="6019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Group 21"/>
          <p:cNvGrpSpPr/>
          <p:nvPr/>
        </p:nvGrpSpPr>
        <p:grpSpPr>
          <a:xfrm>
            <a:off x="533520" y="3048120"/>
            <a:ext cx="457200" cy="457200"/>
            <a:chOff x="533520" y="3048120"/>
            <a:chExt cx="457200" cy="457200"/>
          </a:xfrm>
        </p:grpSpPr>
        <p:sp>
          <p:nvSpPr>
            <p:cNvPr id="101" name="Oval 22"/>
            <p:cNvSpPr/>
            <p:nvPr/>
          </p:nvSpPr>
          <p:spPr>
            <a:xfrm>
              <a:off x="533520" y="30481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23"/>
            <p:cNvSpPr/>
            <p:nvPr/>
          </p:nvSpPr>
          <p:spPr>
            <a:xfrm>
              <a:off x="598680" y="3113280"/>
              <a:ext cx="326880" cy="32688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Group 24"/>
          <p:cNvGrpSpPr/>
          <p:nvPr/>
        </p:nvGrpSpPr>
        <p:grpSpPr>
          <a:xfrm>
            <a:off x="7772400" y="6248520"/>
            <a:ext cx="457200" cy="457200"/>
            <a:chOff x="7772400" y="6248520"/>
            <a:chExt cx="457200" cy="457200"/>
          </a:xfrm>
        </p:grpSpPr>
        <p:sp>
          <p:nvSpPr>
            <p:cNvPr id="104" name="Oval 25"/>
            <p:cNvSpPr/>
            <p:nvPr/>
          </p:nvSpPr>
          <p:spPr>
            <a:xfrm>
              <a:off x="7772400" y="6248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26"/>
            <p:cNvSpPr/>
            <p:nvPr/>
          </p:nvSpPr>
          <p:spPr>
            <a:xfrm>
              <a:off x="7837560" y="6313680"/>
              <a:ext cx="326880" cy="32688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Group 27"/>
          <p:cNvGrpSpPr/>
          <p:nvPr/>
        </p:nvGrpSpPr>
        <p:grpSpPr>
          <a:xfrm>
            <a:off x="8305920" y="5638680"/>
            <a:ext cx="838080" cy="838440"/>
            <a:chOff x="8305920" y="5638680"/>
            <a:chExt cx="838080" cy="838440"/>
          </a:xfrm>
        </p:grpSpPr>
        <p:sp>
          <p:nvSpPr>
            <p:cNvPr id="107" name="Oval 28"/>
            <p:cNvSpPr/>
            <p:nvPr/>
          </p:nvSpPr>
          <p:spPr>
            <a:xfrm>
              <a:off x="8305920" y="5638680"/>
              <a:ext cx="838080" cy="838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Oval 29"/>
            <p:cNvSpPr/>
            <p:nvPr/>
          </p:nvSpPr>
          <p:spPr>
            <a:xfrm>
              <a:off x="8425440" y="5757840"/>
              <a:ext cx="601200" cy="6019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6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ftr" idx="7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sldNum" idx="8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45E4C-AE57-44A3-A8C8-6C46256966D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dt" idx="9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 type="ftr" idx="10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 type="sldNum" idx="11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C2AC5-30B7-494C-B21C-CC83CFFE353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2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13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14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D5D8F-B6C3-4FFF-AE40-5A525C85809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15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ftr" idx="16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 type="sldNum" idx="17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63E10-1B03-4E6F-9715-1B95D087598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18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19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0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5DE25-8DAC-4930-B96E-F70D4191C22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49000" y="762120"/>
            <a:ext cx="804204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  <a:ea typeface="Geneva"/>
              </a:rPr>
              <a:t>Porter Chapter  3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3" name=""/>
          <p:cNvSpPr txBox="1"/>
          <p:nvPr/>
        </p:nvSpPr>
        <p:spPr>
          <a:xfrm>
            <a:off x="555480" y="1731600"/>
            <a:ext cx="804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News Gothic MT"/>
              </a:rPr>
              <a:t>The Determinants of 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News Gothic MT"/>
              </a:rPr>
              <a:t>National Competitive Advantage 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The Standard Theory of Trade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23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Nations are endowed with differing stocks of factors of production. 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A nation will export those goods which make extensive use of the factors with which it is well endowed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6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6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The Factors most Important for Competitive Advantage are Created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25" name=""/>
          <p:cNvSpPr txBox="1"/>
          <p:nvPr/>
        </p:nvSpPr>
        <p:spPr>
          <a:xfrm>
            <a:off x="549000" y="1294920"/>
            <a:ext cx="804204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Human resources – education and training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Knowledge resources – scientific, technical and market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apital resources – access to debt and equity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Infrastructure – transportation and communication systems; health care; housing stock and cultural institutions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595959"/>
                </a:solidFill>
                <a:latin typeface="News Gothic MT"/>
              </a:rPr>
              <a:t>Many of these factors are mobile. 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6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6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6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6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6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6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6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ompetitive Advantage from Factors . . .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27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depends on how </a:t>
            </a:r>
            <a:r>
              <a:rPr b="1" i="1" lang="en-US" sz="2800" spc="-1" strike="noStrike">
                <a:solidFill>
                  <a:srgbClr val="595959"/>
                </a:solidFill>
                <a:latin typeface="News Gothic MT"/>
              </a:rPr>
              <a:t>efficiently</a:t>
            </a: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 and </a:t>
            </a:r>
            <a:r>
              <a:rPr b="1" i="1" lang="en-US" sz="2800" spc="-1" strike="noStrike">
                <a:solidFill>
                  <a:srgbClr val="595959"/>
                </a:solidFill>
                <a:latin typeface="News Gothic MT"/>
              </a:rPr>
              <a:t>effectively</a:t>
            </a: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 they are deployed. 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s reflects the choices made by a nation’s firms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e mere availability of suitable factors is not sufficient. 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6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6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6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6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Factors may be Basic or Advanced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29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595959"/>
                </a:solidFill>
                <a:latin typeface="News Gothic MT"/>
              </a:rPr>
              <a:t>Basic factors </a:t>
            </a: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include: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	</a:t>
            </a: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Natural resources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	</a:t>
            </a: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mate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	</a:t>
            </a: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Location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	</a:t>
            </a: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Unskilled and semi-skilled labor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	</a:t>
            </a: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Debt capita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6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6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6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6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6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6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6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6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6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6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Advanced factors</a:t>
            </a:r>
            <a:r>
              <a:rPr b="1" i="1" lang="en-US" sz="3200" spc="-1" strike="noStrike">
                <a:solidFill>
                  <a:srgbClr val="ff0000"/>
                </a:solidFill>
                <a:latin typeface="News Gothic MT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include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31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Modern communication infrastructure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Highly educated personn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University research institutions in sophisticated disciplines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595959"/>
                </a:solidFill>
                <a:latin typeface="News Gothic MT"/>
              </a:rPr>
              <a:t>Advanced factors are the most important for competitive advantage!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6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6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6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6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6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6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Are Factors Inherited or Developed?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33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ew factors of production are inherited, and most of these are basic factors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Advanced factors on the other hand are developed over time through investments by either the public or the private sector. 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595959"/>
                </a:solidFill>
                <a:latin typeface="News Gothic MT"/>
              </a:rPr>
              <a:t>Think about the implications of this! 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595959"/>
                </a:solidFill>
                <a:latin typeface="News Gothic MT"/>
              </a:rPr>
              <a:t>If a country has mostly basic factors, what types of industry does that suggest?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6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6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6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6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6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6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6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6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228240" y="108000"/>
            <a:ext cx="845820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Factors may be Generalized or Specialized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35" name=""/>
          <p:cNvSpPr txBox="1"/>
          <p:nvPr/>
        </p:nvSpPr>
        <p:spPr>
          <a:xfrm>
            <a:off x="550800" y="1371240"/>
            <a:ext cx="804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Generalized factors are those that are valuable to all industries. Examples include: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Roads and bridges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Communication infrastructure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A pool of well motivated employees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pecialized factors have value in limited industries. Examples include: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Narrowly skilled personn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pecialized ports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pecialized knowledge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6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6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6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6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6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6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6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6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6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6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6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6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6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6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6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6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228600" y="108000"/>
            <a:ext cx="8610480" cy="1263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News Gothic MT"/>
              </a:rPr>
              <a:t>The Development of Advanced Factors through Innovation can Increase the Value of Basic Factors</a:t>
            </a:r>
            <a:endParaRPr b="1" lang="en-US" sz="27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37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Air conditioning was invented in 1902 but did not become widely available in homes until the 1950s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In 1900, the population of Florida was 530,000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In 1950, it was 2,810,000 an increase of 530%. 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In 2020, it was 21,733,000 an increase of 773%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595959"/>
                </a:solidFill>
                <a:latin typeface="News Gothic MT"/>
              </a:rPr>
              <a:t>Arguably, the invention of air conditioning neutralized the negative effect of a hot climate!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6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6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6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6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6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6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6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6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6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6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Home Demand Composition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39" name=""/>
          <p:cNvSpPr txBox="1"/>
          <p:nvPr/>
        </p:nvSpPr>
        <p:spPr>
          <a:xfrm>
            <a:off x="549000" y="1142640"/>
            <a:ext cx="80420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A robust home demand from consumers sharpens a firm’s ability to meet their customer’s needs. 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Nations gain an advantage if home buyers pressure local firms to innovate faster. 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s allows local firms to achieve more sophisticated competitive advantages compared to foreign rivals. 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6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6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6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6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228600" y="107640"/>
            <a:ext cx="8686800" cy="654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News Gothic MT"/>
              </a:rPr>
              <a:t>Three Important Characteristics of Home Demand</a:t>
            </a:r>
            <a:endParaRPr b="1" lang="en-US" sz="28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41" name=""/>
          <p:cNvSpPr txBox="1"/>
          <p:nvPr/>
        </p:nvSpPr>
        <p:spPr>
          <a:xfrm>
            <a:off x="549000" y="1066320"/>
            <a:ext cx="80420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News Gothic MT"/>
              </a:rPr>
              <a:t>Segment Structure of Demand: </a:t>
            </a:r>
            <a:r>
              <a:rPr b="0" lang="en-US" sz="2600" spc="-1" strike="noStrike">
                <a:solidFill>
                  <a:srgbClr val="595959"/>
                </a:solidFill>
                <a:latin typeface="News Gothic MT"/>
              </a:rPr>
              <a:t>In most industries, demand is segmented (e.g. different customers desire different product attributes). </a:t>
            </a:r>
            <a:endParaRPr b="0" lang="en-US" sz="26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News Gothic MT"/>
              </a:rPr>
              <a:t>A nation’s firms are likely to gain a competitive advantage in global segments that represent a large share of a firm’s home demand. </a:t>
            </a:r>
            <a:endParaRPr b="0" lang="en-US" sz="26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News Gothic MT"/>
              </a:rPr>
              <a:t>Boeing specializes in long haul commercial aircraft which provided Airbus with an opening in the short haul segment. </a:t>
            </a:r>
            <a:endParaRPr b="0" lang="en-US" sz="26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6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6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6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6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49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News Gothic MT"/>
              </a:rPr>
              <a:t>In the last chapter, we discussed how firms choose to compete. In this chapter, we focus on how nations impact that competition. </a:t>
            </a:r>
            <a:endParaRPr b="1" lang="en-US" sz="28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5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Why are firms in some nations better able to compete than firms from the same industries in other nations? What is the “country effect?”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It’s not enough to recognize that some countries have better businesses than others. The question for us is to understand </a:t>
            </a:r>
            <a:r>
              <a:rPr b="1" i="1" lang="en-US" sz="2800" spc="-1" strike="noStrike">
                <a:solidFill>
                  <a:srgbClr val="595959"/>
                </a:solidFill>
                <a:latin typeface="News Gothic MT"/>
              </a:rPr>
              <a:t>why</a:t>
            </a: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?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380520" y="108000"/>
            <a:ext cx="821052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News Gothic MT"/>
              </a:rPr>
              <a:t>Sophisticated and Demanding Buyers </a:t>
            </a: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. . .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43" name=""/>
          <p:cNvSpPr txBox="1"/>
          <p:nvPr/>
        </p:nvSpPr>
        <p:spPr>
          <a:xfrm>
            <a:off x="549000" y="1295280"/>
            <a:ext cx="80420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an lead to local firm’s gaining a competitive advantage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ese buyers pressure firms to meet high standards in terms of product quality, features and service. 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6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6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6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6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News Gothic MT"/>
              </a:rPr>
              <a:t>Anticipatory Buyer Needs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45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A nation’s firms gain advantages if the needs of home buyers anticipate those of other nations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s means that home demand provides an early indicator of buyer needs that are likely to become widespread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6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6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Demand Size and Pattern of Growth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47" name=""/>
          <p:cNvSpPr txBox="1"/>
          <p:nvPr/>
        </p:nvSpPr>
        <p:spPr>
          <a:xfrm>
            <a:off x="549000" y="1066320"/>
            <a:ext cx="80420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5959"/>
                </a:solidFill>
                <a:latin typeface="News Gothic MT"/>
              </a:rPr>
              <a:t>Size of Home Demand</a:t>
            </a: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. This can be most important in industries: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68400" indent="-282600">
              <a:spcBef>
                <a:spcPts val="601"/>
              </a:spcBef>
              <a:buClr>
                <a:srgbClr val="6fb7d7"/>
              </a:buClr>
              <a:buSzPct val="11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With economies of scale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68400" indent="-282600">
              <a:spcBef>
                <a:spcPts val="601"/>
              </a:spcBef>
              <a:buClr>
                <a:srgbClr val="6fb7d7"/>
              </a:buClr>
              <a:buSzPct val="11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Heavy R&amp;D requirements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68400" indent="-282600">
              <a:spcBef>
                <a:spcPts val="601"/>
              </a:spcBef>
              <a:buClr>
                <a:srgbClr val="6fb7d7"/>
              </a:buClr>
              <a:buSzPct val="11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Large leaps in technology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5959"/>
                </a:solidFill>
                <a:latin typeface="News Gothic MT"/>
              </a:rPr>
              <a:t>Number of Independent Buyers. </a:t>
            </a: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rving a large number of buyers motivates firms to respond to various needs (as opposed to serving one or two large customers). 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68400" indent="-282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6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6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6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6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6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6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6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6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6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6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304920" y="107640"/>
            <a:ext cx="8286480" cy="577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News Gothic MT"/>
              </a:rPr>
              <a:t>Demand Size and Pattern of Growth Continued</a:t>
            </a:r>
            <a:endParaRPr b="1" lang="en-US" sz="28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49" name=""/>
          <p:cNvSpPr txBox="1"/>
          <p:nvPr/>
        </p:nvSpPr>
        <p:spPr>
          <a:xfrm>
            <a:off x="456840" y="837720"/>
            <a:ext cx="81342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45600" indent="-345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Home Demand Growth Rate. 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78600" indent="-333000">
              <a:buClr>
                <a:srgbClr val="215d77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Rapid growth leads firms to adopt new technologies faster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78600" indent="-333000">
              <a:spcBef>
                <a:spcPts val="601"/>
              </a:spcBef>
              <a:buClr>
                <a:srgbClr val="215d77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Rapid growth encourages firms to build new facilities with confidence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5600" indent="-345600"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Early Home Demand. 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78600" indent="-333000">
              <a:spcBef>
                <a:spcPts val="601"/>
              </a:spcBef>
              <a:buClr>
                <a:srgbClr val="215d77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Leads to first-mover advantages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78600" indent="-333000">
              <a:spcBef>
                <a:spcPts val="601"/>
              </a:spcBef>
              <a:buClr>
                <a:srgbClr val="215d77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Especially important if home demand leads to foreign demand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5600" indent="-345600"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Early Saturation. 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78600" indent="-333000">
              <a:spcBef>
                <a:spcPts val="601"/>
              </a:spcBef>
              <a:buClr>
                <a:srgbClr val="215d77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orces firms to continue innovating and upgrading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78600" indent="-333000">
              <a:spcBef>
                <a:spcPts val="601"/>
              </a:spcBef>
              <a:buClr>
                <a:srgbClr val="215d77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Encourages a focus on efficiency. 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78600" indent="-333000">
              <a:spcBef>
                <a:spcPts val="601"/>
              </a:spcBef>
              <a:buClr>
                <a:srgbClr val="215d77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Causes firms to look toward foreign markets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6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6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6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6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6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6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6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6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6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6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6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6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6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6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6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6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6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6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6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6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304920" y="108000"/>
            <a:ext cx="828648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Internationalization of Domestic Demand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51" name=""/>
          <p:cNvSpPr txBox="1"/>
          <p:nvPr/>
        </p:nvSpPr>
        <p:spPr>
          <a:xfrm>
            <a:off x="304560" y="1218960"/>
            <a:ext cx="80420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Mobile or Multinational Local Buyers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Domestic buyers become foreign buyers. 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Provides an opportunity for establishing an overseas presence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U.S. hotel, rent-a-car and fast-food industries have benefited. 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	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6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6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6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6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6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6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6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6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6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6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730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Related and Supporting Industries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53" name=""/>
          <p:cNvSpPr txBox="1"/>
          <p:nvPr/>
        </p:nvSpPr>
        <p:spPr>
          <a:xfrm>
            <a:off x="549000" y="1066320"/>
            <a:ext cx="804204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News Gothic MT"/>
              </a:rPr>
              <a:t>Industries that supply inputs (e.g. suppliers) or support services to other industries, are considered “related and supporting industries.” </a:t>
            </a:r>
            <a:endParaRPr b="0" lang="en-US" sz="26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News Gothic MT"/>
              </a:rPr>
              <a:t>The presence of internationally competitive </a:t>
            </a:r>
            <a:r>
              <a:rPr b="1" i="1" lang="en-US" sz="2600" spc="-1" strike="noStrike">
                <a:solidFill>
                  <a:srgbClr val="595959"/>
                </a:solidFill>
                <a:latin typeface="News Gothic MT"/>
              </a:rPr>
              <a:t>supplier</a:t>
            </a:r>
            <a:r>
              <a:rPr b="0" lang="en-US" sz="2600" spc="-1" strike="noStrike">
                <a:solidFill>
                  <a:srgbClr val="595959"/>
                </a:solidFill>
                <a:latin typeface="News Gothic MT"/>
              </a:rPr>
              <a:t> industries may create advantages by providing:</a:t>
            </a:r>
            <a:endParaRPr b="0" lang="en-US" sz="26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News Gothic MT"/>
              </a:rPr>
              <a:t>Rapid access to low-cost inputs</a:t>
            </a:r>
            <a:endParaRPr b="0" lang="en-US" sz="26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News Gothic MT"/>
              </a:rPr>
              <a:t>Potential innovations in various inputs</a:t>
            </a:r>
            <a:endParaRPr b="0" lang="en-US" sz="26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595959"/>
                </a:solidFill>
                <a:latin typeface="News Gothic MT"/>
              </a:rPr>
              <a:t>Note: A nation need not possess national advantage in all supplier industries. Inputs that don’t benefit from innovation or influence a product’s performance may be sourced from other countries. </a:t>
            </a:r>
            <a:endParaRPr b="0" lang="en-US" sz="23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6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6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6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6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6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6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6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6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Related (Support) Industries 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55" name=""/>
          <p:cNvSpPr txBox="1"/>
          <p:nvPr/>
        </p:nvSpPr>
        <p:spPr>
          <a:xfrm>
            <a:off x="549000" y="1371600"/>
            <a:ext cx="80420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Related industries are those in which firms can share activities in the value chain when competing, or those that involve products that are complementary. Examples include: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349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349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graphicFrame>
        <p:nvGraphicFramePr>
          <p:cNvPr id="656" name=""/>
          <p:cNvGraphicFramePr/>
          <p:nvPr/>
        </p:nvGraphicFramePr>
        <p:xfrm>
          <a:off x="1486080" y="3581280"/>
          <a:ext cx="6172200" cy="1828800"/>
        </p:xfrm>
        <a:graphic>
          <a:graphicData uri="http://schemas.openxmlformats.org/drawingml/2006/table">
            <a:tbl>
              <a:tblPr/>
              <a:tblGrid>
                <a:gridCol w="2476440"/>
                <a:gridCol w="36957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News Gothic MT"/>
                        </a:rPr>
                        <a:t>Indust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News Gothic MT"/>
                        </a:rPr>
                        <a:t>Related/Support Indust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News Gothic MT"/>
                        </a:rPr>
                        <a:t>Camer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News Gothic MT"/>
                        </a:rPr>
                        <a:t>Copi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News Gothic MT"/>
                        </a:rPr>
                        <a:t>Port Servic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News Gothic MT"/>
                        </a:rPr>
                        <a:t>Ship repai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News Gothic MT"/>
                        </a:rPr>
                        <a:t>Engin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News Gothic MT"/>
                        </a:rPr>
                        <a:t>Lubrica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News Gothic MT"/>
                        </a:rPr>
                        <a:t>Comput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News Gothic MT"/>
                        </a:rPr>
                        <a:t>Print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958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Firm Strategy, Structure and Rivalry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58" name=""/>
          <p:cNvSpPr txBox="1"/>
          <p:nvPr/>
        </p:nvSpPr>
        <p:spPr>
          <a:xfrm>
            <a:off x="549000" y="1295280"/>
            <a:ext cx="80420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45600" indent="-345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95959"/>
                </a:solidFill>
                <a:latin typeface="News Gothic MT"/>
              </a:rPr>
              <a:t>The context in which firms are created, organized and managed, as well as the nature of domestic rivalry, are factors in determining national competitive advantage in an industry. </a:t>
            </a: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  <a:p>
            <a:pPr marL="345600" indent="-345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95959"/>
                </a:solidFill>
                <a:latin typeface="News Gothic MT"/>
              </a:rPr>
              <a:t>The goals, strategies and ways of organizing firms in industries vary widely among nations. </a:t>
            </a: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  <a:p>
            <a:pPr marL="345600" indent="-345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95959"/>
                </a:solidFill>
                <a:latin typeface="News Gothic MT"/>
              </a:rPr>
              <a:t>National advantage results from a good match between these choices and the sources of competitive advantage in a particular industry. </a:t>
            </a: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6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6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6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6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Firm Strategy, Structure and Rivalry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60" name=""/>
          <p:cNvSpPr txBox="1"/>
          <p:nvPr/>
        </p:nvSpPr>
        <p:spPr>
          <a:xfrm>
            <a:off x="549000" y="1295280"/>
            <a:ext cx="80420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e way in which firms are managed and choose to compete varies by nations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News Gothic MT"/>
              </a:rPr>
              <a:t>In Italy, many successful international competitors are often small or medium-sized firms that are privately owned and run like families.</a:t>
            </a:r>
            <a:endParaRPr b="0" lang="en-US" sz="26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News Gothic MT"/>
              </a:rPr>
              <a:t>In Germany, top management often consists of individuals with technical backgrounds and companies are hierarchical in organization and practices. </a:t>
            </a:r>
            <a:endParaRPr b="0" lang="en-US" sz="26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6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6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6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6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6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6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304920" y="107640"/>
            <a:ext cx="8286480" cy="1035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News Gothic MT"/>
              </a:rPr>
              <a:t>Important national differences in management practices occur in such areas as:</a:t>
            </a:r>
            <a:endParaRPr b="1" lang="en-US" sz="28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62" name=""/>
          <p:cNvSpPr txBox="1"/>
          <p:nvPr/>
        </p:nvSpPr>
        <p:spPr>
          <a:xfrm>
            <a:off x="549000" y="1295280"/>
            <a:ext cx="80420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lvl="1" marL="664920" indent="-326160">
              <a:spcBef>
                <a:spcPts val="601"/>
              </a:spcBef>
              <a:buClr>
                <a:srgbClr val="215d77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Training, background and orientation of leaders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64920" indent="-326160">
              <a:spcBef>
                <a:spcPts val="601"/>
              </a:spcBef>
              <a:buClr>
                <a:srgbClr val="215d77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Group versus hierarchical style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64920" indent="-326160">
              <a:spcBef>
                <a:spcPts val="601"/>
              </a:spcBef>
              <a:buClr>
                <a:srgbClr val="215d77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trength of individual initiative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64920" indent="-326160">
              <a:spcBef>
                <a:spcPts val="601"/>
              </a:spcBef>
              <a:buClr>
                <a:srgbClr val="215d77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Decision-making processes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64920" indent="-326160">
              <a:spcBef>
                <a:spcPts val="601"/>
              </a:spcBef>
              <a:buClr>
                <a:srgbClr val="215d77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The nature of relationships with customers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64920" indent="-326160">
              <a:spcBef>
                <a:spcPts val="601"/>
              </a:spcBef>
              <a:buClr>
                <a:srgbClr val="215d77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The ability to coordinate across functions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64920" indent="-326160">
              <a:spcBef>
                <a:spcPts val="601"/>
              </a:spcBef>
              <a:buClr>
                <a:srgbClr val="215d77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The attitude toward international activities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64920" indent="-326160">
              <a:spcBef>
                <a:spcPts val="601"/>
              </a:spcBef>
              <a:buClr>
                <a:srgbClr val="215d77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The relationship between labor and management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64920" indent="-326160">
              <a:spcBef>
                <a:spcPts val="601"/>
              </a:spcBef>
              <a:buClr>
                <a:srgbClr val="215d77"/>
              </a:buClr>
              <a:buSzPct val="11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These differences can create advantages and disadvantages when competing in different industries. 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38400" indent="-3384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6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6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6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6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6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6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6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6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6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6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6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6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6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6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6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6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6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6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0000"/>
                </a:solidFill>
                <a:latin typeface="News Gothic MT"/>
              </a:rPr>
              <a:t>The Determinants of National Advantage</a:t>
            </a:r>
            <a:endParaRPr b="1" lang="en-US" sz="31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7" name=""/>
          <p:cNvSpPr txBox="1"/>
          <p:nvPr/>
        </p:nvSpPr>
        <p:spPr>
          <a:xfrm>
            <a:off x="549000" y="1218960"/>
            <a:ext cx="80420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How does a nation achieve international success in a particular industry? 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ere are four broad attributes of a nation that shape, promote or impede competitive advantage in an industry: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1133640" indent="-514440">
              <a:spcBef>
                <a:spcPts val="601"/>
              </a:spcBef>
              <a:buClr>
                <a:srgbClr val="6fb7d7"/>
              </a:buClr>
              <a:buSzPct val="110000"/>
              <a:buFont typeface="News Gothic MT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actor Conditions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1133640" indent="-514440">
              <a:spcBef>
                <a:spcPts val="601"/>
              </a:spcBef>
              <a:buClr>
                <a:srgbClr val="6fb7d7"/>
              </a:buClr>
              <a:buSzPct val="110000"/>
              <a:buFont typeface="News Gothic MT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Demand Conditions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1133640" indent="-514440">
              <a:spcBef>
                <a:spcPts val="601"/>
              </a:spcBef>
              <a:buClr>
                <a:srgbClr val="6fb7d7"/>
              </a:buClr>
              <a:buSzPct val="110000"/>
              <a:buFont typeface="News Gothic MT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Related and Supporting Industries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1133640" indent="-514440">
              <a:spcBef>
                <a:spcPts val="601"/>
              </a:spcBef>
              <a:buClr>
                <a:srgbClr val="6fb7d7"/>
              </a:buClr>
              <a:buSzPct val="110000"/>
              <a:buFont typeface="News Gothic MT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rm Strategy, Structure and Rivalry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6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6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6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6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228600" y="107640"/>
            <a:ext cx="8610480" cy="1111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News Gothic MT"/>
              </a:rPr>
              <a:t>Many aspects of a nation influence the ways in which firms are organized and managed, such as: </a:t>
            </a:r>
            <a:endParaRPr b="1" lang="en-US" sz="28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64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Attitudes toward authority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Norms of interpersonal interaction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Attitudes of workers toward management and vice versa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ocial norms of individualistic or group behavior and professional standards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9" dur="indefinite" restart="never" nodeType="tmRoot">
          <p:childTnLst>
            <p:seq>
              <p:cTn id="600" dur="indefinite" nodeType="mainSeq">
                <p:childTnLst>
                  <p:par>
                    <p:cTn id="601" nodeType="clickEffect" fill="hold">
                      <p:stCondLst>
                        <p:cond delay="indefinite"/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6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6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6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6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6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6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6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6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The preceding aspects grow out of: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66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Educational systems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ocial and religious history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amily structures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Many other often intangible but unique national conditions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nodeType="clickEffect" fill="hold">
                      <p:stCondLst>
                        <p:cond delay="indefinite"/>
                      </p:stCondLst>
                      <p:childTnLst>
                        <p:par>
                          <p:cTn id="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6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6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6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6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6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6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6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6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549360" y="107640"/>
            <a:ext cx="8137440" cy="1111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Nations succeed in industries where there is a strong commitment and effort.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68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499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595959"/>
                </a:solidFill>
                <a:latin typeface="News Gothic MT"/>
              </a:rPr>
              <a:t>Company Goals </a:t>
            </a: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are most strongly determined by ownership structure, the motives of debt and equity holders, the nature of corporate governance and the incentives provided to senior managers. 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499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The </a:t>
            </a:r>
            <a:r>
              <a:rPr b="1" i="1" lang="en-US" sz="2400" spc="-1" strike="noStrike">
                <a:solidFill>
                  <a:srgbClr val="595959"/>
                </a:solidFill>
                <a:latin typeface="News Gothic MT"/>
              </a:rPr>
              <a:t>Goals of Individuals </a:t>
            </a: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can enhance or detract from succusses in particular industries. These may be determined by work values, reward systems and attitudes toward wealth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499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The influence of </a:t>
            </a:r>
            <a:r>
              <a:rPr b="1" i="1" lang="en-US" sz="2400" spc="-1" strike="noStrike">
                <a:solidFill>
                  <a:srgbClr val="595959"/>
                </a:solidFill>
                <a:latin typeface="News Gothic MT"/>
              </a:rPr>
              <a:t>National Priorities on Goals: </a:t>
            </a: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Nations tend to be competitive in activities that are admired and depended upon. 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9" dur="indefinite" restart="never" nodeType="tmRoot">
          <p:childTnLst>
            <p:seq>
              <p:cTn id="640" dur="indefinite" nodeType="mainSeq">
                <p:childTnLst>
                  <p:par>
                    <p:cTn id="641" nodeType="clickEffect" fill="hold">
                      <p:stCondLst>
                        <p:cond delay="indefinite"/>
                      </p:stCondLst>
                      <p:childTnLst>
                        <p:par>
                          <p:cTn id="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nodeType="clickEffect" fill="hold">
                      <p:stCondLst>
                        <p:cond delay="indefinite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6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6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nodeType="clickEffect" fill="hold">
                      <p:stCondLst>
                        <p:cond delay="indefinite"/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6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6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1339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News Gothic MT"/>
              </a:rPr>
              <a:t>Research suggests that vigorous domestic rivalry can create a persistence competitive advantage within an industry. </a:t>
            </a:r>
            <a:endParaRPr b="1" lang="en-US" sz="28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70" name=""/>
          <p:cNvSpPr txBox="1"/>
          <p:nvPr/>
        </p:nvSpPr>
        <p:spPr>
          <a:xfrm>
            <a:off x="549000" y="1676160"/>
            <a:ext cx="80420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499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Improvement and innovation are essential ingredients for competitive advantage in an industry. 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499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Domestic rivalry creates pressure on firms to improve and innovate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499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Rivals push each other to lower costs, improve quality and service and create new products and processes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499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Intense domestic rivalry leads to new business formation which feeds the process of innovation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499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Toughened by domestic rivalry, firms are better equipped to succeed abroad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9" dur="indefinite" restart="never" nodeType="tmRoot">
          <p:childTnLst>
            <p:seq>
              <p:cTn id="660" dur="indefinite" nodeType="mainSeq">
                <p:childTnLst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6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6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6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6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nodeType="clickEffect" fill="hold">
                      <p:stCondLst>
                        <p:cond delay="indefinite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6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6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6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6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nodeType="clickEffect" fill="hold">
                      <p:stCondLst>
                        <p:cond delay="indefinite"/>
                      </p:stCondLst>
                      <p:childTnLst>
                        <p:par>
                          <p:cTn id="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6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6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The Role of Chance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72" name=""/>
          <p:cNvSpPr txBox="1"/>
          <p:nvPr/>
        </p:nvSpPr>
        <p:spPr>
          <a:xfrm>
            <a:off x="549000" y="1218960"/>
            <a:ext cx="80420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hance events are occurrences that have little to do with circumstances in a nation and are largely outside the power of firms and governments to control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hance events create discontinuities that allow shifts in competitive position. 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hance events have asymmetric impacts on different nations.  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1" dur="indefinite" restart="never" nodeType="tmRoot">
          <p:childTnLst>
            <p:seq>
              <p:cTn id="692" dur="indefinite" nodeType="mainSeq">
                <p:childTnLst>
                  <p:par>
                    <p:cTn id="693" nodeType="clickEffect" fill="hold">
                      <p:stCondLst>
                        <p:cond delay="indefinite"/>
                      </p:stCondLst>
                      <p:childTnLst>
                        <p:par>
                          <p:cTn id="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6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6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nodeType="clickEffect" fill="hold">
                      <p:stCondLst>
                        <p:cond delay="indefinite"/>
                      </p:stCondLst>
                      <p:childTnLst>
                        <p:par>
                          <p:cTn id="7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6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6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nodeType="clickEffect" fill="hold">
                      <p:stCondLst>
                        <p:cond delay="indefinite"/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6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6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Examples of Chance Events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74" name=""/>
          <p:cNvSpPr txBox="1"/>
          <p:nvPr/>
        </p:nvSpPr>
        <p:spPr>
          <a:xfrm>
            <a:off x="549000" y="1218960"/>
            <a:ext cx="80420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2020 Pandemic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Wars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ptember 11</a:t>
            </a:r>
            <a:r>
              <a:rPr b="0" lang="en-US" sz="2400" spc="-1" strike="noStrike" baseline="30000">
                <a:solidFill>
                  <a:srgbClr val="595959"/>
                </a:solidFill>
                <a:latin typeface="News Gothic MT"/>
              </a:rPr>
              <a:t>th</a:t>
            </a: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 Terrorists Attacks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2008 Financial Crisis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Cold War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Oil Shocks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595959"/>
                </a:solidFill>
                <a:latin typeface="News Gothic MT"/>
              </a:rPr>
              <a:t>Nations with the most favorable “Diamond” will be most likely to convert chance events into competitive advantage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1" dur="indefinite" restart="never" nodeType="tmRoot">
          <p:childTnLst>
            <p:seq>
              <p:cTn id="712" dur="indefinite" nodeType="mainSeq">
                <p:childTnLst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6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6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6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6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6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6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6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6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6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6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6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6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6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6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06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The Role of Governmen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76" name=""/>
          <p:cNvSpPr txBox="1"/>
          <p:nvPr/>
        </p:nvSpPr>
        <p:spPr>
          <a:xfrm>
            <a:off x="549000" y="1066320"/>
            <a:ext cx="80420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45600" indent="-345600">
              <a:spcBef>
                <a:spcPts val="499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News Gothic MT"/>
              </a:rPr>
              <a:t>Government’s role is to positively influence the four determinants. </a:t>
            </a:r>
            <a:endParaRPr b="0" lang="en-US" sz="2600" spc="-1" strike="noStrike">
              <a:solidFill>
                <a:srgbClr val="595959"/>
              </a:solidFill>
              <a:latin typeface="News Gothic MT"/>
            </a:endParaRPr>
          </a:p>
          <a:p>
            <a:pPr marL="345600" indent="-345600">
              <a:spcBef>
                <a:spcPts val="499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News Gothic MT"/>
              </a:rPr>
              <a:t>Government can influence, and be influenced by, each of the four determinants either positively or negatively.</a:t>
            </a:r>
            <a:endParaRPr b="0" lang="en-US" sz="2600" spc="-1" strike="noStrike">
              <a:solidFill>
                <a:srgbClr val="595959"/>
              </a:solidFill>
              <a:latin typeface="News Gothic MT"/>
            </a:endParaRPr>
          </a:p>
          <a:p>
            <a:pPr marL="345600" indent="-345600">
              <a:spcBef>
                <a:spcPts val="499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News Gothic MT"/>
              </a:rPr>
              <a:t>Examples of governmental policies:</a:t>
            </a:r>
            <a:endParaRPr b="0" lang="en-US" sz="2600" spc="-1" strike="noStrike">
              <a:solidFill>
                <a:srgbClr val="595959"/>
              </a:solidFill>
              <a:latin typeface="News Gothic MT"/>
            </a:endParaRPr>
          </a:p>
          <a:p>
            <a:pPr lvl="1" marL="678600" indent="-333000">
              <a:spcBef>
                <a:spcPts val="499"/>
              </a:spcBef>
              <a:buClr>
                <a:srgbClr val="215d77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News Gothic MT"/>
              </a:rPr>
              <a:t>Subsidies</a:t>
            </a:r>
            <a:endParaRPr b="0" lang="en-US" sz="2600" spc="-1" strike="noStrike">
              <a:solidFill>
                <a:srgbClr val="595959"/>
              </a:solidFill>
              <a:latin typeface="News Gothic MT"/>
            </a:endParaRPr>
          </a:p>
          <a:p>
            <a:pPr lvl="1" marL="678600" indent="-333000">
              <a:spcBef>
                <a:spcPts val="499"/>
              </a:spcBef>
              <a:buClr>
                <a:srgbClr val="215d77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News Gothic MT"/>
              </a:rPr>
              <a:t>Education</a:t>
            </a:r>
            <a:endParaRPr b="0" lang="en-US" sz="2600" spc="-1" strike="noStrike">
              <a:solidFill>
                <a:srgbClr val="595959"/>
              </a:solidFill>
              <a:latin typeface="News Gothic MT"/>
            </a:endParaRPr>
          </a:p>
          <a:p>
            <a:pPr lvl="1" marL="678600" indent="-333000">
              <a:spcBef>
                <a:spcPts val="499"/>
              </a:spcBef>
              <a:buClr>
                <a:srgbClr val="215d77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News Gothic MT"/>
              </a:rPr>
              <a:t>Capital markets</a:t>
            </a:r>
            <a:endParaRPr b="0" lang="en-US" sz="2600" spc="-1" strike="noStrike">
              <a:solidFill>
                <a:srgbClr val="595959"/>
              </a:solidFill>
              <a:latin typeface="News Gothic MT"/>
            </a:endParaRPr>
          </a:p>
          <a:p>
            <a:pPr lvl="1" marL="678600" indent="-333000">
              <a:spcBef>
                <a:spcPts val="499"/>
              </a:spcBef>
              <a:buClr>
                <a:srgbClr val="215d77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News Gothic MT"/>
              </a:rPr>
              <a:t>Consumer protection</a:t>
            </a:r>
            <a:endParaRPr b="0" lang="en-US" sz="2600" spc="-1" strike="noStrike">
              <a:solidFill>
                <a:srgbClr val="595959"/>
              </a:solidFill>
              <a:latin typeface="News Gothic MT"/>
            </a:endParaRPr>
          </a:p>
          <a:p>
            <a:pPr lvl="1" marL="678600" indent="-333000">
              <a:spcBef>
                <a:spcPts val="499"/>
              </a:spcBef>
              <a:buClr>
                <a:srgbClr val="215d77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News Gothic MT"/>
              </a:rPr>
              <a:t>Government as consumer</a:t>
            </a:r>
            <a:endParaRPr b="0" lang="en-US" sz="2600" spc="-1" strike="noStrike">
              <a:solidFill>
                <a:srgbClr val="595959"/>
              </a:solidFill>
              <a:latin typeface="News Gothic MT"/>
            </a:endParaRPr>
          </a:p>
          <a:p>
            <a:pPr lvl="1" marL="678600" indent="-333000">
              <a:spcBef>
                <a:spcPts val="499"/>
              </a:spcBef>
              <a:buClr>
                <a:srgbClr val="215d77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News Gothic MT"/>
            </a:endParaRPr>
          </a:p>
          <a:p>
            <a:pPr lvl="1" marL="678600" indent="-333000"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3" dur="indefinite" restart="never" nodeType="tmRoot">
          <p:childTnLst>
            <p:seq>
              <p:cTn id="744" dur="indefinite" nodeType="mainSeq">
                <p:childTnLst>
                  <p:par>
                    <p:cTn id="745" nodeType="clickEffect" fill="hold">
                      <p:stCondLst>
                        <p:cond delay="indefinite"/>
                      </p:stCondLst>
                      <p:childTnLst>
                        <p:par>
                          <p:cTn id="7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6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6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nodeType="clickEffect" fill="hold">
                      <p:stCondLst>
                        <p:cond delay="indefinite"/>
                      </p:stCondLst>
                      <p:childTnLst>
                        <p:par>
                          <p:cTn id="7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6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6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nodeType="clickEffect" fill="hold">
                      <p:stCondLst>
                        <p:cond delay="indefinite"/>
                      </p:stCondLst>
                      <p:childTnLst>
                        <p:par>
                          <p:cTn id="7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6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6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6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6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9" dur="500" fill="hold"/>
                                        <p:tgtEl>
                                          <p:spTgt spid="6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6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6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6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6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6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6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6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The Top 10 Economies in the World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78" name=""/>
          <p:cNvSpPr txBox="1"/>
          <p:nvPr/>
        </p:nvSpPr>
        <p:spPr>
          <a:xfrm>
            <a:off x="549000" y="1218960"/>
            <a:ext cx="80420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499"/>
              </a:spcBef>
              <a:buClr>
                <a:srgbClr val="6fb7d7"/>
              </a:buClr>
              <a:buSzPct val="110000"/>
              <a:buFont typeface="News Gothic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News Gothic MT"/>
              </a:rPr>
              <a:t> </a:t>
            </a:r>
            <a:r>
              <a:rPr b="0" lang="en-US" sz="2600" spc="-1" strike="noStrike">
                <a:solidFill>
                  <a:srgbClr val="595959"/>
                </a:solidFill>
                <a:latin typeface="News Gothic MT"/>
              </a:rPr>
              <a:t>United States</a:t>
            </a:r>
            <a:endParaRPr b="0" lang="en-US" sz="2600" spc="-1" strike="noStrike">
              <a:solidFill>
                <a:srgbClr val="595959"/>
              </a:solidFill>
              <a:latin typeface="News Gothic MT"/>
            </a:endParaRPr>
          </a:p>
          <a:p>
            <a:pPr marL="514440" indent="-514440">
              <a:spcBef>
                <a:spcPts val="499"/>
              </a:spcBef>
              <a:buClr>
                <a:srgbClr val="6fb7d7"/>
              </a:buClr>
              <a:buSzPct val="110000"/>
              <a:buFont typeface="News Gothic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News Gothic MT"/>
              </a:rPr>
              <a:t> </a:t>
            </a:r>
            <a:r>
              <a:rPr b="0" lang="en-US" sz="2600" spc="-1" strike="noStrike">
                <a:solidFill>
                  <a:srgbClr val="595959"/>
                </a:solidFill>
                <a:latin typeface="News Gothic MT"/>
              </a:rPr>
              <a:t>China</a:t>
            </a:r>
            <a:endParaRPr b="0" lang="en-US" sz="2600" spc="-1" strike="noStrike">
              <a:solidFill>
                <a:srgbClr val="595959"/>
              </a:solidFill>
              <a:latin typeface="News Gothic MT"/>
            </a:endParaRPr>
          </a:p>
          <a:p>
            <a:pPr marL="514440" indent="-514440">
              <a:spcBef>
                <a:spcPts val="499"/>
              </a:spcBef>
              <a:buClr>
                <a:srgbClr val="6fb7d7"/>
              </a:buClr>
              <a:buSzPct val="110000"/>
              <a:buFont typeface="News Gothic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News Gothic MT"/>
              </a:rPr>
              <a:t> </a:t>
            </a:r>
            <a:r>
              <a:rPr b="0" lang="en-US" sz="2600" spc="-1" strike="noStrike">
                <a:solidFill>
                  <a:srgbClr val="595959"/>
                </a:solidFill>
                <a:latin typeface="News Gothic MT"/>
              </a:rPr>
              <a:t>Japan</a:t>
            </a:r>
            <a:endParaRPr b="0" lang="en-US" sz="2600" spc="-1" strike="noStrike">
              <a:solidFill>
                <a:srgbClr val="595959"/>
              </a:solidFill>
              <a:latin typeface="News Gothic MT"/>
            </a:endParaRPr>
          </a:p>
          <a:p>
            <a:pPr marL="514440" indent="-514440">
              <a:spcBef>
                <a:spcPts val="499"/>
              </a:spcBef>
              <a:buClr>
                <a:srgbClr val="6fb7d7"/>
              </a:buClr>
              <a:buSzPct val="110000"/>
              <a:buFont typeface="News Gothic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News Gothic MT"/>
              </a:rPr>
              <a:t> </a:t>
            </a:r>
            <a:r>
              <a:rPr b="0" lang="en-US" sz="2600" spc="-1" strike="noStrike">
                <a:solidFill>
                  <a:srgbClr val="595959"/>
                </a:solidFill>
                <a:latin typeface="News Gothic MT"/>
              </a:rPr>
              <a:t>Germany</a:t>
            </a:r>
            <a:endParaRPr b="0" lang="en-US" sz="2600" spc="-1" strike="noStrike">
              <a:solidFill>
                <a:srgbClr val="595959"/>
              </a:solidFill>
              <a:latin typeface="News Gothic MT"/>
            </a:endParaRPr>
          </a:p>
          <a:p>
            <a:pPr marL="514440" indent="-514440">
              <a:spcBef>
                <a:spcPts val="499"/>
              </a:spcBef>
              <a:buClr>
                <a:srgbClr val="6fb7d7"/>
              </a:buClr>
              <a:buSzPct val="110000"/>
              <a:buFont typeface="News Gothic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News Gothic MT"/>
              </a:rPr>
              <a:t> </a:t>
            </a:r>
            <a:r>
              <a:rPr b="0" lang="en-US" sz="2600" spc="-1" strike="noStrike">
                <a:solidFill>
                  <a:srgbClr val="595959"/>
                </a:solidFill>
                <a:latin typeface="News Gothic MT"/>
              </a:rPr>
              <a:t>India</a:t>
            </a:r>
            <a:endParaRPr b="0" lang="en-US" sz="2600" spc="-1" strike="noStrike">
              <a:solidFill>
                <a:srgbClr val="595959"/>
              </a:solidFill>
              <a:latin typeface="News Gothic MT"/>
            </a:endParaRPr>
          </a:p>
          <a:p>
            <a:pPr marL="514440" indent="-514440">
              <a:spcBef>
                <a:spcPts val="499"/>
              </a:spcBef>
              <a:buClr>
                <a:srgbClr val="6fb7d7"/>
              </a:buClr>
              <a:buSzPct val="110000"/>
              <a:buFont typeface="News Gothic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News Gothic MT"/>
              </a:rPr>
              <a:t> </a:t>
            </a:r>
            <a:r>
              <a:rPr b="0" lang="en-US" sz="2600" spc="-1" strike="noStrike">
                <a:solidFill>
                  <a:srgbClr val="595959"/>
                </a:solidFill>
                <a:latin typeface="News Gothic MT"/>
              </a:rPr>
              <a:t>United Kingdom</a:t>
            </a:r>
            <a:endParaRPr b="0" lang="en-US" sz="2600" spc="-1" strike="noStrike">
              <a:solidFill>
                <a:srgbClr val="595959"/>
              </a:solidFill>
              <a:latin typeface="News Gothic MT"/>
            </a:endParaRPr>
          </a:p>
          <a:p>
            <a:pPr marL="514440" indent="-514440">
              <a:spcBef>
                <a:spcPts val="499"/>
              </a:spcBef>
              <a:buClr>
                <a:srgbClr val="6fb7d7"/>
              </a:buClr>
              <a:buSzPct val="110000"/>
              <a:buFont typeface="News Gothic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News Gothic MT"/>
              </a:rPr>
              <a:t> </a:t>
            </a:r>
            <a:r>
              <a:rPr b="0" lang="en-US" sz="2600" spc="-1" strike="noStrike">
                <a:solidFill>
                  <a:srgbClr val="595959"/>
                </a:solidFill>
                <a:latin typeface="News Gothic MT"/>
              </a:rPr>
              <a:t>France</a:t>
            </a:r>
            <a:endParaRPr b="0" lang="en-US" sz="2600" spc="-1" strike="noStrike">
              <a:solidFill>
                <a:srgbClr val="595959"/>
              </a:solidFill>
              <a:latin typeface="News Gothic MT"/>
            </a:endParaRPr>
          </a:p>
          <a:p>
            <a:pPr marL="514440" indent="-514440">
              <a:spcBef>
                <a:spcPts val="499"/>
              </a:spcBef>
              <a:buClr>
                <a:srgbClr val="6fb7d7"/>
              </a:buClr>
              <a:buSzPct val="110000"/>
              <a:buFont typeface="News Gothic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News Gothic MT"/>
              </a:rPr>
              <a:t> </a:t>
            </a:r>
            <a:r>
              <a:rPr b="0" lang="en-US" sz="2600" spc="-1" strike="noStrike">
                <a:solidFill>
                  <a:srgbClr val="595959"/>
                </a:solidFill>
                <a:latin typeface="News Gothic MT"/>
              </a:rPr>
              <a:t>Italy</a:t>
            </a:r>
            <a:endParaRPr b="0" lang="en-US" sz="2600" spc="-1" strike="noStrike">
              <a:solidFill>
                <a:srgbClr val="595959"/>
              </a:solidFill>
              <a:latin typeface="News Gothic MT"/>
            </a:endParaRPr>
          </a:p>
          <a:p>
            <a:pPr marL="514440" indent="-514440">
              <a:spcBef>
                <a:spcPts val="499"/>
              </a:spcBef>
              <a:buClr>
                <a:srgbClr val="6fb7d7"/>
              </a:buClr>
              <a:buSzPct val="110000"/>
              <a:buFont typeface="News Gothic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News Gothic MT"/>
              </a:rPr>
              <a:t> </a:t>
            </a:r>
            <a:r>
              <a:rPr b="0" lang="en-US" sz="2600" spc="-1" strike="noStrike">
                <a:solidFill>
                  <a:srgbClr val="595959"/>
                </a:solidFill>
                <a:latin typeface="News Gothic MT"/>
              </a:rPr>
              <a:t>Brazil</a:t>
            </a:r>
            <a:endParaRPr b="0" lang="en-US" sz="2600" spc="-1" strike="noStrike">
              <a:solidFill>
                <a:srgbClr val="595959"/>
              </a:solidFill>
              <a:latin typeface="News Gothic MT"/>
            </a:endParaRPr>
          </a:p>
          <a:p>
            <a:pPr marL="514440" indent="-514440">
              <a:spcBef>
                <a:spcPts val="499"/>
              </a:spcBef>
              <a:buClr>
                <a:srgbClr val="6fb7d7"/>
              </a:buClr>
              <a:buSzPct val="110000"/>
              <a:buFont typeface="News Gothic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News Gothic MT"/>
              </a:rPr>
              <a:t> </a:t>
            </a:r>
            <a:r>
              <a:rPr b="0" lang="en-US" sz="2600" spc="-1" strike="noStrike">
                <a:solidFill>
                  <a:srgbClr val="595959"/>
                </a:solidFill>
                <a:latin typeface="News Gothic MT"/>
              </a:rPr>
              <a:t>Canada</a:t>
            </a:r>
            <a:endParaRPr b="0" lang="en-US" sz="2600" spc="-1" strike="noStrike">
              <a:solidFill>
                <a:srgbClr val="595959"/>
              </a:solidFill>
              <a:latin typeface="News Gothic MT"/>
            </a:endParaRPr>
          </a:p>
          <a:p>
            <a:pPr marL="514440" indent="-514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595959"/>
                </a:solidFill>
                <a:latin typeface="News Gothic MT"/>
              </a:rPr>
              <a:t>Source: Investopedia, December 24, 2020</a:t>
            </a:r>
            <a:endParaRPr b="0" lang="en-US" sz="26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111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0000"/>
                </a:solidFill>
                <a:latin typeface="News Gothic MT"/>
              </a:rPr>
              <a:t>Firms are Founded and Develop Competitive Advantages in their Home Country </a:t>
            </a:r>
            <a:endParaRPr b="1" lang="en-US" sz="29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News Gothic MT"/>
              </a:rPr>
              <a:t>This suggests that ultimately, nations succeed in particular industries because they offer an environment that is dynamic and challenging. </a:t>
            </a:r>
            <a:endParaRPr b="0" lang="en-US" sz="26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News Gothic MT"/>
              </a:rPr>
              <a:t>This environment in turn stimulates and pushes firms to upgrade and increase their advantages over time.</a:t>
            </a:r>
            <a:endParaRPr b="0" lang="en-US" sz="26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News Gothic MT"/>
              </a:rPr>
              <a:t>Competition is dynamic, and the home country either fosters or impedes these conditions. </a:t>
            </a:r>
            <a:endParaRPr b="0" lang="en-US" sz="26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6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The National Diamond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pic>
        <p:nvPicPr>
          <p:cNvPr id="611" name="Picture 2" descr="Diamond Model (Michael Porter)"/>
          <p:cNvPicPr/>
          <p:nvPr/>
        </p:nvPicPr>
        <p:blipFill>
          <a:blip r:embed="rId1"/>
          <a:stretch/>
        </p:blipFill>
        <p:spPr>
          <a:xfrm>
            <a:off x="2208240" y="1371600"/>
            <a:ext cx="4724280" cy="3886200"/>
          </a:xfrm>
          <a:prstGeom prst="rect">
            <a:avLst/>
          </a:prstGeom>
          <a:ln w="0">
            <a:noFill/>
          </a:ln>
        </p:spPr>
      </p:pic>
      <p:sp>
        <p:nvSpPr>
          <p:cNvPr id="612" name="TextBox 3"/>
          <p:cNvSpPr/>
          <p:nvPr/>
        </p:nvSpPr>
        <p:spPr>
          <a:xfrm>
            <a:off x="1905120" y="5715000"/>
            <a:ext cx="53337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s is a Mutually Reinforcing System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1187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Two Additional Variables can 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Influence the Diamond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14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Luck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Governmen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68400" indent="-282600">
              <a:spcBef>
                <a:spcPts val="601"/>
              </a:spcBef>
              <a:buClr>
                <a:srgbClr val="6fb7d7"/>
              </a:buClr>
              <a:buSzPct val="11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Antitrust policies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68400" indent="-282600">
              <a:spcBef>
                <a:spcPts val="601"/>
              </a:spcBef>
              <a:buClr>
                <a:srgbClr val="6fb7d7"/>
              </a:buClr>
              <a:buSzPct val="11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Regulations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68400" indent="-282600">
              <a:spcBef>
                <a:spcPts val="601"/>
              </a:spcBef>
              <a:buClr>
                <a:srgbClr val="6fb7d7"/>
              </a:buClr>
              <a:buSzPct val="11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Investments in education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68400" indent="-282600">
              <a:spcBef>
                <a:spcPts val="601"/>
              </a:spcBef>
              <a:buClr>
                <a:srgbClr val="6fb7d7"/>
              </a:buClr>
              <a:buSzPct val="11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Governmental purchases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380880" y="107640"/>
            <a:ext cx="8382240" cy="1035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News Gothic MT"/>
              </a:rPr>
              <a:t>Firms are most Likely to Succeed in Industries where the National Diamond is most Favorable</a:t>
            </a:r>
            <a:endParaRPr b="1" lang="en-US" sz="28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16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Why?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Paradoxically, these nations may also experience the most business failures?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68400" indent="-282600">
              <a:spcBef>
                <a:spcPts val="6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Why?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6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Factors of Production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18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actors of production are the inputs necessary to compete in any industry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68400" indent="-282600">
              <a:spcBef>
                <a:spcPts val="601"/>
              </a:spcBef>
              <a:buClr>
                <a:srgbClr val="6fb7d7"/>
              </a:buClr>
              <a:buSzPct val="11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Land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68400" indent="-282600">
              <a:spcBef>
                <a:spcPts val="601"/>
              </a:spcBef>
              <a:buClr>
                <a:srgbClr val="6fb7d7"/>
              </a:buClr>
              <a:buSzPct val="11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Labor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68400" indent="-282600">
              <a:spcBef>
                <a:spcPts val="601"/>
              </a:spcBef>
              <a:buClr>
                <a:srgbClr val="6fb7d7"/>
              </a:buClr>
              <a:buSzPct val="11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apital 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68400" indent="-282600">
              <a:spcBef>
                <a:spcPts val="601"/>
              </a:spcBef>
              <a:buClr>
                <a:srgbClr val="6fb7d7"/>
              </a:buClr>
              <a:buSzPct val="11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Natural resources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68400" indent="-282600">
              <a:spcBef>
                <a:spcPts val="601"/>
              </a:spcBef>
              <a:buClr>
                <a:srgbClr val="6fb7d7"/>
              </a:buClr>
              <a:buSzPct val="11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Infrastructure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111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Arable Land – Any land that is plowable and used to grow crops.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pic>
        <p:nvPicPr>
          <p:cNvPr id="620" name="Content Placeholder 4" descr="Table&#10;&#10;Description automatically generated"/>
          <p:cNvPicPr/>
          <p:nvPr/>
        </p:nvPicPr>
        <p:blipFill>
          <a:blip r:embed="rId1"/>
          <a:stretch/>
        </p:blipFill>
        <p:spPr>
          <a:xfrm>
            <a:off x="2819520" y="1477800"/>
            <a:ext cx="3276360" cy="4313520"/>
          </a:xfrm>
          <a:prstGeom prst="rect">
            <a:avLst/>
          </a:prstGeom>
          <a:ln w="0">
            <a:noFill/>
          </a:ln>
        </p:spPr>
      </p:pic>
      <p:sp>
        <p:nvSpPr>
          <p:cNvPr id="621" name="TextBox 5"/>
          <p:cNvSpPr/>
          <p:nvPr/>
        </p:nvSpPr>
        <p:spPr>
          <a:xfrm>
            <a:off x="2286000" y="579132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nd is given in square K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centages are worldw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3T19:11:20Z</dcterms:created>
  <dc:creator>sara_hunter</dc:creator>
  <dc:description/>
  <dc:language>en-US</dc:language>
  <cp:lastModifiedBy>Morrow, Bert</cp:lastModifiedBy>
  <dcterms:modified xsi:type="dcterms:W3CDTF">2021-03-02T20:06:11Z</dcterms:modified>
  <cp:revision>402</cp:revision>
  <dc:subject/>
  <dc:title>Slide 1</dc:title>
</cp:coreProperties>
</file>