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move the slid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A37D9-63FC-4717-81D4-CFC6AC8010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8D289-D044-46D8-87F2-D17F85F7D3BB}" type="slidenum"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BD61D-53CC-4DF6-9E40-0AE42F9BD441}" type="slidenum"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AF732-A397-4BD6-AE11-9AD71F67AB33}" type="slidenum"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18BEC-4E3A-4A9F-98B8-FB62541D04E8}" type="slidenum"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412EC-BF06-4123-80F7-7586AE86DAE9}" type="slidenum"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DBEB2-4AE6-4D51-B4A7-2CF6A66232E8}" type="slidenum"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1A2D0-BCD0-4B78-818F-8C2E302FD8D2}" type="slidenum"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6BE7D-B5F6-4871-9C7C-4714D60EFAC4}" type="slidenum"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44752-937D-4B91-A88F-D32AB514B910}" type="slidenum"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BFE27-1422-4095-B95C-0A8A3476D723}" type="slidenum"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57B07-867B-487E-A1A6-D132BB99BFCB}" type="slidenum"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3EE1A-4517-4116-BD11-DD259EDF5F09}" type="slidenum"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64EF2-8D26-4494-9007-A1C8C17DCED9}" type="slidenum"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23A22-A27B-48BE-AE99-A449AE405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2FF7E-0FFE-4863-A246-1D053C367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77F1B-6839-48BD-9C6A-F66CD1A29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4C4E9-EDDF-4707-A0E0-30E01850C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D7A11-B778-4E8D-A2E2-C36E69F05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51548-D6C9-4CC3-B9DD-C89B5DF95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93F37-70D9-478A-9715-C62CBAC57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71B54-06BE-4E68-9126-9ABE1E08C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09A3B-B75E-44FB-881D-A10BC8215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5F509-20C1-4C18-A9BB-88FB0678F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80BF2-B56A-46BF-887B-8CA4FEC94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CF8F9-0A96-485C-988F-AD2ADA187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CAFD1-60CB-4205-A234-2E3418822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89279-2DE7-43F7-9FBE-AEB76B7D9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8F224-CE8D-47D4-ADDD-BBF9C4471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33886-D168-46E2-B82B-83E92BC63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51ADD-BE37-4059-A19F-ACE81534D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DEFE3-1309-4B2F-95D9-26FCCF4E3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9B6F5-9426-454E-8527-1519270D5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46812-2092-43A7-909C-BF725C79C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C6C3D-1041-4FA8-8775-1AEF04CC2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6560C-A5AC-4D89-9FEF-B299C375D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71F37-7CAE-41D6-96DB-FF81297F1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E55DD-2B21-4272-9B44-973969EAF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57200" y="992160"/>
            <a:ext cx="8153280" cy="1600200"/>
            <a:chOff x="457200" y="992160"/>
            <a:chExt cx="8153280" cy="1600200"/>
          </a:xfrm>
        </p:grpSpPr>
        <p:sp>
          <p:nvSpPr>
            <p:cNvPr id="1" name="Arc 3"/>
            <p:cNvSpPr/>
            <p:nvPr/>
          </p:nvSpPr>
          <p:spPr>
            <a:xfrm>
              <a:off x="5707080" y="992160"/>
              <a:ext cx="2903400" cy="1600200"/>
            </a:xfrm>
            <a:custGeom>
              <a:avLst/>
              <a:gdLst/>
              <a:ahLst/>
              <a:rect l="l" t="t" r="r" b="b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  <a:lnTo>
                    <a:pt x="312" y="21600"/>
                  </a:ln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5632560" y="1157400"/>
              <a:ext cx="2906640" cy="1269720"/>
            </a:xfrm>
            <a:custGeom>
              <a:avLst/>
              <a:gdLst/>
              <a:ahLst/>
              <a:rect l="l" t="t" r="r" b="b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  <a:lnTo>
                    <a:pt x="324" y="21600"/>
                  </a:lnTo>
                  <a:lnTo>
                    <a:pt x="31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Arc 5"/>
            <p:cNvSpPr/>
            <p:nvPr/>
          </p:nvSpPr>
          <p:spPr>
            <a:xfrm>
              <a:off x="5589720" y="1378080"/>
              <a:ext cx="2904840" cy="828720"/>
            </a:xfrm>
            <a:custGeom>
              <a:avLst/>
              <a:gdLst/>
              <a:ahLst/>
              <a:rect l="l" t="t" r="r" b="b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  <a:lnTo>
                    <a:pt x="325" y="21600"/>
                  </a:lnTo>
                  <a:lnTo>
                    <a:pt x="31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AutoShape 6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B5C13-E8ED-4E8B-95D3-127D18A1684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457200" y="2363760"/>
            <a:ext cx="8153280" cy="1600200"/>
            <a:chOff x="457200" y="2363760"/>
            <a:chExt cx="8153280" cy="1600200"/>
          </a:xfrm>
        </p:grpSpPr>
        <p:sp>
          <p:nvSpPr>
            <p:cNvPr id="47" name="Arc 3"/>
            <p:cNvSpPr/>
            <p:nvPr/>
          </p:nvSpPr>
          <p:spPr>
            <a:xfrm>
              <a:off x="5707080" y="2363760"/>
              <a:ext cx="2903400" cy="1600200"/>
            </a:xfrm>
            <a:custGeom>
              <a:avLst/>
              <a:gdLst/>
              <a:ahLst/>
              <a:rect l="l" t="t" r="r" b="b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  <a:lnTo>
                    <a:pt x="312" y="21600"/>
                  </a:ln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Arc 4"/>
            <p:cNvSpPr/>
            <p:nvPr/>
          </p:nvSpPr>
          <p:spPr>
            <a:xfrm>
              <a:off x="5632560" y="2529000"/>
              <a:ext cx="2906640" cy="1269720"/>
            </a:xfrm>
            <a:custGeom>
              <a:avLst/>
              <a:gdLst/>
              <a:ahLst/>
              <a:rect l="l" t="t" r="r" b="b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  <a:lnTo>
                    <a:pt x="324" y="21600"/>
                  </a:lnTo>
                  <a:lnTo>
                    <a:pt x="31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Arc 5"/>
            <p:cNvSpPr/>
            <p:nvPr/>
          </p:nvSpPr>
          <p:spPr>
            <a:xfrm>
              <a:off x="5589720" y="2749680"/>
              <a:ext cx="2904840" cy="828720"/>
            </a:xfrm>
            <a:custGeom>
              <a:avLst/>
              <a:gdLst/>
              <a:ahLst/>
              <a:rect l="l" t="t" r="r" b="b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  <a:lnTo>
                    <a:pt x="325" y="21600"/>
                  </a:lnTo>
                  <a:lnTo>
                    <a:pt x="31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AutoShape 6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7BB19-B0EC-42E9-A814-18B9E9422164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s://www.youtube.com/watch?v=cBlgurKd9NU&amp;t=101s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s://www.youtube.com/watch?v=dNmwvntMF5A" TargetMode="Externa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s://www.youtube.com/watch?v=csqOL_KT4Go" TargetMode="Externa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Introduction to Psychological Science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hapter 1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eople are unaware of their own Weaknesse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Many people believe they are better than average on any number of dimensions.  Can 80% of people have a higher IQ than average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eople interpret info in ways that support their positive views of themselve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xample of people on singing show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Scientific Foundations of Psychology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ristotle and Plato debated whether an individual’s psychology is attributable more to nature or nurture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re psychological characteristics biologically innate or acquired through experience?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e mind/body problem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re the mind and body separate or is the mind the subjective experience of the brain?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Dualism/Monism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8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8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8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8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5" dur="8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6" dur="8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" dur="8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2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7" dur="5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Historical Figures in Psychology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Wilhelm Wundt established first psychological laboratory in 1879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William James gave the first lecture on Psychology at Harvard in 1875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harles Darwin explained natural selection and survival of the fittest in his evolutionary theor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Adaptive mutations are passed along and those that hinder reproduction are not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77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2" dur="77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4" dur="77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6" dur="77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Different Schools of Thought in Psychology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sychoanalytic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igmund Freud said that much of human behavior is determined by mental processes operating below the level of conscious awarenes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sychoanalysis.  Therapist and patient work together to bring contents of patient’s unconscious into conscious awarenes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77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3" dur="77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5" dur="77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7" dur="77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77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2" dur="77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4" dur="77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66" dur="77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6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Different Schools of Thought in Psychology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Behaviorism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John Watson said we can’t study what we can’t see.  He developed behaviorism – the study of environmental effects on observable behavior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ll nurtur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B.F. Skinner studied how behavior was influenced by the consequences that followed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7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7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9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9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Different Schools of Thought in Psychology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Gestalt movemen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ax Wertheimer and Wolfgang Kohler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he whole is different than the sum of its part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erception of objects is subjective and dependent on contex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Humanistic Psycholog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braham Maslow and Carl Roger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eople are free to choose activities that make them happy and bring them fulfillmen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660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03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20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2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20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2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2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Different Schools of Thought in Psychology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ognitivism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George Miller and Ulric Neisser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ental functions ARE important for understanding behavior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his has progressed into Cognitive Neuroscience – integrated view of mind and brain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20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20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20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20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9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Latest Developments in Psychology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Biology is increasingly emphasize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Brain chemistr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Brain imaging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he Human genom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volutionary Thinking is increasingly influentia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odern humans have only been around for 100,000 year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ultural evolution has occurred much faster than biological evolutio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2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" dur="2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2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2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2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Subfields of Psychology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What are the different subfields of Psychology?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e Table 1.2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omplete worksheet individuall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When finished, compare answers with other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2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8" dur="2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2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" dur="5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6" dur="10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Will Psychology benefit you in your career?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4" descr="cartoon"/>
          <p:cNvPicPr/>
          <p:nvPr/>
        </p:nvPicPr>
        <p:blipFill>
          <a:blip r:embed="rId1"/>
          <a:stretch/>
        </p:blipFill>
        <p:spPr>
          <a:xfrm>
            <a:off x="0" y="990720"/>
            <a:ext cx="9144000" cy="357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Definition of Psychological Science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cientific study of mind, brain, and behavior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Mind – mental activity, such as thoughts and feelings, perceptual experiences, memorie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Mental activity results from biological processes within the brain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Behavior – wide variety of actions that occur in organism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sychology teaches Critical Thinking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You will develop skills necessary to critically evaluate claims made in the popular media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Display amiable skepticism.  Be open to new ideas, but be skeptical of claims if there isn’t good evidence to support them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Be aware that you may not be motivated to think critically about information that supports your preconception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lso remember that our intuitions are often wrong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What about the Mozart effect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00cc"/>
                </a:solidFill>
                <a:uFillTx/>
                <a:latin typeface="Times New Roman"/>
                <a:hlinkClick r:id="rId1"/>
              </a:rPr>
              <a:t>https://www.youtube.com/watch?v=cBlgurKd9NU&amp;t=101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Biased or Inaccurate Thinking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eople’s Intuitions (instinctive feelings) are often wrong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Biases (we think in a way that leads us to be wrong) are very common, even in highly educated peopl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onfirmation Bia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Ignoring Evidenc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We pay more attention to and believe evidence that supports our preexisting beliefs.  We tend to downplay or be skeptical of evidence that does not support our preexisting belief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eople selectively sample information and also show selective memory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News source exampl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cc"/>
                </a:solidFill>
                <a:uFillTx/>
                <a:latin typeface="Times New Roman"/>
                <a:hlinkClick r:id="rId1"/>
              </a:rPr>
              <a:t>https://www.youtube.com/watch?v=dNmwvntMF5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eeing Relationships where they don’t exis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nking if two events happen at the same time, they must be related.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uperstition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After the fact Explanation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Hindsight bias – we say we knew something was going to happe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Yet we never predicted it ahead of tim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Once we know the outcome, we interpret and reinterpret old evidence to make sense of the outcom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00cc"/>
                </a:solidFill>
                <a:uFillTx/>
                <a:latin typeface="Times New Roman"/>
                <a:hlinkClick r:id="rId1"/>
              </a:rPr>
              <a:t>https://www.youtube.com/watch?v=csqOL_KT4Go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aking Mental Shortcut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eople follow simple rules, heuristics, to make decision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e availability heuristic is one of thes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re you more likely to die in a plane crash, or in a fire?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We think that whatever comes easily to mind must be more commo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6T21:02:00Z</dcterms:created>
  <dc:creator>Campus Computing</dc:creator>
  <dc:description/>
  <dc:language>en-US</dc:language>
  <cp:lastModifiedBy>Trench, Lynne S.</cp:lastModifiedBy>
  <dcterms:modified xsi:type="dcterms:W3CDTF">2021-02-04T16:12:03Z</dcterms:modified>
  <cp:revision>48</cp:revision>
  <dc:subject/>
  <dc:title>Sensorimotor System</dc:title>
</cp:coreProperties>
</file>