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CF1-5727-4EF9-A6F5-BAA3DEB7E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BC9-0219-4A11-8770-70952BA55F5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BFA-28B1-4DD9-8625-F1A4F72DA2F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765F-EEE2-4DA9-A63D-105DC81198E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212-CDB2-43A2-B382-C8D136F924B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B8A0-CD77-41C1-8725-DCC1E31DCB6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00E-FA0B-42C0-8D38-8A377EF165C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CDB-516F-4D36-9C49-55C9A4085E0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22E2-523E-4B46-BB10-9AE486E0D02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A3F-F6DC-472E-9813-776DFD0407A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BC44-77FA-476F-953E-136F02CE108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D6EB-E634-4AD1-8391-5A3F6228A63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B33-880E-453C-8290-CCBF7427ADE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14A2-9251-4B59-B3B9-672DA956B03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AB2-FC8A-47A1-BBFA-D826D259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997-B9FA-40FD-ABAD-8B87E805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D2A-35C4-41B2-B5D9-F308C862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390-C9FD-4E5C-BA0F-CEE12562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992-3F54-42F4-8017-7F0C662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802-DFA9-440B-B95A-A1EDC561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C4BF-3CD3-47EA-B8F7-8C636115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112-1A33-4E86-A760-A535CA3A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B898-F7F0-4E63-92B9-FE05F01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AA5D-EEA2-455A-9123-7915751B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3C38-BC22-4930-8703-4F5DD3D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2DD-4861-47FB-840B-F2504C9A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543D-C82B-4E18-BD80-EC98A1F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97A-921E-453E-86F8-629CD75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E538-A4AC-4C07-850C-A476D71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DB19-E27A-421A-A76F-9C848DB9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99D1-28E4-4F4A-9879-AD3FF8A2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B24-364A-4CA7-AB0E-695038C8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46F-B72D-4774-AAD7-9A8D534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36F-7C1D-4C87-B847-1F71CC6F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8A4-CB75-48CC-A858-3A92EA4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D00-661D-47A2-9421-03C3F966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D9E-E81F-4EC8-A826-73DCDAA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CF2-FD32-45A7-84F7-4203546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A66A-AF5A-4398-B8B7-2CC492D99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F19-0CC5-490D-816A-BB2C911DCF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BlgurKd9NU&amp;t=101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NmwvntMF5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sqOL_KT4Go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ntroduction to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ople are unaware of their own Weaknes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people believe they are better than average on any number of dimensions.  Can 80% of people have a higher IQ than averag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interpret info in ways that support their positive views of themsel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of people on singing sh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cientific Foundation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and Plato debated whether an individual’s psychology is attributable more to nature or nurtu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psychological characteristics biologically innate or acquired through experien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ind/body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 mind and body separate or is the mind the subjective experience of the br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alism/Mo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istorical Figure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helm Wundt established first psychological laboratory in 18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James gave the first lecture on Psychology at Harvard in 18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es Darwin explained natural selection and survival of the fittest in his evolutionary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aptive mutations are passed along and those that hinder reproduction are no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ychoanaly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gmund Freud said that much of human behavior is determined by mental processes operating below the level of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ychoanalysis.  Therapist and patient work together to bring contents of patient’s unconscious into conscious aware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ohn Watson said we can’t study what we can’t see.  He developed behaviorism – the study of environmental effects on observable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nur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F. Skinner studied how behavior was influenced by the consequences that fo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stalt mo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x Wertheimer and Wolfgang Kohl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whole is different than the sum of its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ception of objects is subjective and dependent on con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istic Psych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ham Maslow and Carl Ro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are free to choose activities that make them happy and bring them fulfill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 Schools of Thought in Psyc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rge Miller and Ulric Neis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ntal functions ARE important for understanding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has progressed into Cognitive Neuroscience – integrated view of mind and b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st Developments in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 is increasingly emphasi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chemis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ain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gen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olutionary Thinking is increasingly influ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n humans have only been around for 100,000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ltural evolution has occurred much faster than biological evol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ubfields of Psycholog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are the different subfields of Psychology?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Table 1.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 worksheet individu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finished, compare answers with oth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ill Psychology benefit you in your care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artoon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finition of Psychological Scien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study of mind, brain, and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 – mental activity, such as thoughts and feelings, perceptual experiences, memo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tal activity results from biological processes within the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– wide variety of actions that occur in organis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sychology teaches Critical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will develop skills necessary to critically evaluate claims made in the popular med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play amiable skepticism.  Be open to new ideas, but be skeptical of claims if there isn’t good evidence to support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 aware that you may not be motivated to think critically about information that supports your preconcep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so remember that our intuitions are often wro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bout the Mozart effec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BlgurKd9NU&amp;t=101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ased or Inaccurate Thi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’s Intuitions (instinctive feelings) are often wr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ases (we think in a way that leads us to be wrong) are very common, even in highly educated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rmation Bi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gnoring Evi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pay more attention to and believe evidence that supports our preexisting beliefs.  We tend to downplay or be skeptical of evidence that does not support our preexisting belief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ople selectively sample information and also show selective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s source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dNmwvntMF5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eing Relationships where they don’t ex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if two events happen at the same time, they must be relate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st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the fact Explan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ndsight bias – we say we knew something was going to happ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 we never predicted it ahead of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we know the outcome, we interpret and reinterpret old evidence to make sense of the out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csqOL_KT4G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ing Mental Shortcu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follow simple rules, heuristics, to make decis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vailability heuristic is one of the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you more likely to die in a plane crash, or in a fi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think that whatever comes easily to mind must be more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1-02-04T16:12:03Z</dcterms:modified>
  <cp:revision>48</cp:revision>
  <dc:subject/>
  <dc:title>Sensorimotor System</dc:title>
</cp:coreProperties>
</file>