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move the slid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63E8E-E020-43A1-B340-E8A04CA37D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EBAEF-45E5-4D50-B61F-8D7F59FBFC56}" type="slidenum"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A7BF6-E20E-4FC9-B858-C4CA6226440E}" type="slidenum"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7AC52-4E11-4476-B7E6-03F9B7572E6B}" type="slidenum"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DE949-0F6C-4B88-8BDA-BB4EEF7E2A89}" type="slidenum"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CFFC6-5FE2-4910-AD24-F7E19931E528}" type="slidenum"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3FD4B-EC4A-479A-8426-23BF14E5461A}" type="slidenum"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52CD3-449D-46C2-88EA-369F9E81309D}" type="slidenum"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77811-5FF3-4795-8A48-EA36C8E08C0D}" type="slidenum"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7B8C8-29EB-4CAF-8879-1E562C05D6DC}" type="slidenum"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43679-1C44-4D3D-AEEB-C6A6A3420030}" type="slidenum"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B48D4-C137-460F-B5F2-68B9F6BCE8A9}" type="slidenum"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81053-B80C-4E71-BEA2-9716315527C6}" type="slidenum"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D552A-A046-48DE-8751-8922FF7FCE3F}" type="slidenum"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DFE61-ECA2-47A8-AECF-D94D4B865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65960-52D5-4793-A879-197D9AC84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60682-78A4-458D-9E9F-92A3573B2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3AF91-8FAB-4408-9F7F-CBB5C3C10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EDB3D-1EA2-4CFC-85C6-95E004E45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60AFD-4E50-4E6C-B3DC-3B8F7311B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180E1-CA86-48D6-B9F1-0D4F0DBFF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9892B-24E6-4EF5-BA3E-972F92E9A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C3185-644A-482D-87FF-50B0DCA39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07A32-9D18-4F2C-BA20-1A9642C30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A0707-D4A0-461F-BD1B-1250A7102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0EEA2-BF49-4789-801A-16A0590EB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45825-2BD0-4958-AE32-1905278A1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4D67D-2930-4F18-8E57-48D7FFE7D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EE712-53F5-4F6F-94D1-83A240B8F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E3DB4-ABF1-4428-BFBE-5D70DADC2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74B39-96F8-492A-8C6B-51FB26E73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F656F-C4B6-4C9D-891B-494CB87B6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C300A-460F-46B4-B688-C9A66C37B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24131-8B7A-4438-BAF0-6440536A0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5927A-0197-4BD5-8DC3-A6880FCAA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27C74-461E-4F20-B1EB-7E754F1D8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87158-1C99-4A13-9444-C6ADF954C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6E401-5503-4750-A931-368A56526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57200" y="992160"/>
            <a:ext cx="8153280" cy="1600200"/>
            <a:chOff x="457200" y="992160"/>
            <a:chExt cx="8153280" cy="1600200"/>
          </a:xfrm>
        </p:grpSpPr>
        <p:sp>
          <p:nvSpPr>
            <p:cNvPr id="1" name="Arc 3"/>
            <p:cNvSpPr/>
            <p:nvPr/>
          </p:nvSpPr>
          <p:spPr>
            <a:xfrm>
              <a:off x="5707080" y="992160"/>
              <a:ext cx="2903400" cy="1600200"/>
            </a:xfrm>
            <a:custGeom>
              <a:avLst/>
              <a:gdLst/>
              <a:ahLst/>
              <a:rect l="l" t="t" r="r" b="b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  <a:lnTo>
                    <a:pt x="312" y="21600"/>
                  </a:ln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5632560" y="1157400"/>
              <a:ext cx="2906640" cy="1269720"/>
            </a:xfrm>
            <a:custGeom>
              <a:avLst/>
              <a:gdLst/>
              <a:ahLst/>
              <a:rect l="l" t="t" r="r" b="b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  <a:lnTo>
                    <a:pt x="324" y="21600"/>
                  </a:lnTo>
                  <a:lnTo>
                    <a:pt x="31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Arc 5"/>
            <p:cNvSpPr/>
            <p:nvPr/>
          </p:nvSpPr>
          <p:spPr>
            <a:xfrm>
              <a:off x="5589720" y="1378080"/>
              <a:ext cx="2904840" cy="828720"/>
            </a:xfrm>
            <a:custGeom>
              <a:avLst/>
              <a:gdLst/>
              <a:ahLst/>
              <a:rect l="l" t="t" r="r" b="b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  <a:lnTo>
                    <a:pt x="325" y="21600"/>
                  </a:lnTo>
                  <a:lnTo>
                    <a:pt x="31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AutoShape 6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F0EBE-5DBF-45E3-8A0F-B27015EB075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457200" y="2363760"/>
            <a:ext cx="8153280" cy="1600200"/>
            <a:chOff x="457200" y="2363760"/>
            <a:chExt cx="8153280" cy="1600200"/>
          </a:xfrm>
        </p:grpSpPr>
        <p:sp>
          <p:nvSpPr>
            <p:cNvPr id="47" name="Arc 3"/>
            <p:cNvSpPr/>
            <p:nvPr/>
          </p:nvSpPr>
          <p:spPr>
            <a:xfrm>
              <a:off x="5707080" y="2363760"/>
              <a:ext cx="2903400" cy="1600200"/>
            </a:xfrm>
            <a:custGeom>
              <a:avLst/>
              <a:gdLst/>
              <a:ahLst/>
              <a:rect l="l" t="t" r="r" b="b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  <a:lnTo>
                    <a:pt x="312" y="21600"/>
                  </a:ln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Arc 4"/>
            <p:cNvSpPr/>
            <p:nvPr/>
          </p:nvSpPr>
          <p:spPr>
            <a:xfrm>
              <a:off x="5632560" y="2529000"/>
              <a:ext cx="2906640" cy="1269720"/>
            </a:xfrm>
            <a:custGeom>
              <a:avLst/>
              <a:gdLst/>
              <a:ahLst/>
              <a:rect l="l" t="t" r="r" b="b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  <a:lnTo>
                    <a:pt x="324" y="21600"/>
                  </a:lnTo>
                  <a:lnTo>
                    <a:pt x="31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Arc 5"/>
            <p:cNvSpPr/>
            <p:nvPr/>
          </p:nvSpPr>
          <p:spPr>
            <a:xfrm>
              <a:off x="5589720" y="2749680"/>
              <a:ext cx="2904840" cy="828720"/>
            </a:xfrm>
            <a:custGeom>
              <a:avLst/>
              <a:gdLst/>
              <a:ahLst/>
              <a:rect l="l" t="t" r="r" b="b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  <a:lnTo>
                    <a:pt x="325" y="21600"/>
                  </a:lnTo>
                  <a:lnTo>
                    <a:pt x="31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AutoShape 6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9D39D-8967-495E-BAA4-6C4C99640CB8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s://www.youtube.com/watch?v=cBlgurKd9NU&amp;t=101s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s://www.youtube.com/watch?v=dNmwvntMF5A" TargetMode="Externa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s://www.youtube.com/watch?v=csqOL_KT4Go" TargetMode="Externa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Introduction to Psychological Science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hapter 1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eople are unaware of their own Weaknesse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Many people believe they are better than average on any number of dimensions.  Can 80% of people have a higher IQ than average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eople interpret info in ways that support their positive views of themselve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xample of people on singing show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Scientific Foundations of Psychology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ristotle and Plato debated whether an individual’s psychology is attributable more to nature or nurture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re psychological characteristics biologically innate or acquired through experience?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e mind/body problem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re the mind and body separate or is the mind the subjective experience of the brain?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Dualism/Monism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59" dur="20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64" dur="20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Historical Figures in Psychology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Wilhelm Wundt established first psychological laboratory in 1879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William James gave the first lecture on Psychology at Harvard in 1875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harles Darwin explained natural selection and survival of the fittest in his evolutionary theor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Adaptive mutations are passed along and those that hinder reproduction are not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Different Schools of Thought in Psychology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sychoanalytic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igmund Freud said that much of human behavior is determined by mental processes operating below the level of conscious awarenes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sychoanalysis.  Therapist and patient work together to bring contents of patient’s unconscious into conscious awarenes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33" dur="20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Different Schools of Thought in Psychology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Behaviorism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John Watson said we can’t study what we can’t see.  He developed behaviorism – the study of environmental effects on observable behavior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ll nurtur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B.F. Skinner studied how behavior was influenced by the consequences that followed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9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Different Schools of Thought in Psychology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Gestalt movemen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ax Wertheimer and Wolfgang Kohler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he whole is different than the sum of its part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erception of objects is subjective and dependent on contex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Humanistic Psycholog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braham Maslow and Carl Roger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eople are free to choose activities that make them happy and bring them fulfillmen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660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5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5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87" dur="20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Different Schools of Thought in Psychology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ognitivism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George Miller and Ulric Neisser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ental functions ARE important for understanding behavior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his has progressed into Cognitive Neuroscience – integrated view of mind and brain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2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2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150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50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Latest Developments in Psychology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Biology is increasingly emphasize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Brain chemistr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Brain imaging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he Human genom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volutionary Thinking is increasingly influentia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odern humans have only been around for 100,000 year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ultural evolution has occurred much faster than biological evolutio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20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7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Subfields of Psychology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What are the different subfields of Psychology?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e Table 1.2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omplete worksheet individuall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When finished, compare answers with other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0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0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0" dur="10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5" dur="5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Will Psychology benefit you in your career?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4" descr="cartoon"/>
          <p:cNvPicPr/>
          <p:nvPr/>
        </p:nvPicPr>
        <p:blipFill>
          <a:blip r:embed="rId1"/>
          <a:stretch/>
        </p:blipFill>
        <p:spPr>
          <a:xfrm>
            <a:off x="0" y="990720"/>
            <a:ext cx="9144000" cy="357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Definition of Psychological Science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cientific study of mind, brain, and behavior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Mind – mental activity, such as thoughts and feelings, perceptual experiences, memorie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Mental activity results from biological processes within the brain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Behavior – wide variety of actions that occur in organism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2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sychology teaches Critical Thinking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You will develop skills necessary to critically evaluate claims made in the popular media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Display amiable skepticism.  Be open to new ideas, but be skeptical of claims if there isn’t good evidence to support them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Be aware that you may not be motivated to think critically about information that supports your preconception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lso remember that our intuitions are often wrong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What about the Mozart effect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00cc"/>
                </a:solidFill>
                <a:uFillTx/>
                <a:latin typeface="Times New Roman"/>
                <a:hlinkClick r:id="rId1"/>
              </a:rPr>
              <a:t>https://www.youtube.com/watch?v=cBlgurKd9NU&amp;t=101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Biased or Inaccurate Thinking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eople’s Intuitions (instinctive feelings) are often wrong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Biases (we think in a way that leads us to be wrong) are very common, even in highly educated peopl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onfirmation Bia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Ignoring Evidenc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We pay more attention to and believe evidence that supports our preexisting beliefs.  We tend to downplay or be skeptical of evidence that does not support our preexisting belief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eople selectively sample information and also show selective memory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News source exampl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cc"/>
                </a:solidFill>
                <a:uFillTx/>
                <a:latin typeface="Times New Roman"/>
                <a:hlinkClick r:id="rId1"/>
              </a:rPr>
              <a:t>https://www.youtube.com/watch?v=dNmwvntMF5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eeing Relationships where they don’t exis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nking if two events happen at the same time, they must be related.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uperstition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After the fact Explanation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Hindsight bias – we say we knew something was going to happe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Yet we never predicted it ahead of tim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Once we know the outcome, we interpret and reinterpret old evidence to make sense of the outcom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00cc"/>
                </a:solidFill>
                <a:uFillTx/>
                <a:latin typeface="Times New Roman"/>
                <a:hlinkClick r:id="rId1"/>
              </a:rPr>
              <a:t>https://www.youtube.com/watch?v=csqOL_KT4Go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aking Mental Shortcut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eople follow simple rules, heuristics, to make decision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e availability heuristic is one of thes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re you more likely to die in a plane crash, or in a fire?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We think that whatever comes easily to mind must be more commo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6T21:02:00Z</dcterms:created>
  <dc:creator>Campus Computing</dc:creator>
  <dc:description/>
  <dc:language>en-US</dc:language>
  <cp:lastModifiedBy>Trench, Lynne S.</cp:lastModifiedBy>
  <dcterms:modified xsi:type="dcterms:W3CDTF">2021-02-04T16:12:03Z</dcterms:modified>
  <cp:revision>48</cp:revision>
  <dc:subject/>
  <dc:title>Sensorimotor System</dc:title>
</cp:coreProperties>
</file>