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29C-3617-4814-9F8A-41B86441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2D5-1DBE-458E-A3C2-12311CCFF94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2DE-46FE-4B0C-9BFF-4DBC9020A41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D58E-871E-4227-A8E4-94860B415BB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EA03-0BCB-44C6-844F-316489BE4E9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BCFA-D062-422C-A9FC-9DFF592D7F8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F8F-4FA1-4FE4-AB28-C5B3F274709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F006-B1E5-455D-86C9-084CD73FC64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13F-4743-419E-B31D-4A96BFC2EEB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F030-91DD-4D36-8E4C-C684CB46015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96F6-6939-4811-A910-7E8F0411CEA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0D1B-0DFE-44CC-94A2-D4F98411DAC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D843-B118-4B6E-9732-BDCACBE15B8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B02-466B-4C07-9D17-6A7A147A333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DA8-3938-4BBC-9A80-9E05F77C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A30-6838-46DA-9999-D74844F0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56C-1B29-4FE4-BF0F-D502E383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B38-6BD8-4467-9368-04C745A3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EE7-B590-4FDA-A213-DDB13A7B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D9F-E512-4ADD-9D58-F68F35C5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E5BB-9C33-4A3C-A6D6-5132E52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58A3-4264-4354-9BC6-160AABB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17E-D271-4A7F-9819-7A9EEDE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3DB9-97E3-4C57-A20C-B70DDC4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B4B7-8E45-4C77-B32A-A0B49DD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B15-06E8-4485-9007-1BACF6C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13AF-CD5C-4B57-B5EF-0B5B0C5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C7AB-BA47-4150-B0CD-FBA05A0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CCD-174C-45F5-A775-B52B44E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D70-8679-44B2-A9CE-65C4C4A3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09E2-C37B-498E-9536-973FC6D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1AD-D149-4612-B4A1-5C7FBBCA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8C5-A806-474C-A293-3C771537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59A-37A7-403E-BB55-0BCF035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EB5-4075-43A9-AEAE-4DA9E13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FBB-A9B8-433F-A964-EDC8F66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F74-71B7-4917-860B-190D92E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A36-05AE-469C-81A5-33F47AC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1E1-CCF0-45B4-A2B1-9112409DA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44C7-7242-4864-8D12-7A6BEF383D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BlgurKd9NU&amp;t=101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NmwvntMF5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sqOL_KT4Go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ntroduction to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ople are unaware of their own Weak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people believe they are better than average on any number of dimensions.  Can 80% of people have a higher IQ than averag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interpret info in ways that support their positive views of themsel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of people on singing sh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cientific Foundation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and Plato debated whether an individual’s psychology is attributable more to nature or nur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psychological characteristics biologically innate or acquired through exper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ind/body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 mind and body separate or is the mind the subjective experience of the br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alism/Mo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istorical Figure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helm Wundt established first psychological laboratory in 18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James gave the first lecture on Psychology at Harvard in 18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es Darwin explained natural selection and survival of the fittest in his evolutionary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aptive mutations are passed along and those that hinder reproduction are n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analy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gmund Freud said that much of human behavior is determined by mental processes operating below the level of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ychoanalysis.  Therapist and patient work together to bring contents of patient’s unconscious into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hn Watson said we can’t study what we can’t see.  He developed behaviorism – the study of environmental effects on observable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nur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F. Skinner studied how behavior was influenced by the consequences that fo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stalt mo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x Wertheimer and Wolfgang Kohl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hole is different than the sum of its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ception of objects is subjective and dependent on con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istic Psych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ham Maslow and Carl Ro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are free to choose activities that make them happy and bring them fulfill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rge Miller and Ulric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al functions ARE important for understanding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has progressed into Cognitive Neuroscience – integrated view of mind and b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st Development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 is increasingly emphasi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chemis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gen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olutionary Thinking is increasingly influ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n humans have only been around for 100,00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ural evolution has occurred much faster than biological evol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ubfield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are the different subfields of Psychology?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Table 1.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worksheet individu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finished, compare answers with oth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ill Psychology benefit you in your care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artoon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finition of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study of mind, brain, and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 – mental activity, such as thoughts and feelings, perceptual experiences, memo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tal activity results from biological processes within the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– wide variety of actions that occur in organis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sychology teaches Critical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will develop skills necessary to critically evaluate claims made in the popular med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play amiable skepticism.  Be open to new ideas, but be skeptical of claims if there isn’t good evidence to support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 aware that you may not be motivated to think critically about information that supports your preconcep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so remember that our intuitions are often wro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bout the Mozart effec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BlgurKd9NU&amp;t=101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ased or Inaccurate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’s Intuitions (instinctive feelings) are often wr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ases (we think in a way that leads us to be wrong) are very common, even in highly educated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rmation B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gnoring Evi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pay more attention to and believe evidence that supports our preexisting beliefs.  We tend to downplay or be skeptical of evidence that does not support our preexisting belief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selectively sample information and also show selective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s source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dNmwvntMF5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eing Relationships where they don’t ex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if two events happen at the same time, they must be relate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the fact Explan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ndsight bias – we say we knew something was going to happ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 we never predicted it ahead of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we know the outcome, we interpret and reinterpret old evidence to make sense of the out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sqOL_KT4G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ing Mental Shortcu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follow simple rules, heuristics, to make deci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vailability heuristic is one of the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you more likely to die in a plane crash, or in a fi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think that whatever comes easily to mind must be more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1-02-04T16:12:03Z</dcterms:modified>
  <cp:revision>48</cp:revision>
  <dc:subject/>
  <dc:title>Sensorimotor System</dc:title>
</cp:coreProperties>
</file>