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7"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EEB23-06EC-4544-8AEC-49D103937019}" type="datetime">
              <a:rPr b="0" lang="en-US" sz="1200" spc="-1" strike="noStrike">
                <a:solidFill>
                  <a:srgbClr val="000000"/>
                </a:solidFill>
                <a:latin typeface="Times New Roman"/>
                <a:ea typeface="Geneva"/>
              </a:rPr>
              <a:t>07/28/26</a:t>
            </a:fld>
            <a:endParaRPr b="0" lang="en-US" sz="1200" spc="-1" strike="noStrike">
              <a:solidFill>
                <a:srgbClr val="000000"/>
              </a:solidFill>
              <a:latin typeface="Times New Roman"/>
            </a:endParaRPr>
          </a:p>
        </p:txBody>
      </p:sp>
      <p:sp>
        <p:nvSpPr>
          <p:cNvPr id="5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5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0"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1"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D3A06-A54D-4892-8834-75D90C79155C}"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98D92-32B8-4761-B65C-DF822469D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90829-309E-47DF-8A9C-2534CFF13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4DD1D8B-AC55-493B-9EDD-847F9D37E83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AA3E6EF-828B-4790-84B2-D66DC0C1FA5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1A4CFF1-5279-46BF-9E14-4B07DA112A9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C5A6272-0EF1-441A-AD0F-831210E2BA3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43DB2F0-1823-43B5-A896-7E6A120C039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807C73E-7584-4158-B6E9-67CABD4EF71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8A5D041-839A-49D3-8F7B-0ABDA032605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9438D74-E4C9-4ACD-9227-642D86F1C6A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F944D37-6621-4E80-91BA-C23F3195F1C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451D623-7D80-471F-9AD8-1AC3A141240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58DD3-4243-41E4-BF1E-9EDB394C6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AC3AB19-BC3E-43FC-BE68-572E236298A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439C9B5-1EED-432B-B431-0F072F053C6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D298EE0-E47A-461B-8A78-A94CAEB7434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57BB966-010D-44A0-B2A3-0E8004528F4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31C3B29-9F25-4DC1-AA47-72BCBD10985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CAFE689-EA8B-4A56-8AEB-7B5FAC7E587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B40677B-FCF4-4FAC-B3C1-E05C9BCC005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624E4F2-71E4-434F-9B55-8E44ED60458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C977718-E07B-417B-86A8-EFE44E27E1C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4C2717D-842E-4D75-B4A5-446A88D5476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6FD8C-DF69-40A1-A253-208622DC8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A6A9E40-9826-404A-B94A-E7C96F0A66B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9BFC0FB-E01D-405F-89E0-DBF2718D687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1BB823C-3C3C-4721-969F-EAC950BD934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87915DD-08FA-4C24-9B96-DE35DC7BB92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ACFE502-6995-4D76-A6FA-D5D5A513E37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5F048B9-8A40-417B-99D2-27802F46CDB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8FDB3B5-08C6-4341-B56F-F1E7330BA39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4963C4F-D797-4B28-BF89-BBA15D848EF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39E76BC-2EFD-4DD9-B103-046E08AE3A3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ED29F7A-2C16-4050-BEFC-238C52D95F3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6A4547-E5C3-4DA9-BE09-D615210582F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1D0263F-07D8-47E1-95CE-1FF3C3FDB9B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F8A1E51-7D59-4BDC-A695-8F923AD26FAB}"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225AEEA-78DD-45CE-B62C-486F903D02B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CE765F7-DBBA-4879-8CE5-564BFF84166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3D1A6E7-7A1A-40F7-85D5-A8EEB3170D5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F909756-F4F3-435A-92C8-47F0D9050FB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0ADDEFB-C66D-4865-ACFD-8E4766A9541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D4D1E0C-1FA0-40D7-9E67-AFAB11B451D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1929B5C-AEFC-4219-BFA8-A85599D4E75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1F9780A-0816-44F9-A64F-5B800B4D83A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1ACD9B-527F-4548-AD89-EC0337C0B87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4E3A3B9-7600-475B-B13D-1EE439D2EC1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8EA44D1-1702-4796-90D7-DA8E3FC9928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5F690E3-F6DB-4863-A1AE-8A9F694F3CE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3CDBA5F0-42FA-4B71-AB7A-876F9024AA6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FF820EC7-4C10-4800-91C7-7B6E62CC6F3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05F46D4-7E5E-4EBC-9C2A-4F23EF24E0C5}"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EA90AC3-5DD8-488C-AA2F-2BFE7A1B702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4605312-D3E1-4FE4-950B-C00EC57C54A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5620EE1-FAA9-4335-A3AF-2ED5A573BC3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D010E03-CD5D-451D-8DAB-07077DF20A8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7B6029-8FD8-4D5B-8364-BCF49D19AA95}"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041176F-3039-492B-9E07-2F9BBF89391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1047C39-63C0-41D8-A397-089B1DEBEE8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9D0FD4A-5DD2-4442-88A3-557C2D615DC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A700CF2-EE09-49C6-AD8C-BAA39B6E8A3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816F64B-21B0-4585-9C03-3B54E0FE96A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D1A0DD7-1E87-44C1-B0D0-B3FA6106B7E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9415154-8402-4E85-926F-C95EBF2052F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3C2D22A2-5072-46EE-908D-730ABA9135CB}"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A9B8811-31E4-4589-8D9D-30F587F0C0B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D0F51DE-48F7-42E6-9470-30CE6E2D217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C0212E-DEDC-4F10-B068-96877F8E8154}"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0B865BA-014C-4C91-8F39-25E943B4C77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1757CC3-2D1A-478A-9BE5-1B17EEFAE4E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57718D7-B049-4735-AD98-622EB0C6C90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F1DE7FE-8645-4511-BA2D-7EEFBCC5205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9B21AA9-051A-4832-A1A8-1F50617CA01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7E72E3A-C599-4CF6-945E-B3D4DD60CA1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5BDF2FF-7B93-47FE-A9E0-4F5AE8B2618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77A29E7D-9D27-4394-9873-3B0C90012F5D}"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0480BF48-4896-433B-984A-D20FA8F7309F}"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D63E62-5B70-4F49-9729-3F9D5DDB4B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736426-68EC-4089-B539-5EB9721CE1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CD7DFF-E35B-473E-ABA9-838BE1E5E5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D9A22-F350-4DDA-AF17-503CD4FA7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A9D44A-842D-4576-AD98-B7296534B2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33434F-592E-44E3-998B-6705FBB0BD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1A25AB-6DFA-401B-97C7-E950B52A30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6B976E-3F34-406E-B8EC-31B8C2F711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9A0426-C0D4-4A87-A9D4-FC6B49D499A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C14E5-1DD1-4897-9FFE-AD547F6CE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1F0E6-E024-4D49-963A-784E4834B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9EB3775-6F0F-4F1B-B471-1C68D5868FD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30A71-BFA4-400D-9632-8482BE6AF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844D38B-7C01-42BF-B287-F1025B085E7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C7FAD95-3111-49EA-9E1E-F7A9FFCB3C7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61A962E-569E-4433-AF4F-62893846E9D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A24B181-4C29-436E-8A8C-7C4B449711E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7EB8213-245D-4927-B2D3-2A6904C11B5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D64AB17-243A-4F23-962E-2A9E93B0C1A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BB245C7-7D10-444C-915D-FBD7E99465D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4A5307-6C3F-456B-BE45-E0755A6DEDE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A111CC1-D6D3-4D1C-9D03-DF372AF2BC8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BC63F5F-5464-48FB-BAE5-8987DB8EE66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034BB-B791-44CC-9771-A2683912B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7568F2A-9801-4B74-88FB-FFED3FB8AC9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1735CFF-82E2-42B4-B919-5B6B5E5BF64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AD26DE6-E26A-4972-9F02-39189640868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0F31DA1-503B-4FFE-B6A4-1126DE8C328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354CFDD-3D94-4A42-BA3B-F96A450C421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DB11991-F453-4C72-8CF5-52D0AAA0CBF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7EFF1F5-1D90-46D0-86D8-836D9983890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98C5E1E-02E9-4781-9115-A9D7739C86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0E34E83-C3BE-48EE-8340-BE4152FF0A8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BFE536-A345-4EEA-B643-6C0CEE2218B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8FACC-9059-4CF1-9D14-8ED8C72A3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CE4FEB9-D457-4736-BBB3-9DB984E2006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87B611E-F483-4BD1-AC87-1AB9746842D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CB18E3E-4283-4BF7-968E-72CFD0CE100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321FF1E-ED7E-4B32-AC4C-4593B1C9F5B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E30CFA5-9D1D-448D-AAFD-AD4CCA5DC42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B5B4968-52BD-4EEA-A5D0-01DE6B47901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8E7C750-8A88-475C-AAC0-FC6B92482B2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02365B7-A1D3-4929-9CBA-18367D17046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19A5065-02D9-4F82-90AD-90E9E1B2662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14592A9-C6C1-48E5-90C3-C2DCE89B490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BA3FC-E8F0-478C-8B93-96E6231BF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8C9D39C-B85D-4A7D-B92A-22FC4D790BA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D751B92-91B1-4C79-B7BF-A8A97C4BEEB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1D1A526-EB3E-4423-BBB9-D86CAF75612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54D0BAE-B47B-4B52-90B0-C57B23C8470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EC58F46-E874-44A7-8468-599A59D3A2A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1152405-ECDD-437A-8A83-57C2FC33184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692B253-30D2-449B-AD79-AFC3998737D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1345B75-4B3E-4C7E-9E67-DB5A92E11A5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4311D95-6E1E-480D-8E06-96AD5D718AE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C5C6980-21BF-41F2-8177-79C7428531D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AD784-B2E4-40F0-A9A6-11EDFEC37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F55EC60-F3D4-48E4-9BB7-647B4BDFB9F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20C18A4-0AB4-4372-A2C4-08073A4249A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6FDAB62-E52F-4313-9119-2C636FD6F91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34A61FD-7612-4642-98B9-3001624DEC2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B2234A3-F524-4061-A76F-0A894E925E7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CF6875D-F528-4144-9CDA-A4B095123FE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A2089ED-EFE5-4FFD-A3CA-503135626F7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0CC990F-E4F7-4004-BD1E-F18E380054D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3854094-2F0D-4A86-9C3A-360AAD38D14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C07600B-84E1-457B-A1DE-F36B1AD0675A}"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14AE2-7045-4D22-A067-B67ECED7FB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8E326-A5C3-4E18-B608-FD816F5BF20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B5959-707F-46DE-87AA-6ECE5599C44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1C18C-17F1-4FC3-9228-B402ECC7046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F31C9-9B8C-4856-8891-054AE1FD634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1B883-AE65-43BE-BA4D-0396F7E874D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8B62B-D2C0-497F-9378-E088EAA1CDB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56299-3CF3-47DB-823D-9DE1761BA72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BF56F-99C9-413E-A137-2EEA3B1EA40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9F47A-16D2-4F5A-8F1F-B0CB9FD7779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DD03B-CE04-446E-B865-F27BD7138F2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2EFC1-2C06-4C24-B0C6-BE92E22B4FF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03" name=""/>
          <p:cNvSpPr txBox="1"/>
          <p:nvPr/>
        </p:nvSpPr>
        <p:spPr>
          <a:xfrm>
            <a:off x="549000" y="1676160"/>
            <a:ext cx="8042040" cy="426708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 Social Responsibility </a:t>
            </a:r>
            <a:endParaRPr b="0" lang="en-US" sz="32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for International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0" y="0"/>
            <a:ext cx="91058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ea typeface="PMingLiU"/>
              </a:rPr>
              <a:t>Corporate Social Responsibility Perspectives </a:t>
            </a:r>
            <a:endParaRPr b="1" lang="en-US" sz="3200" spc="-1" strike="noStrike">
              <a:solidFill>
                <a:srgbClr val="ff0000"/>
              </a:solidFill>
              <a:latin typeface="News Gothic MT"/>
            </a:endParaRPr>
          </a:p>
        </p:txBody>
      </p:sp>
      <p:sp>
        <p:nvSpPr>
          <p:cNvPr id="621" name=""/>
          <p:cNvSpPr txBox="1"/>
          <p:nvPr/>
        </p:nvSpPr>
        <p:spPr>
          <a:xfrm>
            <a:off x="549000" y="1142640"/>
            <a:ext cx="8042040" cy="4800600"/>
          </a:xfrm>
          <a:prstGeom prst="rect">
            <a:avLst/>
          </a:prstGeom>
          <a:noFill/>
          <a:ln w="0">
            <a:noFill/>
          </a:ln>
        </p:spPr>
        <p:txBody>
          <a:bodyPr anchor="t">
            <a:normAutofit fontScale="98000"/>
          </a:bodyPr>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Utilitarian</a:t>
            </a:r>
            <a:r>
              <a:rPr b="0" lang="en-US" sz="2800" spc="-1" strike="noStrike">
                <a:solidFill>
                  <a:srgbClr val="595959"/>
                </a:solidFill>
                <a:latin typeface="News Gothic MT"/>
              </a:rPr>
              <a:t> perspective suggests that CSR is a tool to help achieve a firm’s performance objectives (e.g. sales volume, profitability, ROI).</a:t>
            </a:r>
            <a:endParaRPr b="0" lang="en-US" sz="2800" spc="-1" strike="noStrike">
              <a:solidFill>
                <a:srgbClr val="595959"/>
              </a:solidFill>
              <a:latin typeface="News Gothic MT"/>
            </a:endParaRPr>
          </a:p>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ositive duty </a:t>
            </a:r>
            <a:r>
              <a:rPr b="0" lang="en-US" sz="2800" spc="-1" strike="noStrike">
                <a:solidFill>
                  <a:srgbClr val="595959"/>
                </a:solidFill>
                <a:latin typeface="News Gothic MT"/>
              </a:rPr>
              <a:t>approach suggests that businesses believe that have a duty toward CSR.</a:t>
            </a:r>
            <a:endParaRPr b="0" lang="en-US" sz="2800" spc="-1" strike="noStrike">
              <a:solidFill>
                <a:srgbClr val="595959"/>
              </a:solidFill>
              <a:latin typeface="News Gothic MT"/>
            </a:endParaRPr>
          </a:p>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Negative duty </a:t>
            </a:r>
            <a:r>
              <a:rPr b="0" lang="en-US" sz="2800" spc="-1" strike="noStrike">
                <a:solidFill>
                  <a:srgbClr val="595959"/>
                </a:solidFill>
                <a:latin typeface="News Gothic MT"/>
              </a:rPr>
              <a:t>approach occurs when businesses engage in CSR because they feel compelled to do so.</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SR and Business Operations</a:t>
            </a:r>
            <a:endParaRPr b="1" lang="en-US" sz="3600" spc="-1" strike="noStrike">
              <a:solidFill>
                <a:srgbClr val="ff0000"/>
              </a:solidFill>
              <a:latin typeface="News Gothic MT"/>
            </a:endParaRPr>
          </a:p>
        </p:txBody>
      </p:sp>
      <p:sp>
        <p:nvSpPr>
          <p:cNvPr id="623"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sponsive CSR: </a:t>
            </a:r>
            <a:r>
              <a:rPr b="0" lang="en-US" sz="2800" spc="-1" strike="noStrike">
                <a:solidFill>
                  <a:srgbClr val="595959"/>
                </a:solidFill>
                <a:latin typeface="News Gothic MT"/>
              </a:rPr>
              <a:t>Views the community as an entity in tension or conflict with the company. Engages in CSR as a response to negative publicit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Strategic CSR: </a:t>
            </a:r>
            <a:r>
              <a:rPr b="0" lang="en-US" sz="2800" spc="-1" strike="noStrike">
                <a:solidFill>
                  <a:srgbClr val="595959"/>
                </a:solidFill>
                <a:latin typeface="News Gothic MT"/>
              </a:rPr>
              <a:t>Attempts to use CSR to build competitive advantage and reach business goal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1263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does Corporate Social Responsibility Mean? </a:t>
            </a:r>
            <a:endParaRPr b="1" lang="en-US" sz="3200" spc="-1" strike="noStrike">
              <a:solidFill>
                <a:srgbClr val="ff0000"/>
              </a:solidFill>
              <a:latin typeface="News Gothic MT"/>
            </a:endParaRPr>
          </a:p>
        </p:txBody>
      </p:sp>
      <p:sp>
        <p:nvSpPr>
          <p:cNvPr id="60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595959"/>
                </a:solidFill>
                <a:latin typeface="News Gothic MT"/>
              </a:rPr>
              <a:t>What does it mean to say that a corporate executive has a "social responsibility" in his/her capacity as businessman/businesswoman? </a:t>
            </a:r>
            <a:endParaRPr b="0" lang="en-US" sz="27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PMingLiU"/>
              </a:rPr>
              <a:t>Corporate Social Responsibility</a:t>
            </a:r>
            <a:endParaRPr b="1" lang="en-US" sz="3600" spc="-1" strike="noStrike">
              <a:solidFill>
                <a:srgbClr val="ff0000"/>
              </a:solidFill>
              <a:latin typeface="News Gothic MT"/>
            </a:endParaRPr>
          </a:p>
        </p:txBody>
      </p:sp>
      <p:sp>
        <p:nvSpPr>
          <p:cNvPr id="607" name=""/>
          <p:cNvSpPr txBox="1"/>
          <p:nvPr/>
        </p:nvSpPr>
        <p:spPr>
          <a:xfrm>
            <a:off x="549000" y="1294920"/>
            <a:ext cx="8042040" cy="4876920"/>
          </a:xfrm>
          <a:prstGeom prst="rect">
            <a:avLst/>
          </a:prstGeom>
          <a:noFill/>
          <a:ln w="0">
            <a:noFill/>
          </a:ln>
        </p:spPr>
        <p:txBody>
          <a:bodyPr anchor="t">
            <a:normAutofit fontScale="96000"/>
          </a:bodyPr>
          <a:p>
            <a:pPr marL="335160" indent="-3351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ea typeface="PMingLiU"/>
              </a:rPr>
              <a:t>CSR</a:t>
            </a:r>
            <a:r>
              <a:rPr b="0" lang="en-US" sz="3200" spc="-1" strike="noStrike">
                <a:solidFill>
                  <a:srgbClr val="595959"/>
                </a:solidFill>
                <a:latin typeface="News Gothic MT"/>
                <a:ea typeface="PMingLiU"/>
              </a:rPr>
              <a:t>: Action of a firm to benefit society beyond the requirements of the law and direct interests of the firm.</a:t>
            </a:r>
            <a:endParaRPr b="0" lang="en-US" sz="3200" spc="-1" strike="noStrike">
              <a:solidFill>
                <a:srgbClr val="595959"/>
              </a:solidFill>
              <a:latin typeface="News Gothic MT"/>
            </a:endParaRPr>
          </a:p>
          <a:p>
            <a:pPr lvl="4" marL="877680" indent="-27108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95959"/>
              </a:solidFill>
              <a:latin typeface="News Gothic MT"/>
            </a:endParaRPr>
          </a:p>
          <a:p>
            <a:pPr lvl="4" marL="877680" indent="-27108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losely related to ethics.</a:t>
            </a:r>
            <a:endParaRPr b="0" lang="en-US" sz="3200" spc="-1" strike="noStrike">
              <a:solidFill>
                <a:srgbClr val="595959"/>
              </a:solidFill>
              <a:latin typeface="News Gothic MT"/>
            </a:endParaRPr>
          </a:p>
          <a:p>
            <a:pPr lvl="4" marL="877680" indent="-27108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SR involves taking voluntary action.</a:t>
            </a:r>
            <a:endParaRPr b="0" lang="en-US" sz="3200" spc="-1" strike="noStrike">
              <a:solidFill>
                <a:srgbClr val="595959"/>
              </a:solidFill>
              <a:latin typeface="News Gothic MT"/>
            </a:endParaRPr>
          </a:p>
          <a:p>
            <a:pPr lvl="4" marL="877680" indent="-27108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SR concerns may include working conditions in factories and service centers, as well as the environmental impact of corporate activities, among many other endeavors.</a:t>
            </a:r>
            <a:endParaRPr b="0" lang="en-US" sz="3200" spc="-1" strike="noStrike">
              <a:solidFill>
                <a:srgbClr val="595959"/>
              </a:solidFill>
              <a:latin typeface="News Gothic MT"/>
            </a:endParaRPr>
          </a:p>
          <a:p>
            <a:pPr marL="335160" indent="-3351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News Gothic MT"/>
              </a:rPr>
              <a:t>The Classical View</a:t>
            </a:r>
            <a:endParaRPr b="1" lang="en-US" sz="4000" spc="-1" strike="noStrike">
              <a:solidFill>
                <a:srgbClr val="ff0000"/>
              </a:solidFill>
              <a:latin typeface="News Gothic MT"/>
            </a:endParaRPr>
          </a:p>
        </p:txBody>
      </p:sp>
      <p:sp>
        <p:nvSpPr>
          <p:cNvPr id="609" name="PlaceHolder 2"/>
          <p:cNvSpPr>
            <a:spLocks noGrp="1"/>
          </p:cNvSpPr>
          <p:nvPr>
            <p:ph/>
          </p:nvPr>
        </p:nvSpPr>
        <p:spPr>
          <a:xfrm>
            <a:off x="380520" y="1295280"/>
            <a:ext cx="8210520" cy="4648320"/>
          </a:xfrm>
          <a:prstGeom prst="rect">
            <a:avLst/>
          </a:prstGeom>
          <a:noFill/>
          <a:ln w="0">
            <a:noFill/>
          </a:ln>
        </p:spPr>
        <p:txBody>
          <a:bodyPr anchor="t">
            <a:normAutofit/>
          </a:bodyPr>
          <a:p>
            <a:pPr marL="349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t>
            </a:r>
            <a:r>
              <a:rPr b="0" i="1" lang="en-US" sz="2600" spc="-1" strike="noStrike">
                <a:solidFill>
                  <a:srgbClr val="595959"/>
                </a:solidFill>
                <a:latin typeface="News Gothic MT"/>
              </a:rPr>
              <a:t>Few trends could so thoroughly undermine the very foundations of our free society as the acceptance by corporate officials of social responsibility other than to make as much money for their stockholders as possible.”  </a:t>
            </a:r>
            <a:r>
              <a:rPr b="0" lang="en-US" sz="2600" spc="-1" strike="noStrike">
                <a:solidFill>
                  <a:srgbClr val="595959"/>
                </a:solidFill>
                <a:latin typeface="News Gothic MT"/>
              </a:rPr>
              <a:t>Milton Friedman.</a:t>
            </a:r>
            <a:endParaRPr b="0" lang="en-US" sz="2600" spc="-1" strike="noStrike">
              <a:solidFill>
                <a:srgbClr val="595959"/>
              </a:solidFill>
              <a:latin typeface="News Gothic MT"/>
            </a:endParaRPr>
          </a:p>
          <a:p>
            <a:pPr marL="349200" indent="-349200">
              <a:spcBef>
                <a:spcPts val="2001"/>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Management’s only responsibility is to maximize returns for the stockholder. </a:t>
            </a:r>
            <a:endParaRPr b="0" lang="en-US" sz="2600" spc="-1" strike="noStrike">
              <a:solidFill>
                <a:srgbClr val="595959"/>
              </a:solidFill>
              <a:latin typeface="News Gothic MT"/>
            </a:endParaRPr>
          </a:p>
          <a:p>
            <a:pPr marL="349200" indent="-349200">
              <a:spcBef>
                <a:spcPts val="2001"/>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Read Milton Friedman’s essay entitled </a:t>
            </a:r>
            <a:r>
              <a:rPr b="0" i="1" lang="en-US" sz="2600" spc="-1" strike="noStrike">
                <a:solidFill>
                  <a:srgbClr val="595959"/>
                </a:solidFill>
                <a:latin typeface="News Gothic MT"/>
              </a:rPr>
              <a:t>The Social Responsibility of Business is to Increase its Profits. </a:t>
            </a:r>
            <a:endParaRPr b="0" lang="en-US" sz="2600" spc="-1" strike="noStrike">
              <a:solidFill>
                <a:srgbClr val="595959"/>
              </a:solidFill>
              <a:latin typeface="News Gothic MT"/>
            </a:endParaRPr>
          </a:p>
          <a:p>
            <a:pPr marL="3492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News Gothic MT"/>
              </a:rPr>
              <a:t>The Business Roundtable</a:t>
            </a:r>
            <a:endParaRPr b="1" lang="en-US" sz="4000" spc="-1" strike="noStrike">
              <a:solidFill>
                <a:srgbClr val="ff0000"/>
              </a:solidFill>
              <a:latin typeface="News Gothic MT"/>
            </a:endParaRPr>
          </a:p>
        </p:txBody>
      </p:sp>
      <p:sp>
        <p:nvSpPr>
          <p:cNvPr id="61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ugust 19, 2019: The Business Roundtable today announced the release of a new </a:t>
            </a:r>
            <a:r>
              <a:rPr b="0" i="1" lang="en-US" sz="2800" spc="-1" strike="noStrike">
                <a:solidFill>
                  <a:srgbClr val="595959"/>
                </a:solidFill>
                <a:latin typeface="News Gothic MT"/>
              </a:rPr>
              <a:t>Statement on the Purpose of a Corporation </a:t>
            </a:r>
            <a:r>
              <a:rPr b="0" lang="en-US" sz="2800" spc="-1" strike="noStrike">
                <a:solidFill>
                  <a:srgbClr val="595959"/>
                </a:solidFill>
                <a:latin typeface="News Gothic MT"/>
              </a:rPr>
              <a:t>signed by 181 CEOs who commit to lead their companies for the benefit of all stakeholders – customers, employees, supplies, communities and shareholder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ad the Roundtable’s </a:t>
            </a:r>
            <a:r>
              <a:rPr b="0" i="1" lang="en-US" sz="2800" spc="-1" strike="noStrike">
                <a:solidFill>
                  <a:srgbClr val="595959"/>
                </a:solidFill>
                <a:latin typeface="News Gothic MT"/>
              </a:rPr>
              <a:t>Statement on the Purpose of a Corporation.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News Gothic MT"/>
              </a:rPr>
              <a:t>The Purpose of the Corporation: </a:t>
            </a:r>
            <a:br>
              <a:rPr sz="3000"/>
            </a:br>
            <a:r>
              <a:rPr b="1" lang="en-US" sz="3000" spc="-1" strike="noStrike">
                <a:solidFill>
                  <a:srgbClr val="ff0000"/>
                </a:solidFill>
                <a:latin typeface="News Gothic MT"/>
              </a:rPr>
              <a:t>Friedman Versus The Business Roundtable</a:t>
            </a:r>
            <a:endParaRPr b="1" lang="en-US" sz="3000" spc="-1" strike="noStrike">
              <a:solidFill>
                <a:srgbClr val="ff0000"/>
              </a:solidFill>
              <a:latin typeface="News Gothic MT"/>
            </a:endParaRPr>
          </a:p>
        </p:txBody>
      </p:sp>
      <p:sp>
        <p:nvSpPr>
          <p:cNvPr id="613"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 Business Roundtable’s revised statement on the purpose of a corporation issued in August 2019 was controversial.</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ed by the editorial board at </a:t>
            </a:r>
            <a:r>
              <a:rPr b="0" i="1" lang="en-US" sz="2800" spc="-1" strike="noStrike">
                <a:solidFill>
                  <a:srgbClr val="595959"/>
                </a:solidFill>
                <a:latin typeface="News Gothic MT"/>
              </a:rPr>
              <a:t>The Wall Street Journal</a:t>
            </a:r>
            <a:r>
              <a:rPr b="0" lang="en-US" sz="2800" spc="-1" strike="noStrike">
                <a:solidFill>
                  <a:srgbClr val="595959"/>
                </a:solidFill>
                <a:latin typeface="News Gothic MT"/>
              </a:rPr>
              <a:t>, critics accused the members of the Roundtable of abandoning their fiduciary responsibility to shareholder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One Year Later – Fall 2020</a:t>
            </a:r>
            <a:endParaRPr b="1" lang="en-US" sz="3200" spc="-1" strike="noStrike">
              <a:solidFill>
                <a:srgbClr val="ff0000"/>
              </a:solidFill>
              <a:latin typeface="News Gothic MT"/>
            </a:endParaRPr>
          </a:p>
        </p:txBody>
      </p:sp>
      <p:sp>
        <p:nvSpPr>
          <p:cNvPr id="61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s past fall, </a:t>
            </a:r>
            <a:r>
              <a:rPr b="0" i="1" lang="en-US" sz="2800" spc="-1" strike="noStrike">
                <a:solidFill>
                  <a:srgbClr val="595959"/>
                </a:solidFill>
                <a:latin typeface="News Gothic MT"/>
              </a:rPr>
              <a:t>The Wall Street Journal </a:t>
            </a:r>
            <a:r>
              <a:rPr b="0" lang="en-US" sz="2800" spc="-1" strike="noStrike">
                <a:solidFill>
                  <a:srgbClr val="595959"/>
                </a:solidFill>
                <a:latin typeface="News Gothic MT"/>
              </a:rPr>
              <a:t>looked back at what changes, if any, the new </a:t>
            </a:r>
            <a:r>
              <a:rPr b="0" i="1" lang="en-US" sz="2800" spc="-1" strike="noStrike">
                <a:solidFill>
                  <a:srgbClr val="595959"/>
                </a:solidFill>
                <a:latin typeface="News Gothic MT"/>
              </a:rPr>
              <a:t>Statement on the Purpose of the Corporation </a:t>
            </a:r>
            <a:r>
              <a:rPr b="0" lang="en-US" sz="2800" spc="-1" strike="noStrike">
                <a:solidFill>
                  <a:srgbClr val="595959"/>
                </a:solidFill>
                <a:latin typeface="News Gothic MT"/>
              </a:rPr>
              <a:t>brought to American business operation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Today’s Environment – Spring 2021</a:t>
            </a:r>
            <a:endParaRPr b="1" lang="en-US" sz="3200" spc="-1" strike="noStrike">
              <a:solidFill>
                <a:srgbClr val="ff0000"/>
              </a:solidFill>
              <a:latin typeface="News Gothic MT"/>
            </a:endParaRPr>
          </a:p>
        </p:txBody>
      </p:sp>
      <p:sp>
        <p:nvSpPr>
          <p:cNvPr id="617" name=""/>
          <p:cNvSpPr txBox="1"/>
          <p:nvPr/>
        </p:nvSpPr>
        <p:spPr>
          <a:xfrm>
            <a:off x="549000" y="1599840"/>
            <a:ext cx="8042040" cy="4343400"/>
          </a:xfrm>
          <a:prstGeom prst="rect">
            <a:avLst/>
          </a:prstGeom>
          <a:noFill/>
          <a:ln w="0">
            <a:noFill/>
          </a:ln>
        </p:spPr>
        <p:txBody>
          <a:bodyPr anchor="t">
            <a:normAutofit fontScale="97000"/>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Headline from </a:t>
            </a:r>
            <a:r>
              <a:rPr b="0" i="1" lang="en-US" sz="2800" spc="-1" strike="noStrike">
                <a:solidFill>
                  <a:srgbClr val="595959"/>
                </a:solidFill>
                <a:latin typeface="News Gothic MT"/>
              </a:rPr>
              <a:t>The New York Times </a:t>
            </a:r>
            <a:r>
              <a:rPr b="0" lang="en-US" sz="2800" spc="-1" strike="noStrike">
                <a:solidFill>
                  <a:srgbClr val="595959"/>
                </a:solidFill>
                <a:latin typeface="News Gothic MT"/>
              </a:rPr>
              <a:t>(April 2):</a:t>
            </a:r>
            <a:endParaRPr b="0" lang="en-US" sz="28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95959"/>
                </a:solidFill>
                <a:latin typeface="News Gothic MT"/>
              </a:rPr>
              <a:t>M.L.B. Pulls All-Star Game From Georgia in Response to Voting Law</a:t>
            </a:r>
            <a:endParaRPr b="0" lang="en-US" sz="28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e move served as a warning to Republicans in other states who are trying to restrict voting, and is likely to put new pressure on other organizations and corporations to consider pulling business out of Georgia.</a:t>
            </a:r>
            <a:br>
              <a:rPr sz="2800"/>
            </a:b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7640"/>
            <a:ext cx="804204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The Atlanta Journal-Constitution</a:t>
            </a:r>
            <a:br>
              <a:rPr sz="3200"/>
            </a:br>
            <a:r>
              <a:rPr b="1" lang="en-US" sz="3200" spc="-1" strike="noStrike">
                <a:solidFill>
                  <a:srgbClr val="ff0000"/>
                </a:solidFill>
                <a:latin typeface="News Gothic MT"/>
              </a:rPr>
              <a:t>April 5, 2021</a:t>
            </a:r>
            <a:endParaRPr b="1" lang="en-US" sz="3200" spc="-1" strike="noStrike">
              <a:solidFill>
                <a:srgbClr val="ff0000"/>
              </a:solidFill>
              <a:latin typeface="News Gothic MT"/>
            </a:endParaRPr>
          </a:p>
        </p:txBody>
      </p:sp>
      <p:sp>
        <p:nvSpPr>
          <p:cNvPr id="619" name=""/>
          <p:cNvSpPr txBox="1"/>
          <p:nvPr/>
        </p:nvSpPr>
        <p:spPr>
          <a:xfrm>
            <a:off x="549000" y="1295280"/>
            <a:ext cx="8042040" cy="50292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95959"/>
                </a:solidFill>
                <a:latin typeface="News Gothic MT"/>
              </a:rPr>
              <a:t>Coke, Delta oppose Georgia’s ‘unacceptable’ voting law</a:t>
            </a:r>
            <a:endParaRPr b="0" lang="en-US" sz="28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The chief executives of two of Georgia’s biggest corporations sharply criticized the state’s voting restrictions, reversing weeks of milder statements about the new election law.</a:t>
            </a:r>
            <a:endParaRPr b="0" lang="en-US" sz="26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The statements came as Georgia companies faced growing threats of boycotts from voting rights advocates who say local corporations should have done more to oppose the legislation before it was signed into law.</a:t>
            </a:r>
            <a:endParaRPr b="0" lang="en-US" sz="26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4-14T15:53:46Z</dcterms:modified>
  <cp:revision>337</cp:revision>
  <dc:subject/>
  <dc:title>Slide 1</dc:title>
</cp:coreProperties>
</file>