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F0F3-327A-436D-8E23-2556C6FFBF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A5C5-8D6F-4B50-AE9D-49C2389431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155A-56AB-404A-B4CD-2060ED96C0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1151-E3E3-42C2-9D66-B4656614F6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ality and Trai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8614-158D-41F8-8962-D4450F8C67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ari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A319-5197-44A9-9031-86C98F3C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2AE1-A158-443B-AF31-754DD003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E4BA3B-F107-45B1-BDD9-0AD544E2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696490-2568-43C2-8DF2-405CCA62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BEC1D5-0837-4F8F-8723-95BCC5E9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40802F-81CD-4D84-8207-BC1029A0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85449C-60EC-45A1-83CF-78284E36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5936B7-5AC6-41AC-B315-3104EEDE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A77111-3C72-4C36-BA28-F467C5C6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0600D3-E824-4B49-A1E0-137754AF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F562FF-850D-46AB-98CE-DBA2A80A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7E687A-D919-470D-ADC1-8B0F5D2E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1057-71D2-46DA-B3B9-124CD7C2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B8E959-737A-4140-918F-C5A6F69B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D1DB7B-A08E-40CD-B209-B7272C08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E0A4BA-14B5-490D-8704-4EDEA83C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7A4104-B75D-4BD0-8E61-BEDD3E23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627838-9013-44B6-A40A-2425B5DB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ADC646-754A-4C8D-9D1B-14BAF74C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CA8FA3-6FE5-4915-AD31-29B903BB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38FE32-B74E-40E2-9567-466D6FBE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1D4E66-6D89-42F3-A07F-ADFDBA37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34C38D-0057-48BF-9C0E-C118B8FC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D827-9633-4119-BE7A-DB3AD895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5119C3-C67B-42BE-9654-F5A0ACE7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B1FA12-4998-4A4A-8C36-EEBEBA41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65DE22-58AA-41AF-B0CF-45824639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9EE277-AAC3-41C5-A889-7581BB0B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A73F79-39A5-4DBF-86C9-2253F3FF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300CC4-762D-408A-800A-BC24B5DE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6CE54F-B7C9-4823-8298-15C93401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3E936E-E35B-4708-B867-A0FE1317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F5ADFD-B2F5-4B9F-B810-B0539B26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C1A56D-3AC7-40E5-81F8-D0B3888A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CF89F-9B3B-4730-9CF0-A4909F52E51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38B850-6A0E-494B-84D8-5DF608EF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30F0E6-6496-4CDC-B1CA-15AE256E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992AC2-8D28-4983-8E50-FBCCD314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3CA034-08E6-4EFE-9589-E1CBBC94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3AFB79-E7B0-491A-9E46-CA047E71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628257-6EC8-43B0-8A1D-831D89D5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7287DC-1D25-4DA6-975F-09189E63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2C10FF-2B2F-4F18-BB13-29D101B8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3DB200-486D-4125-BF93-2BBE904A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409B5D-9D3F-4349-8F4B-43E687FF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05030-D084-480F-8271-4E5513A7ACD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7C4D9B-29FE-439F-A76B-41ACB16F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E3BBC6-34F7-4B6C-8626-4CC191B2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C7D7F8-A56D-4610-801E-C88DA590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7C4CBA-BCD0-4037-9ECE-7ED4BB04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9E1CCA-FAD6-4A08-919F-91192EA5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F71B8A-19C9-4AA9-AB19-C200727E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D4433E-85E7-452D-A489-41EE3419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3F2083-DB77-4C45-B631-E8C7A276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0ADBAC-3DBA-4B84-9238-919373ED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F93AC8-229C-4373-8D7C-A63A5A93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434D7-9381-4D7C-BE2B-F0C5795C99D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21E70F-03C8-4235-A60B-EBD8A329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3DDCCE-812A-416A-8F7D-DBEB5464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DF3BFA-5611-4A5E-9FF6-6F033BDC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F0DDA2-8E35-4413-8319-EC6CE171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C356BE-C12B-41D0-8BF4-D36F452C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0644F8-43CA-43EC-B5F8-8621A4A9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CC0335-2F70-40F9-9B3C-A68EC493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903D14-CE91-47E4-B8C7-C1E79359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45F098-4672-48FA-A5D8-01D13973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A0C195-425A-4A71-9E8A-5FB7671D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C2E31-7E8F-4895-891E-11CE28E045E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3EAF43-9E69-49B4-AC5B-29FCC591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1F206A-5A4B-4EEA-AFB8-5636E402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FC1B20-0B22-45DA-BA49-CB15C17F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1BA095-4E2A-426A-93DB-7BE682C6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1EB2CB-2E20-442E-8E63-A5BDFB83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287CC3-E1CB-4675-82FF-7A50ED58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03274B-B280-41F2-982A-0D718937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79B83E-EF67-4F40-8B0C-80E31666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237611-3E47-49A7-97A1-4619D331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4A0F6-AD9A-4745-AC8C-CC33DD5ECE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41DC4-3718-4895-ACA3-31C7F64FA0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6D9A2-1254-4400-97AD-91B96924BB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42C-F0F5-4554-8343-53384517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42048-3103-4078-A6B6-44EC3DB662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6E9B1-404C-4AE5-AB8B-AE541B53FB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04B87-1297-4A38-A10A-3BBFBD6778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CDACB-4BE6-4D9E-AD84-C56B2BF64B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0D043-9251-40A7-B9CD-4109905E44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A54-E77B-4F8A-89A6-BFF9CED6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2F9-200C-4C5B-9289-BA14DB36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C6A900-9AE3-4DF0-9098-A90E04DF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892F-4032-48EB-A475-01D8F9D3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2E0F4-4BC0-443C-888E-028A76F7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0463A-A16F-4772-814E-C3F04B0B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D0546-C887-491B-BB4B-13FCADE0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EE390-FF8D-4040-8A39-3F177FB4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E021A-411E-4430-963D-2305CF02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E5B391-5927-4BE6-BDD8-8A429DA3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11CB8-F442-416E-B543-D508FF1B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8BDBF-A0E4-4CC0-A300-32EB385F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61CB8C-2B4B-4303-B354-EEF0F0F8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741EC-5E32-48E9-B1D0-FCBD5620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715B-AFD5-4043-AF1B-72814816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A2FE7-A711-43EB-A29D-15EC7293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6B0DAD-237B-4053-ABA0-C97773BD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E404CE-6A46-453D-A72E-F7DE71DC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2DFD1A-D502-4A2E-BA13-65DDFB73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7611AF-752A-40E9-9D88-A4422CA3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F70DA2-A56C-4450-97DB-B8927975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8C519B-F1A4-4D9F-B375-C3503C51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C35466-C95A-4AB3-A812-C524860B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9F7E03-DF05-4B36-B71F-A077B125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25651D-6999-43C6-98B1-2DA2DAE1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269D-E8B0-42F9-BA91-ECC60D85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BAAC56-F755-46AF-8A2D-D49FA9FD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F01DAF-45DF-423C-85B2-86275A02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329A87-AAC2-4608-9F4D-8B29763C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D603EE-5025-49F0-A0C1-CECB82C8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C85FA0-3E5E-465D-B10C-E3641FC0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90864B-98A8-4812-92AF-C9F6E97E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DCF258-9B52-4211-BCAE-00CECFC7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735B3E-78EC-41AE-A6D6-231D80E4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0D5AA6-DC41-4D57-A787-346F3A86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5CA275-2C40-4D0A-BE9F-1346BCA1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5AF9-E98A-4711-8571-756A647B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2ABF40-723C-4E12-8D7E-3F08DF28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F7DD6F-3771-4F98-ACC9-1499F473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34F440-6947-4633-8176-6B491A13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44121-ED11-43F3-A849-CDCA968C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BF5DDF-1391-4F2D-982A-FC1A2A77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ED6CFA-1944-471D-B327-A05EA7FA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A455AF-5F56-475E-95D4-399AC265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3DF9E3-CBA2-4049-A512-AF62C647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DF375E-44D0-4855-94F3-426A3069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6CCE1A-4DB3-4BB1-984C-786711B2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9C2B-C627-41B7-848C-6DF84EF4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11D049-8C03-40DC-849F-A00841EC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A33F6E-D676-4152-B211-DE7556E4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084CD6-A92E-49D3-8EF1-76C3EBC1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E0D199-8FEC-4BB0-ABB1-C3B84C02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EA460B-F73F-4785-B327-9537B919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D80120-F420-4549-B495-AA2B639F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33AB69-82E2-44BD-A20E-51B4EB45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9615D1-E334-49BF-AC26-8BFB0D2B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0DE8FF-8E1A-4E4B-B84E-F9377CE0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2C746A-CB6A-489C-881E-8D556434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34E3-BB5B-466A-8307-3D5398D1C4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7992-6EB3-4DFA-934F-04CE113A0A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FBA2-9486-467C-8C57-3FE0001619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63D6-B733-4619-A9FE-3C9388963A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F93D-C6C4-4788-B8B3-B6E77CD825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7C65-9209-4D8B-B4F9-3035D4E89C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98C7-DD30-4F0B-8AA5-1A89B85790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0C47-6A1E-4DFB-BB4B-1DB950D98E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BEF7-595C-4086-9AD1-B16683161A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2F3B-8F26-4845-B89C-DD0D663C5B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1788-F0FC-46FF-A4AE-E094283890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81D6-9497-41BD-B7FF-164A6DEE92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676160"/>
            <a:ext cx="8042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Ethics for International Firm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Four Sources of Managerial Ethic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ocietal – standards that govern how members of society deal with each othe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ccupational – how members of a profession, trade or craft conduct themselves in their work-related activiti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10800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ources of Managerial Ethics Continued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dividual – personal standards and values that determine how people view their responsibilities to others (and how they should act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– practices and beliefs that guide a company and its managers in their behavior and responsibility to other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PMingLiU"/>
              </a:rPr>
              <a:t>Ethics in Busines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Business Ethic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s the moral thinking and analyses by corporate decision-makers regarding the motives and consequences of their decisions and action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33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People may genuinely disagree about what constitutes ethical behavior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us, how are we to decide what is ethical?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ciety can use the political process to establish laws that govern what people can and cannot d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Ethics and ethical issues change and evolve over time (death penalty; abortion; pollution; child labor)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News Gothic MT"/>
              </a:rPr>
              <a:t>Five models (or rules) can be used as ethical frameworks. Each represents a different approach to thinking about ethics.</a:t>
            </a:r>
            <a:endParaRPr b="1" lang="en-US" sz="3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49000" y="2514240"/>
            <a:ext cx="8042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tilitarian Rule. Utilitarians believe that actions should be judged by their consequenc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ff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ethical decision is one that provides the greatest good to the greatest number of peopl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News Gothic MT"/>
              </a:rPr>
              <a:t>The Moral Rights Rule</a:t>
            </a:r>
            <a:r>
              <a:rPr b="1" i="1" lang="en-US" sz="4000" spc="-1" strike="noStrike">
                <a:solidFill>
                  <a:srgbClr val="ff0000"/>
                </a:solidFill>
                <a:latin typeface="News Gothic MT"/>
              </a:rPr>
              <a:t>	</a:t>
            </a:r>
            <a:endParaRPr b="1" lang="en-US" sz="4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609480" indent="-6094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Judges decisions and behavior by whether they maintain and protect the fundamental personal liberties and privileges of those affected by them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News Gothic MT"/>
              </a:rPr>
              <a:t>The Justice Rule</a:t>
            </a:r>
            <a:endParaRPr b="1" lang="en-US" sz="4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609480" indent="-6094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Judges decisions and behavior by their consistency with a fair, equitable and impartial distribution of benefits and costs among individuals and group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News Gothic MT"/>
              </a:rPr>
              <a:t>The Practical Rule</a:t>
            </a:r>
            <a:endParaRPr b="1" lang="en-US" sz="4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ethical decision is one that a manager has no reluctance in sharing, because a typical person would find it acceptab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unethical decision is one that a manager would prefer to disguise or hid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914400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News Gothic MT"/>
              </a:rPr>
              <a:t>Cultural Relativism Rule </a:t>
            </a:r>
            <a:endParaRPr b="1" lang="en-US" sz="4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o the cultural relativist, ethical standards are culture-specific. Thus, an act that is considered ethical in one culture might be looked on with disdain in another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ribery and corrup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hild labor, sweatshops, pollu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y should managers behave ethically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56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What is the market for managerial talent? What does this market suggest about ethics? 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578880" indent="-5788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market place where managers offer their services and firms seek the services of manager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578880" indent="-5788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f the market for managerial talent is efficient, managers may be motivated to behave ethically to protect their reputations and maximize their value in the marketplac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578880" indent="-5788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anagers also want to develop trustworthines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4-07T13:55:54Z</dcterms:modified>
  <cp:revision>332</cp:revision>
  <dc:subject/>
  <dc:title>Slide 1</dc:title>
</cp:coreProperties>
</file>