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3C78-FD1B-41D9-8EA0-67097D05FD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1ECE-7747-48DB-AB1D-51A08738C9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266B-CDF2-4802-A4AD-26CB48B0CC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26ED-153B-424F-A474-540305CD4C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ality and Trai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CBA7-3C25-4509-ABF0-7761A00B21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ari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2C5B-D00A-439D-9D7A-B9B5FC9C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713B-231E-424F-99FE-269243D5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E4807C-8D39-4FCF-BD47-3EA1B181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EE7433-CF22-4D23-98D1-BDAECEFE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24C9FC-96F5-49B3-9A34-730C6B6E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43C72E-3D4D-47A2-B31D-7501E5CD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0DC8D6-76F6-4E26-9F1A-0A742A2C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132DD3-36ED-41EB-B0BA-B3810232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694723-1CAD-4403-AA52-7EC0D809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AAD853-708F-40F9-AF67-0B59B5E2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6D4782-CEF1-4AAB-A808-3F3B7365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72BD31-35C9-4558-A560-F79E3CCE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5782-755B-401E-977C-F8AB567D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33CEF1-B2CF-4D5C-BA4F-7E2AE3BC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CB99E6-6230-410A-9D0E-D11143CD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6E10C5-D8CA-4BBD-9B42-83A1CE7F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52B221-60F1-43C5-9CDA-E3A2B518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0139F4-6264-4BD5-8469-6AE7EA53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9B6BE3-41E1-4185-B579-54E08573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0F463C-F2D6-447E-9C12-5079CF16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8CD3EB-70D1-4C36-BE36-18D4DB7C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912163-8D64-4D49-8E4E-05F87EF4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209F00-EA90-48FF-BEC4-FB0DF298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84C6-E614-4C27-8585-535992BE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FBE0ED-2F9C-48D9-942A-C085F402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F0F32D-6A14-4393-AB52-7FF29E40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633A52-C1B8-4AE8-BA00-3D7A700A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3A1AC7-354E-4E5B-87F9-A4766F1C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D9B41C-BE3E-498A-859F-6F8F0FB4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79FB5A-9AAB-4299-93FF-A0021586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963D13-C78F-474B-9BF4-FA121EEF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61A9AD-1698-43C9-B4F9-310A85B1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6F0D12-507E-4FB1-AA26-D18401AF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8E5F27-274F-4D7E-9C97-565B2612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A2E01-58C6-4469-9D4F-11172F117B0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07F9DA-BE7E-4667-8C35-4933DF3A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173EC9-5AC2-452D-8F8A-7D6055A9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A1DA53-186A-49E5-8A08-3BBC4F49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7D271C-22A8-42DC-B989-A212D224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DA33A3-A614-4BED-82C6-F693D417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0FF084-D177-4977-8762-BAE670CC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6BE14E-69CA-4001-8BD4-9DC76040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4D4425-E244-45B4-8E59-3FD62C1F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8F9A37-AB4D-4868-AE15-C683EF73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BD58FC-5807-4E50-BB23-AC42FF89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6B5FE-8AAE-405E-BBA5-38A6A531CC0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82D165-B5F8-436F-AFE1-41353AD2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386262-5CAE-4A77-8445-B0E5A7BA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5BDEC3-1CD6-48F0-8997-8485414D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23D71D-312D-4276-9D7F-84120149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444450-7427-453B-8604-AA2DC521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B3F2EB-6883-4AE1-9CC1-629F15A6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EA49A5-BD0E-4E99-BB20-ACCD2295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9D80C0-1858-4DCA-A116-CC972C3B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1B9A28-E00A-4CBB-89C4-97B0475C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01825E-5141-4E9A-AA1B-784F46AF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B5DC6-DDBB-48E1-9C7C-9D447BBFA3C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ECD7F1-28DE-4CC5-9330-9FE0E063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A76313-AFC0-4874-82CD-11502108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E17FC1-FD83-474B-BC14-95DB66BA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C5E266-200A-408F-BC6B-C9FF7DC5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0BBAAC-BA15-487E-9591-EB315CE4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6704D0-E9E3-4F46-981F-62C02EDC4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95BF52-1AF8-4A2D-BD39-3E94A580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CD80FA-19A4-4D0B-9D9C-5AF4BBD5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71EDCF-591C-4057-AC0F-497AF6F2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A04D27-AE28-4276-A74B-132472EF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7D767-463D-4395-8166-BF63C10D000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103B91-1227-453B-9854-4D099BF0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DE521F-077E-46C7-8C22-90DB5C71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7EFA7F-072F-4961-A6CE-BE5AC8F9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D8B6CE-C2FA-47CE-854E-37116DA6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5BC52A-47AD-4DB9-8FDD-03D4C29C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C1ED48-70C0-4677-A5DD-52EFF958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D5F4C1-11B0-4CB8-A256-4AE9CEBA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8C6056-31F9-47B4-BFD5-CFFB11F8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6A75F2-105B-4394-AB2F-769AB3F3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04D04-2400-428D-BF8D-260E8B9109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E1BDF-FB22-4336-81BF-22CA155770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A35B4-FDC6-438D-8156-360AF66B14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D942-E6CA-4B3C-9493-64B97047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9BA89-1426-426B-B395-A2DE90B5AA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8853A-B7F0-453E-A76B-2276B4B97B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D7320-4725-4C58-9414-9B0225CDDD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C5B59-D309-4C3A-9235-5FF1F340C9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06275-A8C3-4FE9-A260-E0D48BB3537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4713-4CBE-4067-80B0-74558B01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E49D-6616-41E0-8B95-BD735AA7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BA3C3-E932-4792-8900-4564F595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F1CC-AD3A-4905-9333-8947992C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A81F7-F167-48C3-863B-10C710ED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B8D40-C61E-49EB-94B9-160F3361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BB646-8F73-415D-A3C5-2344C822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52C85-369F-48A0-8D7A-DD292B5B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31DD3-7096-4DBF-A80B-3274450F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D026B-0899-41A6-B3E9-05EBF36A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E34827-E3DD-4AD0-A84A-414B0A48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9D7F34-6F4B-448C-A058-839F6724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50D3C-35E6-409F-A3CB-0DCB4620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F2ABF-A24B-4FB0-83A1-6A918D0C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292-BD5E-4E9D-819C-B040EDFE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0D05E-52CB-4EF5-9636-40DCB1F8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2A705D-BA68-4B93-A92F-ACCBC85B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B6AB39-010E-43AD-A92E-B8981A81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2E85EB-13DA-48DB-A73A-0FA4BC0F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CB8681-F6E4-4B8C-96C5-FAA2CE79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88FA1D-7A53-4804-9A41-BF28E0BE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0AFFE3-D1EC-435E-A8B0-DD3E0F3F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3DB721-C231-496E-A294-31D1ABF1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8FAD00-FBB4-436A-BEB8-270ABCA5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AAFB82-3D58-4D16-B033-73BEAD4D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3D92-3EA2-4F8F-84E2-B2FD8033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D8C600-CE1E-4896-952F-82356885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62A436-7397-4D99-9987-6A96789A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601413-B77D-4915-848F-CFBD80B1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D9B4E3-7155-423A-8D78-796724DC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88D6BF-AB93-4F70-B9FE-03EEF11D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A6787F-BDC3-4E21-9F3B-68596C9D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A1D758-3950-46AD-AE5D-4D612E66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47A97B-21CD-41E4-AEF1-1663855C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66650D-0406-4C4A-A941-5ACF1206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4E3740-B546-4326-B171-E567826C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475-F8D1-4591-A2C1-E27D524C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1A2FD3-79D6-4546-A44D-D9A7F416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3A7096-2BF3-4A63-984A-D151B65D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FF8918-23C6-4485-BAB9-D123A2F7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E3332A-69E2-4903-9B62-410F04E4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0AAEAE-AF76-442C-9617-B47BEE2E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F7ACF0-BEFA-4A50-B339-C03AF7EA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D59CD3-6709-44D4-A6B7-3B7CFA98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36AD37-EFFA-46DE-B3D9-CD06C931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A7FE35-5168-443E-BA34-D875F05C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F21555-2DD2-437C-9EE3-4B2FCD30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11AC-4276-4E1E-929F-29E1FD7A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E9A150-82BF-4C0A-8746-207D8A71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6E87D8-6926-45EC-9B78-1D0B0FB9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1B626A-BF7D-4FEA-9D7E-C6FF8391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C0DC4F-A12A-40C1-AC82-F9ED76B5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7CE0EB-C822-415A-B54D-853073B4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691D6F-D7D1-411E-BC1A-FB147949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6B816B-1BBE-4E5D-9AD2-F4069EC3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F5DFDE-9BCD-4B63-8774-27229A7E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5FCC2E-6E00-4180-A8FB-9BCDC2D0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90DD2A-852C-4F74-AF2E-C3332C0F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0A55-47A4-4CC8-B7E5-5EA41157BC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FC70-F8F4-4002-A5D3-77F3B34896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DAE1-84F2-44B9-8407-CC14E1590F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AA11-05F5-4B19-9C7F-9020339436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0E5E-83E3-42B2-A374-9E90E565E0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04B4-47EB-4339-9124-45B3EA26B9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D6BA-67B9-4345-B3EF-074679D1E2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AC7A-BB49-46B8-9B9A-86BBC64B0D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B488-29EC-4766-80B0-70A2F661E7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52DC-ADB1-42EF-9D81-65872476CA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5EBE-A66D-4683-9029-87B6716D0A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6F9B-B0B8-44CF-8B8E-5BA7C63022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676160"/>
            <a:ext cx="8042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Ethics for International Firm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Four Sources of Managerial Ethic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ocietal – standards that govern how members of society deal with each othe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ccupational – how members of a profession, trade or craft conduct themselves in their work-related activiti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10800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ources of Managerial Ethics Continued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dividual – personal standards and values that determine how people view their responsibilities to others (and how they should act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– practices and beliefs that guide a company and its managers in their behavior and responsibility to other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PMingLiU"/>
              </a:rPr>
              <a:t>Ethics in Busines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Business Ethic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s the moral thinking and analyses by corporate decision-makers regarding the motives and consequences of their decisions and action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33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People may genuinely disagree about what constitutes ethical behavior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us, how are we to decide what is ethical?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ciety can use the political process to establish laws that govern what people can and cannot d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Ethics and ethical issues change and evolve over time (death penalty; abortion; pollution; child labor)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News Gothic MT"/>
              </a:rPr>
              <a:t>Five models (or rules) can be used as ethical frameworks. Each represents a different approach to thinking about ethics.</a:t>
            </a:r>
            <a:endParaRPr b="1" lang="en-US" sz="3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49000" y="2514240"/>
            <a:ext cx="8042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tilitarian Rule. Utilitarians believe that actions should be judged by their consequenc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ff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ethical decision is one that provides the greatest good to the greatest number of peopl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News Gothic MT"/>
              </a:rPr>
              <a:t>The Moral Rights Rule</a:t>
            </a:r>
            <a:r>
              <a:rPr b="1" i="1" lang="en-US" sz="4000" spc="-1" strike="noStrike">
                <a:solidFill>
                  <a:srgbClr val="ff0000"/>
                </a:solidFill>
                <a:latin typeface="News Gothic MT"/>
              </a:rPr>
              <a:t>	</a:t>
            </a:r>
            <a:endParaRPr b="1" lang="en-US" sz="4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609480" indent="-6094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Judges decisions and behavior by whether they maintain and protect the fundamental personal liberties and privileges of those affected by them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News Gothic MT"/>
              </a:rPr>
              <a:t>The Justice Rule</a:t>
            </a:r>
            <a:endParaRPr b="1" lang="en-US" sz="4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609480" indent="-6094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Judges decisions and behavior by their consistency with a fair, equitable and impartial distribution of benefits and costs among individuals and group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News Gothic MT"/>
              </a:rPr>
              <a:t>The Practical Rule</a:t>
            </a:r>
            <a:endParaRPr b="1" lang="en-US" sz="4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ethical decision is one that a manager has no reluctance in sharing, because a typical person would find it acceptab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unethical decision is one that a manager would prefer to disguise or hid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0" y="107640"/>
            <a:ext cx="914400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News Gothic MT"/>
              </a:rPr>
              <a:t>Cultural Relativism Rule </a:t>
            </a:r>
            <a:endParaRPr b="1" lang="en-US" sz="4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o the cultural relativist, ethical standards are culture-specific. Thus, an act that is considered ethical in one culture might be looked on with disdain in another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ribery and corrup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hild labor, sweatshops, pollu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y should managers behave ethically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56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What is the market for managerial talent? What does this market suggest about ethics? 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578880" indent="-5788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market place where managers offer their services and firms seek the services of manager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578880" indent="-5788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f the market for managerial talent is efficient, managers may be motivated to behave ethically to protect their reputations and maximize their value in the marketplac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578880" indent="-5788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anagers also want to develop trustworthines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4-07T13:55:54Z</dcterms:modified>
  <cp:revision>332</cp:revision>
  <dc:subject/>
  <dc:title>Slide 1</dc:title>
</cp:coreProperties>
</file>