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84CD-F55A-43B6-A9B1-486F01C35A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AE74-BF54-4AB1-A417-9CE560A360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B324-CE47-43CB-89A8-765DDEF210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974C-BAEB-4AA1-8BE1-DCD9550C6C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ality and Trai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3795-7E1A-4543-B68C-9A2C94DF7F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ari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FC6-0547-49DB-AEEB-D1F66C41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415D-EA51-4861-9E06-2CDD36ED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1D2BF7-8B98-4620-9BD1-C8BEEA96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53D603-DD4C-431D-8BF1-4ECC2FBA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9085CC-BB2A-4BA3-9F6A-8EAEC408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15203A-4086-41B7-A243-9DC12585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9959C5-3959-4B83-8083-9874F2A8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27325B-DC37-4554-90A1-2CB2A43E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285FBA-4918-417F-B8DC-39AC1A74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A39BCF-BFEF-4042-A9AB-4CB9F99D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6D00AE-3E96-48DF-90C1-9AE4CE7C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142296-F01B-4A2C-9DD4-447867E1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6335-45AF-4740-8BE4-5E0020BB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03670F-3FA3-4B6C-93AF-6B400D3E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3D1D6D-32AC-46B3-8BDF-185BDFEB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FDB66E-BF70-4434-BDC0-4D4AC01A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BC1348-5072-495F-88F7-C3A76F09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FCB8EC-D953-4E5E-819C-A5F9FF18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577B9F-02E9-4FC8-A42C-B4D0EEA6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A0A2C1-7AF7-4039-8DFB-44AFAE01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158359-17A9-4314-B512-AC62B149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71135D-2299-4452-9C84-C388F41B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C385A9-0B83-4505-BFCA-6C8ADA6F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BCEA-9D70-4A12-83A5-EC976D97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2BEE1A-3CD3-425D-8712-5E5F9440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6C6984-0F32-467B-BAA5-3AFCBA6A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36ABB3-4236-48B8-B9C1-7992A0A5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CF460E-C2B5-477C-BCF5-57E8A93B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68C3A3-775B-4B25-946A-C32E5A12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D4C86F-3DB3-4551-9EFF-D0AA599D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3D3CE0-BCEC-4954-81D4-07F8D251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B5D9F5-1DDE-4C71-80AA-7EB97E29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486F4A-38DD-4212-9035-3A6D20FB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485A09-34B4-440C-A7DF-3E935E82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10177-3488-4ECC-AA05-2600BA4EA00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2D974A-34F0-40CF-A823-8A47934A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D5344F-6585-4AF0-9ED9-EF540F463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AF7383-207F-4BD5-9730-BBEF010C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8C8515-C461-4044-9B46-32059C74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93EB35-EB1A-4FC5-AFE6-42AEB87B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8F261D-81A8-416D-BC35-0078474A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841424-5BFD-434C-A847-0C322BFF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E393F6-FEBC-46C8-9773-137FD92E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B66F0A-03E8-4980-A62D-212DC010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B4CF84-8456-44C5-A0A2-9FB798B2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15F49-A53D-4E06-A00D-124316532D8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C559AD-6FD8-4BE6-8AA4-53070C07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8DCDA7-FBAD-4D32-B91C-94B49C36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5AF59C-1A47-425D-AE57-A67D07C5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8994AC-6998-43E7-8043-1775C0BB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1CE072-1045-4FFB-BA0D-4964B6BE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51049A-0C3D-404A-81B9-D0621AB3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F372C2-ECA6-42AF-A645-1F8F61BE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5D99BE-21FA-47B5-99E8-48467EE5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745A66-FF48-4009-9835-012A575F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037CEB-4286-43EE-8602-AE9D4CCA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CD9CD-7B50-4710-A822-9FEAF5DA67F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6D8744-1D70-44DB-BE97-AE4BAFAB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3D0AD2-D686-41FD-ACDF-425528FD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FD6449-4112-4019-8981-3667B677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1274C0-E633-4AD3-98C1-87AE3D1F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2B2969-0C28-4D88-B0CC-51031FD2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56B4C9-035D-40D0-A93F-DACA468F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71EB0B-54E8-42CC-9534-8553A078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2508EA-43B2-4B8B-8A75-87FEAD55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7A277E-20C3-416A-AAB0-45CF739D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0E0994-53FF-4718-93C5-DFFC0CDA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554A6-91BA-4FB3-8CDA-FC4773D771E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BA70E6-1D8F-4FB6-A874-7AA23124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2DE418-4EE3-40C2-A174-22128FDA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318C65-7618-494A-BEBA-41516B02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A4EDC1-871D-4C40-B4FA-4F9A4A9B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465335-E288-4657-8F6F-31412732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D5B539-E20F-4BD1-A3DD-3FF1A66E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0E625D-B370-4E9D-B91A-306B92F6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EB99DC-30FD-40D3-ABA3-3C77C9B7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F3A432-ADE6-42A9-A1FB-1FF04AEA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AAC49-D350-455B-8AED-8B3C4229C1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2588C-CAF3-48B5-8821-7CEFE0C6FF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0E4FD-CC12-4922-952D-466ADED482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23AD-C02A-4B01-9B68-92CF6727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2C80F-824A-465C-9E45-161FDF0FE7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5804F-D7F0-4F69-974F-2966B9319F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92593-EED9-4CB1-94BC-7C7BD3F504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848D2-D20F-4945-BE6C-F40FD95181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E1650-FC26-44E8-897D-5DA9504B8E1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7F18-B181-40CC-8049-E9BB11A1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36AE-3F3A-43E6-864A-CDDF21BC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4940EC-DAD3-49D7-B367-A720E7C2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EF55-9A59-4CDA-ADC2-030C4655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B109C0-1E74-469E-9C99-127DD099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92D8B-30D8-406A-8BF8-5C0A5A30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931C6-2B23-4025-A718-589785A3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E8060-05E5-4C1C-A02A-5C5D15FD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0ADDD-CB6A-4F54-BD31-9402F015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FD46E-B9DA-46B6-92BB-5EB2DAFC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D9E1A7-4279-4A9E-985D-C79CF670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30487A-4F50-4D75-A3DC-BF0E7F8B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6235F-E1A9-49C4-841E-48238A2C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7A774-CB67-4E2C-8BD0-A82314A6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286-93F2-47C8-9F04-90400FFE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72C9A1-0189-45ED-9118-ED5F63A9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F483C9-C37C-4DEC-A974-E1068A92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17D283-2142-4BD9-AA3D-47916351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DAE9E0-DA28-4414-A1D5-0596B182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2AB492-5D47-4155-8F41-7328BCC6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5E4B98-45BC-4C09-A7BD-D46B53D7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641364-A5E6-438E-AF1F-44F641AA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6AEE0B-F9DC-4979-9CF4-A1289C23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CE362B-8EA3-4B4E-925E-62FCFA18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472453-25EB-4208-B029-E943E98C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59A0-25C6-441B-B065-62515BE9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6B5C5F-D2CF-4AB0-8193-C29FC0A5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967317-397D-45E6-AF00-1B3D4D25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5272D2-1131-490E-A145-7144337D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048231-0F7F-4121-A7A4-00DDD0C4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775E64-28F2-4012-93D0-01BC34A1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165984-3A8C-421E-82B3-C2A2190B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EA5D35-50F8-4159-B8FD-4ED4775C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7655B6-ECAB-4599-A786-0CC6B4F2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37D748-F5CD-4B75-B283-6D45FC80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85D03F-8056-42CA-A9E7-396C3264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E3BC-06C4-4C22-8308-30AAF2A5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EC6241-7A7C-43BD-B09E-1DF73E37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3DA2A5-6E42-4236-9283-1B3C7D31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93839F-BAA4-4576-8887-BD0E0F9E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DA3C40-13D0-478B-BA2B-68A77431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AF8040-2AF7-4EBD-82BB-36767A14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BED9A1-B3F3-43DE-9B3D-20C7AE42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F16D25-5EF0-4C3D-BD2A-5B37A13D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B1A572-82AA-46C2-9FAA-869980BB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B394E6-6FDF-42A0-A3AA-DBBD0BDF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05B442-9BA7-4435-85BD-A63583E7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903F-EC40-41EE-9365-3350343E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125061-4FF6-4CDB-A0B0-5D39A1F9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A90CE1-1196-4FDB-B8C2-51CAAF0B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A7A3B8-F4B5-435B-96A2-DD41EE67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0EF794-2781-4306-8ABD-9EAC3A37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3504F7-8683-481F-AB55-5897E153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B6E804-D31B-4C4F-8F12-1FEA1418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0254AE-BAFC-4E8E-AA07-242A8A1E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7A5F22-BDAA-498F-9C19-ECC81047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4D4C95-F55E-496F-B19B-15950514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1DE468-9EAB-4D94-9B83-7D6ADC96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DF26-A3F8-4414-9427-8943E682D0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A8BA-0F6B-43EE-A3DA-9BEC408704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819A-8133-4CB1-AE66-9FF293B700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B58A-C3D9-41B4-8411-2523028764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3F37-2A23-45F8-A148-51F31BD0B7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D3F0-3AE2-4957-B447-873B563730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05F3-A9D2-4223-80F5-D3A47BC7F2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612E-0E65-41C5-9F72-15108048B8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F9BB-8690-4342-9C9A-279967B6C2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2DB3-BF68-494E-AF73-807B60B595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6CB2-EF75-40A4-83D0-C58FE84DEA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B269-89C9-469A-8B91-11FDFC4CA6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676160"/>
            <a:ext cx="8042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Ethics for International Firm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Four Sources of Managerial Ethic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ocietal – standards that govern how members of society deal with each othe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ccupational – how members of a profession, trade or craft conduct themselves in their work-related activiti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10800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ources of Managerial Ethics Continued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dividual – personal standards and values that determine how people view their responsibilities to others (and how they should act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– practices and beliefs that guide a company and its managers in their behavior and responsibility to other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PMingLiU"/>
              </a:rPr>
              <a:t>Ethics in Busines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Business Ethic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s the moral thinking and analyses by corporate decision-makers regarding the motives and consequences of their decisions and action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33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People may genuinely disagree about what constitutes ethical behavior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us, how are we to decide what is ethical?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ciety can use the political process to establish laws that govern what people can and cannot d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Ethics and ethical issues change and evolve over time (death penalty; abortion; pollution; child labor)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News Gothic MT"/>
              </a:rPr>
              <a:t>Five models (or rules) can be used as ethical frameworks. Each represents a different approach to thinking about ethics.</a:t>
            </a:r>
            <a:endParaRPr b="1" lang="en-US" sz="3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49000" y="2514240"/>
            <a:ext cx="8042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tilitarian Rule. Utilitarians believe that actions should be judged by their consequenc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ff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ethical decision is one that provides the greatest good to the greatest number of peopl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News Gothic MT"/>
              </a:rPr>
              <a:t>The Moral Rights Rule</a:t>
            </a:r>
            <a:r>
              <a:rPr b="1" i="1" lang="en-US" sz="4000" spc="-1" strike="noStrike">
                <a:solidFill>
                  <a:srgbClr val="ff0000"/>
                </a:solidFill>
                <a:latin typeface="News Gothic MT"/>
              </a:rPr>
              <a:t>	</a:t>
            </a:r>
            <a:endParaRPr b="1" lang="en-US" sz="4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609480" indent="-6094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Judges decisions and behavior by whether they maintain and protect the fundamental personal liberties and privileges of those affected by them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News Gothic MT"/>
              </a:rPr>
              <a:t>The Justice Rule</a:t>
            </a:r>
            <a:endParaRPr b="1" lang="en-US" sz="4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609480" indent="-6094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Judges decisions and behavior by their consistency with a fair, equitable and impartial distribution of benefits and costs among individuals and group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News Gothic MT"/>
              </a:rPr>
              <a:t>The Practical Rule</a:t>
            </a:r>
            <a:endParaRPr b="1" lang="en-US" sz="4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ethical decision is one that a manager has no reluctance in sharing, because a typical person would find it acceptab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unethical decision is one that a manager would prefer to disguise or hid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914400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News Gothic MT"/>
              </a:rPr>
              <a:t>Cultural Relativism Rule </a:t>
            </a:r>
            <a:endParaRPr b="1" lang="en-US" sz="4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o the cultural relativist, ethical standards are culture-specific. Thus, an act that is considered ethical in one culture might be looked on with disdain in another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ribery and corrup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hild labor, sweatshops, pollu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y should managers behave ethically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56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What is the market for managerial talent? What does this market suggest about ethics? 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578880" indent="-5788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market place where managers offer their services and firms seek the services of manager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578880" indent="-5788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f the market for managerial talent is efficient, managers may be motivated to behave ethically to protect their reputations and maximize their value in the marketplac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578880" indent="-5788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anagers also want to develop trustworthines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4-07T13:55:54Z</dcterms:modified>
  <cp:revision>332</cp:revision>
  <dc:subject/>
  <dc:title>Slide 1</dc:title>
</cp:coreProperties>
</file>