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F0C6-CF46-46C5-A0FA-1C0EBC48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1719-CCF0-4114-B28D-C06D712F2F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B28-A1AC-4FED-9B65-9086116D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F93-6607-4F59-A267-9E1B780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AA0-BEC3-4706-8B49-F924D465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6B3-B525-464D-88D3-C8FA07D8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B8BA-FE70-4CB6-8189-0CD2B61A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DEE8-666B-42A3-BB2F-079A7E2D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BA4C-FBAD-45DB-9CD8-CF91DC41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82B5-A8EA-4E7F-A13A-1A19C58E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93C6-8449-4B5A-8963-4BB39A6B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8442-E841-4CB6-BB4C-3748C8C1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C437-E6CB-4F66-99B4-67801F39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0A51-81AC-480C-9841-08102406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1044-4B20-4DCF-BB1A-F5D4EE94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A53-F904-463B-87A2-20B3DA5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F85C-9EC4-43BA-8748-60C639CC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1E40-A28C-4E66-9160-3A7C2981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5F41-55F8-41E5-B410-42E9A061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2AC-C9AB-48BF-9814-86E3A1E8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315-031D-4EA3-B1AA-6EC19AC1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4DB-AD58-4CED-997D-F6C14EB5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8FF-21C6-4049-983F-E8170B8A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A90-7D84-4EFD-A485-60ADE920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042-517C-46FE-B8FC-CBC528F5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01B-99E6-4328-B650-F296D4B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514-1A84-4ADE-9E8B-D5D1A1288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D3DB-869E-4B0C-806D-49F103DD87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rganizational Cultu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ture is a shared set of values, beliefs and norms that influence the way members think, feel and behave toward each other and those outside the organiza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se things serve to unite peop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ultures can develop in large and small groups, countries and regions, races and families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nk of culture as similar to the organization’s personal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s and No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777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oused value and norms – those that are explicitly stated by the organ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cted values and norms – those that members exhib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– A common understanding about how to a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s – those values that are taken for granted and have become the core of the organization’s cult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mitting Organizational Cul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assum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rr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es and cerem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cultur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21-03-16T17:57:45Z</dcterms:modified>
  <cp:revision>75</cp:revision>
  <dc:subject/>
  <dc:title>Chapter 1: Organizational Behavior and Management</dc:title>
</cp:coreProperties>
</file>