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E15-73DD-42F4-A901-9A46DBE2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B8D-E17C-4268-AF21-C8A873AD8F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DC1-05DE-4B1C-BAB4-0D5A6EA9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7FF-0317-4E10-82EB-5F278E5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AFB-938F-4592-82DF-CFEAEC65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109-25F2-482F-8F77-28D8108D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C09-7575-4A2D-B8A3-4E35809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51DC-4EE7-4561-9D20-92B0F96A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957D-313D-4C63-B822-1E89FF5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9629-CC63-44CD-8BB2-9ACE8A8C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4C2-1E4F-4317-BFCC-2155522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CBC-9516-45A7-B16D-29FEB8FF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EAE-0B03-4370-A407-6A953E3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436-A579-425E-86D4-E835576E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95EE-C1D4-476D-9C47-562CB39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2436-8DE0-457E-9032-B4FE7C5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B53-1364-40B3-9A59-8E7225D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31E3-83DE-481C-974D-35CA91E9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45C-7A31-469B-9847-9E74ADEA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731-211A-43EC-AFB2-6D4B1BE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19E-B9EA-4DDC-AB67-D7E8B333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459-314F-4728-9A96-FD1A741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C38-C00E-400A-8AE5-7C5AC5D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B04-B94F-41E7-852F-D7DF4FD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045-E176-407C-A374-215491B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314-E6B9-4253-8404-EA53994A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BF24-2BD8-45F7-BA59-5580A408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024-439B-447F-800B-0C7F15C8B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zational Cul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ture is a shared set of values, beliefs and norms that influence the way members think, feel and behave toward each other and those outside the organiza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things serve to unite peo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tures can develop in large and small groups, countries and regions, races and famil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nk of culture as similar to the organization’s personal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s and N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77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oused value and norms – those that are explicitly stated by th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cted values and norms – those that members exhib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– A common understanding about how to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s – those values that are taken for granted and have become the core of the organization’s cul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itting Organizational Cul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s and cerem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cul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1-03-16T17:57:45Z</dcterms:modified>
  <cp:revision>75</cp:revision>
  <dc:subject/>
  <dc:title>Chapter 1: Organizational Behavior and Management</dc:title>
</cp:coreProperties>
</file>