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870-1E8F-4952-95C8-357866F1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BE4-3C0D-4FF0-8189-002625D95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EFB-5A02-4F03-A9FB-51BDDEF5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FB6-914D-4A50-B0A8-336B59F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396-74F8-49E8-A27A-2CC5D491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5FE-C698-4015-812B-2ACFDC42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E12-F565-46FB-93CE-47EEF8B6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D2DA-8603-403C-9584-6DC1CB1B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FDB6-D96D-47F0-9FAE-C5591ABE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B57-76D3-4076-9631-BE580CE3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73A0-BBC8-4A0A-B47D-32380F8E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A1C-3D7D-4896-9610-85358F10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81B8-E236-4F1A-98C4-08E8A70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F9E-2F32-4FB6-822F-3C2D4675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5D9B-65DC-4AEC-9B0B-EE2E2D2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E0D0-7BF8-4236-92A5-85A1FA6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C23-10BA-45E0-B348-FCF9A84B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3BFF-6004-43FD-BA8D-3C49B499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C9FA-BF51-4BD0-8A95-224EA75D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7A3-515F-4000-8D2C-FB834D8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EF2-FBD4-4928-8608-22251B53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9A4-7076-4A60-8B02-A68263AF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F40-B5B7-4DAC-86D3-1F5ED714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968-DBAB-4559-86D5-A0F1D61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7F6-AD76-45EF-9C67-3E5C5BD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0F9-6D95-4E9D-8056-4B14275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9D3-12D6-49B8-9B3A-6EFF1717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1BF1-739D-467B-AAD7-861965D45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zational Cul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ture is a shared set of values, beliefs and norms that influence the way members think, feel and behave toward each other and those outside the organiza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things serve to unite peo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tures can develop in large and small groups, countries and regions, races and famil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nk of culture as similar to the organization’s personal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s and N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77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oused value and norms – those that are explicitly stated by th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cted values and norms – those that members exhib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– A common understanding about how to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s – those values that are taken for granted and have become the core of the organization’s cul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itting Organizational Cul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s and cerem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cul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1-03-16T17:57:45Z</dcterms:modified>
  <cp:revision>75</cp:revision>
  <dc:subject/>
  <dc:title>Chapter 1: Organizational Behavior and Management</dc:title>
</cp:coreProperties>
</file>