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13C-D97D-4413-9B61-5503B571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701-E234-420C-AACA-99275702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746-02C5-4820-AE0D-A2128083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26D-0449-468A-855C-66074591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A6F9-5EA7-451B-9572-23B49FAC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43D7-6BC6-4CDD-BAD3-1E5C2431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0BFA-6119-47CD-8F13-E601BB16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FE02-22CA-44B5-8ED0-EB9DDB7A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7E6A-0D42-4E64-8F51-AD36244E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E382-6D5D-4933-8B8F-3610FDAF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B7AD-6398-4677-8C26-CCB0E9B5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BCC-40F1-426C-81F7-F92B12D1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985E-9772-4D24-AEE1-F501F1D5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7C66-2617-4BC0-B003-66CC1F19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3FAB-3F2E-41AC-9F11-55CF8F5C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079D-6AEA-4543-ABC8-F0BC824F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6CFB-B37B-453C-9081-384DE198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853-16AF-409A-80F0-9B9C1649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5A3-70CE-4528-B2F0-38413DE5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B75-3048-40FD-8233-5E144164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2A0-5072-41A4-83AF-13EA57A9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9DE-D7F5-44F2-ABB7-5F9D0392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E3A-3104-49AC-A53C-CC76D319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F32-EF66-4DF6-A2D3-530FA875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A8AE-2CC8-446F-AB29-EBEB78F76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93A8-2499-4653-BBFC-E27031009F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Research Design: </a:t>
            </a:r>
            <a:br>
              <a:rPr sz="4600"/>
            </a:b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earch desig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the plan and structure of the investigation that will answer the research question. The research design provides the blueprint f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variables will be measured or operational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analyzed and interpr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stronger your research design, the greater the generalizability of your findings. What does this me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lizability refers to the extent that the results from your research are representative of the population as a who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other words, if we survey a sample of BSC students, can the results of that survey be applied to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SC student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so, the results from the survey are said to be “generalizable” to all BSC student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aracteristics of Research Desig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ory v.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(observa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(human respon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 v. Nonexperimental (aka ex post facto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inal v. Cross-sectional (time fr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, lab and simul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– data that are collected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– also known as archival data, are data that were previously collected but are being analyzed for another purpose (e.g. census dat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4:57:03Z</dcterms:modified>
  <cp:revision>108</cp:revision>
  <dc:subject/>
  <dc:title>Chapter 1: Organizational Behavior and Management</dc:title>
</cp:coreProperties>
</file>