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32F-DA77-497A-A99C-F2BE5C45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314-8F93-4D4A-90C8-F42E88C5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1DA-487E-41B0-BA96-45763454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C04-D3BC-4AA1-9C57-1D3D8DF8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843F-C919-4412-81B7-1E3E271F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9C3A-555D-4797-A64C-EB9A06A5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E1DA-DC0A-43BC-B204-0D6266B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0382-8DBA-4056-9C05-7C0EE0B2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3682-9EFC-4EAC-B2C1-EF43537C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DC02-5BA4-48FA-AF2D-859D5722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840F-6A16-4011-B3FC-7EA93D8B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FF2-3DA8-4A95-8504-A42AC4AC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5EC6-8DF4-4548-84E4-6B68651A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029E-0E60-49D3-AFFE-7C182D3C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C588-930B-4EE3-8869-8C945E99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153A-884B-4330-A2A3-4CE6973B0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4367-1D5C-434C-8D53-0A0DB45C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00B-D1DE-42A5-A7AA-E6439AD7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F4A-BAD3-4C81-951D-31201BFA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ECB-1D17-4EC4-8D12-99AC96CA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5BA-972B-4DB8-9535-43058834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95D-EAFC-41C9-83EC-4952D086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EB1-321D-428B-AAEF-715DED46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7D5-5438-4BB4-A688-AEA0FD24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116B-621B-4B0C-9ECA-07463BE71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5C41-4D0D-4BE7-BB97-2979F23135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Research Design: </a:t>
            </a:r>
            <a:br>
              <a:rPr sz="4600"/>
            </a:br>
            <a:r>
              <a:rPr b="1" i="1" lang="en-US" sz="4600" spc="-1" strike="noStrike">
                <a:solidFill>
                  <a:srgbClr val="ffffff"/>
                </a:solidFill>
                <a:latin typeface="Arial"/>
              </a:rPr>
              <a:t>An Overview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earch desig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the plan and structure of the investigation that will answer the research question. The research design provides the blueprint f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variables will be measured or operational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data will be analyzed and interpr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stronger your research design, the greater the generalizability of your findings. What does this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alizability refers to the extent that the results from your research are representative of the population as a whol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ther words, if we survey a sample of BSC students, can the results of that survey be applied to </a:t>
            </a: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SC student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f so, the results from the survey are said to be “generalizable” to all BSC student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haracteristics of Research Desig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tory v. Form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od of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(observa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(human respon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v. Nonexperimental (aka ex post facto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itudinal v. Cross-sectional (time fr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, lab and simul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– data that are collected for the first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– also known as archival data, are data that were previously collected but are being analyzed for another purpose (e.g. census dat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3:39:50Z</dcterms:created>
  <dc:creator>Bert Morrow</dc:creator>
  <dc:description/>
  <dc:language>en-US</dc:language>
  <cp:lastModifiedBy>Morrow, Bert</cp:lastModifiedBy>
  <dcterms:modified xsi:type="dcterms:W3CDTF">2018-05-30T14:57:03Z</dcterms:modified>
  <cp:revision>108</cp:revision>
  <dc:subject/>
  <dc:title>Chapter 1: Organizational Behavior and Management</dc:title>
</cp:coreProperties>
</file>