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BA7-E746-4EC1-B104-1AC1C218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4D7-2EA3-4426-8AEE-E0CBBE7C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5EC-5937-4058-93C0-B1F5586E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3C0-34D0-478F-9318-BF6619E3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F75C-BF94-4838-BD59-22C5BCDB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79AD-CBC0-4828-B3BC-38BE7543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949E-3BFA-428D-9171-3F41E441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30E7-96BA-470A-96B3-70B0B905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9AF3-B0DD-4939-BC3B-806E146C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AE77-A87F-4744-B0C4-1DF0824B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0985-0A55-467C-B5FF-0AE7A93B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62E-9150-43EC-A483-05A8468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7174-FE94-484A-A5E5-1D6C0494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D030-3BEE-444F-B68F-20003D8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64B1-11FE-4D3D-9383-DE6BB913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0220-4379-4E8B-AD6E-EEC96C04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6219-87ED-40D9-BE41-D7FEA74E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258-BC71-44DA-9ED0-5B541175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254-231A-46C3-AC1E-61245F76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5BF-A025-499E-814D-257D2C78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DC5-0577-462B-B249-F72171A3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98D-091D-4C89-99B5-C4ABB45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DD9-B8D3-4314-807A-D743DFE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663-F9D5-4345-A15C-47BD6ABE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282-FB69-40FC-8B92-A2742A82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2275-D5E2-40BB-A405-4A6E80F386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Tabular and Graphical Methods</a:t>
            </a:r>
            <a:br>
              <a:rPr sz="4600"/>
            </a:br>
            <a:br>
              <a:rPr sz="46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ometimes, a picture really is worth a thousand word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ar Chart of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histogra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stogram is similar to a bar chart, except that the width of each bar is also used to represent a range of data. Notice in the next slide how both the width and the height provid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example, the width of each bar is 10 points. Reading from the top of a bar over to the scale on the vertical axis tells us how many scores are in a particular r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stogram of Grade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nk about the shape of a distribution of da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istogram on the preceding slide is symmetric or bell-shaped.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is is known as a normal distribu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skewness occurs when there is a lack of symmetry in a distribution. This occurs when one tail is longer than the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xt two slides give illustrations of what a positive and negative skewed distribution of grades might look lik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hinking about the shape of a distribution by looking at a histogram, we generally refer to data that is under a curve.</a:t>
            </a:r>
            <a:br>
              <a:rPr sz="2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is an example of a bell-shaped curve, which is perfectly symmetrical and normally distribu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809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at the curve below. It is not symmetrical (not normal) because it is skewed. But is it a positive or negative skew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32767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students will mistakenly say that the previous curve is a negative skew, because most of the observations are “bunched up” on the left side, which is the negative direction on the number line.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ever, that curve is actually an illustration of a positive skew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ewness occurs when one tail (e.g. one side) of the distribution is longer than the other. In that picture the right tail is longer, which is in the positive direction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d another way, we know the skew is positive because the tail of the distribution trails off (e.g. gets longer) in the positive direction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ow is an example of a negative skewed curve. Note that the tail trails off in the negative dir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576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s a frequency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 of presentation that indicates how often certain observations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used to present qualitative, rather than quantitativ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ributions that are skewed are not normally distributed. However, distributions may also not be normal because they are kurtotic. This occurs when the data are “peaked” like the distribution below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e a frequency distribution for the following dataset of test scores. First, you should convert each score to a letter grade using the “normal” scales (A=90-100; B=80-89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frequency distribution 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What is a relative frequency distribu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even more useful information by indicating the proportion (fraction) of the total observations that are in each categ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3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pie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gmented circle whose segments portray the relative frequencies of the categories of some qualitative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bar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sual representation of a frequency distribution where the frequencies are represented by bars, the length of which are proportional to the values that are to be dep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9:42:51Z</dcterms:modified>
  <cp:revision>136</cp:revision>
  <dc:subject/>
  <dc:title>Chapter 1: Organizational Behavior and Management</dc:title>
</cp:coreProperties>
</file>