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DE2-7611-4F79-BE63-D6378ABF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66EC-64D4-4229-B840-311FA9EB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C8A-23C8-4E6D-A842-4B41E42A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45F6-D5EB-4FE5-959C-15C432DB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B6A2-8D1D-4A09-9004-5534EAC2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D31D-1CDF-4AFB-A20F-1426B835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FE16-01E5-49EF-946F-028CAD22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3A40-211B-4F3A-8929-66974765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7870-D145-495E-AE40-7E00B4DA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48A3-CEAD-4865-A205-A962E56C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1336-8514-479D-B72D-75DC52D2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A79-E23D-489B-B3CB-BC74E759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9E1F-431B-4177-970C-4BA603C3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71FB-6D59-4C66-A008-B268002A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78D7-1E86-4EC2-BB45-61F5CF47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076A-051E-4961-BD1E-0648C192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8EC6-268B-4C75-AD91-50C5B83E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4148-7A76-4E8F-B4A6-7C92365D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B1A3-C487-4D8C-A938-FA26DD9D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1269-0324-463E-AB50-D2F27279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90C-FD07-47D8-BF4C-6F17F7F7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03DE-B125-483D-B099-93959744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163-DFEE-4D31-8B01-E558E565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8BB6-5AE9-41E6-9FE7-EB9A517C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1C17-B4D8-4019-B2FD-25144E523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63D3-AECD-4D86-8F58-F3E2A64327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Tabular and Graphical Methods</a:t>
            </a:r>
            <a:br>
              <a:rPr sz="4600"/>
            </a:br>
            <a:br>
              <a:rPr sz="4600"/>
            </a:b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Sometimes, a picture really is worth a thousand words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Bar Chart of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histogra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stogram is similar to a bar chart, except that the width of each bar is also used to represent a range of data. Notice in the next slide how both the width and the height provide inform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example, the width of each bar is 10 points. Reading from the top of a bar over to the scale on the vertical axis tells us how many scores are in a particular ran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stogram of Grade Distrib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ink about the shape of a distribution of dat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histogram on the preceding slide is symmetric or bell-shaped.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This is known as a normal distributi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ever, skewness occurs when there is a lack of symmetry in a distribution. This occurs when one tail is longer than the oth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next two slides give illustrations of what a positive and negative skewed distribution of grades might look lik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itive Skewed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gative Skewed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ead of thinking about the shape of a distribution by looking at a histogram, we generally refer to data that is under a curve.</a:t>
            </a:r>
            <a:br>
              <a:rPr sz="2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is an example of a bell-shaped curve, which is perfectly symmetrical and normally distribu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Content Placeholder 3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80988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ok at the curve below. It is not symmetrical (not normal) because it is skewed. But is it a positive or negative skew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Content Placeholder 5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327672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students will mistakenly say that the previous curve is a negative skew, because most of the observations are “bunched up” on the left side, which is the negative direction on the number line.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ever, that curve is actually an illustration of a positive skew. 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kewness occurs when one tail (e.g. one side) of the distribution is longer than the other. In that picture the right tail is longer, which is in the positive direction. 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id another way, we know the skew is positive because the tail of the distribution trails off (e.g. gets longer) in the positive direction.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low is an example of a negative skewed curve. Note that the tail trails off in the negative direc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Content Placeholder 5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6576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is a frequency distrib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thod of presentation that indicates how often certain observations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often used to present qualitative, rather than quantitative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tributions that are skewed are not normally distributed. However, distributions may also not be normal because they are kurtotic. This occurs when the data are “peaked” like the distribution below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Content Placeholder 3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0292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e a frequency distribution for the following dataset of test scores. First, you should convert each score to a letter grade using the “normal” scales (A=90-100; B=80-89, etc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460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8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Your frequency distribution 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Arial"/>
              </a:rPr>
              <a:t>What is a relative frequency distribution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provides even more useful information by indicating the proportion (fraction) of the total observations that are in each categ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t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12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2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3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2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1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pie ch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gmented circle whose segments portray the relative frequencies of the categories of some qualitative var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t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bar ch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isual representation of a frequency distribution where the frequencies are represented by bars, the length of which are proportional to the values that are to be depi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5-30T19:42:51Z</dcterms:modified>
  <cp:revision>136</cp:revision>
  <dc:subject/>
  <dc:title>Chapter 1: Organizational Behavior and Management</dc:title>
</cp:coreProperties>
</file>