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8D5D-C1B7-4DE4-931F-868C2F4E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1D9-DEE7-4F8B-8B33-1E06763D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7C1-1399-46AC-8659-C91E999A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C64-6F94-4A51-AA22-F62E2C5F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5632-73EC-46C1-92E1-282B5E8B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F6E6-C805-4CFC-99FA-D135DEC6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FCCE-088D-425E-A14F-369E3A44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AD8A-6220-4D49-A94B-27709911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611A-778C-4BE9-8AEE-1A8D4D50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CC9F-9287-4DF6-9013-1617C9BB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0008-5947-4551-A523-A5695815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CBE-EEAA-46CA-AF4A-42A37ADF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328D-0913-40C8-B23B-A81AF787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B0AB-CF46-4C52-B8C0-BD328EB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37D2-7C79-4E8F-A08E-BE62A152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0E08-FB39-456B-A803-9D12CE7A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B71-9C6F-49DF-8FB9-F63DFFB9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FE1-CD34-43CB-BD12-7CA3375B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448-B849-4F54-9EFB-AD65D420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2A8-36C0-4174-8C6C-F714575A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4F8-64E4-4C1E-946F-2DF0D847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84A-6607-4ED5-A287-52BB8ED9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3B7-1A38-46F4-96BF-EF2D258A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E92-E7E2-44CF-9F33-F156B41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C818-2477-47BD-9250-2F7F7F11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B656-5207-47B1-AFA5-B9080E22E0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Tabular and Graphical Methods</a:t>
            </a:r>
            <a:br>
              <a:rPr sz="4600"/>
            </a:br>
            <a:br>
              <a:rPr sz="4600"/>
            </a:b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ometimes, a picture really is worth a thousand word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Bar Chart of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460440" y="1600200"/>
          <a:ext cx="82231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histogra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stogram is similar to a bar chart, except that the width of each bar is also used to represent a range of data. Notice in the next slide how both the width and the height provide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example, the width of each bar is 10 points. Reading from the top of a bar over to the scale on the vertical axis tells us how many scores are in a particular ran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stogram of Grade Distrib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ink about the shape of a distribution of dat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histogram on the preceding slide is symmetric or bell-shaped.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This is known as a normal distribut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ever, skewness occurs when there is a lack of symmetry in a distribution. This occurs when one tail is longer than the oth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xt two slides give illustrations of what a positive and negative skewed distribution of grades might look lik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i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gative Skewed Grade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thinking about the shape of a distribution by looking at a histogram, we generally refer to data that is under a curve.</a:t>
            </a:r>
            <a:br>
              <a:rPr sz="2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is an example of a bell-shaped curve, which is perfectly symmetrical and normally distribu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Content Placeholder 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8098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at the curve below. It is not symmetrical (not normal) because it is skewed. But is it a positive or negative skew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tretch/>
        </p:blipFill>
        <p:spPr>
          <a:xfrm>
            <a:off x="2895480" y="3048120"/>
            <a:ext cx="32767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students will mistakenly say that the previous curve is a negative skew, because most of the observations are “bunched up” on the left side, which is the negative direction on the number line.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ever, that curve is actually an illustration of a positive skew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ewness occurs when one tail (e.g. one side) of the distribution is longer than the other. In that picture the right tail is longer, which is in the positive direction. </a:t>
            </a:r>
            <a:br>
              <a:rPr sz="2600"/>
            </a:br>
            <a:br>
              <a:rPr sz="8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id another way, we know the skew is positive because the tail of the distribution trails off (e.g. gets longer) in the positive direction.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ow is an example of a negative skewed curve. Note that the tail trails off in the negative dire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6576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What is a frequency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thod of presentation that indicates how often certain observations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ften used to present qualitative, rather than quantitative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ributions that are skewed are not normally distributed. However, distributions may also not be normal because they are kurtotic. This occurs when the data are “peaked” like the distribution below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0292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e a frequency distribution for the following dataset of test scores. First, you should convert each score to a letter grade using the “normal” scales (A=90-100; B=80-89,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460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our frequency distribution 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ffffff"/>
                </a:solidFill>
                <a:latin typeface="Arial"/>
              </a:rPr>
              <a:t>What is a relative frequency distribu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even more useful information by indicating the proportion (fraction) of the total observations that are in each categ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3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2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/2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12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pie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egmented circle whose segments portray the relative frequencies of the categories of some qualitative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t should look like thi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hat is a bar ch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isual representation of a frequency distribution where the frequencies are represented by bars, the length of which are proportional to the values that are to be dep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9:42:51Z</dcterms:modified>
  <cp:revision>136</cp:revision>
  <dc:subject/>
  <dc:title>Chapter 1: Organizational Behavior and Management</dc:title>
</cp:coreProperties>
</file>