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FC0-69D5-4AE1-9860-543E0A08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CD6-4E65-4A17-A85E-68FBB5EE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3FF-80CA-4747-94CC-3FE152B1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24B-FD3F-425F-AC53-5CCAA48E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2A43-CCC0-4E32-A973-4AA91C9A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D2A9-6F4A-4DC8-8BFB-AC2E671D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23E5-0FCE-4597-A3D3-89ABF0A1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3B61-C907-451E-80E0-903B8036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ACD3-9832-4F2F-9050-A8D903F3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EEDD-754C-4597-A6EE-7B18B8B6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9BA8-BE47-4B30-9E0D-D8D2BF51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3B0-49E5-41D1-937F-404BD48B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082B-5893-499A-9DDE-7F5EBBA8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85E5-F4FB-4FF5-9CE6-2772F7F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35C1-5F37-4D1A-A09A-56BD9537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89D7-7C91-4CFB-9CF4-EFF606ED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87F7-C976-4345-B83A-2677F936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4B6-8E66-4CE6-A387-CA7FDD1B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D2B-7971-4DF7-888A-90C0F23C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7BE-D567-4585-99D1-F0FD027E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7A4-8F90-47A1-A0DB-C67624F8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A6B-A117-470D-B057-7A66305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480-62EC-4801-9AE3-9E61B327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FF7-BD84-41FF-B0BD-3B19F2B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B889-CBF2-4AE6-B247-1886B04D9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A69B-1BF5-4E22-B13A-C8452378F4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Sam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raw conclusions about the population based on the sam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 . 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provide greate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faster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he only way to obtain cer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y issue in sampling is the extent to which a sample is representative of the population from which it is dra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ample size is ne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hort, the bigger, the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are also cost considerations. Collecting a larger sample size will likely cost more time, money and other resour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: You need 10 observations for each variable in your study. So, if you have one dependent variable, two explanatory variables and two control variables you need a minimum sample size of about 5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ing Methods Review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ach member of the population has an equal change of being selec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atic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very kth element in the population is sampled beginning with a random starting po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ratified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the sample is first segregated into subgroups or strata before a random sample is draw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venience sam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6-28T16:30:51Z</dcterms:modified>
  <cp:revision>162</cp:revision>
  <dc:subject/>
  <dc:title>Chapter 1: Organizational Behavior and Management</dc:title>
</cp:coreProperties>
</file>