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692-A339-44EC-A4CA-BA733A7E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BD9-D681-4616-A90B-BEDF5137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420-7E56-40A4-B7AA-F6F5EE18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0F8-8965-409B-AAD8-55366637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B3EA-3ADA-4B94-9363-A691C5B3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B2F8-4C90-40DA-8B8B-B345B23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02C6-1274-440E-A9E3-370F5F5F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E78-600C-483D-AB54-F49874AE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9C25-CFBC-4390-9BA4-CC294DB2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062D-B702-41EC-92D8-358BC528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1D4C-DC49-4AA5-BEFA-CDA3E43C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325-440D-42A0-854D-7D36B485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A1CB-0DF3-4455-A199-9FAC8CCA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59E6-1152-4E57-B19B-8991787A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4890-FE1D-4001-BAA4-7830A9BF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7967-B611-4869-8570-6BA5D3FF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1EF3-A4D9-4EDD-8E4B-27421BB9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F5E-9975-4EF9-A788-2B3F8AC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363-A421-490B-9D87-C537DA70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95D-FF41-48B9-891D-4A56603A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26B-FE8F-470E-8B02-96497940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24E-A3BB-4400-8EEF-36BB8871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C56-E28C-4074-B8A3-2F1C9028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120-5CF6-4440-BA0C-0816D624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E9FC-9100-4607-A26F-28C442EB4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17F6-2A03-40EA-B201-4D29390021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Sam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raw conclusions about the population based on the sam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 . 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provide greate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faster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he only way to obtain cer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y issue in sampling is the extent to which a sample is representative of the population from which it is dra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ample size is ne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hort, the bigger, the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are also cost considerations. Collecting a larger sample size will likely cost more time, money and other resour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: You need 10 observations for each variable in your study. So, if you have one dependent variable, two explanatory variables and two control variables you need a minimum sample size of about 5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ing Methods Review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ach member of the population has an equal change of being selec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atic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very kth element in the population is sampled beginning with a random starting po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ratified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the sample is first segregated into subgroups or strata before a random sample is draw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venience sam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6-28T16:30:51Z</dcterms:modified>
  <cp:revision>162</cp:revision>
  <dc:subject/>
  <dc:title>Chapter 1: Organizational Behavior and Management</dc:title>
</cp:coreProperties>
</file>