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6C3-BE55-4627-AB1F-5BF33B1E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47C-FEDA-4942-887B-2477B410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499-EAEF-40C9-967F-7581356E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882-53FD-4456-B226-547EE236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9EC0-5E32-40C5-9562-AD16DF39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FA6C-743A-439F-90D9-0EC0951F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5DD7-9425-46EA-962B-30E940AF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EE2-2BF6-4F65-BB11-BEAAAC01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B74C-7BDE-4D57-9B72-0AF53E9A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76F7-E1E3-4C2F-B285-B952BEFE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816E-CC48-4854-ACB4-E3ECC5E3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D1D-C896-4D02-B473-EAD46C32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E791-389F-401B-B761-4C24D0A2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14FD-F6EE-48DA-8C8B-5C0B0AD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4159-370E-4EBC-91D1-EEC72306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1F4C-AEFC-45F8-B4EC-ACD727E9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65B8-A9D6-4E06-9A39-BC596602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8AA-E97B-4FBF-99B7-E151B058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4B0-3885-4D6F-83D1-9FC8660D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2F6-1332-426E-978C-D84E828D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0D4-4C7F-473A-A83E-7350C23F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B32-B5F2-4E2B-9332-6761ADE1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548-0B23-4353-AC78-B5C981E5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997-FD31-4402-9782-AB6A0822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2BBE-2FEA-4756-B78D-DC6A256FD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E029-9A9E-4B50-B5CF-0694093613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Sam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raw conclusions about the population based on the sam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 . 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provide greate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faster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he only way to obtain cer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y issue in sampling is the extent to which a sample is representative of the population from which it is dra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ample size is ne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hort, the bigger, the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are also cost considerations. Collecting a larger sample size will likely cost more time, money and other resour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: You need 10 observations for each variable in your study. So, if you have one dependent variable, two explanatory variables and two control variables you need a minimum sample size of about 5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ing Methods Review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ach member of the population has an equal change of being selec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atic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very kth element in the population is sampled beginning with a random starting po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ratified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the sample is first segregated into subgroups or strata before a random sample is draw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venience sam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6-28T16:30:51Z</dcterms:modified>
  <cp:revision>162</cp:revision>
  <dc:subject/>
  <dc:title>Chapter 1: Organizational Behavior and Management</dc:title>
</cp:coreProperties>
</file>