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51423-114E-4B9B-A70E-8C75D5654BE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move the slid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3E859-A596-4A33-8E7F-A47731EBCD1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I discusses the roles, skills and practices of a company’s human resource management (HRM)  function, implications of the economy, the makeup of the labor force, and ethics for company sustainability. It discusses how HRM affects a company’s balanced scorecard, what companies should do to compete in the global marketplace, how technology such as social networking is influencing HRM and what HRM practices support high-performance work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anies are finding that to survive they must compete in international markets as well as fend off foreign corporations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ttempts to gain ground in the United States,  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</a:rPr>
              <a:t>develop global markets and prepare employees for global assign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business must be prepared to deal with the global economy. This is made easier by technolo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ffshoring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ers to the exporting of jobs from developed countries to less developed countr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nshoring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refers to exporting jobs to rural parts of the United Sta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C640-6F72-409F-BBE3-DBC3CE134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85DD-4BC5-4D37-B399-1212CD7E4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797451-F166-4CB6-B16F-87953A645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7A3A70-12DC-469B-8D18-48D806683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662DC5-5AB5-4481-8E42-70D4EACF2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68AD30-3783-494D-A68E-A86EA61A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8CDA6A-E079-435A-AFFC-230DAC278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B5277C-AFD1-41EC-BCE0-00C9AEF6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7CE1F2-7D7D-49FB-8FFC-5B076B7D2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16C736-4B71-4BC9-B4EF-AEA25ECDA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BD4CF6-EC0B-4209-8375-C14FB235A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752F7B2-EAF4-4766-83F7-8F21FE1EB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9512-2361-482F-9193-B8EAEE067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6298AE-8DED-4F4E-8550-D4830110B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47435C0-C12D-48FA-A0C8-98A934AD5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1007B30-2D19-461A-8624-A0E4D68A6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6342A7A-3D1F-48AD-A234-D64E8E333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47DF426-C2BB-48F4-9BCF-11177F7C3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C795BCF-B2E3-4DE7-8731-96FA7159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2883FC-65AA-48B5-A031-215C5D612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5BAD5C-5130-4AFB-87F2-67709465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08A1ABD-115C-4F1E-B8AE-362402E24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C9B398-0E6F-4808-9AC4-E0D037EAF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A5BB-0D0B-49DE-921E-7D8C4FBEA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C99168D-242A-4DC7-B6DC-92E66A493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41631DC-726E-43EA-8CFB-DB0F7962D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690B7DA-E624-4B2E-9166-BB917236A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22C08FB-357D-446E-BEAD-4FE93DE6C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A8EE36-7CE7-4688-AE2B-AADA8BC27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D118387-86BF-4BB5-91D7-2E8AC8486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358CB68-77F2-45FD-9093-CB15CA5F2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6296F52-B891-4C48-A210-D4FBB92EE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6007786-C2FD-41D8-8671-166CD8745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4929586-ED93-4C0B-B996-5AD85C5F8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DB4E80-8DB5-4B54-A471-6CFF02DAFD85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6C786B2-39CC-4423-A186-CDAF34042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FC8E9DA-62EE-4B8E-932D-B4C215C01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357A96B-BA34-42D1-823D-772176453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55ABC8E-E5E0-4268-87FD-6FC862BA9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1680DCA-8C1B-406C-8CFA-5767002E5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A4AB56F-CDCA-44F6-A6F9-312F3FBAB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D333B50-99C7-41E1-8E69-2F9344079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6C4CEE1-0CCE-4514-8CCB-044B7BC6A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58826D4-55A4-46E0-934D-FBC2B2B61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462BE3C-E32C-4B61-8D03-50353120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0FCE76-C508-4611-A40A-4CDB24068228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C8881B7-B17E-4A88-88A5-FFA58C45A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112F8F9-FD46-42AD-9F30-22FE5A783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535685A-A1B9-44CF-8037-0D5850F95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C929411-CE6D-4C34-A4E2-DB99E975F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104D97D-D03F-45A7-8EF2-362DAA527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F52F593-5594-4E32-9B3D-F01CE0672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E4B5EB9-502E-4951-837F-EE2D2A0AB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C9FA002-176E-4F53-874C-14A84C23F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F790431-BE52-4044-937D-47530D4ED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2B1ACDF-E6FB-4A89-994F-506328AAB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1AB2E3-DBE1-425C-AC87-42A76DC30C12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6215CAE-7E31-4177-AA51-1F2272CBE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7DD929B-BA74-4D6D-9572-6644363FB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7BC1147-4D4F-4B01-85A8-8020DF2D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3D05843-5DD8-4845-8F59-62FA13130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72364FF-D14C-4212-93FC-7FC117EE5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39C6347-5358-4F6D-A38D-1D97BA578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3C8B204-4E20-42B9-898B-0B832D77E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AE266E1-0546-4544-8418-CCD319641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EF6A84F-D025-421B-AAF1-BD664A8C6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03E4CFB-D2EE-4856-B6D9-5EE193166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199F5D-4F62-4D5C-8DD0-7699DD355F52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8971FD4-41FF-4AE1-B370-6C53B87C2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CDDC2BD-1437-4EEF-A368-37B465C91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456A7B5-4145-4CBA-B14D-E93C8594A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3E844EA-B127-40B3-BD1E-2C84575E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9555596-6AC8-4702-AAA7-19C603EC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0F876B6-8D4D-4E9E-8355-CB75B7DB5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8C61424-3878-4357-8DC6-3CF518D25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AE9E59C-55B1-495B-9BC8-F651256B8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C165FDB-5FF2-4CE5-89F5-BE408DCF2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E0AB53-E49E-475B-9BF1-FCA4973D1B6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C880D7-EFD7-41D7-8EDC-5F9F3DE7D51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4A19DF-745E-4341-B428-4F54237265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CDBA-70DD-4373-BFA1-9DC4DFF72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CEDF95-1FFD-4546-8EC8-DA84D387C19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75E6FE-E0D9-43AA-9768-DA7E1188670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12A834-BF62-4693-923B-F6AD200AEAF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51E8C7-2E22-46E2-8D4F-F6BFCBDBB85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99FDBA-4C97-44A2-9F0C-41F250517F2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0C7B-64A3-414E-9974-146A73449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42CA-DD33-418D-986F-A999382C9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EAB205-7AF1-42E9-9C5B-EF243B5DC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3447-C361-4EEA-9061-B398589FE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C97561-F195-4F4E-BC6E-0E045CCC6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3EC0B7-0715-40F7-BA44-4C6794376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F119A5-3C89-453F-A1C5-2D3D2C112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7531B9-40D1-4A6D-BC5F-3771CA5C1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3879AC-517C-465A-BDA3-6646A3FC0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EB2A14-43D4-4A8A-B99F-DE2E929F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C1B666-804E-44B5-B7C8-44FD9AC13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AF0307-9360-4BD4-BA67-6D71C55A8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EBDF9B-74BC-492A-A010-DF7C94A6C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4046AD-7211-4E65-96BD-81C7C67EA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91A4-189B-48CB-BA8E-278D66D04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4A1142-953B-4C9F-8F75-273C9F90B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8F8D1B-FDDE-4BF8-B590-9D109A36B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045CBC-78AD-491D-8277-482DD3AB1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A2BDC6-2197-4E79-B4D3-B23FC06FF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445878-3050-4799-B5B3-51FF5232A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B2F162-3519-4997-B97D-C2194AFA1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7007C8-2F88-4643-86D0-E7DBDE550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F6C38F-2B65-4AE1-A48D-385CFD7E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E49AEC-762B-4667-811D-FD0C0852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3E5B2F-3CB0-4CE2-A658-EE73C9532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C527-53FE-4EED-8F6D-7E73FC6A6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D8A08D-8C04-4903-8527-32A1182D7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38204E-06BF-4FDF-AEF9-A258CA365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839752-F064-499C-97D0-EF7C120D1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2D9A5D-F823-43F4-8DE3-C1A6E2D7D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9F4BE0-8292-4B6C-A659-FD422C7D4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1FBDE8-AD3D-456E-A05A-CA1B7F229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98A2BA-AFEA-4E82-94C9-8783B3826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8FE667-1FB6-40CB-A026-B69BAD200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D4E44C-7879-4420-B51D-A8930E2FF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B64515-02C2-408F-8451-3FAD3EAA2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D176-8CD2-469A-8A9B-A2CA8E08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0F5A5D-3631-42EE-9EA0-BA4046FE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61733E-41D7-45F1-9442-20A962584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823277-F135-4C87-B843-8315A930A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8CBB71-22F4-45B6-8F90-630075996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137D4E-4FE1-455A-BC27-1784BECCB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DF0FC6-8481-443F-AA4F-52F8F14B2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8A9F87-5A09-4437-B31D-CA53DE20B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1025B1-AAD4-4898-81D9-3FA26502B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C89100-A4DE-4656-B3E9-6C54790C2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EBE056-9195-4F64-A23C-4DF4C7CB6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D4C1-CC4D-492C-8194-A1169EBC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27910B-9073-447E-8511-147842704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ACAD5E-FE2C-4B50-A061-DE7885792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FFCDE7-2D56-4BE9-9095-1BE9345C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49F7C2-4FE4-48B3-9636-F15AE1C5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0A435A-6F3A-496C-8FA8-0F43AE23D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B62424-6D22-414C-B7BB-ED8929861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8858EC-F8B5-43D4-9C94-4F373B9C0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FBE744-1191-4AF0-BF45-A1CC89801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D3C1B3-1E9A-45D0-93ED-CC51E91E5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630E84-3FFD-43D1-BDEC-0254CB1C3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B70C1-A809-4891-BCB7-E00E91BDC7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2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DD18E-842D-4673-B5CD-F3874EFA43F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5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2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96807-156F-4E7C-83CC-DB5FCD922C4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7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8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9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A3D73-503D-4897-9DEF-F92463A1AEE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0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1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2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4D89E-6AA3-4BB6-8274-55064D42953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3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B0262-CBFE-4F40-849F-04A160CB891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939BB-1F05-4D63-AD8A-4583457BA4A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4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47" name="Oval 12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13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15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50" name="Oval 16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7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8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53" name="Oval 19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20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5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8534520" y="0"/>
            <a:ext cx="60948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5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95" name="Oval 16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7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98" name="Oval 19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0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1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101" name="Oval 22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3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4"/>
          <p:cNvGrpSpPr/>
          <p:nvPr/>
        </p:nvGrpSpPr>
        <p:grpSpPr>
          <a:xfrm>
            <a:off x="7772400" y="6248520"/>
            <a:ext cx="457200" cy="457200"/>
            <a:chOff x="7772400" y="6248520"/>
            <a:chExt cx="457200" cy="457200"/>
          </a:xfrm>
        </p:grpSpPr>
        <p:sp>
          <p:nvSpPr>
            <p:cNvPr id="104" name="Oval 25"/>
            <p:cNvSpPr/>
            <p:nvPr/>
          </p:nvSpPr>
          <p:spPr>
            <a:xfrm>
              <a:off x="7772400" y="6248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6"/>
            <p:cNvSpPr/>
            <p:nvPr/>
          </p:nvSpPr>
          <p:spPr>
            <a:xfrm>
              <a:off x="7837560" y="63136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7"/>
          <p:cNvGrpSpPr/>
          <p:nvPr/>
        </p:nvGrpSpPr>
        <p:grpSpPr>
          <a:xfrm>
            <a:off x="8305920" y="5638680"/>
            <a:ext cx="838080" cy="838440"/>
            <a:chOff x="8305920" y="5638680"/>
            <a:chExt cx="838080" cy="838440"/>
          </a:xfrm>
        </p:grpSpPr>
        <p:sp>
          <p:nvSpPr>
            <p:cNvPr id="107" name="Oval 28"/>
            <p:cNvSpPr/>
            <p:nvPr/>
          </p:nvSpPr>
          <p:spPr>
            <a:xfrm>
              <a:off x="8305920" y="5638680"/>
              <a:ext cx="83808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9"/>
            <p:cNvSpPr/>
            <p:nvPr/>
          </p:nvSpPr>
          <p:spPr>
            <a:xfrm>
              <a:off x="8425440" y="5757840"/>
              <a:ext cx="60120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6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7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8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5C961-32B1-45CB-B693-BEC780F3A98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9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0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1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4660C-A7B8-40F4-8274-AED4F43009F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2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3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4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FEBAB-419C-4D3B-8867-2CFA0BCC30F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16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17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E63D5-20B0-4A16-B333-153FA0C06BF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9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0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A08CC-E47F-4102-952D-3D6C60E6695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49000" y="762120"/>
            <a:ext cx="804204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54e73"/>
                </a:solidFill>
                <a:latin typeface="News Gothic MT"/>
                <a:ea typeface="Geneva"/>
              </a:rPr>
              <a:t>Chapter 1</a:t>
            </a:r>
            <a:endParaRPr b="1" lang="en-US" sz="44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rategic Management </a:t>
            </a:r>
            <a:endParaRPr b="0" lang="en-US" sz="4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amp; Strategic Competitiveness</a:t>
            </a:r>
            <a:endParaRPr b="0" lang="en-US" sz="40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Types of Industry Structur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Perfect  (pure) competition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arge number of firm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Homogeneous product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ow cost to enter the industry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Types of Industry Structur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Monopolistic Competition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arge number of firm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Heterogeneous product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ow to moderate cost to enter the industry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Conceptualizing Firm Performanc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549000" y="1143000"/>
            <a:ext cx="80420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Average (normal) returns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– are equal to the returns that an investor would expect on an investment of similar risk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Risk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 – an investor’s level of uncertainty about the gains or losses from a particular investment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Above normal returns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– are greater than normal (exceeded expectations)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Below normal returns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– are less than normal (failed to meet expectations)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Measuring Firm Performanc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ccounting measures (via ratio analysis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arket measur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Subjective measures (stakeholders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Survival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The Need for a New Model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any firms compete in lousy industries (many threats; intense rivalry; few opportunities)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SCP logic suggests these firms will perform poorly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However, some firms in lousy industries realize superior performance. Why?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11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Ricardian Economics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(Resource endowments)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Rents (above normal returns) can be earned by changes that alter a resource’s valu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Returns to a strategy depend upon the cost of implementing that strategy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Penrose’s View of the Firm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549000" y="1218960"/>
            <a:ext cx="8042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1560" indent="-331560">
              <a:spcBef>
                <a:spcPts val="18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 firm is a bundle of resource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31560" indent="-331560">
              <a:spcBef>
                <a:spcPts val="18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rganized by an entrepreneur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31560" indent="-331560">
              <a:spcBef>
                <a:spcPts val="18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What limits growth?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51240" indent="-319680">
              <a:spcBef>
                <a:spcPts val="1199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The creative capabilities of the entrepreneur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31560" indent="-331560">
              <a:spcBef>
                <a:spcPts val="11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Productive resources are very broadly defined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31560" indent="-331560">
              <a:spcBef>
                <a:spcPts val="11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Firms are assumed to be heterogeneou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0" y="108000"/>
            <a:ext cx="9144000" cy="80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News Gothic MT"/>
              </a:rPr>
              <a:t>What are some useful resource categories?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Physical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Human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rganizational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ore useful?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Tangible and Intangible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03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The Resource-based Model of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Above Normal Returns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549000" y="1371240"/>
            <a:ext cx="80420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sources are heterogeneous and immobil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sources are used to develop capabilities (capacity of a set of resources to perform a task)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apabilities give rise to core competencies, which may be a source of competitive advantage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trategic managers use these resources to formulate and implement strategies to achieve a competitive advantag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Strategic Management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Strategic Management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– t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he process of formulating and implementing strategies that are designed to achieve a competitive advantage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Strategy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 – a pattern of resource deployments intended to improve or maintain performanc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Understanding Firm Performanc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News Gothic MT"/>
              </a:rPr>
              <a:t>Firms that consistently underperform the market will experience a loss of support from investors and management will be forced to redeploy assets to more productive uses (Alchian &amp; Demsetz, 1972)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News Gothic MT"/>
              </a:rPr>
              <a:t>What does this mean?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News Gothic MT"/>
              </a:rPr>
              <a:t>It means . . .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nvestors are interested in the performance of a firm relative to others in the capital market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Firms that continue to perform poorly will be unable to attract investors and will not survive in the long run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179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News Gothic MT"/>
              </a:rPr>
              <a:t>The preceding quote is based on efficient markets. </a:t>
            </a:r>
            <a:br>
              <a:rPr sz="3600"/>
            </a:br>
            <a:r>
              <a:rPr b="1" i="1" lang="en-US" sz="3600" spc="-1" strike="noStrike">
                <a:solidFill>
                  <a:srgbClr val="ff0000"/>
                </a:solidFill>
                <a:latin typeface="News Gothic MT"/>
              </a:rPr>
              <a:t>What is an efficient market?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549000" y="2514240"/>
            <a:ext cx="8042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n efficient market is one in which no single buyer or seller can systematically achieve superior performanc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News Gothic MT"/>
              </a:rPr>
              <a:t>What makes a market efficient?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any buyers and many seller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Full information is publicly availabl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ndividuals are rational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  <a:ea typeface="Geneva"/>
              </a:rPr>
              <a:t>The I/O Model of Above Normal Returns 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533520" y="1219320"/>
            <a:ext cx="76960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Geneva"/>
              </a:rPr>
              <a:t>Examines the effect of the external environment on a firm’s performanc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Geneva"/>
              </a:rPr>
              <a:t>Industry effects are greater than managerial effects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Geneva"/>
              </a:rPr>
              <a:t>Four assumptions: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25320" indent="-28872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Geneva"/>
              </a:rPr>
              <a:t>Industry structure imposes constraints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25320" indent="-28872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Geneva"/>
              </a:rPr>
              <a:t>Firms are homogeneous with respect to resources and strategie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25320" indent="-28872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Geneva"/>
              </a:rPr>
              <a:t>Resources are highly mobile (differences are short lived)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25320" indent="-28872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Geneva"/>
              </a:rPr>
              <a:t>Managers are rational profit maximizers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25320" indent="-28872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16" name="Rectangle 6"/>
          <p:cNvSpPr/>
          <p:nvPr/>
        </p:nvSpPr>
        <p:spPr>
          <a:xfrm>
            <a:off x="8286840" y="6381720"/>
            <a:ext cx="819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10"/>
          <p:cNvSpPr/>
          <p:nvPr/>
        </p:nvSpPr>
        <p:spPr>
          <a:xfrm>
            <a:off x="8610480" y="6537240"/>
            <a:ext cx="457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1-</a:t>
            </a:r>
            <a:fld id="{7E0E92C4-5A3E-4525-92CE-D7B21FEA22F5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6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11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SCP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Structure, Conduct, Performanc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2000" indent="-3420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rm performance is determined by its industry structur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2000" indent="-3420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search suggests that 20% of a firm’s profitability is attributed to its industry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2000" indent="-3420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us, managers should look for </a:t>
            </a:r>
            <a:r>
              <a:rPr b="1" i="1" lang="en-US" sz="2800" spc="-1" strike="noStrike">
                <a:solidFill>
                  <a:srgbClr val="00b050"/>
                </a:solidFill>
                <a:latin typeface="News Gothic MT"/>
              </a:rPr>
              <a:t>attractive industries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2000" indent="-3420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However, 36% of the variance in profitability is traced to a firm’s characteristics and action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65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Competitive Outcome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549000" y="914400"/>
            <a:ext cx="80420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35160" indent="-33516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News Gothic MT"/>
              </a:rPr>
              <a:t>Competitive parity 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– occurs when there are no perceived differences among rival firm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35160" indent="-33516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News Gothic MT"/>
              </a:rPr>
              <a:t>Competitive advantage 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– occurs when a firm implements a strategy that creates superior value for customers relative to its rival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35160" indent="-33516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News Gothic MT"/>
              </a:rPr>
              <a:t>Sustained competitive advantage 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– is a competitive advantage that is long lasting (competitors are unable to duplicate it, or find it too costly to do so)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35160" indent="-33516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News Gothic MT"/>
              </a:rPr>
              <a:t>Competitive disadvantage 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– occurs when a firm in an industry does not have an advantage that its rivals do have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35160" indent="-3351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9:11:20Z</dcterms:created>
  <dc:creator>sara_hunter</dc:creator>
  <dc:description/>
  <dc:language>en-US</dc:language>
  <cp:lastModifiedBy>Morrow, Bert</cp:lastModifiedBy>
  <dcterms:modified xsi:type="dcterms:W3CDTF">2016-08-30T19:14:44Z</dcterms:modified>
  <cp:revision>330</cp:revision>
  <dc:subject/>
  <dc:title>Slide 1</dc:title>
</cp:coreProperties>
</file>