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A683-EFF6-4468-94F1-87B636997E7C}"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E5BB-EA9B-40C2-A76B-2E3FC3492C6A}"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425B1-6F9C-4EE9-B62A-ABD4249A2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7782-6B8A-49B2-9D4E-0EB61DAD4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2481B5B-643F-493B-B7B3-83BE8F2522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BAB5554-360C-49BB-A515-570A1C25E56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E68ACE-F72B-4EEA-82E4-CB70DBDC845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1186A7-0D51-4E5C-A512-A217881DC9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15AA23-556A-43B4-B15A-3AF622DEF7A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9F91AA-B5AC-474A-959E-88984FC11C2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C21D19-381B-4995-884A-8226B13630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456790B-D11A-4905-BE74-408280379A9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EEDDD75-C951-4E4F-9B75-FD6EF031AD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5175140-EAA7-4C45-9058-99D8DCB5AD8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85361-DBC0-48D5-AF25-6F27B70BD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1653C2-8E43-46CE-904E-04F0BF9139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032043C-6023-4967-AF68-26EF56EE14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94DED6-8FB1-4497-B94C-B861AE70E7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2E193E-2BBF-4CFD-B48A-A4816947AF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029830E-A1D7-41A1-A949-91BCF0484D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5BF968-B3B3-4F1B-B680-6DB892630B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F7CA63-E33A-4874-9333-06AFF84382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82B65C-27B4-49F4-A444-66FB119D8D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38C2D7-7002-4FB8-A9A1-7D35144B82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049C7EA-2C33-4C29-9863-B445024DA98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19167-E420-44AB-83A2-F51D1BEC3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434177F-D99F-4A64-AE9D-6290CAE6528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38C5DFB-D21C-4518-AA0F-6C3B9F8335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8D01228-2961-43AD-BBFA-AB8E5461152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FE64CD6-0BFB-463A-9956-3A37E296AA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53B5C12-AD6B-48F1-B368-C1FE484C53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E91535-9DB4-4724-9DF6-98705E3FC84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B20AF70-BEF3-4CF8-A289-FECD390AFF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53E386-EE0D-42B1-9AEB-0ADF9C0F3F4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73B381-6B25-4DDC-B082-8EF8EF9A57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BCB9DE-F48D-4444-B4ED-14F3C73198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0232E-292E-4461-B9B9-5361675F45D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C3C784-6B82-40A8-BCC5-C9E1F9C8DD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A7870C6-EC84-4DF8-8F64-76B0025BE8B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5F60EFA-E9DD-4345-9FD4-B55D2753253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B90D839-1DBD-4AC3-8F1E-7698BBF3C39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D33A000-BA95-460B-8C96-62C9D88856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9A3185-E20A-40FA-B31D-4DEFD7B162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B41251A-F045-4F24-898E-CB5A7527FBD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8513EEB-4AFE-4406-91F8-0DBDA852025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AB47E3F-60FD-495E-B73F-EF169BCDD1F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E1C66E-ED6B-4E55-8946-963D92E1AD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5C38F-60A1-432E-8A44-820AB2079F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896D064-340D-4163-94FF-2EDE52D4D6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235056-69EA-44B1-983A-CA19890A3F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50A087C-EF1D-491E-AAAE-063633A1E2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A391331-51BE-4EBF-A8F1-5F64E48DE8B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F539CF0-0133-4CC5-B3E3-D4A2B7B9F5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A636DCA-E04E-4677-B3B7-CBC6D9EA5FF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CF3067-A5A4-4530-B9B0-BA1627568E2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094F118-6420-4B45-9BA9-EB0CF3850C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8D5AD70-3412-4A44-AFE6-018139AA15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B16FBBC-8288-4085-8D5D-D0B0C5E3E51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990AB1-F88A-4CF5-A0F2-E65453F86F1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8475E24-DC7D-4210-800F-7833144492E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135764-7075-4B26-9FBB-3B1AD7DF5FA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05F0C6-906C-4F7B-B43E-A9C6A03F72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AA3740F-AAB1-468B-BA96-B017FBBC15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E97C27F-5903-4880-B28C-8480500CA21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8D53BD8-642A-4E33-B149-FC6CE7FC588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3208DA4-7299-4D48-9EC2-7371C915251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C03017B-B4A5-4EAF-9A8E-24DC9663CCE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8954E27-45AF-49D1-AD4D-50A423FB8E3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6D5321A-DE3F-4D15-8059-6532F60C42C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777B50-5209-4F27-B352-5BC007FB786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F2BFDF7-E6D3-43AB-AA5E-DBDBB7AEB38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9E98996-0EB6-49CB-A0DD-6015311A251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419D148-790F-45AC-9353-869B9BE5AB6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285AB44-BC15-4857-924C-9ECCF55DC0E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73139D-90DD-47FE-BC6D-139879F6C26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5E0E4D2-33BD-4F17-BBF0-65F9A2FF60A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3D094A2-B298-45FD-B9D0-845134B0A1D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61CC384-AC55-49A9-AC86-91A9D70061C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E331BF8-37E5-431C-8040-C6A7F2D1F9F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8EA4F-12EE-4340-B4A8-E079FB96252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39F86E-A927-4272-A246-65E959B9B36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9F713-13FB-4DF9-88B8-6C5DFE95F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D6FD8-6E93-4251-BBE2-8AA99578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75E5B-6631-40EE-B422-2144C53EEF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C0D6A-15E2-4C2B-877F-7ECA796EA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1B1F1A-9D29-421E-B9E9-B738716E0B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0905CA-AA86-47ED-B623-DA9E332D49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B167A1-9637-4EF4-BDD2-2D104DD484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AF65-3856-4CC9-93EF-2423A520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E927-94AC-4923-AE8B-3F8A70A5E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05839B-12BA-432B-9928-C9FD8016E2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1CF43-E9D5-4321-97C6-CAB04A3E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628522-674A-4C7E-98F3-8B1308916E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83E0B2-900C-4A04-B4A0-E1B31B83FB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D74594-7EBA-4F86-BC5F-5E8F48B8B7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B0A002-570A-446E-AC78-1B0C901089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8E7C55-E965-467E-881E-A899F98F27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186D9D-5731-4D67-AAD2-B39C988192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727FDD-56FB-4F91-9780-9DD6D6E7FB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81ADC4-ED35-4503-A1B4-EC77D294B2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150713-4122-4D4D-8578-6D9C5C29D0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FAF503-CB7C-4C80-987E-277CE0BF81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5C018-0825-4E21-9334-E182E1971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ED6092-DD60-4C81-B42A-C913FD0511A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2CCB0B-11C8-4269-A45B-75BADED401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A0BB69-9BE7-4FFF-8FA5-854F486B58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B658BF-2248-4C55-87DA-76789C7688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6590E2-DFAA-4A9C-9103-CA82A3B1FC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1CA1EE-F026-466A-B48D-FDAF5E75F2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873966-8873-40EE-A531-3716DC59DF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71194E-A35A-450D-B9B0-2D92493F8C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4C09C6-47D0-4C57-B903-010138CA1C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D7504A-75E5-452B-A541-89625551D2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6664-CB89-471C-BDAD-04C92240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D0BEFE-4569-4271-87D6-4F79235F40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856782-8387-44C1-BEBB-556B659DB5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44409D-3316-4764-9F6D-4E17C4E2F6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F7A95D5-9C04-436C-A5D6-6670CF26B6D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4E0E1F-2AEA-4D85-AB2A-6DF8380A25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40ECC8-6E81-45E8-A870-DF64402736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8A6AC0-9552-485F-9D51-1C905AA512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FD3655-7F02-44CF-9786-3168BC2D1F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D36EB2-6890-441B-992E-BCC63FBA1EA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66FCA9-1239-4A0D-B998-8614400FF4C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7386-2F66-4201-B83E-67180E6E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E5EBF3-3D3B-43F0-A304-416FBC3EDF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751FA6-6C27-4A4C-9E55-B320E31252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4B34D6-FC1B-4530-B4D7-49B5675583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2A4ADDC-0A52-48BE-AA3C-ABA90B9A0E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4E9F2D5-D57F-4ADB-8091-4B49E305296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690E520-D152-447D-BF23-6DAFCF2601B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B48B13-D53A-4C9E-8A58-736A578382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34243B-05D6-4165-8DF4-6C475EEB33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CA7FD5-3C2E-4A60-B646-9BD856851A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8D8D77-A81B-46B8-989E-BBC04DC5F0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6B32-2C83-41E8-A3FE-9C932D6E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3567708-CB34-40F7-82E6-E70EFACD4BE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379163-BBC2-4CF5-8B95-6F8DB190B8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86DDCA-11B5-444D-A38E-FD67E55DAA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F306B0-F9D4-4FBA-8D77-440107139B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3D8E34-29A7-404A-9AA3-A03B6E4E02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BD4E306-37F3-455D-B8EC-BB1E3896A87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57541DA-6151-4D62-B19D-2BF61A03CC8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6831466-6653-4148-BE41-409ADE90F2A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D4BC598-A009-4780-A74E-72A65BE575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17D244-EE57-41F2-9B24-E4AFB769F15E}"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BE4C-C7D2-40EE-AF83-23C84D2DFD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5422-66AE-4F96-8A26-2B6E4C279A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372F-5767-42C4-8101-547AF11D3A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BA0B-046D-4CD7-A595-EDE6DC200D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FF82-B458-4698-8829-F9CFE6EB60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64F3-1E4E-44A4-9247-0F58A15FDA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BA41-1BA2-470F-A58E-BB13403E0A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F6AD-AD28-420D-BE84-4A1C0B1763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CCA6-8B21-49DF-A46D-08ECC5E37E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810D-83C7-4EB0-B079-0825D04881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77CC-245D-4967-B856-2A814C5EE3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EBA3-5104-448F-876E-2A3A8EA5DF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Industry Attractiveness</a:t>
            </a:r>
            <a:endParaRPr b="1" lang="en-US" sz="3200" spc="-1" strike="noStrike">
              <a:solidFill>
                <a:srgbClr val="ff0000"/>
              </a:solidFill>
              <a:latin typeface="News Gothic MT"/>
            </a:endParaRPr>
          </a:p>
        </p:txBody>
      </p:sp>
      <p:sp>
        <p:nvSpPr>
          <p:cNvPr id="663" name=""/>
          <p:cNvSpPr txBox="1"/>
          <p:nvPr/>
        </p:nvSpPr>
        <p:spPr>
          <a:xfrm>
            <a:off x="549000" y="121896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alyzing the five forces within an industry allows firms to determine the industry’s attractivenes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 </a:t>
            </a:r>
            <a:r>
              <a:rPr b="1" i="1" lang="en-US" sz="2800" spc="-1" strike="noStrike">
                <a:solidFill>
                  <a:srgbClr val="595959"/>
                </a:solidFill>
                <a:latin typeface="News Gothic MT"/>
              </a:rPr>
              <a:t>attractive industry </a:t>
            </a:r>
            <a:r>
              <a:rPr b="0" lang="en-US" sz="2800" spc="-1" strike="noStrike">
                <a:solidFill>
                  <a:srgbClr val="595959"/>
                </a:solidFill>
                <a:latin typeface="News Gothic MT"/>
              </a:rPr>
              <a:t>is one in which there are many opportunities and few threats. This gives firms the potential to earn normal to above normal return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5"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6"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A4A0044-CA4F-4CDC-863D-6377CEB1A10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5">
                                            <p:txEl>
                                              <p:pRg st="0" end="0"/>
                                            </p:txEl>
                                          </p:spTgt>
                                        </p:tgtEl>
                                        <p:attrNameLst>
                                          <p:attrName>style.visibility</p:attrName>
                                        </p:attrNameLst>
                                      </p:cBhvr>
                                      <p:to>
                                        <p:strVal val="visible"/>
                                      </p:to>
                                    </p:set>
                                    <p:animEffect filter="barn(inHorizontal)" transition="in">
                                      <p:cBhvr additive="repl">
                                        <p:cTn id="14"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F7AD648-DBA4-469D-9DF6-21A55D5BB73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10-20T14:23:48Z</dcterms:modified>
  <cp:revision>319</cp:revision>
  <dc:subject/>
  <dc:title>Slide 1</dc:title>
</cp:coreProperties>
</file>