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0F05-7238-47E4-88AE-57B3490D54E5}"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4664-769B-4880-8B84-1455BD33E6A4}"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3F295-511E-43E3-9C44-1432CBB00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C1533-CB84-47A9-AB6F-298AC7DB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16E8E0D-A36A-42DC-8F3F-1386D3FAFF8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927984-C8BB-4D32-98B9-5E9249DA4F2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B105930-424D-4BFF-82D3-0D253BEEA29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6C2BF2-083F-481A-8021-1E5526241F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3CC460-258F-46F5-A4AA-DA6F5BA2929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10C8355-5417-4122-9AFC-8FA8E554ADC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1CA6513-9725-43FD-8DFD-1CF956515AC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15D2E65-1BD0-4CDC-810C-16BE7E8F747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B81ADF2-267F-4AF5-A22B-26616CCC710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6D0885E-389D-436D-9017-6FCEBC04E59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7D73C-8833-4CA5-BE0F-F7C81B849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7AC83DD-B8E9-46A1-B5AB-872D89A8ED7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F88A0AC-14F9-4F25-9F02-40D2E3C748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070750D-7DD0-4A79-A6A7-0C4A3CD65FE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01A726D-25F2-47A8-A9B7-CFDA6A0D290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A065BC-99EC-4BAF-9820-22323339084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DB8F63-8D2E-4305-8044-997662FFA8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DF343D-5A66-4CF1-AB25-AB2125D97D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F82F7F-4532-4181-9648-13475E8075E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990E11B-546D-41F5-972D-EC01234B2C2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21DB6A9-DD46-4B08-863D-D637D4CF72A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1C909-FA03-4436-A58A-273AA4AB5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CA3DC4A-18EA-4137-895E-5D71DBA74DE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6625D52-5F21-41CB-B6CA-E5E1520CDBD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640BAFE-B639-479C-9DBD-C7D0916C8AF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FF7233-7D94-4EBC-9682-8C5BE1D8E30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03A6E32-05AB-4AE2-ABA3-DA999FF4CDA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4ADD2E9-8017-493A-9C1C-6A6BD5B6E4E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8576BC4-674F-4AC6-A81F-3FA63382AD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AB278F-07D2-4E2A-9C2A-98BDE4989E1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2D47B6-EB69-4757-A640-A75BE6116B5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ECD43F-2604-4D10-BCBE-6BF36A5525F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DA075C-C48F-46FB-B727-7DC60F32CF0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055667B-1AAB-4D23-AC56-9F1DC5E457C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A17EC77-3353-4DE4-9DA8-42CF4479C53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8417E8A-9C98-40DF-89FD-63C99B87D14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21CD67E-BD95-4DEC-89F8-D50CE827591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E16B068-DCA7-4970-B4BF-D204C4059C6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848DEDC-8226-409E-99DE-F96E7A8C27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FBD6A7A-3BE9-422B-A619-C850FD29DF8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249A4E6-D380-4832-ACD5-2D7761998F0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D9D833A-754F-49B5-9549-21549755883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5B155A0-8698-4C39-82F7-E24E09ED72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297B0-224D-4E98-B8F5-581D824EE54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2255F4-139F-4A8F-8CE0-BF3BF5E2C5B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5B368E0-0A0A-4416-9410-40347DDE2A1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B625C4F-92F8-4208-BFD1-8BEB0F8A89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0C1C104-EE80-4ED9-828D-60F8F7E4F67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C797204-91E1-4443-9135-72CC6485A67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5F380AC-A49E-4633-9D65-FACEEC3E04A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EECF5DA-8151-412B-97E0-F080257B29B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972512B-1DE6-4EE0-B0E6-2A7A8DA8D74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363650A-46BB-468C-A682-A4898865F3B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9FD3A44-72B8-42C5-99F3-8C726708169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7EB8D3-939B-465D-9C96-5D160E362B0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E36E441-47D7-449E-A707-4A93BBDF035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FE5DC2F-A65A-4D4E-A26A-46C176A2FFF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4CAFC8B-2634-4E12-B58B-EC338DC3DF6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25B151D-E606-4FBA-A977-07DE99F6BC6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28534FB-B2F7-46F1-8C54-82BF125D2D1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6B2ABFA-130A-4095-92D3-47B9765CFC0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572731C-5F7B-48AF-B7AE-A9858686642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473C150-E218-485A-AB26-672216C7653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6786BDA-AD77-404F-8F50-B6A4725A4B0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CA6D53B-2FF5-4A0D-B776-57E84011632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74A2A8-627B-4BDB-AB42-E7A0FAFE4D6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3201B8D-07ED-43AA-8861-29CD2339A36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0ED2CF1-6CAA-4C57-8F90-CD61EBB2572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48CA581-34C3-4994-BD4D-22E78250700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033FA9D-448E-4938-ADA9-F7FB2B7851E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EE03340-77B1-450A-8A26-89378DD997F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FEE890F-631C-414E-9A3F-6CDC418AEF0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6DD4A01-295C-4308-B063-3ED2EF35DDA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B56946B-D91A-4FC7-9EBC-BEE257CCEF0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194F9F4-1F2F-49D2-8B81-20FE39A7482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203D8F-5917-4F9C-82F9-BDE28513A43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B2E60-6B45-452F-9662-D67AABE75E2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1A91E8-CF0E-4BF8-AFF8-C951E2D6AD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38FBB-574C-4548-A49A-1626B7D38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3A0D1-A70B-43F3-A079-3E93E547BE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E4D186-B80B-4F50-8FB2-D1AB3C3C3F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B7E53-C4F2-4983-AAC6-CF81A8DE8D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9A7879-6A4C-414E-B6C1-1FEE3BEA73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E23B1C-B24F-4C7F-84EE-33DD1CC5D2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0F515-2453-4466-9312-821557760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E6FD0-E9B7-45B9-AFF4-6DC313DC0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2ABA4A-7E3A-4B6C-9067-54571BEAAB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9FC0B-22B0-4695-BAF0-00F3093D4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10D24B-F783-4CC5-92DA-E081D7BC2D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291D8C-12E1-421D-91D6-A306E0D087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47236F-C942-4939-AA7C-01EE997D02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78894F-5973-4D66-9C01-132E61D5BC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0A8742-1B23-4103-8FC9-165C37566A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F9013F-9C65-4300-85DA-573BA9B35E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EDA2E9-DE0E-4E1D-8FEB-F9237DD46F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1FA916-350B-40FE-A597-81135D6D6D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F37F86-9AA4-413D-B76C-1CA34EE4F9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913DA34-DCE0-47EE-A73E-A185E5EF22D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2B9C2-3227-4FC9-83E1-8D74780C4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F40BBB-81DD-4220-BF7E-4F63029340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DEB39B-1597-4010-B6C8-D676AEBC67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86B297-29BC-436D-A143-7E794C88C0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010191-D93F-41F2-B03A-16A0ACEA0D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B41A83-60FE-403D-9065-97CBA59361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D991EB-675A-400B-B064-1F763BA2A3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D149EA-8586-4847-A31A-6AF2DC867D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6B57DB-82E7-4C8D-9E79-5EDC53B847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5C6912-53D1-4C41-8893-84C0B67526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1C07F7-7FEC-40D6-B70F-E172E70528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41A9-BD9F-418B-B84E-042A38BDE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14A522-3114-4987-BD0C-16AB4D10AC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1CB573D-0A0F-4AD9-B67E-E49B42351A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607E929-48F0-419B-86F1-46F89B89CEE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98CE103-75A0-41DF-86BE-0239F87B126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4E5C82-5BE2-4E0B-A496-4366CADA81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EF5D62-A774-4318-B16D-47386677530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7E3A84F-1FCC-4532-951F-0A1018A470A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CEDF69-534B-455C-A869-06DAEF031A5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D443E5E-7B0F-4D09-A29C-354AF30E1F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A7A743-2015-470F-BD97-428AC1706F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461B-1D56-4AA6-8326-F4741D7F2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4AC537-74AC-47D9-BBB0-95306CD1AB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9AECB17-E8DD-42EF-B19B-6ADF4791C1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9A3CEC-F4A3-4E0F-9A18-8BC75C4AE17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090A455-95A4-4CC3-865B-BEEDA8EAE98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FC59106-D6CD-49DB-AA86-B0A72D0A0D3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AB4A10C-EEA3-468B-AF6B-98269B0FDDF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34C1622-9329-46D9-A703-D90DEA964D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0FAF07D-14FB-4472-8F68-DD76E8EE5FB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C1C4731-5D5F-446E-B1BE-900898A1C4D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94F7DDD-E2FD-46A3-8889-A17D9B0BDA0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E374-AC30-4C5F-9CC1-808976CCD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DB8337D-D640-42A7-9C4F-7A58009538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C32476-E3A4-4B9C-8A08-9A208D8A37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770369-9229-4CCB-81CE-B4CCDD7DEA0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F24594-4EF4-440A-9F92-3FBCE172F7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5026A30-6817-45BD-8162-7DBCE5F1CB8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B2FF693-5023-42F1-9109-9CC2604F868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8D38CF8-24B0-402A-BAED-B5E5978D985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93575FB-FAFE-4FC0-BA0D-FCE3E036229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36C19C2-3BF0-4E17-B3FA-8615B59C0AC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4C20EC6-D266-4408-BE62-B89A1C1A3E0F}"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6161-630B-4584-9444-7CE7A87470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E57A-AE67-440B-BAC3-157FC9DCE8B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90C7-7DE1-4174-9174-DD34BD9AEB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F316-3433-44C7-BE69-C7732E8BC16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C24E-A073-49D1-88E9-11C5DEF37C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9BEB-541C-4CB8-B660-BFFAEAEBCF6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8D97-4B72-4047-9E0F-CB9BFE2097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A4A9-939B-4B9F-8E4B-2E68F79999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B85E-ADE9-4A40-8410-AA64C7074D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0F3C-C99E-4EED-B260-3D01B60F00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3D8E-CAC3-4692-9216-86EE2C5B49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EC05-BA78-40E1-9045-8DB77CEEF0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Industry Attractiveness</a:t>
            </a:r>
            <a:endParaRPr b="1" lang="en-US" sz="3200" spc="-1" strike="noStrike">
              <a:solidFill>
                <a:srgbClr val="ff0000"/>
              </a:solidFill>
              <a:latin typeface="News Gothic MT"/>
            </a:endParaRPr>
          </a:p>
        </p:txBody>
      </p:sp>
      <p:sp>
        <p:nvSpPr>
          <p:cNvPr id="663" name=""/>
          <p:cNvSpPr txBox="1"/>
          <p:nvPr/>
        </p:nvSpPr>
        <p:spPr>
          <a:xfrm>
            <a:off x="549000" y="1218960"/>
            <a:ext cx="8042040" cy="4724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alyzing the five forces within an industry allows firms to determine the industry’s attractivenes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 </a:t>
            </a:r>
            <a:r>
              <a:rPr b="1" i="1" lang="en-US" sz="2800" spc="-1" strike="noStrike">
                <a:solidFill>
                  <a:srgbClr val="595959"/>
                </a:solidFill>
                <a:latin typeface="News Gothic MT"/>
              </a:rPr>
              <a:t>attractive industry </a:t>
            </a:r>
            <a:r>
              <a:rPr b="0" lang="en-US" sz="2800" spc="-1" strike="noStrike">
                <a:solidFill>
                  <a:srgbClr val="595959"/>
                </a:solidFill>
                <a:latin typeface="News Gothic MT"/>
              </a:rPr>
              <a:t>is one in which there are many opportunities and few threats. This gives firms the potential to earn normal to above normal return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5"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6"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3BB05595-A8FF-472C-8B19-EF726BA0217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5">
                                            <p:txEl>
                                              <p:pRg st="0" end="0"/>
                                            </p:txEl>
                                          </p:spTgt>
                                        </p:tgtEl>
                                        <p:attrNameLst>
                                          <p:attrName>style.visibility</p:attrName>
                                        </p:attrNameLst>
                                      </p:cBhvr>
                                      <p:to>
                                        <p:strVal val="visible"/>
                                      </p:to>
                                    </p:set>
                                    <p:animEffect filter="barn(inHorizontal)" transition="in">
                                      <p:cBhvr additive="repl">
                                        <p:cTn id="14" dur="500"/>
                                        <p:tgtEl>
                                          <p:spTgt spid="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7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E383A35-AE75-4E9B-B6CF-7994ED01D39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10-20T14:23:48Z</dcterms:modified>
  <cp:revision>319</cp:revision>
  <dc:subject/>
  <dc:title>Slide 1</dc:title>
</cp:coreProperties>
</file>