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7B65-186A-4C3A-B341-D76F3CACDF29}"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B9DD2-1B30-47D8-BE6F-0C65775509DC}"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485D5-7880-4A94-9A13-ED286E7A8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FED35-FC37-42A7-BDFD-8A32ABF61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1892B1E-C8A7-403B-A6AF-A5AA4F032E8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6025C8D-5680-47C3-9BE1-BF2F22C42BB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B15D0B5-D8ED-4ABE-8929-72464C5FBA4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0F3C51A-5081-4A54-831D-C6F89E40F05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7F1F571-2191-4939-88A2-9F1FEF9CE0D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28598EE-B6B5-422D-85C1-8031EBB2A32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2295BEB-2128-4160-944D-63EC94F2989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2FC58F6-F16B-4FBD-95DB-6052BCB4B01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DB33D15-E0F5-4020-B46F-DDE6A461BDC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53EAC33-0734-45A7-B501-15DF0DEFCAF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9B414-B265-4C41-BC92-963A4C0E5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44045E8-99CF-4606-9C34-374F742856D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3479BC6-9572-4EDE-BD90-634E158F834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F4ECE0D-E9A7-4C42-B6F1-3C16A1EE4F5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C9EDD17-6D39-42B9-86D9-FC717BB841F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E1F8D77-E4C0-4F3A-AFEA-777A0ABBA70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6FAD67D-56D0-472B-A2E0-4AFAE189563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F77D624-E8E1-4BAF-8F57-7AB978E0DBF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F0E94AC-8729-43C5-96FF-15868AFA4AF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50EA1C0-5283-4DE6-BD48-E27597A7B14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BC73A12-718D-4957-B16D-64DE6E821A2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4F439-5107-4150-93E6-4B3CF14CF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766584A-F7C3-4D57-855F-C9B62A3EA01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C5009EC-A780-4820-8378-DFB6BBFC42F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A3CF77F-6D52-42E9-969C-0D4B3DF959B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C83AC34-73E0-47D1-85E7-CDAC99FDB5F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971D3DE-2E82-44EE-823B-B48D321AF07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CC2BF56-C07B-4A83-A3F1-89C3BB5B8F3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428DDF6-7261-41FA-8125-08B80D37468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2755093-2B87-4E4B-B445-C1D09354990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2C0D29F-A15C-42CE-9E5F-4A79947830A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02B3828-C7D5-4C55-BDD9-3D3A254DC53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44AF48-561C-4761-AD34-E61308C55EC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3921FCE-B377-477D-8996-8615B19B922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05B5121-CD13-435C-8493-74D840FF933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881822D-3D71-4572-A790-0B40291D961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1951BC4-8F90-4113-B03D-76AF0BF7E35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313285E-E1DA-4905-8074-D648B485CA8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0E0F96A-A0DA-451B-BA9F-F5C973DD312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0366BDC-B04D-4037-8CEE-8FA99D782F5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9F964A0-B623-40E2-8C31-A062C14EA68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D83D633-8F55-485C-8F34-D26A09617CB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3B510EB-1BED-42B3-B185-0A7D9002BA1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598948-8BA7-4D0F-B44F-C2605D46354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F4B0A24-724A-4DFB-9858-2C52B561FD7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2875F35-798F-4DE5-A409-B8C0E837DC4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B4F03C0-8798-440F-B81F-1EFC9BA59D4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7EAB378-B115-4FD1-A356-8D073496E76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7FA0C07-1640-4531-9C57-BDB1A9118FB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DD60081-D913-48B4-A984-F0E4BD1B681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3567E30-3988-4693-A4D3-F7FE0AC2AB4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4E801E5-8896-4A62-9A96-7CCD017B604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8B3776F-ED61-43E1-B2F4-2AF5AA08D02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11005BB-6DA9-4F8B-86FD-49365A398DC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49AA33-8C09-4B78-ADAC-97ACC1F8021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CBF9FB5-8AAC-4CF0-9707-2865CDF2A0F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DC079BA-7733-4CA9-88C4-BC0CF445F27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5133DAF-D01A-4A23-A9E1-4F5894684E5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0968EBE-F201-42E6-94DD-5D93D13D4B0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EFD2A6E-AEAB-49FA-906A-39D1BD53517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AAA6827-781D-440F-AB83-247C7F8722F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1AB26F2-8B50-4EB1-B0B4-947CBEF0A15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F0859E9D-8B2E-4B6B-8641-F939D82F1436}"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9BE42AA-232C-4C39-827A-0ECB7DBDA05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ADDAE2D-10EB-48E6-99E5-A0CB4E8DA03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E51A1D-1CDC-4630-96AE-D04742C51F7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ED13E96-B13A-457A-AE2E-534AD8C521B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342CA64-70C8-4B6B-8BFB-32C1AA2F15E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EA3DF80-184D-4387-BB57-DD3663D0386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9F0E1B9-E0BB-4BD4-B6D9-CA106DBAED6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A8A82AB-C19A-4492-AB1C-A36B8CD1B1E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3ABD0E0-77C8-4D50-9F01-D3EE02531F9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A557DF2-A3EB-46D7-AE3F-15282951D05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1867A70-D6AD-466C-BA63-437204020387}"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4F0E8A4-9328-4ACF-AF7C-ED6B19AB374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BEAD56-1F11-4E7D-BA02-1302332ADA76}"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DDC445-2F25-4536-84F0-FFF8B51E778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615919-EBD6-4DD4-9EB2-62A318FFFD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B0399-48B4-49B6-8044-7ED4649D8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168826-6DED-421D-BF4E-FCF52D7183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7BDD5F-E54D-4380-A4F1-11D796EEB6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F4864B-6651-47BC-8597-0D5D2AAB6C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37B8E2-0DA3-4106-9815-D58E17DB1B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D47A0A-BC69-44DF-B7C4-03628024C6B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EA78C-6BFE-4C09-873E-1E48B67A5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64222-D5EA-47B4-830F-A24CF4845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F620D6C-2162-470C-BBBD-13145555504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11028-AF70-46B3-ABF6-FAD0ECFC6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5D8CF22-A083-49FA-8BC7-6A4227CBBAB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55DA65D-C4A7-4114-95AC-A86A0D47532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D6EC20F-175F-4F3B-8EC2-1E86FD26889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C20EBF4-F105-4096-BA13-55347AEC04D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FDCDA42-B978-4731-8B3E-2DFDF8CFDBF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D0993E-DAFD-4761-8A6C-9C88100213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13CC1A-1413-40F8-9AA6-4D8AB20F12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CB7341-9B87-4F17-8F19-F0EE29E557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711CAB0-A15E-40CC-BB4D-A01DD392E59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0A3F00E-2359-4E9A-A767-46463DB256C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5DE7B-03F9-4274-ABED-396435A6B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F60BFE7-38AE-4808-98C9-C05E579889D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2E51C9D-27EB-4132-BA58-F7DE940FA92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1E02545-1E4E-42F1-ABBB-053112C593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2008B69-4F76-4B26-8036-AD1A4555ED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BD1921C-3B61-4272-8F20-9737677F276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CAA8968-3437-4A25-A803-2D4D4E182F8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2FAEE2A-9C93-4E5B-9145-A405B0F40F2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C56F1C-3EE9-42CA-8650-A64DF4C4B4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756D36-C044-4B99-8823-E49E7083D0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578557-7FEE-4666-9E41-C2ECFBF3CD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80D3D-03F8-41FD-98B5-928ADBC77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AFA5DF5-BBD3-4B1A-AB9E-55400B0F3E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9E3AEDF-7631-449E-8954-9F7D9AAA220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B20F998-837A-44B8-A539-6D5527E401D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3F78B87-A006-481A-96A3-C56E0A7735C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BB0E7FC-D3BA-48CD-831C-ACD7961265D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109D752-8581-4214-9170-83753C9FB26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CA5BB65-1D1E-48D1-8281-87373AD3D47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3E5CFF7-45DF-48B2-8722-3F0F7AED349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D06BF26-DC49-4FD4-AD35-7334D565FBA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65934EF-5DC5-4603-BCD7-AEDD77F2DAD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3A9FB-2285-4798-B403-8F8C4DBB4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1F5F98C-5884-4E49-8885-41CF9C108FB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21A01A1-13E8-4964-BF73-CD773D13B15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6AAE281-CD93-4FE6-A7DB-95EFDBAF239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526BF59-4612-43FB-A02B-4B2264814B7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94EAB13-3CE4-4C4C-8ADB-1AD5482F7D6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0C07216-D95F-4437-9B1D-8D297379696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E44BF79-1389-41D6-8FAD-2D90B801398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F192921-85F6-4290-8D0A-902D87AC962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B902FC3-FC71-4234-81C6-92E251EBE46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65CB45B-4107-48ED-A4D8-56C3C436EF9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373AD-C6C6-4A32-A7E5-3C557D251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FA3AB6E-054E-4AFF-911D-03EE5D2186F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8073B6A-3059-41B8-8D3A-3CB90266D9D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6A46F9B-289C-4A70-B7A5-5844990D1BD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607953B-8307-406F-8A7C-17ED470898B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9CFC835-12B7-49BA-9A18-C7AFDCB3A97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34E456C-FCED-455F-BA6A-A5CEEF4376A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FE00C13-49D4-4E34-9083-D5EE74D7DC5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67DE9F5-7A89-404F-A8C2-38C6D2970EA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872892E-D8C2-4EEE-8800-A4765297087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901E531-DA73-42DC-AA8D-BC3967D03ED5}"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5DD3-DFD8-40A3-B0F4-410FDFEEAE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EDE3-1D77-4701-80AA-1774B490ABC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0751-D642-4334-B60B-E103FD380E6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4B2A-E5D8-45CB-92B5-CF0FFB2F4E5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53386-5A98-4DD6-AEE4-07F80008CF8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EF7B2-AD44-4A08-8C9B-BB92ACF1A40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42E8-A6FA-4EC2-BACA-8EDB49982EC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F554-CC4E-403F-92E7-22BEE78D717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CFCC-6D72-4356-9037-C27C1D7250A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AB625-1223-4E0F-9DB1-AEA8D673AF1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CCC82-985D-4021-9531-7AFBBDCDE5B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DFD43-C940-43E1-B048-74A8EDB7EE1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4e73"/>
                </a:solidFill>
                <a:latin typeface="News Gothic MT"/>
                <a:ea typeface="Geneva"/>
              </a:rPr>
              <a:t>Chapter 2 </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The External Environment:</a:t>
            </a:r>
            <a:endParaRPr b="0" lang="en-US" sz="3200" spc="-1" strike="noStrike">
              <a:solidFill>
                <a:srgbClr val="595959"/>
              </a:solidFill>
              <a:latin typeface="News Gothic M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Opportunities, Threats, Industry Competition, and Competitor Analysi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Intensity of Rivalry</a:t>
            </a:r>
            <a:endParaRPr b="1" lang="en-US" sz="3600" spc="-1" strike="noStrike">
              <a:solidFill>
                <a:srgbClr val="ff0000"/>
              </a:solidFill>
              <a:latin typeface="News Gothic MT"/>
            </a:endParaRPr>
          </a:p>
        </p:txBody>
      </p:sp>
      <p:sp>
        <p:nvSpPr>
          <p:cNvPr id="661" name=""/>
          <p:cNvSpPr txBox="1"/>
          <p:nvPr/>
        </p:nvSpPr>
        <p:spPr>
          <a:xfrm>
            <a:off x="549000" y="1599840"/>
            <a:ext cx="8042040" cy="4343400"/>
          </a:xfrm>
          <a:prstGeom prst="rect">
            <a:avLst/>
          </a:prstGeom>
          <a:noFill/>
          <a:ln w="0">
            <a:noFill/>
          </a:ln>
        </p:spPr>
        <p:txBody>
          <a:bodyPr anchor="t">
            <a:normAutofit/>
          </a:bodyPr>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balance of competitor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ndustry growth rates.</a:t>
            </a:r>
            <a:endParaRPr b="0" lang="en-US" sz="3200" spc="-1" strike="noStrike">
              <a:solidFill>
                <a:srgbClr val="595959"/>
              </a:solidFill>
              <a:latin typeface="News Gothic MT"/>
            </a:endParaRPr>
          </a:p>
          <a:p>
            <a:pPr marL="284040" indent="-284040">
              <a:spcBef>
                <a:spcPts val="1400"/>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ack of product differentiation.</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Low switching cost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stakes</a:t>
            </a:r>
            <a:endParaRPr b="0" lang="en-US" sz="3200" spc="-1" strike="noStrike">
              <a:solidFill>
                <a:srgbClr val="595959"/>
              </a:solidFill>
              <a:latin typeface="News Gothic MT"/>
            </a:endParaRPr>
          </a:p>
          <a:p>
            <a:pPr marL="284040" indent="-28404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High exit barrier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Industry Attractiveness</a:t>
            </a:r>
            <a:endParaRPr b="1" lang="en-US" sz="3200" spc="-1" strike="noStrike">
              <a:solidFill>
                <a:srgbClr val="ff0000"/>
              </a:solidFill>
              <a:latin typeface="News Gothic MT"/>
            </a:endParaRPr>
          </a:p>
        </p:txBody>
      </p:sp>
      <p:sp>
        <p:nvSpPr>
          <p:cNvPr id="663" name=""/>
          <p:cNvSpPr txBox="1"/>
          <p:nvPr/>
        </p:nvSpPr>
        <p:spPr>
          <a:xfrm>
            <a:off x="549000" y="1218960"/>
            <a:ext cx="8042040" cy="47242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alyzing the five forces within an industry allows firms to determine the industry’s attractivenes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 </a:t>
            </a:r>
            <a:r>
              <a:rPr b="1" i="1" lang="en-US" sz="2800" spc="-1" strike="noStrike">
                <a:solidFill>
                  <a:srgbClr val="595959"/>
                </a:solidFill>
                <a:latin typeface="News Gothic MT"/>
              </a:rPr>
              <a:t>attractive industry </a:t>
            </a:r>
            <a:r>
              <a:rPr b="0" lang="en-US" sz="2800" spc="-1" strike="noStrike">
                <a:solidFill>
                  <a:srgbClr val="595959"/>
                </a:solidFill>
                <a:latin typeface="News Gothic MT"/>
              </a:rPr>
              <a:t>is one in which there are many opportunities and few threats. This gives firms the potential to earn normal to above normal returns.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Strategic Groups</a:t>
            </a:r>
            <a:endParaRPr b="1" lang="en-US" sz="3600" spc="-1" strike="noStrike">
              <a:solidFill>
                <a:srgbClr val="ff0000"/>
              </a:solidFill>
              <a:latin typeface="News Gothic MT"/>
            </a:endParaRPr>
          </a:p>
        </p:txBody>
      </p:sp>
      <p:sp>
        <p:nvSpPr>
          <p:cNvPr id="665" name="PlaceHolder 2"/>
          <p:cNvSpPr>
            <a:spLocks noGrp="1"/>
          </p:cNvSpPr>
          <p:nvPr>
            <p:ph/>
          </p:nvPr>
        </p:nvSpPr>
        <p:spPr>
          <a:xfrm>
            <a:off x="1218960" y="1752120"/>
            <a:ext cx="7467480" cy="4295880"/>
          </a:xfrm>
          <a:prstGeom prst="rect">
            <a:avLst/>
          </a:prstGeom>
          <a:noFill/>
          <a:ln w="0">
            <a:noFill/>
          </a:ln>
        </p:spPr>
        <p:txBody>
          <a:bodyPr anchor="t">
            <a:normAutofit/>
          </a:bodyPr>
          <a:p>
            <a:pPr marL="455760" indent="-455760">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set of firms that are similar among themselves but different from firms in other groups.</a:t>
            </a:r>
            <a:endParaRPr b="0" lang="en-US" sz="2800" spc="-1" strike="noStrike">
              <a:solidFill>
                <a:srgbClr val="595959"/>
              </a:solidFill>
              <a:latin typeface="News Gothic MT"/>
            </a:endParaRPr>
          </a:p>
          <a:p>
            <a:pPr marL="455760" indent="0">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66"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466828C5-422A-471F-B62C-01C294297499}"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6" presetSubtype="26">
                                  <p:stCondLst>
                                    <p:cond delay="0"/>
                                  </p:stCondLst>
                                  <p:childTnLst>
                                    <p:set>
                                      <p:cBhvr>
                                        <p:cTn id="13" dur="1" fill="hold">
                                          <p:stCondLst>
                                            <p:cond delay="0"/>
                                          </p:stCondLst>
                                        </p:cTn>
                                        <p:tgtEl>
                                          <p:spTgt spid="665">
                                            <p:txEl>
                                              <p:pRg st="0" end="0"/>
                                            </p:txEl>
                                          </p:spTgt>
                                        </p:tgtEl>
                                        <p:attrNameLst>
                                          <p:attrName>style.visibility</p:attrName>
                                        </p:attrNameLst>
                                      </p:cBhvr>
                                      <p:to>
                                        <p:strVal val="visible"/>
                                      </p:to>
                                    </p:set>
                                    <p:animEffect filter="barn(inHorizontal)" transition="in">
                                      <p:cBhvr additive="repl">
                                        <p:cTn id="14" dur="500"/>
                                        <p:tgtEl>
                                          <p:spTgt spid="6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etitor Analysis</a:t>
            </a:r>
            <a:endParaRPr b="1" lang="en-US" sz="3600" spc="-1" strike="noStrike">
              <a:solidFill>
                <a:srgbClr val="ff0000"/>
              </a:solidFill>
              <a:latin typeface="News Gothic MT"/>
            </a:endParaRPr>
          </a:p>
        </p:txBody>
      </p:sp>
      <p:sp>
        <p:nvSpPr>
          <p:cNvPr id="66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mpetitor intelligence refers to the information on rival firms that is gathered to better understand and anticipate the strategies, assumptions and capabilities of competitors</a:t>
            </a:r>
            <a:r>
              <a:rPr b="0" lang="en-US" sz="2800" spc="-1" strike="noStrike">
                <a:solidFill>
                  <a:srgbClr val="595959"/>
                </a:solidFill>
                <a:latin typeface="News Gothic MT"/>
              </a:rPr>
              <a: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omplementors</a:t>
            </a:r>
            <a:endParaRPr b="1" lang="en-US" sz="3600" spc="-1" strike="noStrike">
              <a:solidFill>
                <a:srgbClr val="ff0000"/>
              </a:solidFill>
              <a:latin typeface="News Gothic MT"/>
            </a:endParaRPr>
          </a:p>
        </p:txBody>
      </p:sp>
      <p:sp>
        <p:nvSpPr>
          <p:cNvPr id="67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Refers to the companies that sell complementary goods and services that may add value to the focal firm’s goods and servic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76680"/>
            <a:ext cx="8042040" cy="133668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The General Environment</a:t>
            </a:r>
            <a:endParaRPr b="1" lang="en-US" sz="3600" spc="-1" strike="noStrike">
              <a:solidFill>
                <a:srgbClr val="ff0000"/>
              </a:solidFill>
              <a:latin typeface="News Gothic MT"/>
            </a:endParaRPr>
          </a:p>
        </p:txBody>
      </p:sp>
      <p:sp>
        <p:nvSpPr>
          <p:cNvPr id="643" name=""/>
          <p:cNvSpPr txBox="1"/>
          <p:nvPr/>
        </p:nvSpPr>
        <p:spPr>
          <a:xfrm>
            <a:off x="533520" y="1752480"/>
            <a:ext cx="769608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200" spc="-1" strike="noStrike">
                <a:solidFill>
                  <a:srgbClr val="595959"/>
                </a:solidFill>
                <a:latin typeface="News Gothic MT"/>
                <a:ea typeface="Geneva"/>
              </a:rPr>
              <a:t>The general environment is composed of segments that are external to the firm and these segments influence </a:t>
            </a:r>
            <a:r>
              <a:rPr b="1" i="1" lang="en-US" sz="3200" spc="-1" strike="noStrike">
                <a:solidFill>
                  <a:srgbClr val="595959"/>
                </a:solidFill>
                <a:latin typeface="News Gothic MT"/>
                <a:ea typeface="Geneva"/>
              </a:rPr>
              <a:t>all </a:t>
            </a:r>
            <a:r>
              <a:rPr b="0" lang="en-US" sz="3200" spc="-1" strike="noStrike">
                <a:solidFill>
                  <a:srgbClr val="595959"/>
                </a:solidFill>
                <a:latin typeface="News Gothic MT"/>
                <a:ea typeface="Geneva"/>
              </a:rPr>
              <a:t>organizations. However, these segments may impact different organizations in different ways.</a:t>
            </a:r>
            <a:endParaRPr b="0" lang="en-US" sz="32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2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D6492934-FFC8-408E-BD72-7BEDBDA1FEB1}"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e Industry Environment</a:t>
            </a:r>
            <a:endParaRPr b="1" lang="en-US" sz="3600" spc="-1" strike="noStrike">
              <a:solidFill>
                <a:srgbClr val="ff0000"/>
              </a:solidFill>
              <a:latin typeface="News Gothic MT"/>
            </a:endParaRPr>
          </a:p>
        </p:txBody>
      </p:sp>
      <p:sp>
        <p:nvSpPr>
          <p:cNvPr id="64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 industry environment refers to a set of factors that directly impact all firms within a particular industry. These factors will vary from one industry to the next.</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External Environmental Analysis</a:t>
            </a:r>
            <a:endParaRPr b="1" lang="en-US" sz="3600" spc="-1" strike="noStrike">
              <a:solidFill>
                <a:srgbClr val="ff0000"/>
              </a:solidFill>
              <a:latin typeface="News Gothic MT"/>
            </a:endParaRPr>
          </a:p>
        </p:txBody>
      </p:sp>
      <p:sp>
        <p:nvSpPr>
          <p:cNvPr id="64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Opportunities are conditions, that if properly exploited, should help the firm achieve strategic competitivenes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reats are conditions that may hinder or interfere with a firm’s efforts to achieve strategic competitivenes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108000"/>
            <a:ext cx="86868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Segments in the General Environment</a:t>
            </a:r>
            <a:endParaRPr b="1" lang="en-US" sz="3600" spc="-1" strike="noStrike">
              <a:solidFill>
                <a:srgbClr val="ff0000"/>
              </a:solidFill>
              <a:latin typeface="News Gothic MT"/>
            </a:endParaRPr>
          </a:p>
        </p:txBody>
      </p:sp>
      <p:sp>
        <p:nvSpPr>
          <p:cNvPr id="65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emographic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c</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olitical/Leg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ociocultural </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echnology</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lobal</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Five Industry Forces</a:t>
            </a:r>
            <a:endParaRPr b="1" lang="en-US" sz="3600" spc="-1" strike="noStrike">
              <a:solidFill>
                <a:srgbClr val="ff0000"/>
              </a:solidFill>
              <a:latin typeface="News Gothic MT"/>
            </a:endParaRPr>
          </a:p>
        </p:txBody>
      </p:sp>
      <p:sp>
        <p:nvSpPr>
          <p:cNvPr id="653" name=""/>
          <p:cNvSpPr txBox="1"/>
          <p:nvPr/>
        </p:nvSpPr>
        <p:spPr>
          <a:xfrm>
            <a:off x="549000" y="1142640"/>
            <a:ext cx="8042040" cy="4800600"/>
          </a:xfrm>
          <a:prstGeom prst="rect">
            <a:avLst/>
          </a:prstGeom>
          <a:noFill/>
          <a:ln w="0">
            <a:noFill/>
          </a:ln>
        </p:spPr>
        <p:txBody>
          <a:bodyPr anchor="t">
            <a:normAutofit/>
          </a:bodyPr>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reat of new entra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Economies of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differentiation</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apital requiremen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ccess to distribution channels</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ost advantages other than scale</a:t>
            </a:r>
            <a:endParaRPr b="0" lang="en-US" sz="32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Governmental policie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Suppliers</a:t>
            </a:r>
            <a:endParaRPr b="1" lang="en-US" sz="3600" spc="-1" strike="noStrike">
              <a:solidFill>
                <a:srgbClr val="ff0000"/>
              </a:solidFill>
              <a:latin typeface="News Gothic MT"/>
            </a:endParaRPr>
          </a:p>
        </p:txBody>
      </p:sp>
      <p:sp>
        <p:nvSpPr>
          <p:cNvPr id="655" name=""/>
          <p:cNvSpPr txBox="1"/>
          <p:nvPr/>
        </p:nvSpPr>
        <p:spPr>
          <a:xfrm>
            <a:off x="549000" y="1599840"/>
            <a:ext cx="8042040" cy="4343400"/>
          </a:xfrm>
          <a:prstGeom prst="rect">
            <a:avLst/>
          </a:prstGeom>
          <a:noFill/>
          <a:ln w="0">
            <a:noFill/>
          </a:ln>
        </p:spPr>
        <p:txBody>
          <a:bodyPr anchor="t">
            <a:normAutofit fontScale="89000"/>
          </a:bodyPr>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Availability of substitute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industry to the supplier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Importance of the suppliers’ goods to the industry succes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10200" indent="-25128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of vertical integration.</a:t>
            </a:r>
            <a:endParaRPr b="0" lang="en-US" sz="3200" spc="-1" strike="noStrike">
              <a:solidFill>
                <a:srgbClr val="595959"/>
              </a:solidFill>
              <a:latin typeface="News Gothic MT"/>
            </a:endParaRPr>
          </a:p>
          <a:p>
            <a:pPr marL="310680" indent="-31068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Bargaining Power of Buyers</a:t>
            </a:r>
            <a:endParaRPr b="1" lang="en-US" sz="3600" spc="-1" strike="noStrike">
              <a:solidFill>
                <a:srgbClr val="ff0000"/>
              </a:solidFill>
              <a:latin typeface="News Gothic MT"/>
            </a:endParaRPr>
          </a:p>
        </p:txBody>
      </p:sp>
      <p:sp>
        <p:nvSpPr>
          <p:cNvPr id="657" name=""/>
          <p:cNvSpPr txBox="1"/>
          <p:nvPr/>
        </p:nvSpPr>
        <p:spPr>
          <a:xfrm>
            <a:off x="549000" y="1447920"/>
            <a:ext cx="8042040" cy="4495680"/>
          </a:xfrm>
          <a:prstGeom prst="rect">
            <a:avLst/>
          </a:prstGeom>
          <a:noFill/>
          <a:ln w="0">
            <a:noFill/>
          </a:ln>
        </p:spPr>
        <p:txBody>
          <a:bodyPr anchor="t">
            <a:normAutofit/>
          </a:bodyPr>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Number and dominance of buyer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witching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Knowledge of costs.</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Product is not differentiated, thus substitutes are available.</a:t>
            </a:r>
            <a:endParaRPr b="0" lang="en-US" sz="3200" spc="-1" strike="noStrike">
              <a:solidFill>
                <a:srgbClr val="595959"/>
              </a:solidFill>
              <a:latin typeface="News Gothic MT"/>
            </a:endParaRPr>
          </a:p>
          <a:p>
            <a:pPr lvl="1" marL="685800" indent="-282600">
              <a:spcBef>
                <a:spcPts val="1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Credible threat vertical integration.</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Threat of Substitutes</a:t>
            </a:r>
            <a:endParaRPr b="1" lang="en-US" sz="3600" spc="-1" strike="noStrike">
              <a:solidFill>
                <a:srgbClr val="ff0000"/>
              </a:solidFill>
              <a:latin typeface="News Gothic MT"/>
            </a:endParaRPr>
          </a:p>
        </p:txBody>
      </p:sp>
      <p:sp>
        <p:nvSpPr>
          <p:cNvPr id="65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Substitute products meet the customers’ needs but do so in different way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They are different goods and services that perform the same or a similar purpose.</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10-20T14:23:48Z</dcterms:modified>
  <cp:revision>319</cp:revision>
  <dc:subject/>
  <dc:title>Slide 1</dc:title>
</cp:coreProperties>
</file>