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5490-4954-4007-8E78-C375FDE208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F245-01CE-4274-A7A3-DF4B328C4C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7D68-16F4-4E20-9C02-97DA07F5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747C-FD74-47AF-A797-73D5DC2D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B8D455-F988-43D7-B606-0393031E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9BADA7-B4BE-4C52-BB09-3A19FCA5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79C968-E9B2-46DF-8E37-085DD43F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7CFD3E-5F33-4426-AC43-2838E2AB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4DD454-A82E-44E8-86C9-BC3C6D07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AC4C5B-3F28-40C3-8F62-B86EF111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423F3B-E2EC-4823-A2C2-6695C676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CD5B01-D4C6-40E2-87DA-9C1840B6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A9131F-B1F0-420D-A43E-419351BD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22ACB8-BFFE-468A-A219-5E9259CA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E2B-1C26-433A-BBCA-A713B62B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51E6D6-0AD8-4285-8113-7021B7B0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B4D1F8-2076-4511-9424-2D6EFE1C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548F71-93F5-40AA-80FE-6CD9D329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CF1B26-EE6B-4ABB-BB2E-027072FB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E0D03A-07AC-4E4D-B115-26DED505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C9694C-01BE-4E81-A19F-5FCBCDDF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784D51-A381-48C4-86D6-F3960D44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3FF3BB-773F-460B-810A-B4E723D3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854BF9-977F-43D7-BBB7-F618E375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5DFD0C-B4AB-4D05-964F-844AC858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7D58-D252-4453-B9DF-FDB75811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34203B-9350-4809-AB0A-9F8BDC93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B9B558-B98A-4B29-BF6B-E2761F87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7F761E-64DC-4C84-9FC7-93DBC582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E29623-443A-4011-BA2C-53AD45A2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294370-8156-40D2-B02D-F7A254D0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D6974E-4521-4EE8-86BD-A79FC731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40444F-5994-40C6-B0C2-B6C52158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1EAAEA-4F7B-491A-BD24-F7C6CE93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C6A7E4-9385-4BFD-9DE9-82577D6D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9C9CC2-9EC7-4BD3-829B-1855A36F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85ACC-6655-4F03-A3FB-B6C70B32221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3091CB-8267-4FDE-88AE-8BB5CA98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4744BA-EEFA-4B42-9A80-9FB6653A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16DAC4-E296-4891-B753-26C3DB4D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149063-2EB4-4B29-915A-A96B42A1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CAB9EA-E7F0-4BC5-8FC0-E503C63D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DCB42F-1B3B-4CBC-A239-A485BF16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4C23F7-92B5-40D9-AF33-B5E4DFAF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18ED16-1905-43A0-89AF-0DFCBEC2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BEA9D5-65EE-4116-A808-1FF6B334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278318-9C62-449F-AB39-CC352629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C1954-B7AB-409E-A655-A487C39F2FC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9FB9B5-CD9F-427E-8BEF-CA05A7BD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AA05E2-5B38-4C63-9C14-B261F822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E2E50B-2AFF-4724-AE0E-1B298F58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5087D1-E54D-41A8-8D54-9C42B2D3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AC9C40-34E2-4798-A9C8-B237A470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133B50-A1B6-4B46-88E6-BF08F9E4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7DD819-7CFE-4ACB-97C2-6908B90C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E6D22E-D7F9-45E5-9886-98FD3505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2143C7-C3F1-4497-A833-887672F9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3FEA5F-0A5D-4CE2-920E-D308D538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FFC08-BB50-4A31-B5DA-D16DC187FCC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2826AA-2DE7-4096-895D-BC974477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4A5C52-C046-4B3F-B782-7ED13D49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540D29-FE2E-4970-B6DF-D5326AB9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15AC17-DAF4-48E2-A8C9-96F5FAFE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F7E230-2BD4-4C95-A625-0F39D2E3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C78E11-23F0-4B41-B9E9-EA9DFB46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C5DAF1-4AF3-4A04-B364-F03242E8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FBBB9F-8A0F-4049-9F96-FFAB631D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0837C5-F7BF-4999-92AF-4FC53551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5421C8-53BE-4FCD-AA88-942FEF4B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EA51B-9FEF-4A39-AD5A-ECBC7AE3F4A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BD146F-7228-4005-93FC-E9A76EB4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3CC7F7-BE7B-4D6B-8546-375FBE5A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3492C1-5B6F-462A-BB14-B8BE0566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FC6C14-C13E-48F0-92DF-2DA86361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18F1D0-0AB2-4DEF-872C-1699428A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BC098B-9E0E-4936-8D8D-348B39E4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565C72-C74B-4886-9C8F-45E5A5D7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7F4698-BE63-4ECB-BDF8-9DDBB717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6DB662-27FD-4931-A88E-9A2EB851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AC248-9CF5-4D1F-9C28-FD0133797F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370CC-33DB-4B29-8821-2BB89D8051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A245E-19F5-4C9C-8AC8-5C66269C85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8515-7851-4289-9884-0C9797A5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4011E-BBFC-41C2-9A37-387634DFE8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8868A-4433-4E77-A3FE-05D084AC73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04108-5599-4FBF-822D-B67BA6C98E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F8F79-BF03-4433-810C-6E678F6095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10B8A-AF28-412A-99F0-23DF0DEABD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2C4-229C-46C9-B9D4-0003D7A8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F98-75CF-4E4C-A122-2C223871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A01EF-DDFC-4A52-AA63-CC5085B3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BC7-BF08-4217-AD2F-E3AC49EC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37CF2-7667-4566-A0A5-8310D34A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60ADD-39BC-493B-84FA-17AD2A5B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562B5-FC68-4141-B827-53B36AEB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CDB22-2D02-451B-ABAB-1C760CCA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C9E0D-C430-4783-BF22-1104E255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817D1-7770-4BB3-A6DA-400127EA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9B194-11AD-43AA-B6B6-5842F54D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62CD3-65D1-4477-84C0-002AB7A2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0EC87-B435-4DED-8AF6-3E2BDA80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E0BB05-09C8-429E-94C6-4F52DC48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924-CAF2-4BBD-85D2-F5C1C934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A542A-D724-4DAD-8235-D1A4DB43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5F8512-CDA1-4460-82E4-C73768C2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147033-4579-465C-84EA-44B7A6CB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D61CC1-4075-4FEC-A9A6-D5C6F16D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A63CC1-60B4-4F96-A471-5D284D15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AC8CC1-21E6-4650-84C4-0E735D6A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5E36E0-054A-4568-8FE4-0F6ECEC9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14E26B-3792-4A4C-9908-60D40A91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F561CA-B812-4688-98CB-9959B75D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9C87EB-A6A6-46A5-AEE6-2D1C5C8D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178E-AA46-4E7E-8022-53FEC76D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779B73-B6A9-444A-9093-59D84B63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75A2BB-951F-49B4-8885-4516A19C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BB08DD-A71D-4CD0-9BE4-93878213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53EF21-AAF6-4A96-A975-BDDE868C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3888B-E9DE-4D92-9C0A-BAC51695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6A7A0-A4A5-42EF-8147-62C28ADD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9AAF79-A18E-4AEB-9BA6-B51F6A6F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D8720-CB0F-44BD-A3CD-1A70F6E3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5AFB07-AC37-4F45-9958-FACBA90A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F4FE9-E0C9-4A62-BD63-B9B4CC2E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187-5925-4555-9F01-65C2AAE8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4D34F2-F4E0-4DFA-8000-60C5FBD6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21E63-1B32-40BE-9A7D-A9F3769C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E3EBF-4948-4652-9A76-261253AD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049CF-6285-472B-9DD7-94760461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6AEF38-E2D8-499C-944B-8547114D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DDEACA-E8D5-4204-87DF-B69EAD43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19CFDA-143E-42E5-9492-A494C9F6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DA1388-94ED-4790-BA54-51CA3068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8043C6-0570-4E1F-BDDC-C1D6A64B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DF21E7-5C1A-482F-8009-67F33ACF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C5B-22B0-4AA8-9232-BBF555DE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77960B-F9A1-4138-B8D3-8E628457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5FBF9F-00A9-46C0-8CFE-404E0D6D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55A00-57F5-49C3-88AE-20DEF184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92B68C-CA4D-4D2A-A6A2-FDC62694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29965-6081-4935-948D-052A4196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35ED78-9EB7-4D7B-B1AB-E209C5D7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E82763-8590-47F5-984C-ACB729CF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1C59F5-5AE0-4B4F-9A3C-81D5B1D9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FC1D63-2FC3-4D80-972C-DF445AB4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D95D0A-EB8C-4662-9001-00880B7C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9F62-0930-4408-ABAE-B714596445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9A94-FF2A-4643-A996-D05354DBC5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F220-69EC-4192-8487-12471B96F0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82B3-7172-4868-A41D-E035D869B7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04C3-9745-4F7B-9546-3F3A072F1A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A9B1-7DAC-48E4-89CA-F7B3AF6487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A12C-FCC4-4607-BBB7-25A7AE3593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D055-DA58-4DDD-B214-8CC1EBE31F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5BB7-D84B-43B5-9E9D-03AEAF8726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33F4-C3B1-4C53-AF85-F95DD2452C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6656-031C-4022-89EB-ED312B7F2A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C2AB-42D2-4BC9-BCC3-044211E102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3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The Internal Organization: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Resources, Capabilities, Core Competencies, and Competitive 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Firm Resourc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160" y="1752480"/>
            <a:ext cx="83055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apabilit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ore Competenc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  <a:ea typeface="Geneva"/>
              </a:rPr>
              <a:t>Creating value and competitive advantage!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786F129B-8437-4F4A-B24F-36D68837BF2A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riteria for Sustained Competitive Advantage – VRIO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aluab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a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fficult or costly to imit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ique historical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usally ambiguou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cial complexit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rganization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Four Criteria, Competitive Advantage and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rcRect l="0" t="8511" r="0" b="0"/>
          <a:stretch/>
        </p:blipFill>
        <p:spPr>
          <a:xfrm>
            <a:off x="533520" y="1600200"/>
            <a:ext cx="8076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Value Chain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tivities that a firm engages in to produce a product or provide a servi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upport Func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activities a firm engages in to support the work being done to produce, sell, distribute and service the products being produc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RM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I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utsourc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urchasing an activity (value chain or support) from an external supplier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9-09-19T18:15:58Z</dcterms:modified>
  <cp:revision>316</cp:revision>
  <dc:subject/>
  <dc:title>Slide 1</dc:title>
</cp:coreProperties>
</file>