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B139-1E93-425A-8BC7-4708996E2CBE}"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0040-2928-4945-B930-2C0B088F374D}"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F2319-7720-4C3E-9FBD-82D848BEE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03B27-6441-43A9-9852-440652B55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1ED8447-2659-4625-9112-4ADA8D82A91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2D7ECF8-F092-46FC-AA57-C4E6A9E033E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68AD4D-C545-4BEA-B058-3393014D4A5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DA82CE7-F1A2-4953-9F7C-B3562BAF4E2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0056863-73FF-48F4-A773-0BED94D9865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1063BF9-8067-43F0-8989-5855314BE9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82CB08F-7062-42AA-9A73-408189ECBD7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FAD82A2-1CF3-42F5-B705-FDBA42F96BB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9A56CDC-2F45-446F-8BF5-820D0ABAB56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5310063-2025-4F3D-B923-8470C026ED3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146F9-398B-4E59-83BC-C8689EDCF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B30523F-4E5C-4EE8-A931-0947604339A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171B89F-9F6F-4FB3-88B3-6C4C7DABC57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1F28DC2-CD76-4DCA-AC8F-BC3A17F734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2D8C814-83F0-49CF-9033-969D4ED596A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FC98466-D761-47C6-A014-34DEBBF7CB6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59DDDB8-AD4C-45FB-B5E4-A931855218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4A6A2D7-F32F-49B4-B719-D132001AE6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5EE5C58-21E8-4D3A-B6B6-3EEB5DF6969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7FC0D19-5543-426E-8ED1-80FA0BC147D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EA71589-F8E1-44CC-8903-7FFF1064C65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5CC4F-0B86-4F5D-8682-93A4D9FBE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3FD889C-9772-41F8-8465-C0D85659973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86B8A47-3131-4466-BF1E-1FD08B37A94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DF91167-0182-433C-8BFF-FC354771C61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120A945-A080-4D22-964B-F0858054CDA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FDEC5D1-CBDB-46CE-AC46-32AB313241E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697F2F-400E-421D-8AB2-A71BB5EACE2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1D76DA0-F989-420F-98A0-0584A4ABC02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E128F4-FE7A-44E1-A311-BEDC64CCED4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604E2B2-9683-4C7F-B176-7E64813BE0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6DBAF05-111C-4242-A40A-5E5B0066FF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624657-4DF2-45D0-8A0B-4E25BD78212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6B06B0B-941E-49B8-A186-2A32D2C1A9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38C0665-70A2-4FE8-9CF5-FF2E2F01341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0C12015-D1E2-4A47-ACD4-A7594BF5041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63CD414-0DD2-46DB-A37D-E369D600BBB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8A05E3B-5CBC-4FA6-8985-AB111B780CF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9C66C03-EF30-4851-B3F0-68EC23EAE6C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92064A1-A003-46D6-8F7F-CC85340B65C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9ECE095-AAFC-4431-AD59-A4B9DD854C8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A405B87-D614-49B0-94E3-EF4A5B5CD08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88D2007-BC6D-43B8-BE7A-DE76482F8F2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83C2BA-827D-477C-86EB-5FA00EB55E8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D4E04A-DFC1-4A95-B333-BBC5F179819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A339AB4-0B54-4C8A-9E10-6A332688BB8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A889E87-F3F7-427E-8F58-9FA166FDE46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7B34A33-1020-4D75-87F4-B904738DA65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6FB83E8-7A67-4749-A335-B108E08A31D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1639919-43C5-4A49-ACE3-655D9AC6C50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574E4E7-093E-4C4D-B474-31D0DF286D7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0B481B6-1B4E-4A3B-94A6-8028D95E651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4ACF8BE-3984-4AFE-8B85-57C66D384FF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55A55BC-D229-4786-A7B4-399EEA07F01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05A350-FAE0-423D-B5AE-F9F09191FB9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0B25588-6814-42D7-AE15-9FE60398A92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DB0FCBC-73C7-4409-980B-E176F4CFBC2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960A964-D9F5-4311-856E-C50D43C980E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DA69E43-AE69-4B51-BC5F-276A7CB6710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B54AE13-1FFD-4B71-AE97-053912BF770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CB2ABA1-5ED3-4687-8D13-9E3138B4E98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DB2A522-8DA4-4875-9917-78B9EFA5C9E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5ACA5AC-0B4F-4F29-AF5E-E770AC28800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2A0C8DD-60D3-463A-B875-4563D97436F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360B06B-BB12-47BB-8089-48B0455F288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4CFC7A-BECA-4A9E-A404-0F50FCF8F60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0FF83FD-70B2-4B06-ACE7-AEC081DD501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05538D3-35B8-40DC-8487-C6B5E542F75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B81E31B-539D-4A24-97CD-00F8EDF7988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8C7158E-86AD-47D4-BCBE-697BDCC579C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EE9BFB6-8DA1-4E6B-9603-8EF4EFC6ED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21B8644-529C-4954-9306-46A4AABE4A7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9103698-ABF9-4785-B006-CE593BE67EB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F098088-AFDA-47E0-84BA-B293AD35D36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57627EC-B38F-47AF-ACA6-3C1ADCA0034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468CA8-3C02-41FA-BF8F-F364296DD47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2ABC1A-68BD-4696-BA0B-592ABBF8EF1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124DA6-3CCF-43FD-BABB-C86EE2C4CF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6CBEB-45B7-4073-A83E-D9CAC5695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493B5-8052-4CA2-8D8B-CEA91FD707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921A64-35D8-4652-8A40-3375143E4F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EE866D-6B66-45FC-B942-A91BACDA03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55890E-DF62-47ED-A021-9928151511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A03957-9E62-48F7-873E-FD9701D63C0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CDC9E-685B-4C54-920D-057E472A7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AB58C-1EFE-4970-96D9-4F33BD851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A2252F5-71E7-44F2-8AE9-9C74251E61A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A7480-AC61-4BF7-85EC-9296589D2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B9D131-E6BC-4AF3-9C92-64DB90918C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603F8F-5C40-433D-8BC9-7AF1B35C9F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CF051C-D90B-4CEA-B025-6A87D34E9E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4DD1F7-34FD-42B2-8C7C-9B93D452D34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D9F0CB9-8469-437D-93FF-A635FBEE7C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1265B9-BAE7-439A-87C3-355BA9AB79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C2296C-DA5B-4E1E-B130-1AFC4C7AB7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85913C-6530-421D-92C1-9943DA34D8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522BD9-1662-4417-9EA3-58AFF10A31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A79132-4BA7-4F8E-9BA2-4C6F2ABFF89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078D5-61B9-4D60-BF2D-BE0E3EB29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FEF5862-FE46-4F1C-BD10-ADBBEACEA87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AE77622-536E-48F2-9B1D-6A0EDB6A6FB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741CF9-C395-4D40-803B-0076B8BEFF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5B22D1-39A4-4156-8D4C-3AB4D4CE0E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1E2845-81D1-4493-B6E0-066B9D76FDF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0A6CAA-370C-4242-B152-04EFA8DCDC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014F03-F3A7-4AE1-8C41-4C1F7140AED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4E14E1-C0E4-43BD-BCC2-882BFE9B86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E22E81-6B89-4134-8203-8C2664D7DE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196BB2-02AD-4CC3-81C9-D4D6379F41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63883-9405-4BCF-A750-50DC7E87D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0103FD-7066-471C-8861-2C4B9531A40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29FB485-0B0F-45E8-9E45-C6FE9DF940A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24FD335-C314-4374-B415-D69A33C040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53A6D6E-9BAB-4678-A056-9565EE87E33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C138F06-E888-4BF3-97E8-51682CDD65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CC5378E-ADBA-451A-854A-D7BE3D8D81C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0B07DB8-3847-4802-A438-39A32649F7E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ECC177-8891-47F8-97ED-55A105C0F19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A0409F4-45AB-4E07-BDA8-405BD9105D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83255F-BD58-47AA-89D7-6DFAA23BA71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742E3-B056-4179-93E9-6D914B722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8302836-A84D-4D47-A5C0-CB359718362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E19014-FBBC-43CE-AB74-4571B3F5AF7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8D0A437-0AAF-4A8F-BAFC-38FC2334038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0954733-68E2-41EB-B1D8-C89D2988E90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F823B90-8B00-4BF1-B81B-AD053A1F324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1372657-4C9A-403D-B8E9-023A23966A1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DE22FF-47BA-4A4C-BABE-5D6812DDD16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8A2A021-961A-4760-A117-A649F20DB37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52D01FA-25EA-4753-911E-D2089334353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4FEE653-6EC0-4972-91D5-BED95EDE5E3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30C22-0FE6-4141-8B58-73C592D03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B201692-DEDC-4C21-BB11-E54AD90BD6C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E21F45-0294-4C5F-98F2-D74EE04F10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A2ADE8-8983-4D6F-9B50-8D73E0EFE9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024EEB9-36D7-4CF7-925A-6044AE5F79A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521D111-F12E-4C99-8E25-7E2F73E0B1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6CE17FB-0CFF-460F-8703-15D9682D5A6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CB8CD8A-83F1-4ABD-918A-0FB4A55D7DB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D23F39C-F754-4519-AD40-CFB1DDF538B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055083B-5B61-4650-8362-1AF83A16B5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293DEA-1271-45B4-8790-C7306930E10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2DA0-8064-4A11-B84D-CB1FD5FA35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0702-7A92-4290-ADCA-E25B0675B7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EDBD-CFB1-4108-B4D9-4BAD048B00C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D623-0B10-4041-B27A-9FBAAEEB4B9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D152-72D3-4928-A428-6AF2196F13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7BF5-319B-4141-9D72-AC8C00173C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E73D-2216-4637-AD27-2523F1A2408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332A-7906-4FE5-AB4B-5AC71E0861D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913A-E8B1-4AAF-B908-33A3A0CDDBF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212B-5687-4E12-9A8C-278551836E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5683-5A1D-4332-996C-6BD51BBA220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26BF-43DD-4B5F-8D3F-7D03CA23501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4</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Business-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Low Cost and the Five Forces</a:t>
            </a:r>
            <a:endParaRPr b="1" lang="en-US" sz="3600" spc="-1" strike="noStrike">
              <a:solidFill>
                <a:srgbClr val="ff0000"/>
              </a:solidFill>
              <a:latin typeface="News Gothic MT"/>
            </a:endParaRPr>
          </a:p>
        </p:txBody>
      </p:sp>
      <p:sp>
        <p:nvSpPr>
          <p:cNvPr id="66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Product Differentiation Strategy</a:t>
            </a:r>
            <a:endParaRPr b="1" lang="en-US" sz="3600" spc="-1" strike="noStrike">
              <a:solidFill>
                <a:srgbClr val="ff0000"/>
              </a:solidFill>
              <a:latin typeface="News Gothic MT"/>
            </a:endParaRPr>
          </a:p>
        </p:txBody>
      </p:sp>
      <p:sp>
        <p:nvSpPr>
          <p:cNvPr id="664" name=""/>
          <p:cNvSpPr txBox="1"/>
          <p:nvPr/>
        </p:nvSpPr>
        <p:spPr>
          <a:xfrm>
            <a:off x="549000" y="1143000"/>
            <a:ext cx="8042040" cy="510552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roduct attribute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features </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venien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Quality</a:t>
            </a:r>
            <a:endParaRPr b="0" lang="en-US" sz="28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lationships with customer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rvice</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customization</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nsumer marketing</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putation/image/statu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inks with other firms</a:t>
            </a:r>
            <a:endParaRPr b="0" lang="en-US" sz="2800" spc="-1" strike="noStrike">
              <a:solidFill>
                <a:srgbClr val="595959"/>
              </a:solidFill>
              <a:latin typeface="News Gothic MT"/>
            </a:endParaRPr>
          </a:p>
          <a:p>
            <a:pPr lvl="1" marL="685800" indent="-336600">
              <a:lnSpc>
                <a:spcPct val="8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Product mix</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49000" y="107640"/>
            <a:ext cx="8042040" cy="141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roduct Differentiation </a:t>
            </a:r>
            <a:br>
              <a:rPr sz="3600"/>
            </a:br>
            <a:r>
              <a:rPr b="1" lang="en-US" sz="3600" spc="-1" strike="noStrike">
                <a:solidFill>
                  <a:srgbClr val="ff0000"/>
                </a:solidFill>
                <a:latin typeface="News Gothic MT"/>
              </a:rPr>
              <a:t>and the Five Forces</a:t>
            </a:r>
            <a:endParaRPr b="1" lang="en-US" sz="36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ivalry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buyer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argaining power of supplier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ew entrant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Focus Strategy</a:t>
            </a:r>
            <a:endParaRPr b="1" lang="en-US" sz="3600" spc="-1" strike="noStrike">
              <a:solidFill>
                <a:srgbClr val="ff0000"/>
              </a:solidFill>
              <a:latin typeface="News Gothic MT"/>
            </a:endParaRPr>
          </a:p>
        </p:txBody>
      </p:sp>
      <p:sp>
        <p:nvSpPr>
          <p:cNvPr id="668" name=""/>
          <p:cNvSpPr txBox="1"/>
          <p:nvPr/>
        </p:nvSpPr>
        <p:spPr>
          <a:xfrm>
            <a:off x="549000" y="1371600"/>
            <a:ext cx="8042040" cy="45720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 special case of the other two strateg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240" y="108000"/>
            <a:ext cx="89154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grated Low Cost and Differentiation</a:t>
            </a:r>
            <a:endParaRPr b="1" lang="en-US" sz="3600" spc="-1" strike="noStrike">
              <a:solidFill>
                <a:srgbClr val="ff0000"/>
              </a:solidFill>
              <a:latin typeface="News Gothic MT"/>
            </a:endParaRPr>
          </a:p>
        </p:txBody>
      </p:sp>
      <p:sp>
        <p:nvSpPr>
          <p:cNvPr id="670" name=""/>
          <p:cNvSpPr txBox="1"/>
          <p:nvPr/>
        </p:nvSpPr>
        <p:spPr>
          <a:xfrm>
            <a:off x="380520" y="1599840"/>
            <a:ext cx="8210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presents an effort to offer a low price for products with somewhat differentiate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risk becoming “stuck in the middl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304920"/>
            <a:ext cx="8042040" cy="12952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It’s at the business-level where a firm competes for customers.</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By selecting a business-level strategy, a firm determine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o it will serve.</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What need(s) it will satisfy.</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News Gothic MT"/>
              <a:buAutoNum type="arabicPeriod"/>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How these needs will be satisfied.</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CC3A4260-2383-4F9A-AA9E-DD3E951CFD3C}"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2" dur="500"/>
                                        <p:tgtEl>
                                          <p:spTgt spid="643">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7" dur="500"/>
                                        <p:tgtEl>
                                          <p:spTgt spid="643">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4" end="4"/>
                                            </p:txEl>
                                          </p:spTgt>
                                        </p:tgtEl>
                                        <p:attrNameLst>
                                          <p:attrName>style.visibility</p:attrName>
                                        </p:attrNameLst>
                                      </p:cBhvr>
                                      <p:to>
                                        <p:strVal val="visible"/>
                                      </p:to>
                                    </p:set>
                                    <p:animEffect filter="blinds(horizontal)" transition="in">
                                      <p:cBhvr additive="repl">
                                        <p:cTn id="22" dur="500"/>
                                        <p:tgtEl>
                                          <p:spTgt spid="6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Business-level strategies . . .</a:t>
            </a:r>
            <a:endParaRPr b="1" lang="en-US" sz="3600" spc="-1" strike="noStrike">
              <a:solidFill>
                <a:srgbClr val="ff0000"/>
              </a:solidFill>
              <a:latin typeface="News Gothic MT"/>
            </a:endParaRPr>
          </a:p>
        </p:txBody>
      </p:sp>
      <p:sp>
        <p:nvSpPr>
          <p:cNvPr id="647" name="PlaceHolder 2"/>
          <p:cNvSpPr>
            <a:spLocks noGrp="1"/>
          </p:cNvSpPr>
          <p:nvPr>
            <p:ph/>
          </p:nvPr>
        </p:nvSpPr>
        <p:spPr>
          <a:xfrm>
            <a:off x="609120" y="1752120"/>
            <a:ext cx="8077320" cy="4295880"/>
          </a:xfrm>
          <a:prstGeom prst="rect">
            <a:avLst/>
          </a:prstGeom>
          <a:noFill/>
          <a:ln w="0">
            <a:noFill/>
          </a:ln>
        </p:spPr>
        <p:txBody>
          <a:bodyPr anchor="t">
            <a:normAutofit/>
          </a:bodyPr>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indent="0">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use the firm’s competitive advantage(s) as the basis to compete for customers in individual product markets.</a:t>
            </a:r>
            <a:endParaRPr b="0" lang="en-US" sz="32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36788477-F76A-4933-94B5-F9658428919D}"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29"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Determining Who Our Customer Is</a:t>
            </a:r>
            <a:endParaRPr b="1" lang="en-US" sz="3600" spc="-1" strike="noStrike">
              <a:solidFill>
                <a:srgbClr val="ff0000"/>
              </a:solidFill>
              <a:latin typeface="News Gothic MT"/>
            </a:endParaRPr>
          </a:p>
        </p:txBody>
      </p:sp>
      <p:sp>
        <p:nvSpPr>
          <p:cNvPr id="650" name=""/>
          <p:cNvSpPr txBox="1"/>
          <p:nvPr/>
        </p:nvSpPr>
        <p:spPr>
          <a:xfrm>
            <a:off x="549000" y="1295280"/>
            <a:ext cx="8042040" cy="4648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anies divide customers into groups based on differences in customers’ need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Market segmentation </a:t>
            </a:r>
            <a:r>
              <a:rPr b="0" lang="en-US" sz="3200" spc="-1" strike="noStrike">
                <a:solidFill>
                  <a:srgbClr val="595959"/>
                </a:solidFill>
                <a:latin typeface="News Gothic MT"/>
              </a:rPr>
              <a:t>is the process of clustering people with similar needs into separate group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atisfying Customers’ Needs</a:t>
            </a:r>
            <a:endParaRPr b="1" lang="en-US" sz="36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needs are related to a product’s benefits and featur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ustomers desire (need) products that create value for them.</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95959"/>
                </a:solidFill>
                <a:latin typeface="News Gothic MT"/>
              </a:rPr>
              <a:t>What do customers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How will these needs be satisfied?</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Firms satisfy their customers’ needs by using their resources and capabilities to provide products and services that are valuable to consum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4920" y="108000"/>
            <a:ext cx="828648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Purpose of Business-level Strategies</a:t>
            </a:r>
            <a:endParaRPr b="1" lang="en-US" sz="3600" spc="-1" strike="noStrike">
              <a:solidFill>
                <a:srgbClr val="ff0000"/>
              </a:solidFill>
              <a:latin typeface="News Gothic MT"/>
            </a:endParaRPr>
          </a:p>
        </p:txBody>
      </p:sp>
      <p:sp>
        <p:nvSpPr>
          <p:cNvPr id="656" name=""/>
          <p:cNvSpPr txBox="1"/>
          <p:nvPr/>
        </p:nvSpPr>
        <p:spPr>
          <a:xfrm>
            <a:off x="380520" y="1294920"/>
            <a:ext cx="8210520" cy="4800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business-level strategy is used to create differences between a firm’s position and that of its rivals.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 creating these differences, a firm must decide if it should “</a:t>
            </a:r>
            <a:r>
              <a:rPr b="0" i="1" lang="en-US" sz="3200" spc="-1" strike="noStrike">
                <a:solidFill>
                  <a:srgbClr val="595959"/>
                </a:solidFill>
                <a:latin typeface="News Gothic MT"/>
              </a:rPr>
              <a:t>do things differently or do different things</a:t>
            </a:r>
            <a:r>
              <a:rPr b="0" lang="en-US" sz="3200" spc="-1" strike="noStrike">
                <a:solidFill>
                  <a:srgbClr val="595959"/>
                </a:solidFill>
                <a:latin typeface="News Gothic MT"/>
              </a:rPr>
              <a:t>.”</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ow will the firm use its value chain and support activities to create value?</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ypes of Business-level Strategies</a:t>
            </a:r>
            <a:endParaRPr b="1" lang="en-US" sz="3600" spc="-1" strike="noStrike">
              <a:solidFill>
                <a:srgbClr val="ff0000"/>
              </a:solidFill>
              <a:latin typeface="News Gothic MT"/>
            </a:endParaRPr>
          </a:p>
        </p:txBody>
      </p:sp>
      <p:sp>
        <p:nvSpPr>
          <p:cNvPr id="658" name=""/>
          <p:cNvSpPr txBox="1"/>
          <p:nvPr/>
        </p:nvSpPr>
        <p:spPr>
          <a:xfrm>
            <a:off x="549000" y="1599840"/>
            <a:ext cx="8042040" cy="4343400"/>
          </a:xfrm>
          <a:prstGeom prst="rect">
            <a:avLst/>
          </a:prstGeom>
          <a:noFill/>
          <a:ln w="0">
            <a:noFill/>
          </a:ln>
        </p:spPr>
        <p:txBody>
          <a:bodyPr anchor="t">
            <a:normAutofit fontScale="93000"/>
          </a:bodyPr>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er costs than rivals (the ability to perform activities differently).</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fferentiate, and then demand a price premium that exceeds the costs of doing so (the ability to do different things).</a:t>
            </a:r>
            <a:endParaRPr b="0" lang="en-US" sz="3200" spc="-1" strike="noStrike">
              <a:solidFill>
                <a:srgbClr val="595959"/>
              </a:solidFill>
              <a:latin typeface="News Gothic MT"/>
            </a:endParaRPr>
          </a:p>
          <a:p>
            <a:pPr marL="324720" indent="-3247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se strategies are carried out in either </a:t>
            </a:r>
            <a:r>
              <a:rPr b="1" i="1" lang="en-US" sz="3200" spc="-1" strike="noStrike">
                <a:solidFill>
                  <a:srgbClr val="ff0000"/>
                </a:solidFill>
                <a:latin typeface="News Gothic MT"/>
              </a:rPr>
              <a:t>broad or narrow </a:t>
            </a:r>
            <a:r>
              <a:rPr b="0" lang="en-US" sz="3200" spc="-1" strike="noStrike">
                <a:solidFill>
                  <a:srgbClr val="595959"/>
                </a:solidFill>
                <a:latin typeface="News Gothic MT"/>
              </a:rPr>
              <a:t>market segment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Low Cost Strategy</a:t>
            </a:r>
            <a:endParaRPr b="1" lang="en-US" sz="3600" spc="-1" strike="noStrike">
              <a:solidFill>
                <a:srgbClr val="ff0000"/>
              </a:solidFill>
              <a:latin typeface="News Gothic MT"/>
            </a:endParaRPr>
          </a:p>
        </p:txBody>
      </p:sp>
      <p:sp>
        <p:nvSpPr>
          <p:cNvPr id="66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tandardized products or servic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Broad market and high turnover.</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eek cost savings in all activitie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articularly inbound and outbound logistic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09-14T22:47:07Z</dcterms:modified>
  <cp:revision>324</cp:revision>
  <dc:subject/>
  <dc:title>Slide 1</dc:title>
</cp:coreProperties>
</file>