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934F-256E-41AE-93CA-D7EE523F1E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1F88-AC56-4B1B-823A-962CDC4D0B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C63-3A90-4E71-8C5C-9ACAB870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806-E1E3-48DC-B3E1-984B79A2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E8D44E-A5FB-4B57-8CD2-008074CB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2D7B04-75AC-432E-818E-9E0767B0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08DDD-5C30-4172-B010-E431221E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27B141-2FE0-46C5-94CE-7EBFB579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23060-935D-4699-BF3A-9D56FA0B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DFEF0F-D3D4-43E7-A2C4-6F994101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1B94AA-ED5E-4795-98FE-1D805D60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3DC6BC-5246-447F-BC91-4A57F74D5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2D3B2-778B-4CD4-8A4B-25B6E6A3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4DCA3E-461C-4E42-B1F1-0628389E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6DE-8B58-4EA0-AA8B-5787A103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77F838-B2EB-4479-BEF7-F4A8DB18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7752E6-372B-407F-AD79-E9D41E27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06505B-BE50-49A0-9CF1-036D84CB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C90B37-0BA1-4880-9668-58EC3CA9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73F2FA-2A06-40AE-8794-47744228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69212A-5E34-43B2-BE4D-F0460730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A7764E-988E-4C64-9BE0-64D0350B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81F119-2FFD-45EB-A44F-7217133F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BCEC8E-3C48-42B3-9145-705F25F9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7FC590-4CEB-4898-9438-7558371A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D71-AA8F-492E-8108-12EE3C52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BCD434-F56E-4239-AEE3-F4DE6C5B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911E50-221F-415F-9BD6-E4185E2F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06EF1E-5D7F-4436-8689-1DB85460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9ACBD2-43B1-40A7-9A39-0F9A9910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44CCBB-6FF6-4F53-ABA7-744FCD3C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43D7A6-369B-4237-876E-28C68481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748484-E4E1-4EC3-8CCA-57F599B7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D97DF5-185E-48E1-9FE1-84F73E79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68DD5E-D337-4648-9E56-63FB108B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206D67-9B09-4F85-B458-99C8E942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E27CE-6DC1-482D-B82F-39730A760F6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424115-C602-4C4D-8B0D-AFC18068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BD5B25-918E-4FA1-8467-F67621E4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FDECC7-B030-4EE4-B051-ACAECC0F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1604B6-934B-46F4-BA9D-CF24F4FB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49E975-56E0-4769-8469-B8607982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21D082-9D66-4ACE-8B84-E5FFFCB3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50FFD4-2F70-4491-9F7F-4E50F8B9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D46C55-4D9B-4771-9977-87753F27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E6D4EC-DD95-45F5-8B94-92BC36ED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234F63-0382-42EC-BD18-E232F3CA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35FF5-FDB2-4531-8EC7-560A9232448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04A8A4-2275-41A3-979B-E09AB442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53BC85-2802-4D1A-AB0D-11BE9B7E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6972EB-4095-42E0-BC4F-E2DDC85C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732BA1-CC58-4755-88AB-9913C1DF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7A53C9-FFCE-40E3-A9D8-CBD00C63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35973F-52C0-4013-8D3E-E473256B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CB147C-9C47-4998-ADF8-B2DD83F0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675C22-9E5A-465B-A94C-123C6D83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98F228-3FE2-4510-BB76-C31228D5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5CCF33-66BD-4189-864F-E5942F4A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AC2BD-0B83-4361-9470-FB8C45ED3EE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8E80AF-093B-4C08-ADC3-49349A51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70444D-AA2D-4FAE-A2EB-27EEB66D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68C27A-4F16-4895-8F17-F11F8E51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143FFB-B96A-4514-84EF-56507DB9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6774D7-7CB9-4BCA-AF02-5284A721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88A3962-CE24-436B-B6FA-11561DBA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18011A-A352-4B59-9C6A-F0192ED2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2EF3F1-B39E-40C0-9E36-C5493176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CED0FE-C438-4809-A7C6-FE5A7DA9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4E1A4D-484A-409A-8304-A7AD257D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B5AFE-8841-4354-9915-30236E9925D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C8A2FB-8C7D-4A10-B901-9EFB6511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0A351D-A4CC-4B82-84BB-C712B517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A06A16-6EA2-46BE-9BDE-73609DBC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B90BD3-4F00-46F4-920B-B55FACAB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C5EE90-13F5-436F-855E-6F02C9A7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7FF13E-99F6-403B-8BA5-8F71759B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C4B83C-561F-4C45-95C5-099DC295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16EE93-A27F-4277-85B9-48915E5C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92CC8E-38FD-48C2-9442-94356D3C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4BD0C-3C5E-4E6A-B74F-70616EDDBF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09B9D-1684-48AF-8B08-761CB3DBB0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A291D-A2B4-4C84-BD53-CC6E71B06E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102-F637-493C-A269-BBCA4F48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A0CBF-C5F1-4BDE-AF9F-9AF74DAB8D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76275-9499-42E0-A28B-591DF91E60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C8183-3CD9-421C-B18C-F32BC37217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B888B-67D3-4E2D-98D7-7B87ED8EC2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06491-8B7C-4EF9-85B2-28BD8FCC84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1BC-D533-4DE9-84B2-791A52C0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AD0-24F4-4764-A54E-BAFF267D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75C9E-9FFD-472B-9BB9-65076D24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894-BA9B-452D-BDA8-7600F2CC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A2390-ADAE-4B38-AB02-9B27AC78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332B5-4723-495E-AA98-AD918B73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5CBA4-5452-46E1-9DBC-CCACEA5D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22E3B-3E24-4122-BBEA-DBE68728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AD3AB-5D9F-4B17-9AF3-C564BFA6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39437-A90B-40DD-93E9-168EBF0E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359CD-8398-4748-BEC1-B9C6F910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F61C4-81FE-4DDF-8891-F8C6D0CE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99599-4A53-4565-8EB7-8240E675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56BBB-FEA1-46E8-8567-81E57282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C4F-B5CD-4C9B-913F-5DCEBD61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1E628-40C6-418F-B377-09D73560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3C5EA-AE91-4019-823E-470351A3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76ECA3-8CE5-4C58-B204-26FA142D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337C41-E736-4833-958A-E1DEB3CF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FC9141-20C4-472A-9545-647D77C4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9A8E2F-5FA9-43EA-B3BC-D6933223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C9047D-A25D-4001-8CEC-D4C32CEC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B56549-81FA-40BE-87F7-6D757EA4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56603-0B82-4006-AF0E-CCB6AC8C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2C120B-642F-49F3-95FB-69C39217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8F3-5DCA-4635-B2C6-3033DD5E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B3735-812B-45F9-B016-B0376E0E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4F071-A779-4128-A336-57F18DCD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25F135-EE00-4A95-8C60-3A8FA766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8EEDCE-8A88-4F89-95A5-DEE46964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9270D-9638-47B6-8C02-B649A5AD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EE111-6CD0-4E6F-8215-AA64EC3E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27C4E4-720E-4841-A80C-EAFC31BE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FA491-0177-4620-A405-2EFBE221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1B1C7-1471-49B9-B872-F7A8B14E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19723-5196-4F17-AB6D-38A4B507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8D2-1E87-439A-B50B-C2F468B1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85E9C3-3B76-4164-9331-AADFCA82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9FA21-EF94-4A6B-8557-C9DAC43E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A874E-FF03-4B0C-A1FC-4C384C23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98DD05-A081-4406-A823-A85E406A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4E501-2960-41D7-B3A4-E1613B51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3C152-735F-40EA-A4A1-679835B6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9B8F32-F6C9-41B3-8A4C-ACB7C34F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26E54E-2AC2-49B8-86FC-90E921D3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12E2D-36DB-41A3-8E1B-1FB83697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4B9D7-F75C-4D62-8606-B4D88ED5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61E-2E50-407B-907A-E48E4D66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806499-01C2-4118-A3E3-24F0551C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AA84D-D213-49CC-9811-F9342130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77E095-A81C-4854-8781-E650B68A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AFAF3-C824-4828-92B6-3ADBF05A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F2890-9FF4-4C91-8ED4-5C28066C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BC518-0B91-4DBE-BEF1-C799F59C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CF562-A82D-4FC4-B3E0-F94BCC72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6BD958-2931-40B7-8F95-7F415A6C6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D7CE59-306D-4DD1-8EDD-204B5580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9CACB9-2730-4218-BDD8-92068FB6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1478-5A89-409A-AF6F-F4A2A08132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301E-792F-4249-BD47-46B78D6688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8158-45CD-463E-8F6C-3BBEFA0BE9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F324-BCCD-44E7-849C-A10157983E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B7B6-8A6F-469A-94D4-15C3790714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C85B-CF41-47BE-ABFF-62D7E7D7EC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2D7A-7056-49E9-B52C-A3151875EC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0C93-EA08-4E33-8D5D-D41B1ADFC9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FA58-9C02-4172-8C22-B4FEE67158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8F7B-9E33-4CDC-A353-4E7365F8E0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981B-DDF9-4EB0-AE01-E9922488C8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7830-FECA-4899-AF06-E0CDEC10AD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2:58Z</dcterms:modified>
  <cp:revision>319</cp:revision>
  <dc:subject/>
  <dc:title>Slide 1</dc:title>
</cp:coreProperties>
</file>