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D950-6640-484D-BB17-E9758B5C18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157E-8F12-4129-A5F9-1555A53B5E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0A5-C4E0-48A1-8209-B7DDDD51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F47-B5CB-4127-BC90-C5A67776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1B816E-E3AB-47B8-9347-EA3F1400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8172C-B60D-4079-8554-7948BE60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6DF85C-C57B-4834-9436-9B2CD156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2A5F1E-B88B-4C89-8493-F1774644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89168E-6F2A-4C65-8B5B-5A1445A2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09D4FA-BC9D-4F12-BA2E-65103F89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21F4E6-F730-40E7-9121-A5F117C1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1B51A1-280A-405D-B1BA-717B1612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F82751-BABB-47C7-BBDE-EA6DD2BB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CDB632-41F2-45FA-9FEB-C6D89BAB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8A1B-A45D-42DB-97B6-0433FC71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978DCF-F888-4ED4-9F89-BC41E6D6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D2CAF6-33BE-46FF-8A89-02332CAA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858948-429E-433A-994E-55229690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9691DC-9DA6-41DA-BCBA-202910D0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CADFF4-7EE1-4667-B349-212ECB89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A7D4A8-6274-40C3-9C35-96697EFF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0DE3A2-8316-4917-A9E7-FD3F1922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9CB60E-8946-4648-8686-6E962B87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08F491-7160-43B3-8C45-E2B4BBD4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2D4B77-D42B-4C17-803E-02EE1C71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1EE-A4A6-4584-8BAC-F4482F01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FC882E-8981-4B46-8FD4-EAEC82C6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62787B-A6BD-44A3-9ACB-4833C48A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679E46-0199-46A4-82E3-EA0D31A8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B7A8D7-A24D-4A64-A9A8-95055C5E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B18B2D-476E-4796-B1B1-A22DCBB9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3AB43E-B0A1-4809-9825-91C82C0C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7B520B-A48E-4EBC-ADD3-ECEC47DF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F67E65-4016-46C6-B64F-F3F06167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D112D3-1179-4290-802C-6569D2F2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F4697A-FA04-40F2-8B58-643BE420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E0577-41A6-40F0-B072-93B012325A9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2C9CCE-3494-48E8-8363-6FD592C3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AD5515-C4AA-499F-8DAD-45FF982E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249EDA-85E7-4954-A77E-5D2C294E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F01D3E-6931-440A-8974-6FFB81CB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BC58D5-A907-4E2C-92BA-C528BA78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A7FCAD-D68B-48C5-B909-413ACA43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D19817-BBF1-4D84-8F59-30D7814D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4A8437-4559-4B71-A071-270FCFAA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0905B9-6054-4917-881F-C5F3CAD6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D98357-D865-4D0E-A710-19C609CE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8EE47-2AA4-4900-BE79-8EEBE6BF619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6B22BE-A76D-48F6-AE38-7F61FEF0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0429A2-3399-423F-AE63-DB2DDA89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684A8D-9B19-42DB-9D3F-80D73955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62E16F-D725-47AB-A986-FBE62658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84256C-3B2E-48CB-8E0B-3A80A44C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7EFF84-FC7D-4DD4-91F7-BD55651E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4BFCE7-7C39-4992-A24F-EB16DB0F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73C2B4-E663-4DEC-A299-F22163DD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750BC7-9AE3-4AF9-97C0-D525C2A8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0791C6-3319-4B37-A11B-009DBEE0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1AE73-1EF4-4A22-ABCA-3BB88AA7107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6058C1-3D8A-4DE2-8CA8-592902D1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896949-4D7E-480C-B634-344C4EF7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A85F92-BD65-4CC2-9334-BCDAF704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092D97-5126-413A-9C02-D3C39B42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9CD7B1-A8D1-4193-B18D-137DE621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08FD19-1896-4D71-BB77-0D851D2CD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167659-AB3A-4157-86C7-25E9F74B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2B5569-2C30-4BD7-99F4-E95674E8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A13455-6223-46A5-9B24-A47D5AE3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8F20CB-4A89-4324-836F-102A5B11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56907-C665-4532-A278-3D0924484AD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D2A1E6-69C1-426F-8137-B448C6BB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792D3D-2905-49AB-B507-A341D9A0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15B526-06DC-4C97-8169-8E489F8A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1397A2-FDFF-46A1-A7C6-642AF8C4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342B0D-3328-4A3C-9A7E-EA06AE00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34F13E-752E-4DDB-A9BE-F8EA02A3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E165CD-3A98-45EF-9365-BB12B40F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7D4A37-20C4-482C-9641-49D5DE1E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E169B9-7E17-483E-A0BA-6228BF23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95E7A-62F9-427C-A4C0-061F5AB587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E0C87-9C05-4577-8CAF-80A945A719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5A496-3A21-4D2A-BA4D-848596E947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F08-5C63-465A-A81B-81D63A67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2ADCE-2F96-4BA3-8F20-B0F93B504F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691EA-0C74-4542-98A5-459E9C54B5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56B17-8E64-4262-A3EA-C53FA6F17B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FD4C7-9EF6-4917-9DF2-3B7556D9AB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54C68-DE2A-4EE2-96A9-D83ACB6333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B42-9D59-4C27-8A44-A94AA728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3C5-85E1-4043-A6CC-90ED03E6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095B2-E189-4220-B8A9-087DA29E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EB68-24DF-440C-9813-980CD676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9133C-1FDE-48CA-B688-3BA6FAC7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C0221-D90A-48E6-B4B7-59B7C084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2DC9A-C485-4669-B764-D56FFD16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4D7DF-E995-4C2E-88AC-BDD07952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F72EB-2AAA-4C3C-946C-BDD12668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2B508-0D70-4142-97C9-7E9B7C46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0B3C1-CC4B-4AD6-BEFB-CC431FE8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05866-056C-4730-A51A-CCE01F26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BCB7E-8D06-452A-A9E8-106E69D8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825FD-2CE6-4899-96CD-E1FCDA8B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E4E-499E-49CA-8A36-63C02689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B762B-CCC3-4559-AEF0-8A7B9E92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AA917D-9AB1-4FA9-8F6A-77CC0112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B9FC0-AC70-4B20-9AF9-EF7BBD4D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EF6925-BF6E-41C3-89A2-28BD1C57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EBCA70-0EA4-44CB-BADF-9F1C9E8B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668ED-705A-41FD-834D-34DE3406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DA9F0-5E49-4B0C-90BE-12CAA685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2DEAF-A10C-4E0E-8443-6C247117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33915C-6D00-41C1-8E25-8475F5F4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358D33-93C3-433B-A14F-258C29A4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1DC-3687-461E-8F48-7D4FADBF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85D120-965A-410B-B45F-5A5EEFAB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114DE4-5CAF-4FC3-B577-A238290D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ADAA38-D433-4F5C-AD2F-3909263D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240C90-AC60-4A6B-90E3-019DD0EA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F3DBED-593F-4BDF-93F3-6FB2C944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AD5EB-B890-4AA7-8CA0-19EE74F9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68486-B996-4839-AFFA-3FBE4DC6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DD5C2-189E-4331-801D-9A3E0867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47561-DB99-444F-80A0-378925E3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72623-0E94-42CB-806E-DA242BB2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EB1-D361-4659-B21C-85BE9C14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347E3A-89F8-48A9-8696-4FED6E9F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12896-8068-41B2-8D6E-2489E4F8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F34DD4-8BD2-468A-B1B6-0EC54A36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614DE5-84B1-4C93-B180-B366B315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A780BA-D6A2-4D5E-A696-7B42FB99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C7DCB4-0E09-4D3A-86A6-E89E39DC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06AF08-E3D1-4A3F-9370-CE8487A8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4C4D0-AEC4-40BD-B207-7EFD677E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24635-012C-4F34-82A6-8863A97F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2EF39-5DDE-4E96-9DB6-CE1620DF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D67-ED2D-40F3-A86B-03198655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C28A96-F693-422B-A004-9C4F44E5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CF0AE-5C95-4603-883E-2F28C4FC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75569-3D2D-42D6-B9BE-D74F0999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FEBC7C-F7D0-4C7C-A863-14DB3A3C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7F8D78-4CF1-4513-9D39-E034509D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F458EA-BF69-4286-AB49-FE48847A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A0065B-5885-4EF4-AA71-79CCB422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964239-D6A2-4A4D-B2B4-9ED322F5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2083C-5C15-4765-A9FC-9D68E151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128932-E71E-4C35-B113-BC83719D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7474-63FF-495D-ADBF-D26566BF5E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5737-DF5F-4A78-A2DF-092EEE633C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1172-A7F6-4D24-AA1C-F449D093D6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9B0C-E117-4CF8-94AA-5139B16E72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80E4-156A-4F09-8714-85E46DF6AB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D95D-B483-421B-9F43-04C71A5348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9F60-2D14-4E79-A778-30EF4C3E6D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B978-FDDD-4C7E-8557-A2A9AE4D9C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D5E2-3AAB-4627-B098-40E61426C0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BFBC-F725-48F6-A90C-C70763AE1F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8208-ED53-41A3-937E-A17A2CA423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97CE-3947-4845-A8D8-485A9FF141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General Types of Structur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ureaucratic structures (mechanistic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c struct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Element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3:59Z</dcterms:modified>
  <cp:revision>316</cp:revision>
  <dc:subject/>
  <dc:title>Slide 1</dc:title>
</cp:coreProperties>
</file>