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9E8D-96CB-48FC-B84F-88B07D1B0D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64C7-58AA-4A0A-8B03-06EA02B56F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02C8-B22F-428E-AF5F-C9CE7AC3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D52-E136-4ECD-9F91-BE1F22E3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D39CB2-92A2-4E20-996C-BC177A5A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E95CC1-7178-45E9-AAC0-AECC9710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9E2C07-3502-45F2-BAF2-1B02765C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E6996F-DAC0-47D2-98F1-1BD60A8A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F1493A-51B4-4615-9BC6-B8D92B86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CE6F93-982E-45B4-9A05-14C035B6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C7EDB8-E429-4B64-A7FA-30A75606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8A67E7-764B-4AD7-B5B1-E9912F62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CFDE1F-9B31-492F-A507-C9699636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8D18F8-18B2-4960-BB6C-0C1F4652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05F1-7359-43D2-A5F0-E2F4C431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364FC9-A810-46D8-9AEB-A8905B2D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6B587E-9A58-4D59-96C5-FEA77994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B7AB81-718B-472F-929B-02852081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4F8754-A299-4633-8928-10B9F989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FAA90B-BE41-4CC8-9681-2A87A331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0EAB66-74F7-46AB-ACF4-EE8EC887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C6F25A-942C-4B7B-9BC6-52195D26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8C441C-9ACB-4BD5-9668-5D9501EB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50F2F3-4088-4601-87BF-FFD92C31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9BE6C5-C637-4D34-B217-5E77F29E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B069-A84F-4B11-AE9F-168AF012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121239-EEE8-4E4A-90FD-B9D7C0AC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C4F8C0-978A-4CD3-9656-9308884E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FD0208-5AD5-45BB-B202-1CE69805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CDB484-AC83-44EA-B5A0-1A6D6AC6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5C8509-CB57-4CBC-A3BA-FDE61FB5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41B0E4-2767-4DC1-8A27-E1ED6522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157BEA-8B40-4B00-A15F-44E64B83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9FC14E-9CF0-47E8-BDA8-2924828F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7B2A63-0E95-40A2-BA72-DDBAB172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03A171-713B-47AB-87F9-A8386334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18D7C-A67D-490E-96E2-528143C687E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C6825B-E146-40AE-83F3-B97AA20B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D4C9FA-795E-4297-81BE-AE69CF71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967076-F1F7-4A7A-B45E-EC6EBC89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704D95-EE0F-460A-A0EE-716AA693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FF5E84-D8B8-4AF4-B9E0-115BA27D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8276C3-750E-4DB1-94AD-CFFF8F88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9EFA55-C245-4050-98B7-034AE96D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96EB2F-CEEF-4592-A07F-7B44E237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B69510-8454-43DB-A410-B1305E4E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426B03-04B8-49ED-A821-8F1248A6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2CA49-92A3-450A-A44B-76627E936AC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D9932F-A3AC-47C8-A605-16DD646A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EE9117-3491-4433-8E0B-7E5D8C24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926ADE-C370-44FE-8FE7-432B34CA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00B236-864F-458C-B8FD-279420AC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3C548B-B4C3-4B7E-B34E-235E471B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8AB779-1864-4FB3-9B41-A0BC542E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ECFB13-F7DA-413F-83ED-443FF577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40078B-79A2-478C-9BF0-26230B50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64DEE4-C2ED-46BA-9195-889A7B90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F6C89D-142A-47C4-A98B-84044A89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716C7-D4D6-466B-A95D-3A38F235401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901B76-ECC7-4520-8D24-DA5C1AE3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FE22D0-A6AF-41A4-8EF2-ABA1E0FD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5E2ED3-996F-4D22-808B-20C2B5ED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89C598-624B-4F76-8298-60AFA006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E4A33F-AFC7-4D0D-9A29-F997FCAB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AA2DAB-2E41-4AE2-A68A-99BD1F0E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3F100D-63EF-42E0-B624-3B6DA3F1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3780FB-FA5D-4045-A592-CBAF64E7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600788-C657-45FB-BD0D-089B2F67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C8CBBF-461D-48BF-AD63-22270BE4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88A9E-5D3B-442B-BE6B-E5001FCCD6F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64E928-81B2-4958-B689-7A095329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3C0B63-425C-4B45-BEB6-1CF39AF2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A757DD-2FF5-422D-B155-F570059F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909963-CB47-4A05-BB34-36930EA2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C9F24D-413D-4815-9036-B4052395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AB4193-C2B7-4D64-9A0D-21ABD00C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63350E-395B-4F89-939C-52A6A671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983187-21FF-4A09-BF24-F24F9F8A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63D1F6-34C6-419C-BE79-1102C40E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FDFDC-CC16-439E-858E-6B97445D4D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3D224-1C49-47DC-8246-DF4317AEB7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B29D9-2B74-45D2-9B59-A181D3FC05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CC6-24CD-4AFC-AC3A-3AF5F8A3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B1A7F-6892-46FB-B6C4-DBFEC43FFA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F7E87-6672-45E7-82B3-C75DAC04CB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63F9A-B621-4A43-A967-FDE73F015C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5BA23-31E1-4CB2-A7BD-3DA499E920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4034B-2067-441E-BE30-0637A4761D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9767-05CC-4122-8655-6224B05A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3A78-E640-47E8-B90F-BA04F449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3AF47-91CD-48A9-B95E-62916C3D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292F-99B2-48B3-A002-C7B8EBAC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514CE3-769E-4B57-9036-5C615B08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58442-9069-4C5D-B1C1-2E7DB6A0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C9DCF-7DAB-4B17-9F04-4199835F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55826-BD04-467A-B426-0ED459D4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6068E8-78D4-4DAB-88F4-400C1ED2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1940E3-5191-4FD7-9032-0B5477B6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79432A-70B7-4004-A61B-A002E509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0F7A0-D05B-47A1-8FEA-FDCCF715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05CD37-724E-413D-A8B7-63FFCF54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A57C5-92E1-4213-82B0-B9DBED19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1301-B3EB-4E98-A5E9-CFEC74AF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F8697B-C425-497E-9A9D-6A7683D0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72CCD0-08BA-419A-A118-94CA4CC0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78F3A2-322D-4C32-9BA4-19BD81D8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66526C-75C8-459D-8579-CE0001BD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661666-CDEC-4BE9-B63F-80B69844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5DE88D-0E96-4409-ADB7-E964A326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D673FA-C217-4711-8E09-8FE7ED71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7A6700-4BA9-42F6-863C-DE50D030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1F9441-AE5C-4753-9F58-C0DF05EA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31093B-8300-40BC-9E3D-D902709D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B27D-1FA9-477A-9FE7-E748C8EA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FCF158-F324-440B-90F9-CF8EDDF9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FA472C-3C90-4895-B1A8-D1374FF8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4ED7A5-2B9C-4099-B370-F1078345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36DD4E-97D6-40F7-964D-DFB2320E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F4FCD4-5174-4B6E-92B0-8B9C24B1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4D19CB-4A3E-4D55-863B-233FF084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C0640E-CA20-44E6-BBAB-27FCEE99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B354CF-AB08-4E62-B5A3-59C1FEFA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0D5ECC-F73D-44ED-B9D8-88586EE1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C728FE-C85D-434C-8199-0EECADFE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6E79-8BBF-456D-8A5B-2873636D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3B6AA5-9129-46EE-B246-52EA49CE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F878D1-8016-4FA1-930C-D6D232C7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FA8C36-63B3-4930-B5BC-9842F16B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3E45DF-26D7-4C7E-B42B-798E6997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6A8005-CBA4-4F9F-B2CF-41B8B052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304081-3B99-448C-9B17-72F7F35B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17A3F5-6EF6-4E6C-9570-A9F24DEE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53CB36-1743-4A34-9862-475E3DD7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FC383B-8481-41E4-9076-8614FFA9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F6BB46-F035-461F-BEAB-D62E8050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BED7-2751-4CE2-BCEE-D0A2A919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63E896-875B-485A-B3BB-562E4E36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626D9B-1270-42EE-8915-EA5198F9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5A2F61-ABB0-40E3-9800-2E19F208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36D5C7-FECC-4A09-9AF6-14B6CAB5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F13093-3519-4D0F-ADD5-1DCBC591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D2309F-D58E-4CB3-8629-CCBE9E05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371193-D167-45F7-945D-C2EF5238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E9B3C4-C905-4D9D-A0E0-B1EF83FF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2B2D0-B776-4DFF-AD34-406DB823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540A9C-4023-485D-8B6D-A39107E5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1D8B-7932-46F2-9848-716A43AB48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75CC-E5EF-410E-A905-3C05AA3A7C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48B4-753D-424E-9711-8543E4F978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E3D9-096E-4775-ABFF-71D4D05424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3D35-D7C9-469C-817C-371BF940CE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74C5-6B2D-40EF-828D-E28A824F12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3B5F-57E2-4238-A8D7-037D1B28FB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AB5C-478A-4EF2-B5A0-FCFEE2C73F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A2B6-C405-4BC4-BB42-B5239711FC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053D-CC92-48AB-A1A7-554F19E479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A963-A6CC-4F05-BA2E-68A418033D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BE43-D855-488A-82D2-9E5CDA6324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1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Organizational Structure and Control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structure specifies the firm’s formal reporting relationships, procedures, controls, authority and decision-making process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wo General Types of Structur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ureaucratic structures (mechanistic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c struct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organization’s control systems are developed to guide the implementation of the firm’s strategy, compare actual results to expected results and take corrective action where necessar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v. Financi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492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Financial control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re largely objective criteria used to asses the firm’s performance relative to previously established quantitative standard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controls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are largely subjective criteria and examine the fit between what a company says it will do and what it actually does. There is much less emphasis on the importance of outcom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Evolution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imple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nct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ultidivis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wo Elements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entr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orm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1-09T14:53:59Z</dcterms:modified>
  <cp:revision>316</cp:revision>
  <dc:subject/>
  <dc:title>Slide 1</dc:title>
</cp:coreProperties>
</file>