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DB20-2EAE-42E3-A2FC-47106CF110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5A94-7363-44BB-92F6-DF6A725C04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3400-22EE-4D56-8F48-70863CCF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565-0532-472F-AB88-E6DEA2CB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19C9AA-F8E8-4021-B523-6E3B8262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C90DD7-6F0D-4038-99A0-A54F4DE1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7E4D61-8312-4E40-9F7A-7C8331AF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544794-902B-4720-8A85-8353D0AD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53640C-2A75-4E1B-8F8A-BF549AD4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1E0B1B-1C09-4188-A486-0D50F7CC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4BDEB9-2F1B-4D73-854B-7E3C12D4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A09021-120F-4358-B95D-23971A5E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C9C754-FC04-42BC-AF9D-EC85EC12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96E976-C798-49B2-AF89-C325FB77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D57-58DC-4B5D-95BA-917314CF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4C8FDB-CFB1-4A85-A54D-76600B0A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396C9D-A224-46C0-A68F-358DE24E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122020-442A-44C6-81A2-32681E16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888E3B-20D2-454F-A826-AAC031DD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ABA4A8-ACFF-484E-B02C-F9C6DE1C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72DE93-CD5D-4EDB-9E63-5BDA004C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34505E-E1BF-45D3-934A-6B881B24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75E2E6-137F-4884-9D09-ECE9FB43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4D47A2-804C-4C8C-8450-4312DB58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B775EE-4946-408A-B96F-F05633E6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8FC-365B-4507-95B6-73902A93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E5BDC4-7A3E-41E6-B2AC-11D8D171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163D79-75B7-4076-A63B-673A7675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8A0EE4-41E5-4338-A5B1-5A38A7B8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9A7565-3B4E-4B70-ADB3-34CDB51D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69D1B9-1740-4581-A62A-923068E6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DEBD6D-BAFF-4DA7-A4F4-06983339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84F822-68CC-402A-89F3-00D13AFC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EBD1B6-6589-4B6F-85CF-CB3AC7CC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75E50B-DF12-4A1B-A195-749E645E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39D91F-D0A8-4084-914C-F409C40A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BF5E0-C366-4817-9A73-A4DF2AAE23A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8A56F6-5632-4E23-AAA5-1D1A430C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7CDB3F-E0ED-40C4-B613-0F25C3FC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27C79C-F257-4BC2-942F-ABBAABEF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51037A-2839-40F3-A08E-7F47735E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6F2ED1-7013-4DA3-B6BD-C95C5297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7E0FE4-2E6E-4F9D-A797-E9FE04EF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40164E-CA01-44AF-BE2F-07ACB527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05BE4F-1A5C-454B-A2DC-F862FD25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DFC5E4-D44B-4E6B-9175-B512D120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1169DC-F3D3-4039-A53D-E645F8D7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700D1-4A80-41E2-873D-F6E9E7352A9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68204F-76E1-4BAB-8979-C142ECD0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E65F88-07ED-4157-B95D-43D27E18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C5D81D-0101-40FF-9650-B9A46A25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582FE1-4ECF-473B-A8ED-0E8A4636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81B777-4B38-493C-B200-FAE3EC92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5EB980-580E-490E-A230-614D1E3E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C2784A-A0D2-432F-9129-651BFC76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63EC84-2F96-44C4-BFFE-940F62EE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DE3768-C7CF-4F58-A6D6-2A6F2936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00CA9F-E358-4A37-81B8-EA9DA216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75310-DC5B-49BE-BE43-E1CBEF241BC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1499C5-2B5F-4B56-95AE-9188B6A8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4C8430-20C9-4DD0-AB7C-675D47A6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429D70-6AF1-442A-9F5C-624EF3A4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F6815C-B7E7-4718-B63F-D2C9559C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CE1C41-5408-4E18-B550-5174B8EB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CDEEBF-E1A2-4D2E-9BF8-29049D3B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FD9D7F-B0DC-4DF6-A7E2-03431BBE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29B672-F49F-4051-A775-75E85F87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A9377D-CBEA-4B75-B373-4CC3D028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50C0DC-3890-4749-ACE2-5FACB1A0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1D888-1459-4964-BA59-AC67C6D9B88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C2807A-97F7-4CC7-A739-8127EFBF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84B610-0F8D-46BE-845F-07EDB545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DBFA6E-9DC2-4EAC-B5EC-9D503F7A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CF47F8-D1AF-4F39-B0B6-9902466B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EEDE39-3A94-4020-8E7E-659A95EE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18D4AE-EB30-4698-9F7D-D01FF2D9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B1423F-DD66-4DBA-9255-BE703BA4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4A6A0F-4561-4238-BA4D-21F40167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348584-5BC0-4E91-BFD8-A8708C97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08EED-211D-43BC-A46B-1BA4335515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3756C-634E-49C8-823B-B7EA5161E4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80D25-9206-43E5-8427-7E5F1EEDC6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9C3-0B66-4616-9B32-4F27C569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1E0D5-6A84-45C5-9C57-32700F6CCF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E0F87-73A6-40AE-8E2F-2A23211D3A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DE3A5-3F2B-40A7-B364-73608C3BD9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E9BA4-8C08-464C-AA15-C668675747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E8AD2-B33F-4050-BBBD-076E7D71EC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E57-7266-4F4E-9ED5-44A130BB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D587-75DF-4E85-B51E-1C35690C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FBCCF-9E6E-4285-8098-B32FB851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605B-9170-459E-A73F-16144EE0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1A994-8BDB-4E6B-9FD7-329A23CA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9B3E8-AB7A-4B6A-B50E-EBEDC426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97491-7C17-452E-8B69-9FC210FB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FA9CE-BEB9-4A1C-912B-9D88D852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F3192B-3DFF-4CD2-A773-B8B37431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08B7E-024A-480B-9DA0-413111AA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52A95-3870-4EDC-8E0E-09381C16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5D5D9-E2FA-4769-963E-78C90DFD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950A0-A264-4A00-9CE8-0FBCA821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646DF-E81C-4646-9450-4CCA52EA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E494-1968-45D3-A13D-71252979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A8169-B37E-4C9A-8CCD-0F69195A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50A718-9FB7-409E-BC57-4803DF3E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C96CC1-1EC8-41C5-9FCF-AA6505D2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7E626-C9BA-4587-B223-C8EAAE2C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07FC29-22E9-4824-9730-557841B8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049738-7BD6-4589-B00B-C83E393E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1D82C6-01EA-4EB2-A010-B6CE1E3B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D498F-3DA1-4198-BF97-DD78B1A9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18B870-EE7F-47D5-89AE-D328A820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166AF6-2935-4BF1-9729-DCB60FA4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9A8-D8C8-46AC-99DA-C350AE31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F7A6E3-CECF-4357-8665-9FBACD19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DBDF4E-ACD1-4C60-9699-A652113E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76364A-27D1-4891-8A97-1FA4D939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A12CF-6DA5-49EE-B362-00DECFA3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663415-C7D5-4A15-A6F1-3B079C08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C9CB8A-3CD6-4C57-88C8-48A43C92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97233-CC62-48A7-A698-88409DBE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E4C1E-E40C-4AD8-BD8C-99DA7453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2D053-2B10-4EB4-8997-561E88A8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EB8FE6-B26C-4069-8CB1-81E5560C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30E-8497-4D7F-AA0D-413BAA5A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22B0F-6A43-4F5B-9214-AF7CBEF7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1DC6B-0357-4575-BB28-30B480D6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FD62B-D7E6-44FD-8EF1-4710B0AF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361531-3C9A-4394-A3C2-565171DD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B6B1EE-D7CA-4C23-BA3F-F8D5F34C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58CC40-E598-4E28-9D14-14FCB30F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B9A4D8-0021-4F95-A7B5-28AFC6FB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56236-6A62-4B2F-9B85-45367D94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3A0DAB-7104-42ED-BE6C-7FE8F77B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ACE00-F110-4271-AEA8-47497298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82A-DEB5-418C-AC5A-67B00D71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F51B90-8707-47A5-9660-7D70CC29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176C54-1A47-4337-9E83-3ADF22AD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8DAC42-D0A8-4808-A035-08C4B1EC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98E13-5553-46CF-937A-B5A6053D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BFEBF6-21C6-49B6-BA14-C9AAD12F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8D1365-6D3C-4FA6-A367-5DAD5A4B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2C2368-CB85-42B6-B0E2-2DF4FB3B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31B6E0-16E0-4ECB-9F84-B23A1025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965F1D-8C53-4C51-A56C-E0342F66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F09B05-DF56-4905-98BE-E40E90FF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6790-045F-4ABB-A616-345A16AA93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E4FE-C446-48B1-8E04-7770E6B1F3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3759-508E-46A8-8D8F-CF392F2740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8168-3008-411E-8471-2D4F76E487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8728-7612-4EBD-AEDE-4DA67A39B9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820E-F82E-45AA-8B52-03772994C3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EC16-7C97-40C7-AA33-FBBF87C4E3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1A27-0AF7-45D3-9BC6-C55E0A9CB6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D414-A7EF-438B-A4C4-596B4453E4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FC9B-9D4C-4AFA-A9BD-0E614F9C53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E1D2-847C-4401-BC97-2391FE28EB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5043-E1CC-4160-A839-3FA10857C0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7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Merger and Acquisition Strateg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280" y="10800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rgers, Acquisitions and Takeover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04920" y="12189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merg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two firms agree to integrate their operations on a relatively coequal basi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si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one firm buys a controlling, or 100% interest, in another firm with the intent of making the acquired firm a subsidiary business within its portfoli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takeov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n unfriendly acquisi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Merger and Acquisition Strategi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e Very Popular Despite 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indicates th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e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earn above normal retur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il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average returns of about zer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urther, in most acquisitions, the stock price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falls after the acquisition is announc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asons for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hieving market power is the primary reas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rizont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ertic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coming barriers to entry (cross-border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duces cost of new product development and increases speed to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ers risk relative to internal develop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creases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hapes the firm’s competitive scop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earning and developing new capabili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roblems in Achieving Succ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tegration difficul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dequate evaluation of the targ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bility to achieve synerg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ly focused on acquisi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mpany becomes too bi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raits of Effective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ssets of the acquired firm are complement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sition is friendl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ring firm does effective due diligence (evaluates the target’s financial health, culture and systems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erged firm maintains low to moderate levels of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ew firm emphasizes R&amp;D and innov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is well managed and flexib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structur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Restructu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a firm changes its financial structure or set of busines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izing – cost and/or asset retrench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coping – eliminating business units (divestiture; spinoff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BO – A party (management; private equity firm) takes a company privat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0-19T14:14:11Z</dcterms:modified>
  <cp:revision>317</cp:revision>
  <dc:subject/>
  <dc:title>Slide 1</dc:title>
</cp:coreProperties>
</file>