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CC5C-5891-478C-9E5A-6ACAD43DFAB2}"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8EACD-A2D8-42E6-A9CA-115128DB1C8B}"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B01DD-B490-4B81-BFDA-BBCF1A2F0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9B01E-E0D5-43C8-9D88-821EF21D3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AACB294-8FB3-458C-B604-83ECEC11181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7F65686-766F-46A3-A71D-5FF91E93AFE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6A3F7B2-1556-4B0A-8322-676875E212E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CF7037B-B43B-4255-A834-CC8AE3ED835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9FC9580-9132-4439-8D6F-DB57D8B0DEE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4C97E27-07BF-4D94-B478-745CBFFE7D7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F0C76FF-08DC-433A-B79B-B600465F5AB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BE182DD-13B0-47D1-AF39-1DDB4B92FBF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BA29955-FC0B-45F9-9000-D0D657884FA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51F2436-540A-4AD0-96CB-628F0C40654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AC5E1-7EAC-43C2-8916-E78A44227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BFD0F7D-EFE4-47B2-BE32-66B866F28B0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D25D5A6-4DD8-4EA2-9A2D-2898D0345C0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E91A4F8-8573-461E-A6AB-BF8E5A6B768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360DA62-73C2-44BA-8B08-197117A4C12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091CA6D-9137-44DB-8517-D1E4FEF64F8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0EA5672-C37D-4628-8882-DB8298D3DAA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F169C33-99E7-4023-93C8-0F32D09CBCC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626C6D1-2A80-4B6E-A7CA-759019FDA71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43E904F-2F9A-463E-B802-9D683A7FB7D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3DC8672-92F4-472B-93D4-240AB6B5E09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34EB9-942A-4D94-A997-4E141FE91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BF86A58-27B8-4C16-85B1-7C28718F14C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C5782AF-EEC0-4F65-A088-0962F2F8D11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27E0495-A374-4511-91CB-C7611821972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8C4DE7D-C0F8-49CB-9659-2AD060FC3EE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FCBB489-25D5-4E3B-A293-F64FA077DBA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E28BB9C-4B56-489A-ABEF-A27DFF0BB89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3E822D1-12D6-4669-94D5-77C7686AEAE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BB69F21-475F-4375-890B-FEFBB7720AB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4FB93C3-A81F-42A0-AF06-6B9E8F22609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9F0897A-0AD0-4C4A-99E5-4B5AA3C12DC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30D67E-CB12-419F-82DE-1D012680389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3549007-0BBE-4411-AA61-EFA7CC44D4F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A52DA34-948E-4E78-BA68-0FB571A5C34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977F9A2-2868-4A8B-9ED0-D43049FF52E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D27C769-66DC-4F63-A496-5E3232A9E42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43E85AF-289A-4F7F-8D4F-F7661563F4E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5701709-725D-403D-9551-5B6803F271D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D379759-DCC9-4166-925D-A0BFCA28670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40DA17F-C0DF-4040-8FF7-35D99F88505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28489F0-8DFC-48B1-8FB2-BA7C9BA170E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8429DAA-0C76-4858-BFAC-30040CB5EF9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955654-6879-4243-A982-0AEA34D8D01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E5E2751-8FAE-4E75-B383-92C91C3FAC0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DDD9D08-4E4A-485B-8E11-B239D3E66AE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17A9AD3-7461-42FD-9DDC-BF1CC976AA2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84B1AAA-6432-458E-AD5D-057AEEB8347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FFAA94F-6CFF-4B75-A324-1E6A838EC3C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9F50FA7-5F4E-4230-827A-4FE863752C0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A5845E7-2496-4510-84D4-84D057ECED3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F3BA453-E0E5-4AE9-B286-ADA077AB69A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1D688BF-C27F-48DB-8373-79F94DC64AF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1D99FA3-E3E9-4BDC-AA0B-C1FC069A380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7DF067-53D4-44D8-9C6B-16AE687B426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E616685-DD15-4FF1-936D-C357E51BC4E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7CD37AF-34AE-4D96-BF13-B5AEB578E10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94096B2-3FD9-4FB0-A325-025F360E3D4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25FCD11-CC37-417A-A2CB-17F4760188E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6FFC195-D672-4E97-90E6-73466478F34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79D1A15-9817-4050-AC01-83AF18A48A8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8F3C2E4-BA8D-4460-BE95-3FA8FA6880F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BA995B95-C8A2-4388-8BA2-70C937867819}"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C21FDC6-E974-449B-A416-093CDEA825F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F2BD066-43BB-4010-AD62-E58F5F0E9C0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8F9A86-D138-46F2-B55C-F0599A5068F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7F1DE5A-A41E-43F4-ADA5-E9AFD1DA082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579C057-4B68-4657-9FFA-0E26F75C782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6EAB016-1784-4633-BCFD-93FE906A694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C0BA12A-3A27-4EEF-8ADF-676C5427C91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E8E3A57-B24E-4940-A52D-A4F25DDCA9B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5D4C57B-363C-44F3-AF91-8ECA8DBC846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FD2F25C-E61D-4BE9-B9BD-313314C58EA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216EAF2-7FA9-46BA-84F2-AD5A10DAC11B}"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A7389D0-1D35-4EAA-8384-56FA946302D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15C2FD-4603-4D45-B2CB-F20028596649}"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ABEC50-BCF5-49F8-B48F-D23EB9754607}"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0BFEFA-60C9-44D7-B282-AAA450B61C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BB6B1-2A38-4B3D-87E0-083A70EDF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80932A-D5E3-427F-9C81-B5808103CC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53D6E5-4F48-41D0-9658-C7F52BA415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BD3EEF-0647-43CB-B7AD-7577EFEC8F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9CFAD1-B56D-433E-A4F0-820575D0CD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0DC933-76E2-49EA-BC97-A1F2462EAF7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A005B-D88C-4275-B7B2-F65C8878C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3FA42-D48A-4825-ABC2-DBED3F13D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0FDE8BC-211B-45F4-BDE6-0553D88BF6B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99E04-22EC-473F-B4AC-E58566C5E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5E3A4AF-AF8B-4623-9F98-D98EAC5CE6D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925A3D4-D2E5-4B51-BBA8-32A995588D4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E5EFB8F-F356-47F9-9A02-947EC889F9A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D6C0AD6-4EAA-46AE-A230-A7B7D7DECB4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1ED8AC5-DCE4-44BD-AAB6-55F6A10D1D7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34A6E7-8BC9-45B8-AE7B-2CB10F07E4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34D1F0-0B0F-4C79-A85F-657626EA4AB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4138D3-E4B4-4ECF-914A-C2674F13B6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1F4E9E6-2D98-4AC1-B082-9F0355F8ECD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42B7D9B-B51A-4E23-9E70-7BDFA0B9280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8ADDF-43D5-40D9-A4D2-5CB36118B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CB8B9D8-3FE3-4054-B25A-00A8B5A200D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23195DF-DA0B-4013-9210-C55A9B1B11A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F547965-D6B3-4AA2-82E7-BA3B2AFFD8B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6943FD6-A5F0-44AA-8A6E-382484940C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AD02AC4-46E6-4005-B4DD-A04D163DAC5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D1FE8D0-E3AC-42BA-A276-4A47E1A2D5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EFC12CF-2762-4FD2-A6A8-45ABDEE47E7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133869-43B0-4964-9B25-5E4549046D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2448AE0-555A-423B-AA29-CBA9840389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62038CC-B167-4DEA-83EF-7583180DF6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F9172-F075-437B-950D-7F59519CE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3D1596F-DD45-4803-9333-FE383877B4E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33D98A8-430F-4C22-9208-E287639D06D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80C6DFB-8204-443A-90EC-C61D2AA92D5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B060406-8641-4D56-80DA-53E8425CC82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2AEF730-FEFF-41F1-8D65-8E62223DB22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6BAAA6C-41B4-45BA-8BFC-3E600849A2E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08EC1D7-B22E-424B-8466-9D46EB5BBEB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098486D-A27B-47B1-AB38-DD99F8E9A20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A9E3B26-E9B0-45A2-BF03-5506B3DA29A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BB89969-93AD-42C4-B999-D275B14B984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A2472-9625-4E77-924C-260B141CD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126B127-F8FB-40AB-A59A-60989418168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73A6B5F-A555-46E0-9918-847B4BD4AAB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798DBFB-EC7C-4BE2-986C-B536860F7BF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D06C777-4B4C-456D-A181-09BBA8BFEE3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D5747AF-4A50-4E4D-8E2C-6C6AEF243D0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DD69876-3682-42D3-99B3-173392DBEDE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0D3011E-2539-4934-9408-F70AD651460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2C25228-9E0B-4E58-9990-DED8AF8C40C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5CA9ED4-ED4A-4BDD-8EAC-F24AEA8A95E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8FCD24E-30E2-4F5E-9446-A21090A00D4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9ED8E-4F37-4097-8206-774F0CD17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21DAAD2-2D24-4138-905B-95B220A1031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10A1E4F-5791-4A4A-8F34-E01EF36783E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7CDEE2E-B87D-4AC7-877E-4ADB72691CB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3D44639-3D9B-4D5E-BADA-D4135CB0888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AF20E04-0D84-435A-B701-EA91EC83BF2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5249FB6-BDB2-4D07-8A54-0E0DF8607AF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C02F4D3-19A8-43B3-900B-B58854A8F3F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E7AE365-7CF7-42C7-B44B-EBDE888ADA5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AFEA888-DC47-49C0-BB61-AA52BE7AD39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05E0C2F-E465-429B-8FE9-A6547BED0A11}"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5ED82-92ED-4B80-9475-D68C211C5A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154CC-1E37-4ACB-878B-82CEC9C359C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6D70-D771-4EFB-8A35-4377F799AC3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6889-4423-416B-8FDF-5BBD7F75D01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813F8-3D3B-4A1E-ADAB-03A09DB326D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6104E-FE20-4352-94EA-2536D1D3CAA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E65A3-7CB3-48E6-8C50-99C117B4873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677C3-67D2-43DC-B229-7D88FCE89E3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B0FE-44FB-459B-B04B-AF73704D023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273E9-1533-4C9E-B983-11D76B1D517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DDB7-45A3-40FC-ADDA-AB841455328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2E28-00F2-49B2-BF84-4495E9F54FC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Vertical Integration </a:t>
            </a:r>
            <a:endParaRPr b="0" lang="en-US" sz="32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within Diversifi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irms may use one of three “forms” of organization to manage economic exchanges.</a:t>
            </a:r>
            <a:endParaRPr b="1" lang="en-US" sz="3200" spc="-1" strike="noStrike">
              <a:solidFill>
                <a:srgbClr val="ff0000"/>
              </a:solidFill>
              <a:latin typeface="News Gothic MT"/>
            </a:endParaRPr>
          </a:p>
        </p:txBody>
      </p:sp>
      <p:sp>
        <p:nvSpPr>
          <p:cNvPr id="662" name=""/>
          <p:cNvSpPr txBox="1"/>
          <p:nvPr/>
        </p:nvSpPr>
        <p:spPr>
          <a:xfrm>
            <a:off x="549000" y="19051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Market (e.g. trad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Intermediate (strategic allian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Hierarchical (acquisi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What is a strategic alliance?</a:t>
            </a:r>
            <a:endParaRPr b="1" lang="en-US" sz="3200" spc="-1" strike="noStrike">
              <a:solidFill>
                <a:srgbClr val="ff0000"/>
              </a:solidFill>
              <a:latin typeface="News Gothic MT"/>
            </a:endParaRPr>
          </a:p>
        </p:txBody>
      </p:sp>
      <p:sp>
        <p:nvSpPr>
          <p:cNvPr id="66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 strategic alliance exists when two or more organizations cooperate in the development, manufacture or sale of products or servi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Strategic alliances can be used for either business or corporate level reason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107640"/>
            <a:ext cx="83822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0000"/>
                </a:solidFill>
                <a:latin typeface="News Gothic MT"/>
              </a:rPr>
              <a:t>What are some types of strategic alliances?</a:t>
            </a:r>
            <a:endParaRPr b="1" lang="en-US" sz="31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supply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distribution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joint ventures (cooperativ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ea typeface="Times New Roman"/>
              </a:rPr>
              <a:t>What is corporate diversification?</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Bringing more than one business within the boundaries of the fir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Remember, diversification  may be horizontal or vertical.</a:t>
            </a:r>
            <a:endParaRPr b="0" lang="en-US" sz="28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F91D1EB2-2BE3-492F-A123-3569701640AE}"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rPr>
              <a:t>What is trading?</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Dealing with customers and suppliers.</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lthough trading creates value, it is also costly. </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se costs are called transaction costs.</a:t>
            </a:r>
            <a:endParaRPr b="0" lang="en-US" sz="2800" spc="-1" strike="noStrike">
              <a:solidFill>
                <a:srgbClr val="595959"/>
              </a:solidFill>
              <a:latin typeface="News Gothic MT"/>
            </a:endParaRPr>
          </a:p>
          <a:p>
            <a:pPr marL="345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ea typeface="Geneva"/>
              </a:rPr>
              <a:t>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8CC557CF-3E9A-45BE-BF7A-E099654EE3D2}"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19" dur="500"/>
                                        <p:tgtEl>
                                          <p:spTgt spid="647">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647">
                                            <p:txEl>
                                              <p:pRg st="2" end="2"/>
                                            </p:txEl>
                                          </p:spTgt>
                                        </p:tgtEl>
                                        <p:attrNameLst>
                                          <p:attrName>style.visibility</p:attrName>
                                        </p:attrNameLst>
                                      </p:cBhvr>
                                      <p:to>
                                        <p:strVal val="visible"/>
                                      </p:to>
                                    </p:set>
                                    <p:animEffect filter="barn(inHorizontal)" transition="in">
                                      <p:cBhvr additive="repl">
                                        <p:cTn id="24" dur="500"/>
                                        <p:tgtEl>
                                          <p:spTgt spid="647">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4" end="4"/>
                                            </p:txEl>
                                          </p:spTgt>
                                        </p:tgtEl>
                                        <p:attrNameLst>
                                          <p:attrName>style.visibility</p:attrName>
                                        </p:attrNameLst>
                                      </p:cBhvr>
                                      <p:to>
                                        <p:strVal val="visible"/>
                                      </p:to>
                                    </p:set>
                                    <p:animEffect filter="barn(inHorizontal)" transition="in">
                                      <p:cBhvr additive="repl">
                                        <p:cTn id="29" dur="500"/>
                                        <p:tgtEl>
                                          <p:spTgt spid="647">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5" end="5"/>
                                            </p:txEl>
                                          </p:spTgt>
                                        </p:tgtEl>
                                        <p:attrNameLst>
                                          <p:attrName>style.visibility</p:attrName>
                                        </p:attrNameLst>
                                      </p:cBhvr>
                                      <p:to>
                                        <p:strVal val="visible"/>
                                      </p:to>
                                    </p:set>
                                    <p:animEffect filter="barn(inHorizontal)" transition="in">
                                      <p:cBhvr additive="repl">
                                        <p:cTn id="34" dur="500"/>
                                        <p:tgtEl>
                                          <p:spTgt spid="6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ransaction costs?</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are the costs of time, effort and other resources necessary to search out, negotiate, and conclude an exchang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reduce our ability to gain from trades.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Despite strong incentives to cooperate in order to gain from trading, there may also be strong incentives to cheat. </a:t>
            </a:r>
            <a:endParaRPr b="1" lang="en-US" sz="3200" spc="-1" strike="noStrike">
              <a:solidFill>
                <a:srgbClr val="ff0000"/>
              </a:solidFill>
              <a:latin typeface="News Gothic MT"/>
            </a:endParaRPr>
          </a:p>
        </p:txBody>
      </p:sp>
      <p:sp>
        <p:nvSpPr>
          <p:cNvPr id="652" name=""/>
          <p:cNvSpPr txBox="1"/>
          <p:nvPr/>
        </p:nvSpPr>
        <p:spPr>
          <a:xfrm>
            <a:off x="549000" y="1828440"/>
            <a:ext cx="8042040" cy="4419720"/>
          </a:xfrm>
          <a:prstGeom prst="rect">
            <a:avLst/>
          </a:prstGeom>
          <a:noFill/>
          <a:ln w="0">
            <a:noFill/>
          </a:ln>
        </p:spPr>
        <p:txBody>
          <a:bodyPr anchor="t">
            <a:normAutofit/>
          </a:bodyPr>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Opportunism</a:t>
            </a:r>
            <a:r>
              <a:rPr b="0" lang="en-US" sz="2800" spc="-1" strike="noStrike">
                <a:solidFill>
                  <a:srgbClr val="ff0000"/>
                </a:solidFill>
                <a:latin typeface="News Gothic MT"/>
              </a:rPr>
              <a:t> exists whenever there is an occasion to cheat.</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Governance mechanisms</a:t>
            </a:r>
            <a:r>
              <a:rPr b="0" lang="en-US" sz="2800" spc="-1" strike="noStrike">
                <a:solidFill>
                  <a:srgbClr val="ff0000"/>
                </a:solidFill>
                <a:latin typeface="News Gothic MT"/>
              </a:rPr>
              <a:t> (which are also costly) are put in place to minimize the threat of opportunism. </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us, firms must seek to simultaneously minimize the costs of governance and the threat of opportunis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two primary characteristics of an exchange determine the threat of opportunism?</a:t>
            </a:r>
            <a:endParaRPr b="1" lang="en-US" sz="32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transaction specific invest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uncertainty and complexity in the exchange.</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80880" y="108000"/>
            <a:ext cx="8382240" cy="1339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wo types or forms of vertical integration?</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Forward Vertical Integration</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Backward Vertical Integration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form” will a transaction take?</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form of a transaction will be one that minimizes transaction cos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Consider the need to trade for housing and food.</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Why do most people own their homes but do not own a grocery stor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8-10-17T14:23:48Z</dcterms:modified>
  <cp:revision>322</cp:revision>
  <dc:subject/>
  <dc:title>Slide 1</dc:title>
</cp:coreProperties>
</file>