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B40D-3A8A-42F5-A6FC-B426F98BE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E139-C0D0-4F0F-B8B2-A41FF272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675C-8741-4511-A9D9-183AC4334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251E-4007-44DF-8FDE-4F3453831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F699-455B-41AD-82D4-A52C6FBB5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6067-2D09-4BF4-9D0D-BCF38082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C2CA-0F15-49FD-B730-D9951E61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F2AA-4A22-4673-A356-DF4223EF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178F-E55D-4772-A470-B28D4FFF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AF7C-147C-463F-8166-6C33CC90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9D66-85B4-450C-8CD9-BCA26AC2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88EB-FADB-4B5E-BA64-6BC103DF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544F-24C7-452C-A008-9EE5CC3A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7A8D-A1F2-4BD6-AA81-F3036AD9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004F-2675-4EEF-815B-B71753E1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432E-3EFF-4442-9A36-9C825F05D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3690-F600-4F3D-90B6-920D2B84F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6CB9-5407-4264-B828-067D1311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D5EF-C6BF-4F88-AABE-22BAEBC9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602A-A52E-4BA7-BC2A-31D8DEF2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3E83-C726-4219-BB1B-8D528E57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64CB-5744-4C82-8B5E-BA5094A8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5B4B-F605-49CB-B699-2C3A6065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EF20-6E00-49C4-9585-9383011A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31B3-3525-44A0-9BCF-F454BE887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C1B7-C26A-45E1-B96E-D65A63485A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ffff"/>
                </a:solidFill>
                <a:latin typeface="Arial"/>
              </a:rPr>
              <a:t>Tabular and Graphical Methods</a:t>
            </a:r>
            <a:br>
              <a:rPr sz="4600"/>
            </a:br>
            <a:br>
              <a:rPr sz="4600"/>
            </a:b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Sometimes, a picture really is worth a thousand words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Bar Chart of Grade Distrib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Object 5"/>
          <p:cNvGraphicFramePr/>
          <p:nvPr/>
        </p:nvGraphicFramePr>
        <p:xfrm>
          <a:off x="460440" y="1600200"/>
          <a:ext cx="822312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600200"/>
                    <a:ext cx="82231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hat is a histogram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istogram is similar to a bar chart, except that the width of each bar is also used to represent a range of data. Notice in the next slide how both the width and the height provide inform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is example, the width of each bar is 10 points. Reading from the top of a bar over to the scale on the vertical axis tells us how many scores are in a particular rang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192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istogram of Grade Distrib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Think about the shape of a distribution of dat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histogram on the preceding slide is symmetric or bell-shaped. 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This is known as a normal distribution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ever, skewness occurs when there is a lack of symmetry in a distribution. This occurs when one tail is longer than the othe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next two slides give illustrations of what a positive and negative skewed distribution of grades might look like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sitive Skewed Grade Distrib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gative Skewed Grade Distrib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3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ead of thinking about the shape of a distribution by looking at a histogram, we generally refer to data that is under a curve.</a:t>
            </a:r>
            <a:br>
              <a:rPr sz="2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w is an example of a bell-shaped curve, which is perfectly symmetrical and normally distribut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Content Placeholder 3" descr=""/>
          <p:cNvPicPr/>
          <p:nvPr/>
        </p:nvPicPr>
        <p:blipFill>
          <a:blip r:embed="rId1"/>
          <a:stretch/>
        </p:blipFill>
        <p:spPr>
          <a:xfrm>
            <a:off x="2743200" y="3886200"/>
            <a:ext cx="380988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ook at the curve below. It is not symmetrical (not normal) because it is skewed. But is it a positive or negative skew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Content Placeholder 5" descr=""/>
          <p:cNvPicPr/>
          <p:nvPr/>
        </p:nvPicPr>
        <p:blipFill>
          <a:blip r:embed="rId1"/>
          <a:stretch/>
        </p:blipFill>
        <p:spPr>
          <a:xfrm>
            <a:off x="2895480" y="3048120"/>
            <a:ext cx="3276720" cy="19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27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ny students will mistakenly say that the previous curve is a negative skew, because most of the observations are “bunched up” on the left side, which is the negative direction on the number line.</a:t>
            </a:r>
            <a:br>
              <a:rPr sz="2600"/>
            </a:br>
            <a:br>
              <a:rPr sz="8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ever, that curve is actually an illustration of a positive skew. </a:t>
            </a:r>
            <a:br>
              <a:rPr sz="2600"/>
            </a:br>
            <a:br>
              <a:rPr sz="8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kewness occurs when one tail (e.g. one side) of the distribution is longer than the other. In that picture the right tail is longer, which is in the positive direction. </a:t>
            </a:r>
            <a:br>
              <a:rPr sz="2600"/>
            </a:br>
            <a:br>
              <a:rPr sz="8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aid another way, we know the skew is positive because the tail of the distribution trails off (e.g. gets longer) in the positive direction. 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low is an example of a negative skewed curve. Note that the tail trails off in the negative direc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Content Placeholder 5" descr=""/>
          <p:cNvPicPr/>
          <p:nvPr/>
        </p:nvPicPr>
        <p:blipFill>
          <a:blip r:embed="rId1"/>
          <a:stretch/>
        </p:blipFill>
        <p:spPr>
          <a:xfrm>
            <a:off x="2743200" y="2666880"/>
            <a:ext cx="365760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What is a frequency distribu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ethod of presentation that indicates how often certain observations occ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often used to present qualitative, rather than quantitative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stributions that are skewed are not normally distributed. However, distributions may also not be normal because they are kurtotic. This occurs when the data are “peaked” like the distribution below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Content Placeholder 3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502920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epare a frequency distribution for the following dataset of test scores. First, you should convert each score to a letter grade using the “normal” scales (A=90-100; B=80-89, etc.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600200"/>
          <a:ext cx="8229600" cy="4460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85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Your frequency distribution  should look like thi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ffffff"/>
                </a:solidFill>
                <a:latin typeface="Arial"/>
              </a:rPr>
              <a:t>What is a relative frequency distribution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provides even more useful information by indicating the proportion (fraction) of the total observations that are in each categ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It should look like thi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/2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12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/2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2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/2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33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/2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2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/2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1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hat is a pie char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egmented circle whose segments portray the relative frequencies of the categories of some qualitative vari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t should look like thi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hat is a bar char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isual representation of a frequency distribution where the frequencies are represented by bars, the length of which are proportional to the values that are to be depic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3:39:50Z</dcterms:created>
  <dc:creator>Bert Morrow</dc:creator>
  <dc:description/>
  <dc:language>en-US</dc:language>
  <cp:lastModifiedBy>Morrow, Bert</cp:lastModifiedBy>
  <dcterms:modified xsi:type="dcterms:W3CDTF">2018-05-30T19:42:51Z</dcterms:modified>
  <cp:revision>136</cp:revision>
  <dc:subject/>
  <dc:title>Chapter 1: Organizational Behavior and Management</dc:title>
</cp:coreProperties>
</file>