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A00C-FD7B-469D-8DCE-33029EF8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863C-3683-4AD0-B7DE-F985E4F1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9781-ECC4-4EE5-94D5-CE4866720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A3F1-9E6B-4EDE-A94D-6F31697E5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FFF3-C824-45BD-8A80-5FA8DDFD4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7B9A-1106-4BBB-A47C-B7384AAE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C841-B195-44E2-B88D-BE366270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8CAD-8585-4D72-8634-BD6F704B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1203-FBD2-460A-9641-CB2827B4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F436-46AB-4331-9430-894F431A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3BBB-5E85-428B-A80E-5EAD01C8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97F3-20ED-472E-97EA-9D7ECA4D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EC9B-6C24-4ADF-B798-B1C0114A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A061-879F-4EBC-B2B1-4901169F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C489-5BC3-4862-B6E4-C731FAF4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5987-056B-439F-AB3C-A029339F3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202E-7275-47A4-9E30-1D2F62659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0875-2CC5-41EA-B7C8-CABAD04C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0BF1-C46E-49E8-8316-7E03508B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623F-C40B-4A00-B16D-BE818C20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01C6-5A91-43C0-AC20-298001C9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B8F5-C0AA-4B9D-9563-713B6CA9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96E2-3ABA-4BB7-9954-B5488916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C7BD-7382-44AE-AB91-AF4465A6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69F0-08D7-4741-9FCC-BBCD16EA4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6363-C3FE-4F1F-A9AB-5D1BEE1C5F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ffff"/>
                </a:solidFill>
                <a:latin typeface="Arial"/>
              </a:rPr>
              <a:t>Tabular and Graphical Methods</a:t>
            </a:r>
            <a:br>
              <a:rPr sz="4600"/>
            </a:br>
            <a:br>
              <a:rPr sz="4600"/>
            </a:b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Sometimes, a picture really is worth a thousand words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Bar Chart of Grade Distrib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Object 5"/>
          <p:cNvGraphicFramePr/>
          <p:nvPr/>
        </p:nvGraphicFramePr>
        <p:xfrm>
          <a:off x="460440" y="1600200"/>
          <a:ext cx="822312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600200"/>
                    <a:ext cx="82231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hat is a histogram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istogram is similar to a bar chart, except that the width of each bar is also used to represent a range of data. Notice in the next slide how both the width and the height provide inform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is example, the width of each bar is 10 points. Reading from the top of a bar over to the scale on the vertical axis tells us how many scores are in a particular rang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192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istogram of Grade Distrib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Think about the shape of a distribution of dat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histogram on the preceding slide is symmetric or bell-shaped. 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This is known as a normal distribution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ever, skewness occurs when there is a lack of symmetry in a distribution. This occurs when one tail is longer than the othe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next two slides give illustrations of what a positive and negative skewed distribution of grades might look like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sitive Skewed Grade Distrib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gative Skewed Grade Distrib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3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ead of thinking about the shape of a distribution by looking at a histogram, we generally refer to data that is under a curve.</a:t>
            </a:r>
            <a:br>
              <a:rPr sz="2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w is an example of a bell-shaped curve, which is perfectly symmetrical and normally distribut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Content Placeholder 3" descr=""/>
          <p:cNvPicPr/>
          <p:nvPr/>
        </p:nvPicPr>
        <p:blipFill>
          <a:blip r:embed="rId1"/>
          <a:stretch/>
        </p:blipFill>
        <p:spPr>
          <a:xfrm>
            <a:off x="2743200" y="3886200"/>
            <a:ext cx="380988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ook at the curve below. It is not symmetrical (not normal) because it is skewed. But is it a positive or negative skew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Content Placeholder 5" descr=""/>
          <p:cNvPicPr/>
          <p:nvPr/>
        </p:nvPicPr>
        <p:blipFill>
          <a:blip r:embed="rId1"/>
          <a:stretch/>
        </p:blipFill>
        <p:spPr>
          <a:xfrm>
            <a:off x="2895480" y="3048120"/>
            <a:ext cx="3276720" cy="19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27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ny students will mistakenly say that the previous curve is a negative skew, because most of the observations are “bunched up” on the left side, which is the negative direction on the number line.</a:t>
            </a:r>
            <a:br>
              <a:rPr sz="2600"/>
            </a:br>
            <a:br>
              <a:rPr sz="8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ever, that curve is actually an illustration of a positive skew. </a:t>
            </a:r>
            <a:br>
              <a:rPr sz="2600"/>
            </a:br>
            <a:br>
              <a:rPr sz="8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kewness occurs when one tail (e.g. one side) of the distribution is longer than the other. In that picture the right tail is longer, which is in the positive direction. </a:t>
            </a:r>
            <a:br>
              <a:rPr sz="2600"/>
            </a:br>
            <a:br>
              <a:rPr sz="8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aid another way, we know the skew is positive because the tail of the distribution trails off (e.g. gets longer) in the positive direction. 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low is an example of a negative skewed curve. Note that the tail trails off in the negative direc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Content Placeholder 5" descr=""/>
          <p:cNvPicPr/>
          <p:nvPr/>
        </p:nvPicPr>
        <p:blipFill>
          <a:blip r:embed="rId1"/>
          <a:stretch/>
        </p:blipFill>
        <p:spPr>
          <a:xfrm>
            <a:off x="2743200" y="2666880"/>
            <a:ext cx="365760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What is a frequency distribu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ethod of presentation that indicates how often certain observations occ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often used to present qualitative, rather than quantitative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stributions that are skewed are not normally distributed. However, distributions may also not be normal because they are kurtotic. This occurs when the data are “peaked” like the distribution below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Content Placeholder 3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502920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epare a frequency distribution for the following dataset of test scores. First, you should convert each score to a letter grade using the “normal” scales (A=90-100; B=80-89, etc.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600200"/>
          <a:ext cx="8229600" cy="4460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85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Your frequency distribution  should look like thi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ffffff"/>
                </a:solidFill>
                <a:latin typeface="Arial"/>
              </a:rPr>
              <a:t>What is a relative frequency distribution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provides even more useful information by indicating the proportion (fraction) of the total observations that are in each categ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It should look like thi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/2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12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/2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2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/2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33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/2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2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/2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1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hat is a pie char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egmented circle whose segments portray the relative frequencies of the categories of some qualitative vari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t should look like thi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hat is a bar char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isual representation of a frequency distribution where the frequencies are represented by bars, the length of which are proportional to the values that are to be depic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3:39:50Z</dcterms:created>
  <dc:creator>Bert Morrow</dc:creator>
  <dc:description/>
  <dc:language>en-US</dc:language>
  <cp:lastModifiedBy>Morrow, Bert</cp:lastModifiedBy>
  <dcterms:modified xsi:type="dcterms:W3CDTF">2018-05-30T19:42:51Z</dcterms:modified>
  <cp:revision>136</cp:revision>
  <dc:subject/>
  <dc:title>Chapter 1: Organizational Behavior and Management</dc:title>
</cp:coreProperties>
</file>