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D614-BC9B-409F-A8F8-491E0055D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9116-2E9C-4B22-9C33-4E92C2A7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D96A-BD72-42FE-9B18-C4C036173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8F42-7285-4843-84FA-2D9FDA663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0446-A5CC-45E7-915A-AF474166E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A0AB-9423-45D0-B9FC-EE684AFD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5DC5-47F9-4B44-9A79-12ADB90A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0FE0-DDBC-46DA-ADC4-160C92BF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02E2-0207-432C-96B8-D87850BF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8CD5-9BFC-4B6C-88D2-678F9F95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B8F1-6224-4814-9CDC-386EB617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F6B5-0E98-4A0E-A4E1-E6507469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3D84-F67A-4EB9-99F2-F288C10F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D12D-432D-4096-A6A0-08520C60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2D50-F19B-4236-8389-A209358F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2DB0-0112-4028-B9AD-C719887E0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6C69-AABA-4E44-807A-F87D5F28E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AF8F-A4EB-4F90-826A-8456FD13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2C1A-9FF5-4CE6-B0AF-9685B4AE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F51A-5757-4962-B655-CC37E998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55D0-3708-45ED-8848-BEF4EA09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0A7C-44E6-4AE5-A9DE-BCB04874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D637-72EE-4110-95AB-9E0A86E7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3732-267A-440D-A209-AE3B2109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16C3-A271-40A6-A0CE-7499E6BC1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93B2-57EB-4B9A-A384-C3C69312D6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ffff"/>
                </a:solidFill>
                <a:latin typeface="Arial"/>
              </a:rPr>
              <a:t>Tabular and Graphical Methods</a:t>
            </a:r>
            <a:br>
              <a:rPr sz="4600"/>
            </a:br>
            <a:br>
              <a:rPr sz="4600"/>
            </a:b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Sometimes, a picture really is worth a thousand words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Bar Chart of Grade Distrib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Object 5"/>
          <p:cNvGraphicFramePr/>
          <p:nvPr/>
        </p:nvGraphicFramePr>
        <p:xfrm>
          <a:off x="460440" y="1600200"/>
          <a:ext cx="822312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600200"/>
                    <a:ext cx="82231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hat is a histogram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istogram is similar to a bar chart, except that the width of each bar is also used to represent a range of data. Notice in the next slide how both the width and the height provide inform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is example, the width of each bar is 10 points. Reading from the top of a bar over to the scale on the vertical axis tells us how many scores are in a particular rang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192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istogram of Grade Distrib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Think about the shape of a distribution of dat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histogram on the preceding slide is symmetric or bell-shaped. 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This is known as a normal distribution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ever, skewness occurs when there is a lack of symmetry in a distribution. This occurs when one tail is longer than the othe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next two slides give illustrations of what a positive and negative skewed distribution of grades might look like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sitive Skewed Grade Distrib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gative Skewed Grade Distrib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3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ead of thinking about the shape of a distribution by looking at a histogram, we generally refer to data that is under a curve.</a:t>
            </a:r>
            <a:br>
              <a:rPr sz="2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w is an example of a bell-shaped curve, which is perfectly symmetrical and normally distribut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Content Placeholder 3" descr=""/>
          <p:cNvPicPr/>
          <p:nvPr/>
        </p:nvPicPr>
        <p:blipFill>
          <a:blip r:embed="rId1"/>
          <a:stretch/>
        </p:blipFill>
        <p:spPr>
          <a:xfrm>
            <a:off x="2743200" y="3886200"/>
            <a:ext cx="380988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ook at the curve below. It is not symmetrical (not normal) because it is skewed. But is it a positive or negative skew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Content Placeholder 5" descr=""/>
          <p:cNvPicPr/>
          <p:nvPr/>
        </p:nvPicPr>
        <p:blipFill>
          <a:blip r:embed="rId1"/>
          <a:stretch/>
        </p:blipFill>
        <p:spPr>
          <a:xfrm>
            <a:off x="2895480" y="3048120"/>
            <a:ext cx="3276720" cy="19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27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ny students will mistakenly say that the previous curve is a negative skew, because most of the observations are “bunched up” on the left side, which is the negative direction on the number line.</a:t>
            </a:r>
            <a:br>
              <a:rPr sz="2600"/>
            </a:br>
            <a:br>
              <a:rPr sz="8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ever, that curve is actually an illustration of a positive skew. </a:t>
            </a:r>
            <a:br>
              <a:rPr sz="2600"/>
            </a:br>
            <a:br>
              <a:rPr sz="8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kewness occurs when one tail (e.g. one side) of the distribution is longer than the other. In that picture the right tail is longer, which is in the positive direction. </a:t>
            </a:r>
            <a:br>
              <a:rPr sz="2600"/>
            </a:br>
            <a:br>
              <a:rPr sz="8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aid another way, we know the skew is positive because the tail of the distribution trails off (e.g. gets longer) in the positive direction. 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low is an example of a negative skewed curve. Note that the tail trails off in the negative direc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Content Placeholder 5" descr=""/>
          <p:cNvPicPr/>
          <p:nvPr/>
        </p:nvPicPr>
        <p:blipFill>
          <a:blip r:embed="rId1"/>
          <a:stretch/>
        </p:blipFill>
        <p:spPr>
          <a:xfrm>
            <a:off x="2743200" y="2666880"/>
            <a:ext cx="365760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What is a frequency distribu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ethod of presentation that indicates how often certain observations occ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often used to present qualitative, rather than quantitative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stributions that are skewed are not normally distributed. However, distributions may also not be normal because they are kurtotic. This occurs when the data are “peaked” like the distribution below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Content Placeholder 3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502920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epare a frequency distribution for the following dataset of test scores. First, you should convert each score to a letter grade using the “normal” scales (A=90-100; B=80-89, etc.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600200"/>
          <a:ext cx="8229600" cy="4460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85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Your frequency distribution  should look like thi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ffffff"/>
                </a:solidFill>
                <a:latin typeface="Arial"/>
              </a:rPr>
              <a:t>What is a relative frequency distribution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provides even more useful information by indicating the proportion (fraction) of the total observations that are in each categ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It should look like thi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/2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12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/2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2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/2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33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/2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2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/2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1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hat is a pie char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egmented circle whose segments portray the relative frequencies of the categories of some qualitative vari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t should look like thi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hat is a bar char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isual representation of a frequency distribution where the frequencies are represented by bars, the length of which are proportional to the values that are to be depic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3:39:50Z</dcterms:created>
  <dc:creator>Bert Morrow</dc:creator>
  <dc:description/>
  <dc:language>en-US</dc:language>
  <cp:lastModifiedBy>Morrow, Bert</cp:lastModifiedBy>
  <dcterms:modified xsi:type="dcterms:W3CDTF">2018-05-30T19:42:51Z</dcterms:modified>
  <cp:revision>136</cp:revision>
  <dc:subject/>
  <dc:title>Chapter 1: Organizational Behavior and Management</dc:title>
</cp:coreProperties>
</file>