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861-A405-47A4-8B2D-45801FA2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DA5B-998C-4F81-B480-43B84FBE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0E0-EAAF-4633-AB73-81028DB1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6FE-2859-4885-ACC2-06A38E80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4D88-3ED0-4B48-91B0-DCB5AE83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FC9B-DF6D-4A4E-A898-81F11F53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FC67-CA9C-4209-A6F3-759CAB2D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7F9C-9178-4D4D-9D67-2F4AEFD3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BD91-E260-41E2-B46A-1B72B228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F309-E7F7-498A-8ABC-635B2F81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EEC9-15B1-4B91-B51F-9F4D044A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CE6D-DC12-4E8D-86B3-BFF2A0A9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E745-9958-4004-B191-89B309A4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078C-57FC-4BC1-BF9C-4631ED2B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AE08-3DCB-41AD-A073-D8FDBCDB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39D5-5CAB-46AE-A9B8-510034D9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76C3-D1AC-46DF-B37D-B8D8468C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8B3-18D0-4E4F-9BC1-133EA306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1091-C6A2-4338-B24D-5214D994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353-DD00-42BD-B8AA-4E43B745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3A72-1533-4816-BAEA-BC19C85F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AB3-0E55-4FB9-A051-6068D997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EB4-FD61-4728-9338-666370C1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A4B-CF87-4AE6-833E-B1BC3B27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0AF6-D60D-4252-8846-0B37DB2B4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EA4D-C564-4A3C-A07F-30628B40C4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Questionnaires and Instrument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Question Ordering or Sequenc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naire should quickly awaken interest and motivate the participants to complete the surve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ing process should begin with simple items and then move to the more complex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sonal or “ego-threatening” questions should be placed at the e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some cases, questions may need to be scrambled to keep the respondent thinking about their answer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yout and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questionnaire should appear profess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your questionnaire into sections, with headings and instru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it easy for the respondent to know what you would like for them to 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de by letting the respondent know that his/her involvement was valu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20-03-17T16:22:16Z</dcterms:modified>
  <cp:revision>157</cp:revision>
  <dc:subject/>
  <dc:title>Chapter 1: Organizational Behavior and Management</dc:title>
</cp:coreProperties>
</file>