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C19-1EE4-40F0-BF00-0C23FE90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FEB-536C-4B50-A84D-3804C2EA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BA8-A45E-42C1-892C-136AD08F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D64-B56F-40CB-B6B2-3D5C9C3E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F6E8-B6FE-4BD1-B103-45C6523B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4D70-5E1A-4C25-B604-0FB6ACE6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3940-975A-4DE9-8742-21EDF4E0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2BFA-AAA5-4F4F-A4B6-D18E3E56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C829-4D4F-4529-A9CB-9A67DEFE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D29D-F218-468B-9117-0B5180CA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86D1-D7C1-4308-94C0-4ED86A8B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01C-64B3-48C5-8382-AB5E3B7B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CBCD-C7E5-4D50-B73F-8DEC86B3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9D45-6A8F-4972-9A9A-841C2F5F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B371-304E-4368-B119-8AC860FA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FD10-980F-4248-97A4-7E3891C9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82F1-26A5-467B-9D39-CB2B8F66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C753-EF1B-49CB-AF86-9AA4197B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CC7-FA49-425D-91B6-D4628D44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EA25-BBA8-487E-BC5C-F7FC6F58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55BB-971A-4687-92A1-788D467C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6B32-6E04-4906-A692-9153CBCA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5BEE-9FDF-4714-8334-2CA9C5A7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B5E-A837-4C82-8FD0-EAD20D8C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8AD1-356F-4218-91B3-70E471C1A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A051-C9EC-4537-AD2F-BEB2B9A0BE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Questionnaires and Instrument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Question Ordering or Sequenc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naire should quickly awaken interest and motivate the participants to complete the surve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ing process should begin with simple items and then move to the more complex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sonal or “ego-threatening” questions should be placed at the e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some cases, questions may need to be scrambled to keep the respondent thinking about their answer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yout and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questionnaire should appear profess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your questionnaire into sections, with headings and instru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it easy for the respondent to know what you would like for them to 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de by letting the respondent know that his/her involvement was valu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20-03-17T16:22:16Z</dcterms:modified>
  <cp:revision>157</cp:revision>
  <dc:subject/>
  <dc:title>Chapter 1: Organizational Behavior and Management</dc:title>
</cp:coreProperties>
</file>