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36E-E58C-4A0B-B767-91C7A166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D86-90D1-40A5-8F43-E1590035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E6A-855C-4C27-8090-0896CD19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ED0-AD9C-4F1C-A408-23F5B7E8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BF51-F245-45DB-875D-F48CFCD9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BF64-4961-4647-B167-0707A1F4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70D1-B159-48ED-805A-40127763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B4E1-65D7-498D-B75A-41329F1D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5177-A55E-45AB-8EFC-2269D6EE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CF0C-412F-4B74-9028-FCE6FC97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FE5A-895D-4615-A7DA-9DE462B1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40D-97AA-4C94-A857-A55D179B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7ACF-7C16-4219-9DFA-DA314B91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37D7-A417-4464-A97E-AD49B7AE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0880-F3E3-4240-B3BB-1F50BE3A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AC95-E811-4D72-BC2A-809DBBBC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B4A3-D70D-4BFC-A91C-F4A24A3B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A6E5-1D8B-42DB-9140-737CB06A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559-5D98-42D0-B59C-1780B44D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9AC-9314-4710-B3B6-ED576D3C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97AB-9EE1-4B34-AA86-FCD94777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1B3-FD67-4605-8228-BE9BEB6E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DF1-5660-4F8B-9E32-6AA240CA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D3C6-A55D-4B74-B9FF-604FEDA4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F33E-C51D-4A9A-8A32-EA86D9881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4A5B-98EB-4986-861F-26C06FD45E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Questionnaires and Instrument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Question Ordering or Sequenc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naire should quickly awaken interest and motivate the participants to complete the surve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ing process should begin with simple items and then move to the more complex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sonal or “ego-threatening” questions should be placed at the e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some cases, questions may need to be scrambled to keep the respondent thinking about their answer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yout and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questionnaire should appear profess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your questionnaire into sections, with headings and instru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it easy for the respondent to know what you would like for them to 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de by letting the respondent know that his/her involvement was valu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20-03-17T16:22:16Z</dcterms:modified>
  <cp:revision>157</cp:revision>
  <dc:subject/>
  <dc:title>Chapter 1: Organizational Behavior and Management</dc:title>
</cp:coreProperties>
</file>