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0D7-5465-4DFE-8089-F4495268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B7B-17F8-4CEE-AA4F-3EAF3DDC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03F-E49C-43F6-8098-EE4EE643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878-EBA0-4E02-AB0B-54126EAF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F042-E606-4B93-86FB-72C1D6BE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C042-D623-4245-B2B5-D24762F6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F3C1-59E2-41C6-8B1A-6CAE141C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F4E6-AAB8-46EC-BCB2-8F453907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2066-DD56-4BB9-B223-1BE75D82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6E27-1BF4-40A1-BA1C-259079AE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425C-4350-43C6-BF05-CEC6D5DA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86E-A818-4CDF-9E1C-F535894C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0A5C-B44B-4F25-9137-C612EF3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511C-6C76-4739-BB67-F540E06D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7B85-FCC4-41EF-AD77-CFFDF4C7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6E5F-6FC0-43B9-BB9F-CF0772C6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2B42-93A3-49C8-AA65-ED8FB055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B6F-C180-41C6-A012-0DF37196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679-0F79-44C8-9CF7-BC666E31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28B-CE8A-48AD-A752-1C953E9C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7D6-1A1E-4904-89F8-9E5D7D6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6A3-F6E4-4EFA-8CFF-1F99904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174-E5DF-4F4F-B985-9FB99C8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354-6F64-458D-8A0B-70B28A5F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BF90-7A23-4226-8EDF-1D816056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F58E-F8E1-40EC-A5C4-5B9C73956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Sam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aw conclusions about the population based on the sa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. 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rovide greate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faster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he only way to obtain cer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issue in sampling is the extent to which a sample is representative of the population from which it is dra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ample size is ne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hort, the bigger,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lso cost considerations. Collecting a larger sample size will likely cost more time, money and other resour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: You need 10 observations for each variable in your study. So, if you have one dependent variable, two explanatory variables and two control variables you need a minimum sample size of about 5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ing Methods Review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imple random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in which each member of the population has an equal change of being selec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ystematic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in which every kth element in the population is sampled beginning with a random starting poi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ratified random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in which the sample is first segregated into subgroups or strata before a random sample is draw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nvenience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that is readily availabl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1-08-25T12:01:11Z</dcterms:modified>
  <cp:revision>163</cp:revision>
  <dc:subject/>
  <dc:title>Chapter 1: Organizational Behavior and Management</dc:title>
</cp:coreProperties>
</file>