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463-6B7D-403E-B372-FCBE34E7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29A-832A-438F-A134-D691DA13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BDF-0445-4B6B-87D9-B5C94CDB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4E9-66D5-439D-AAB2-C9F2920F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A446-57E2-44F7-A0CF-417E6E28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D768-B818-447B-92C1-489FE8E4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B39D-8736-4C3E-A446-F84D035D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E535-6C26-4DC7-B584-06E7037E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E84D-C7B1-4C27-9B9B-74F1C805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CC5-B66E-4DCE-B22E-B8714634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DD8C-30BB-4EC9-BA61-335EE74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54D-F59F-4847-BABF-9CEB7E4E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C96C-DCFB-46F9-BD65-EABF7DFC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0AB5-ABA5-4636-BC89-9B406A39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4646-BF64-4FC8-B04B-44AB5A9A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6415-3EAC-46A6-A49A-C27843C4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4F55-DFDC-4521-B073-766F3ED0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CD7-9C19-446B-8227-320F4515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19F-7DCB-41BE-BCEA-9CF7CEC5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AE6-1645-4399-926D-A9805367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1EC-BA48-4327-9803-22A3B6F0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818-A8C3-48A0-8F71-DBD4595E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C90-D0F4-497E-AEFC-46E680A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DF5-E35F-4982-84E9-06876A3B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5BE-012D-44C5-8C1A-59E4F1FED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8FC-0B7D-433A-8866-87ED26A34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Sam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aw conclusions about the population based on the sa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. 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rovide greate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faster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he only way to obtain cer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issue in sampling is the extent to which a sample is representative of the population from which it is dra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ample size is ne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hort, the bigger,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lso cost considerations. Collecting a larger sample size will likely cost more time, money and other resour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: You need 10 observations for each variable in your study. So, if you have one dependent variable, two explanatory variables and two control variables you need a minimum sample size of about 5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ing Methods Review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imple random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in which each member of the population has an equal change of being selec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ystematic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in which every kth element in the population is sampled beginning with a random starting poi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ratified random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in which the sample is first segregated into subgroups or strata before a random sample is draw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nvenience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that is readily availabl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1-08-25T12:01:11Z</dcterms:modified>
  <cp:revision>163</cp:revision>
  <dc:subject/>
  <dc:title>Chapter 1: Organizational Behavior and Management</dc:title>
</cp:coreProperties>
</file>