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A02-6D63-41BA-B9CF-B3CF2725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5F9-739A-4EB5-9039-DABCD98E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90A-AC9B-4B26-82BA-8FA8D04F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6B9-AF52-4B76-A6E5-549CB85B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1F9A-1C1F-4AA2-A943-0E284C37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BCB3-DB2E-415A-AAD5-87F9B720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D307-AA83-4801-B0B8-DD1B99B4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C3C8-82AB-4D70-BA35-37D44E12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E013-CF49-450E-8C63-B32BB863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639B-9083-497B-A26E-C57A894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5CCB-C4BC-4CEC-B687-532B7710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35F-7A95-42D2-8BAC-2B2AB947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5F45-2762-4824-9F6B-D843854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6C2-DA70-4400-9273-57628811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469F-D877-4180-843B-5D670A76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2EFF-3D9E-4FC0-8019-8FA16D0E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15C1-2B9C-4592-B24D-642D2FA1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F05-8225-435A-9EA3-4E4D38F5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6B1-A86E-4D9B-8AC5-9D05F653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E11-2D6E-4745-B5E3-6D809AF3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A3AA-9A5C-4669-9D02-ACCCE094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9B1-EE60-425D-A737-D22CF4E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B0F-5BC4-4C95-A7C0-FAE5A78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D00-0013-4205-A9A5-20C6CFC3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04E6-6203-464F-980B-96E1B0A0C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03B7-D54C-4437-9734-79B8ECAAC1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Samp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Sam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raw conclusions about the population based on the samp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ing . .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s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provide greate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s faster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the only way to obtain cer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y issue in sampling is the extent to which a sample is representative of the population from which it is draw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ample size is ne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hort, the bigger, the bet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there are also cost considerations. Collecting a larger sample size will likely cost more time, money and other resourc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buSzPct val="3708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 of Thumb: You need 10 observations for each variable in your study. So, if you have one dependent variable, two explanatory variables and two control variables you need a minimum sample size of about 50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ing Methods Review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imple random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in which each member of the population has an equal change of being selec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ystematic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in which every kth element in the population is sampled beginning with a random starting poi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Stratified random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in which the sample is first segregated into subgroups or strata before a random sample is draw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onvenience sample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s one that is readily availabl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1-08-25T12:01:11Z</dcterms:modified>
  <cp:revision>163</cp:revision>
  <dc:subject/>
  <dc:title>Chapter 1: Organizational Behavior and Management</dc:title>
</cp:coreProperties>
</file>