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293040" indent="-29304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1" marL="586800" indent="-29340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2" marL="879840" indent="-29304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3" marL="1173240" indent="-29304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4" marL="1466640" indent="-29340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5" marL="1466640" indent="-29340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  <a:p>
            <a:pPr lvl="6" marL="1466640" indent="-293400">
              <a:spcBef>
                <a:spcPts val="4201"/>
              </a:spcBef>
              <a:buClr>
                <a:srgbClr val="000000"/>
              </a:buClr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5232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Light"/>
              </a:rPr>
              <a:t>Traumatic Brain Injury (TBI)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Helvetica Light"/>
              </a:rPr>
              <a:t>Severe/Multiple Disorders</a:t>
            </a:r>
            <a:endParaRPr b="0" lang="en-US" sz="48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39" name="Content Placeholder 1" descr=""/>
          <p:cNvPicPr/>
          <p:nvPr/>
        </p:nvPicPr>
        <p:blipFill>
          <a:blip r:embed="rId1"/>
          <a:stretch/>
        </p:blipFill>
        <p:spPr>
          <a:xfrm>
            <a:off x="3121200" y="4572000"/>
            <a:ext cx="6762600" cy="378792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"/>
          <p:cNvPicPr/>
          <p:nvPr/>
        </p:nvPicPr>
        <p:blipFill>
          <a:blip r:embed="rId2"/>
          <a:stretch/>
        </p:blipFill>
        <p:spPr>
          <a:xfrm>
            <a:off x="10693440" y="214632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41" name="Recorded Sound" descr=""/>
          <p:cNvPicPr/>
          <p:nvPr/>
        </p:nvPicPr>
        <p:blipFill>
          <a:blip r:embed="rId3"/>
          <a:stretch/>
        </p:blipFill>
        <p:spPr>
          <a:xfrm>
            <a:off x="6299280" y="380988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Line 1"/>
          <p:cNvSpPr/>
          <p:nvPr/>
        </p:nvSpPr>
        <p:spPr>
          <a:xfrm>
            <a:off x="649440" y="9034560"/>
            <a:ext cx="11704320" cy="0"/>
          </a:xfrm>
          <a:prstGeom prst="line">
            <a:avLst/>
          </a:prstGeom>
          <a:ln w="13680">
            <a:solidFill>
              <a:srgbClr val="9fb8c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0" name="Line 2"/>
          <p:cNvSpPr/>
          <p:nvPr/>
        </p:nvSpPr>
        <p:spPr>
          <a:xfrm>
            <a:off x="649440" y="1625760"/>
            <a:ext cx="11704320" cy="0"/>
          </a:xfrm>
          <a:prstGeom prst="line">
            <a:avLst/>
          </a:prstGeom>
          <a:ln w="13680">
            <a:solidFill>
              <a:srgbClr val="9fb8c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1" name="AutoShape 3"/>
          <p:cNvSpPr/>
          <p:nvPr/>
        </p:nvSpPr>
        <p:spPr>
          <a:xfrm rot="5400000">
            <a:off x="566280" y="9169200"/>
            <a:ext cx="271800" cy="16992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360" rIns="72360" tIns="-15480" bIns="-15480" anchor="ctr">
            <a:norm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22" name="Picture 4" descr="image24.png"/>
          <p:cNvPicPr/>
          <p:nvPr/>
        </p:nvPicPr>
        <p:blipFill>
          <a:blip r:embed="rId1"/>
          <a:stretch/>
        </p:blipFill>
        <p:spPr>
          <a:xfrm>
            <a:off x="0" y="0"/>
            <a:ext cx="6502320" cy="97534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49440" y="215640"/>
            <a:ext cx="11704320" cy="140796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  <a:ea typeface="Arial"/>
              </a:rPr>
              <a:t>What do we do?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02320" y="974880"/>
            <a:ext cx="6502320" cy="778032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t">
            <a:normAutofit fontScale="94000"/>
          </a:bodyPr>
          <a:p>
            <a:pPr marL="144720" indent="-1447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arly Intervention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marL="144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marL="144720" indent="-1447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Meaningful and      individualized curriculum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marL="144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marL="144720" indent="-1447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Inclusion and Reverse Inclusion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marL="144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marL="144720" indent="-1447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Public Education until 21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marL="144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marL="144720" indent="-1447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Transition- Community-based instruction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marL="144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marL="144720" indent="-1447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Alternative Assessment-  AAA.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marL="144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100" spc="-1" strike="noStrike">
              <a:solidFill>
                <a:srgbClr val="000000"/>
              </a:solidFill>
              <a:latin typeface="Helvetica Light"/>
            </a:endParaRPr>
          </a:p>
          <a:p>
            <a:pPr marL="144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100" spc="-1" strike="noStrike">
              <a:solidFill>
                <a:srgbClr val="000000"/>
              </a:solidFill>
              <a:latin typeface="Helvetica Light"/>
            </a:endParaRPr>
          </a:p>
          <a:p>
            <a:pPr marL="144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1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2550960" y="9075600"/>
            <a:ext cx="39024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Gill Sans"/>
                <a:ea typeface="Gill Sans"/>
              </a:rPr>
              <a:t>Life with CP</a:t>
            </a:r>
            <a:endParaRPr b="0" lang="en-US" sz="25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26" name="Recorded Sound" descr=""/>
          <p:cNvPicPr/>
          <p:nvPr/>
        </p:nvPicPr>
        <p:blipFill>
          <a:blip r:embed="rId2"/>
          <a:stretch/>
        </p:blipFill>
        <p:spPr>
          <a:xfrm>
            <a:off x="10845720" y="51264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Line 1"/>
          <p:cNvSpPr/>
          <p:nvPr/>
        </p:nvSpPr>
        <p:spPr>
          <a:xfrm>
            <a:off x="649440" y="9034560"/>
            <a:ext cx="11704320" cy="0"/>
          </a:xfrm>
          <a:prstGeom prst="line">
            <a:avLst/>
          </a:prstGeom>
          <a:ln w="13680">
            <a:solidFill>
              <a:srgbClr val="9fb8c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8" name="Line 2"/>
          <p:cNvSpPr/>
          <p:nvPr/>
        </p:nvSpPr>
        <p:spPr>
          <a:xfrm>
            <a:off x="649440" y="1625760"/>
            <a:ext cx="11704320" cy="0"/>
          </a:xfrm>
          <a:prstGeom prst="line">
            <a:avLst/>
          </a:prstGeom>
          <a:ln w="13680">
            <a:solidFill>
              <a:srgbClr val="9fb8c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9" name="AutoShape 3"/>
          <p:cNvSpPr/>
          <p:nvPr/>
        </p:nvSpPr>
        <p:spPr>
          <a:xfrm rot="5400000">
            <a:off x="566280" y="9169200"/>
            <a:ext cx="271800" cy="16992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360" rIns="72360" tIns="-15480" bIns="-15480" anchor="ctr">
            <a:norm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solidFill>
            <a:srgbClr val="f7c120"/>
          </a:solidFill>
          <a:ln w="27000">
            <a:solidFill>
              <a:srgbClr val="535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2360" rIns="72360" tIns="72360" bIns="72360" anchor="ctr">
            <a:norm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9440" y="215640"/>
            <a:ext cx="11704320" cy="140796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500" spc="-1" strike="noStrike">
                <a:solidFill>
                  <a:srgbClr val="464653"/>
                </a:solidFill>
                <a:latin typeface="Arial"/>
                <a:ea typeface="Arial"/>
              </a:rPr>
              <a:t>Ethical Issues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49440" y="1733040"/>
            <a:ext cx="11704320" cy="702180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t">
            <a:normAutofit/>
          </a:bodyPr>
          <a:p>
            <a:pPr marL="216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marL="216000" indent="-216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Gill Sans"/>
                <a:ea typeface="Gill Sans"/>
              </a:rPr>
              <a:t>Right to life</a:t>
            </a:r>
            <a:endParaRPr b="0" lang="en-US" sz="5100" spc="-1" strike="noStrike">
              <a:solidFill>
                <a:srgbClr val="000000"/>
              </a:solidFill>
              <a:latin typeface="Helvetica Light"/>
            </a:endParaRPr>
          </a:p>
          <a:p>
            <a:pPr marL="216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5100" spc="-1" strike="noStrike">
              <a:solidFill>
                <a:srgbClr val="000000"/>
              </a:solidFill>
              <a:latin typeface="Helvetica Light"/>
            </a:endParaRPr>
          </a:p>
          <a:p>
            <a:pPr marL="216000" indent="-216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Gill Sans"/>
                <a:ea typeface="Gill Sans"/>
              </a:rPr>
              <a:t>Right to </a:t>
            </a:r>
            <a:endParaRPr b="0" lang="en-US" sz="5100" spc="-1" strike="noStrike">
              <a:solidFill>
                <a:srgbClr val="000000"/>
              </a:solidFill>
              <a:latin typeface="Helvetica Light"/>
            </a:endParaRPr>
          </a:p>
          <a:p>
            <a:pPr marL="216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Gill Sans"/>
                <a:ea typeface="Gill Sans"/>
              </a:rPr>
              <a:t>     </a:t>
            </a:r>
            <a:r>
              <a:rPr b="0" lang="en-US" sz="5100" spc="-1" strike="noStrike">
                <a:solidFill>
                  <a:srgbClr val="000000"/>
                </a:solidFill>
                <a:latin typeface="Gill Sans"/>
                <a:ea typeface="Gill Sans"/>
              </a:rPr>
              <a:t>Education</a:t>
            </a:r>
            <a:endParaRPr b="0" lang="en-US" sz="51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33" name="Picture 7" descr="image25.jpg"/>
          <p:cNvPicPr/>
          <p:nvPr/>
        </p:nvPicPr>
        <p:blipFill>
          <a:blip r:embed="rId1"/>
          <a:stretch/>
        </p:blipFill>
        <p:spPr>
          <a:xfrm>
            <a:off x="6176880" y="866880"/>
            <a:ext cx="6827760" cy="8343720"/>
          </a:xfrm>
          <a:prstGeom prst="rect">
            <a:avLst/>
          </a:prstGeom>
          <a:ln w="0">
            <a:noFill/>
          </a:ln>
        </p:spPr>
      </p:pic>
      <p:pic>
        <p:nvPicPr>
          <p:cNvPr id="134" name="Recorded Sound" descr=""/>
          <p:cNvPicPr/>
          <p:nvPr/>
        </p:nvPicPr>
        <p:blipFill>
          <a:blip r:embed="rId2"/>
          <a:stretch/>
        </p:blipFill>
        <p:spPr>
          <a:xfrm>
            <a:off x="6299280" y="467352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Line 1"/>
          <p:cNvSpPr/>
          <p:nvPr/>
        </p:nvSpPr>
        <p:spPr>
          <a:xfrm>
            <a:off x="649440" y="9034560"/>
            <a:ext cx="11704320" cy="0"/>
          </a:xfrm>
          <a:prstGeom prst="line">
            <a:avLst/>
          </a:prstGeom>
          <a:ln w="13680">
            <a:solidFill>
              <a:srgbClr val="9fb8c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6" name="Line 2"/>
          <p:cNvSpPr/>
          <p:nvPr/>
        </p:nvSpPr>
        <p:spPr>
          <a:xfrm>
            <a:off x="649440" y="1625760"/>
            <a:ext cx="11704320" cy="0"/>
          </a:xfrm>
          <a:prstGeom prst="line">
            <a:avLst/>
          </a:prstGeom>
          <a:ln w="13680">
            <a:solidFill>
              <a:srgbClr val="9fb8c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7" name="AutoShape 3"/>
          <p:cNvSpPr/>
          <p:nvPr/>
        </p:nvSpPr>
        <p:spPr>
          <a:xfrm rot="5400000">
            <a:off x="566280" y="9169200"/>
            <a:ext cx="271800" cy="16992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360" rIns="72360" tIns="-15480" bIns="-15480" anchor="ctr">
            <a:norm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solidFill>
            <a:srgbClr val="00b0f0"/>
          </a:solidFill>
          <a:ln w="27000">
            <a:solidFill>
              <a:srgbClr val="535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2360" rIns="72360" tIns="72360" bIns="72360" anchor="ctr">
            <a:norm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9440" y="215640"/>
            <a:ext cx="11704320" cy="140796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500" spc="-1" strike="noStrike">
                <a:solidFill>
                  <a:srgbClr val="464653"/>
                </a:solidFill>
                <a:latin typeface="Arial"/>
                <a:ea typeface="Arial"/>
              </a:rPr>
              <a:t>The Right to Life ?????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49440" y="1733040"/>
            <a:ext cx="11704320" cy="702180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An infant is born to a young couple-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it is their second child.  The little boy,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named John, clearly has Down syndrome,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but also has poor muscle tone, difficulty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swallowing and breathing, and a serious heart condition.  The doctors are pessimistic and based on their preliminary evaluation,  they believe that John will have serious or profound intellectual disabilities and continuing medical and physical challenges- frequent surgeries are in the future.  The young couple must make a decision to have lifesaving surgery performed on John to repair his heart. 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41" name="Picture 7" descr="image26.jpg"/>
          <p:cNvPicPr/>
          <p:nvPr/>
        </p:nvPicPr>
        <p:blipFill>
          <a:blip r:embed="rId1"/>
          <a:stretch/>
        </p:blipFill>
        <p:spPr>
          <a:xfrm>
            <a:off x="9702720" y="0"/>
            <a:ext cx="3300480" cy="312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Line 1"/>
          <p:cNvSpPr/>
          <p:nvPr/>
        </p:nvSpPr>
        <p:spPr>
          <a:xfrm>
            <a:off x="649440" y="9034560"/>
            <a:ext cx="11704320" cy="0"/>
          </a:xfrm>
          <a:prstGeom prst="line">
            <a:avLst/>
          </a:prstGeom>
          <a:ln w="13680">
            <a:solidFill>
              <a:srgbClr val="9fb8c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3" name="Line 2"/>
          <p:cNvSpPr/>
          <p:nvPr/>
        </p:nvSpPr>
        <p:spPr>
          <a:xfrm>
            <a:off x="649440" y="1625760"/>
            <a:ext cx="11704320" cy="0"/>
          </a:xfrm>
          <a:prstGeom prst="line">
            <a:avLst/>
          </a:prstGeom>
          <a:ln w="13680">
            <a:solidFill>
              <a:srgbClr val="9fb8c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4" name="AutoShape 3"/>
          <p:cNvSpPr/>
          <p:nvPr/>
        </p:nvSpPr>
        <p:spPr>
          <a:xfrm rot="5400000">
            <a:off x="566280" y="9169200"/>
            <a:ext cx="271800" cy="16992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360" rIns="72360" tIns="-15480" bIns="-15480" anchor="ctr">
            <a:norm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45" name="Picture 4" descr="image27.jpg"/>
          <p:cNvPicPr/>
          <p:nvPr/>
        </p:nvPicPr>
        <p:blipFill>
          <a:blip r:embed="rId1"/>
          <a:stretch/>
        </p:blipFill>
        <p:spPr>
          <a:xfrm>
            <a:off x="0" y="-157320"/>
            <a:ext cx="8128080" cy="99108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668800" y="215640"/>
            <a:ext cx="3684600" cy="140796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700" spc="-1" strike="noStrike">
                <a:solidFill>
                  <a:srgbClr val="464653"/>
                </a:solidFill>
                <a:latin typeface="Arial"/>
                <a:ea typeface="Arial"/>
              </a:rPr>
              <a:t>                                          </a:t>
            </a:r>
            <a:r>
              <a:rPr b="0" lang="en-US" sz="2700" spc="-1" strike="noStrike">
                <a:solidFill>
                  <a:srgbClr val="464653"/>
                </a:solidFill>
                <a:latin typeface="Arial"/>
                <a:ea typeface="Arial"/>
              </a:rPr>
              <a:t>What do you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think?</a:t>
            </a:r>
            <a:endParaRPr b="0" lang="en-US" sz="27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49440" y="1733040"/>
            <a:ext cx="11704320" cy="702180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t">
            <a:normAutofit/>
          </a:bodyPr>
          <a:p>
            <a:pPr marL="171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"/>
                <a:ea typeface="Gill Sans"/>
              </a:rPr>
              <a:t>Difficult questions must be asked:</a:t>
            </a: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  <a:p>
            <a:pPr marL="171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CourierNewPSMT"/>
              <a:buChar char="o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"/>
                <a:ea typeface="Gill Sans"/>
              </a:rPr>
              <a:t>Should John receive surgery to repair his heart?</a:t>
            </a: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CourierNewPSMT"/>
              <a:buChar char="o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"/>
                <a:ea typeface="Gill Sans"/>
              </a:rPr>
              <a:t>Can we allow John to die?</a:t>
            </a: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CourierNewPSMT"/>
              <a:buChar char="o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"/>
                <a:ea typeface="Gill Sans"/>
              </a:rPr>
              <a:t>If John lives with severe disabilities, how can our family handle his needs?</a:t>
            </a: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  <a:p>
            <a:pPr marL="171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CourierNewPSMT"/>
              <a:buChar char="o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"/>
                <a:ea typeface="Gill Sans"/>
              </a:rPr>
              <a:t>What if the doctors are wrong?</a:t>
            </a: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CourierNewPSMT"/>
              <a:buChar char="o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"/>
                <a:ea typeface="Gill Sans"/>
              </a:rPr>
              <a:t>Does it matter?</a:t>
            </a: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541440" y="8885160"/>
            <a:ext cx="73692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Gill Sans"/>
                <a:ea typeface="Gill Sans"/>
              </a:rPr>
              <a:t>Anti-Abortion Ad</a:t>
            </a:r>
            <a:endParaRPr b="0" lang="en-US" sz="25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Line 1"/>
          <p:cNvSpPr/>
          <p:nvPr/>
        </p:nvSpPr>
        <p:spPr>
          <a:xfrm>
            <a:off x="649440" y="9034560"/>
            <a:ext cx="11704320" cy="0"/>
          </a:xfrm>
          <a:prstGeom prst="line">
            <a:avLst/>
          </a:prstGeom>
          <a:ln w="13680">
            <a:solidFill>
              <a:srgbClr val="9fb8c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0" name="Line 2"/>
          <p:cNvSpPr/>
          <p:nvPr/>
        </p:nvSpPr>
        <p:spPr>
          <a:xfrm>
            <a:off x="649440" y="1625760"/>
            <a:ext cx="11704320" cy="0"/>
          </a:xfrm>
          <a:prstGeom prst="line">
            <a:avLst/>
          </a:prstGeom>
          <a:ln w="13680">
            <a:solidFill>
              <a:srgbClr val="9fb8c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1" name="AutoShape 3"/>
          <p:cNvSpPr/>
          <p:nvPr/>
        </p:nvSpPr>
        <p:spPr>
          <a:xfrm rot="5400000">
            <a:off x="566280" y="9169200"/>
            <a:ext cx="271800" cy="16992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360" rIns="72360" tIns="-15480" bIns="-15480" anchor="ctr">
            <a:norm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49440" y="215640"/>
            <a:ext cx="11704320" cy="140796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500" spc="-1" strike="noStrike">
                <a:solidFill>
                  <a:srgbClr val="464653"/>
                </a:solidFill>
                <a:latin typeface="Arial"/>
                <a:ea typeface="Arial"/>
              </a:rPr>
              <a:t>Legal implications- or not?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49440" y="1733040"/>
            <a:ext cx="11704320" cy="702180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t">
            <a:normAutofit/>
          </a:bodyPr>
          <a:p>
            <a:pPr marL="111240" indent="-1112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Withholding treatment from an infant is illegal, but rarely prosecuted.  Families are making incredibly difficult decisions.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marL="111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marL="111240" indent="-1112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However, the fact remains, if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marL="111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this decision were made for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marL="111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a healthy baby, the parents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marL="111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would unquestionably be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marL="111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punished!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54" name="Picture 6" descr="image28.jpg"/>
          <p:cNvPicPr/>
          <p:nvPr/>
        </p:nvPicPr>
        <p:blipFill>
          <a:blip r:embed="rId1"/>
          <a:stretch/>
        </p:blipFill>
        <p:spPr>
          <a:xfrm>
            <a:off x="7151760" y="3281400"/>
            <a:ext cx="5176800" cy="64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Line 1"/>
          <p:cNvSpPr/>
          <p:nvPr/>
        </p:nvSpPr>
        <p:spPr>
          <a:xfrm>
            <a:off x="649440" y="9034560"/>
            <a:ext cx="11704320" cy="0"/>
          </a:xfrm>
          <a:prstGeom prst="line">
            <a:avLst/>
          </a:prstGeom>
          <a:ln w="13680">
            <a:solidFill>
              <a:srgbClr val="9fb8c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6" name="Line 2"/>
          <p:cNvSpPr/>
          <p:nvPr/>
        </p:nvSpPr>
        <p:spPr>
          <a:xfrm>
            <a:off x="649440" y="1625760"/>
            <a:ext cx="11704320" cy="0"/>
          </a:xfrm>
          <a:prstGeom prst="line">
            <a:avLst/>
          </a:prstGeom>
          <a:ln w="13680">
            <a:solidFill>
              <a:srgbClr val="9fb8c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7" name="AutoShape 3"/>
          <p:cNvSpPr/>
          <p:nvPr/>
        </p:nvSpPr>
        <p:spPr>
          <a:xfrm rot="5400000">
            <a:off x="566280" y="9169200"/>
            <a:ext cx="271800" cy="16992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360" rIns="72360" tIns="-15480" bIns="-15480" anchor="ctr">
            <a:norm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49440" y="215640"/>
            <a:ext cx="11704320" cy="140796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500" spc="-1" strike="noStrike">
                <a:solidFill>
                  <a:srgbClr val="464653"/>
                </a:solidFill>
                <a:latin typeface="Arial"/>
                <a:ea typeface="Arial"/>
              </a:rPr>
              <a:t>Right to Education  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49440" y="1733040"/>
            <a:ext cx="11704320" cy="702180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t">
            <a:normAutofit/>
          </a:bodyPr>
          <a:p>
            <a:pPr marL="584280" indent="-5842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MT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Not the case for severe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marL="584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disabilities until 1975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marL="584280" indent="-5842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MT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Controversy remains!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marL="584280" indent="-5842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MT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Special educators believe All children can benefit from educational programming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marL="584280" indent="-5842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MT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If we only justify education from a “testable” measurement, we will always have a subset of the population that is determined “uneducable”.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60" name="Picture 6" descr="image29.pdf"/>
          <p:cNvPicPr/>
          <p:nvPr/>
        </p:nvPicPr>
        <p:blipFill>
          <a:blip r:embed="rId1"/>
          <a:stretch/>
        </p:blipFill>
        <p:spPr>
          <a:xfrm>
            <a:off x="8777160" y="541440"/>
            <a:ext cx="3103560" cy="3071880"/>
          </a:xfrm>
          <a:prstGeom prst="rect">
            <a:avLst/>
          </a:prstGeom>
          <a:ln w="0">
            <a:noFill/>
          </a:ln>
        </p:spPr>
      </p:pic>
      <p:pic>
        <p:nvPicPr>
          <p:cNvPr id="161" name="Recorded Sound" descr=""/>
          <p:cNvPicPr/>
          <p:nvPr/>
        </p:nvPicPr>
        <p:blipFill>
          <a:blip r:embed="rId2"/>
          <a:stretch/>
        </p:blipFill>
        <p:spPr>
          <a:xfrm>
            <a:off x="6807240" y="87624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Line 1"/>
          <p:cNvSpPr/>
          <p:nvPr/>
        </p:nvSpPr>
        <p:spPr>
          <a:xfrm>
            <a:off x="649440" y="9034560"/>
            <a:ext cx="11704320" cy="0"/>
          </a:xfrm>
          <a:prstGeom prst="line">
            <a:avLst/>
          </a:prstGeom>
          <a:ln w="13680">
            <a:solidFill>
              <a:srgbClr val="9fb8c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3" name="Line 2"/>
          <p:cNvSpPr/>
          <p:nvPr/>
        </p:nvSpPr>
        <p:spPr>
          <a:xfrm>
            <a:off x="649440" y="1625760"/>
            <a:ext cx="11704320" cy="0"/>
          </a:xfrm>
          <a:prstGeom prst="line">
            <a:avLst/>
          </a:prstGeom>
          <a:ln w="13680">
            <a:solidFill>
              <a:srgbClr val="9fb8c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4" name="AutoShape 3"/>
          <p:cNvSpPr/>
          <p:nvPr/>
        </p:nvSpPr>
        <p:spPr>
          <a:xfrm rot="5400000">
            <a:off x="566280" y="9169200"/>
            <a:ext cx="271800" cy="16992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360" rIns="72360" tIns="-15480" bIns="-15480" anchor="ctr">
            <a:norm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65" name="Picture 4" descr="image30.jpg"/>
          <p:cNvPicPr/>
          <p:nvPr/>
        </p:nvPicPr>
        <p:blipFill>
          <a:blip r:embed="rId1"/>
          <a:stretch/>
        </p:blipFill>
        <p:spPr>
          <a:xfrm>
            <a:off x="7012080" y="5243400"/>
            <a:ext cx="5992560" cy="476424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9080" y="360000"/>
            <a:ext cx="3902040" cy="50652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  <a:ea typeface="Arial"/>
              </a:rPr>
              <a:t>Transition</a:t>
            </a:r>
            <a:endParaRPr b="0" lang="en-US" sz="23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49440" y="1733040"/>
            <a:ext cx="11704320" cy="702180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t">
            <a:normAutofit/>
          </a:bodyPr>
          <a:p>
            <a:pPr marL="258840" indent="-2588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Process of preparing for and facilitating movements from one situation to another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marL="258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marL="258840" indent="-2588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Can be: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663480" indent="-3906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Movement from one level of school to another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lvl="1" marL="663480" indent="-3906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Movement from segregated school to integrated setting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lvl="1" marL="663480" indent="-3906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Movement from school to work setting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1"/>
          <p:cNvSpPr/>
          <p:nvPr/>
        </p:nvSpPr>
        <p:spPr>
          <a:xfrm>
            <a:off x="649440" y="9034560"/>
            <a:ext cx="11704320" cy="0"/>
          </a:xfrm>
          <a:prstGeom prst="line">
            <a:avLst/>
          </a:prstGeom>
          <a:ln w="13680">
            <a:solidFill>
              <a:srgbClr val="9fb8c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Line 2"/>
          <p:cNvSpPr/>
          <p:nvPr/>
        </p:nvSpPr>
        <p:spPr>
          <a:xfrm>
            <a:off x="649440" y="1625760"/>
            <a:ext cx="11704320" cy="0"/>
          </a:xfrm>
          <a:prstGeom prst="line">
            <a:avLst/>
          </a:prstGeom>
          <a:ln w="13680">
            <a:solidFill>
              <a:srgbClr val="9fb8c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4" name="AutoShape 3"/>
          <p:cNvSpPr/>
          <p:nvPr/>
        </p:nvSpPr>
        <p:spPr>
          <a:xfrm rot="5400000">
            <a:off x="566280" y="9169200"/>
            <a:ext cx="271800" cy="16992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360" rIns="72360" tIns="-15480" bIns="-15480" anchor="ctr">
            <a:norm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5640" y="-360"/>
            <a:ext cx="11704680" cy="140796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500" spc="-1" strike="noStrike">
                <a:solidFill>
                  <a:srgbClr val="464653"/>
                </a:solidFill>
                <a:latin typeface="Arial"/>
                <a:ea typeface="Arial"/>
              </a:rPr>
              <a:t>IDEA Definition of TBI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49440" y="1733040"/>
            <a:ext cx="11704320" cy="702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26360" rIns="126360" tIns="72360" bIns="7236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grpSp>
        <p:nvGrpSpPr>
          <p:cNvPr id="47" name="Group 6"/>
          <p:cNvGrpSpPr/>
          <p:nvPr/>
        </p:nvGrpSpPr>
        <p:grpSpPr>
          <a:xfrm>
            <a:off x="1733400" y="2492280"/>
            <a:ext cx="9643320" cy="5523840"/>
            <a:chOff x="1733400" y="2492280"/>
            <a:chExt cx="9643320" cy="5523840"/>
          </a:xfrm>
        </p:grpSpPr>
        <p:sp>
          <p:nvSpPr>
            <p:cNvPr id="48" name="AutoShape 7"/>
            <p:cNvSpPr/>
            <p:nvPr/>
          </p:nvSpPr>
          <p:spPr>
            <a:xfrm>
              <a:off x="1733400" y="2492280"/>
              <a:ext cx="9643320" cy="5523840"/>
            </a:xfrm>
            <a:prstGeom prst="roundRect">
              <a:avLst>
                <a:gd name="adj" fmla="val 11718"/>
              </a:avLst>
            </a:prstGeom>
            <a:solidFill>
              <a:srgbClr val="727ca3"/>
            </a:solidFill>
            <a:ln w="27000">
              <a:solidFill>
                <a:srgbClr val="535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360" rIns="72360" tIns="72360" bIns="72360" anchor="ctr">
              <a:norm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49" name="Rectangle 8"/>
            <p:cNvSpPr/>
            <p:nvPr/>
          </p:nvSpPr>
          <p:spPr>
            <a:xfrm>
              <a:off x="2000880" y="3175920"/>
              <a:ext cx="9110880" cy="414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360" rIns="126360" tIns="72360" bIns="72360" anchor="ctr">
              <a:normAutofit fontScale="92000"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0" lang="en-US" sz="45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An acquired injury to the brain caused by external force, resulting in total or partial loss of functioning or psychosocial impairment, or both, that adversely affects a child’s educational performance.</a:t>
              </a:r>
              <a:endParaRPr b="0" lang="en-US" sz="45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sp>
        <p:nvSpPr>
          <p:cNvPr id="50" name="Rectangle 9"/>
          <p:cNvSpPr/>
          <p:nvPr/>
        </p:nvSpPr>
        <p:spPr>
          <a:xfrm>
            <a:off x="974880" y="8236080"/>
            <a:ext cx="509256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72360" bIns="72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Gill Sans"/>
                <a:ea typeface="Gill Sans"/>
              </a:rPr>
              <a:t>TBI Accident</a:t>
            </a:r>
            <a:endParaRPr b="0" lang="en-US" sz="25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51" name="Picture 10" descr="image13.pdf"/>
          <p:cNvPicPr/>
          <p:nvPr/>
        </p:nvPicPr>
        <p:blipFill>
          <a:blip r:embed="rId1"/>
          <a:stretch/>
        </p:blipFill>
        <p:spPr>
          <a:xfrm>
            <a:off x="9428040" y="0"/>
            <a:ext cx="3576600" cy="3043080"/>
          </a:xfrm>
          <a:prstGeom prst="rect">
            <a:avLst/>
          </a:prstGeom>
          <a:ln w="0">
            <a:noFill/>
          </a:ln>
        </p:spPr>
      </p:pic>
      <p:pic>
        <p:nvPicPr>
          <p:cNvPr id="52" name="Recorded Sound" descr=""/>
          <p:cNvPicPr/>
          <p:nvPr/>
        </p:nvPicPr>
        <p:blipFill>
          <a:blip r:embed="rId2"/>
          <a:stretch/>
        </p:blipFill>
        <p:spPr>
          <a:xfrm>
            <a:off x="6297480" y="186840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1"/>
          <p:cNvSpPr/>
          <p:nvPr/>
        </p:nvSpPr>
        <p:spPr>
          <a:xfrm>
            <a:off x="649440" y="9034560"/>
            <a:ext cx="11704320" cy="0"/>
          </a:xfrm>
          <a:prstGeom prst="line">
            <a:avLst/>
          </a:prstGeom>
          <a:ln w="13680">
            <a:solidFill>
              <a:srgbClr val="9fb8c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Line 2"/>
          <p:cNvSpPr/>
          <p:nvPr/>
        </p:nvSpPr>
        <p:spPr>
          <a:xfrm>
            <a:off x="649440" y="1625760"/>
            <a:ext cx="11704320" cy="0"/>
          </a:xfrm>
          <a:prstGeom prst="line">
            <a:avLst/>
          </a:prstGeom>
          <a:ln w="13680">
            <a:solidFill>
              <a:srgbClr val="9fb8c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5" name="AutoShape 3"/>
          <p:cNvSpPr/>
          <p:nvPr/>
        </p:nvSpPr>
        <p:spPr>
          <a:xfrm rot="5400000">
            <a:off x="566280" y="9169200"/>
            <a:ext cx="271800" cy="16992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360" rIns="72360" tIns="-15480" bIns="-15480" anchor="ctr">
            <a:norm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9440" y="215640"/>
            <a:ext cx="11704320" cy="140796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500" spc="-1" strike="noStrike">
                <a:solidFill>
                  <a:srgbClr val="464653"/>
                </a:solidFill>
                <a:latin typeface="Arial"/>
                <a:ea typeface="Arial"/>
              </a:rPr>
              <a:t>Types of TBI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49440" y="1733040"/>
            <a:ext cx="11704320" cy="702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000000"/>
              </a:solidFill>
              <a:latin typeface="Helvetica Light"/>
            </a:endParaRPr>
          </a:p>
        </p:txBody>
      </p:sp>
      <p:grpSp>
        <p:nvGrpSpPr>
          <p:cNvPr id="58" name="Group 6"/>
          <p:cNvGrpSpPr/>
          <p:nvPr/>
        </p:nvGrpSpPr>
        <p:grpSpPr>
          <a:xfrm>
            <a:off x="1515960" y="4767120"/>
            <a:ext cx="9751320" cy="1732680"/>
            <a:chOff x="1515960" y="4767120"/>
            <a:chExt cx="9751320" cy="1732680"/>
          </a:xfrm>
        </p:grpSpPr>
        <p:sp>
          <p:nvSpPr>
            <p:cNvPr id="59" name="AutoShape 7"/>
            <p:cNvSpPr/>
            <p:nvPr/>
          </p:nvSpPr>
          <p:spPr>
            <a:xfrm>
              <a:off x="1515960" y="4767120"/>
              <a:ext cx="9751320" cy="1732680"/>
            </a:xfrm>
            <a:prstGeom prst="roundRect">
              <a:avLst>
                <a:gd name="adj" fmla="val 11718"/>
              </a:avLst>
            </a:prstGeom>
            <a:solidFill>
              <a:srgbClr val="727ca3"/>
            </a:solidFill>
            <a:ln w="27000">
              <a:solidFill>
                <a:srgbClr val="535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60" name="Rectangle 8"/>
            <p:cNvSpPr/>
            <p:nvPr/>
          </p:nvSpPr>
          <p:spPr>
            <a:xfrm>
              <a:off x="1590480" y="4970520"/>
              <a:ext cx="9598680" cy="13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360" rIns="126360" tIns="72360" bIns="72360" anchor="ctr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Closed Head Injury</a:t>
              </a:r>
              <a:endParaRPr b="0" lang="en-US" sz="3900" spc="-1" strike="noStrike">
                <a:solidFill>
                  <a:srgbClr val="000000"/>
                </a:solidFill>
                <a:latin typeface="Helvetica Ligh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No physical injury to the skull</a:t>
              </a:r>
              <a:endParaRPr b="0" lang="en-US" sz="39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grpSp>
        <p:nvGrpSpPr>
          <p:cNvPr id="61" name="Group 9"/>
          <p:cNvGrpSpPr/>
          <p:nvPr/>
        </p:nvGrpSpPr>
        <p:grpSpPr>
          <a:xfrm>
            <a:off x="1515960" y="6853320"/>
            <a:ext cx="9751320" cy="1894320"/>
            <a:chOff x="1515960" y="6853320"/>
            <a:chExt cx="9751320" cy="1894320"/>
          </a:xfrm>
        </p:grpSpPr>
        <p:sp>
          <p:nvSpPr>
            <p:cNvPr id="62" name="AutoShape 10"/>
            <p:cNvSpPr/>
            <p:nvPr/>
          </p:nvSpPr>
          <p:spPr>
            <a:xfrm>
              <a:off x="1515960" y="6927480"/>
              <a:ext cx="9751320" cy="1733760"/>
            </a:xfrm>
            <a:prstGeom prst="roundRect">
              <a:avLst>
                <a:gd name="adj" fmla="val 11718"/>
              </a:avLst>
            </a:prstGeom>
            <a:solidFill>
              <a:srgbClr val="727ca3"/>
            </a:solidFill>
            <a:ln w="27000">
              <a:solidFill>
                <a:srgbClr val="535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sp>
          <p:nvSpPr>
            <p:cNvPr id="63" name="Rectangle 11"/>
            <p:cNvSpPr/>
            <p:nvPr/>
          </p:nvSpPr>
          <p:spPr>
            <a:xfrm>
              <a:off x="1590480" y="6853320"/>
              <a:ext cx="9598680" cy="189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360" rIns="126360" tIns="72360" bIns="72360" anchor="ctr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Open Head Injury</a:t>
              </a:r>
              <a:endParaRPr b="0" lang="en-US" sz="3900" spc="-1" strike="noStrike">
                <a:solidFill>
                  <a:srgbClr val="000000"/>
                </a:solidFill>
                <a:latin typeface="Helvetica Ligh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Skull is fractured and membrane surrounding the brain is penetrated</a:t>
              </a:r>
              <a:endParaRPr b="0" lang="en-US" sz="39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pic>
        <p:nvPicPr>
          <p:cNvPr id="64" name="Picture 12" descr="image14.jpg"/>
          <p:cNvPicPr/>
          <p:nvPr/>
        </p:nvPicPr>
        <p:blipFill>
          <a:blip r:embed="rId1"/>
          <a:stretch/>
        </p:blipFill>
        <p:spPr>
          <a:xfrm>
            <a:off x="4984920" y="0"/>
            <a:ext cx="8019720" cy="44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Line 1"/>
          <p:cNvSpPr/>
          <p:nvPr/>
        </p:nvSpPr>
        <p:spPr>
          <a:xfrm>
            <a:off x="649440" y="9034560"/>
            <a:ext cx="11704320" cy="0"/>
          </a:xfrm>
          <a:prstGeom prst="line">
            <a:avLst/>
          </a:prstGeom>
          <a:ln w="13680">
            <a:solidFill>
              <a:srgbClr val="9fb8c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6" name="Line 2"/>
          <p:cNvSpPr/>
          <p:nvPr/>
        </p:nvSpPr>
        <p:spPr>
          <a:xfrm>
            <a:off x="649440" y="1625760"/>
            <a:ext cx="11704320" cy="0"/>
          </a:xfrm>
          <a:prstGeom prst="line">
            <a:avLst/>
          </a:prstGeom>
          <a:ln w="13680">
            <a:solidFill>
              <a:srgbClr val="9fb8c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AutoShape 3"/>
          <p:cNvSpPr/>
          <p:nvPr/>
        </p:nvSpPr>
        <p:spPr>
          <a:xfrm rot="5400000">
            <a:off x="566280" y="9169200"/>
            <a:ext cx="271800" cy="16992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360" rIns="72360" tIns="-15480" bIns="-15480" anchor="ctr">
            <a:norm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9440" y="215640"/>
            <a:ext cx="11704320" cy="140796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500" spc="-1" strike="noStrike">
                <a:solidFill>
                  <a:srgbClr val="464653"/>
                </a:solidFill>
                <a:latin typeface="Arial"/>
                <a:ea typeface="Arial"/>
              </a:rPr>
              <a:t>Effects of TBI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49440" y="1733040"/>
            <a:ext cx="11704320" cy="702180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t">
            <a:normAutofit/>
          </a:bodyPr>
          <a:p>
            <a:pPr marL="246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marL="246240" indent="-246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Cognitive Skills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marL="246240" indent="-246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Processing ability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marL="246240" indent="-246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marL="246240" indent="-246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Academic Achievemen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marL="246240" indent="-246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motions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marL="246240" indent="-246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Behaviors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marL="246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marL="246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marL="246240" indent="-246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Most common age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marL="246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of injury- 19 years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70" name="Picture 6" descr="image15.jpg"/>
          <p:cNvPicPr/>
          <p:nvPr/>
        </p:nvPicPr>
        <p:blipFill>
          <a:blip r:embed="rId1"/>
          <a:stretch/>
        </p:blipFill>
        <p:spPr>
          <a:xfrm>
            <a:off x="5959440" y="0"/>
            <a:ext cx="6421320" cy="9753480"/>
          </a:xfrm>
          <a:prstGeom prst="rect">
            <a:avLst/>
          </a:prstGeom>
          <a:ln w="0">
            <a:noFill/>
          </a:ln>
        </p:spPr>
      </p:pic>
      <p:pic>
        <p:nvPicPr>
          <p:cNvPr id="71" name="Recorded Sound" descr=""/>
          <p:cNvPicPr/>
          <p:nvPr/>
        </p:nvPicPr>
        <p:blipFill>
          <a:blip r:embed="rId2"/>
          <a:stretch/>
        </p:blipFill>
        <p:spPr>
          <a:xfrm>
            <a:off x="4521240" y="571500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Line 1"/>
          <p:cNvSpPr/>
          <p:nvPr/>
        </p:nvSpPr>
        <p:spPr>
          <a:xfrm>
            <a:off x="649440" y="9034560"/>
            <a:ext cx="11704320" cy="0"/>
          </a:xfrm>
          <a:prstGeom prst="line">
            <a:avLst/>
          </a:prstGeom>
          <a:ln w="13680">
            <a:solidFill>
              <a:srgbClr val="9fb8c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3" name="Line 2"/>
          <p:cNvSpPr/>
          <p:nvPr/>
        </p:nvSpPr>
        <p:spPr>
          <a:xfrm>
            <a:off x="649440" y="1625760"/>
            <a:ext cx="11704320" cy="0"/>
          </a:xfrm>
          <a:prstGeom prst="line">
            <a:avLst/>
          </a:prstGeom>
          <a:ln w="13680">
            <a:solidFill>
              <a:srgbClr val="9fb8c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4" name="AutoShape 3"/>
          <p:cNvSpPr/>
          <p:nvPr/>
        </p:nvSpPr>
        <p:spPr>
          <a:xfrm rot="5400000">
            <a:off x="566280" y="9169200"/>
            <a:ext cx="271800" cy="16992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360" rIns="72360" tIns="-15480" bIns="-15480" anchor="ctr">
            <a:norm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9440" y="433080"/>
            <a:ext cx="11704320" cy="154764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500" spc="-1" strike="noStrike">
                <a:solidFill>
                  <a:srgbClr val="464653"/>
                </a:solidFill>
                <a:latin typeface="Arial"/>
                <a:ea typeface="Arial"/>
              </a:rPr>
              <a:t>The Association for Persons with Severe Handicaps (TASH)Definition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9440" y="2895120"/>
            <a:ext cx="11704320" cy="388620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Individuals with Severe/Multiple Disabilities….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Require ongoing support in one or more major life activities in order to participate in community and enjoy quality of life similar to peers.  Life activities include:  mobility, communication, self-care, learning, and self-sufficiency.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3530520" y="5892840"/>
            <a:ext cx="6705720" cy="4470480"/>
          </a:xfrm>
          <a:prstGeom prst="rect">
            <a:avLst/>
          </a:prstGeom>
          <a:ln w="0">
            <a:noFill/>
          </a:ln>
        </p:spPr>
      </p:pic>
      <p:pic>
        <p:nvPicPr>
          <p:cNvPr id="78" name="Recorded Sound" descr=""/>
          <p:cNvPicPr/>
          <p:nvPr/>
        </p:nvPicPr>
        <p:blipFill>
          <a:blip r:embed="rId2"/>
          <a:stretch/>
        </p:blipFill>
        <p:spPr>
          <a:xfrm>
            <a:off x="1625760" y="7289640"/>
            <a:ext cx="40608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Line 1"/>
          <p:cNvSpPr/>
          <p:nvPr/>
        </p:nvSpPr>
        <p:spPr>
          <a:xfrm>
            <a:off x="649440" y="9034560"/>
            <a:ext cx="11704320" cy="0"/>
          </a:xfrm>
          <a:prstGeom prst="line">
            <a:avLst/>
          </a:prstGeom>
          <a:ln w="13680">
            <a:solidFill>
              <a:srgbClr val="9fb8c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0" name="Line 2"/>
          <p:cNvSpPr/>
          <p:nvPr/>
        </p:nvSpPr>
        <p:spPr>
          <a:xfrm>
            <a:off x="649440" y="1625760"/>
            <a:ext cx="11704320" cy="0"/>
          </a:xfrm>
          <a:prstGeom prst="line">
            <a:avLst/>
          </a:prstGeom>
          <a:ln w="13680">
            <a:solidFill>
              <a:srgbClr val="9fb8c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1" name="AutoShape 3"/>
          <p:cNvSpPr/>
          <p:nvPr/>
        </p:nvSpPr>
        <p:spPr>
          <a:xfrm rot="5400000">
            <a:off x="566280" y="9169200"/>
            <a:ext cx="271800" cy="16992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360" rIns="72360" tIns="-15480" bIns="-15480" anchor="ctr">
            <a:norm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9440" y="215640"/>
            <a:ext cx="11704320" cy="140796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  <a:ea typeface="Arial"/>
              </a:rPr>
              <a:t>Multiple and Severe Disabilities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49440" y="3684240"/>
            <a:ext cx="11704320" cy="507060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Gill Sans"/>
                <a:ea typeface="Gill Sans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Gill Sans"/>
                <a:ea typeface="Gill Sans"/>
              </a:rPr>
              <a:t>Low-incidence category</a:t>
            </a: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"/>
                <a:ea typeface="Gill Sans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Gill Sans"/>
                <a:ea typeface="Gill Sans"/>
              </a:rPr>
              <a:t>.1-1% of the school-age population</a:t>
            </a: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"/>
                <a:ea typeface="Gill San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"/>
                <a:ea typeface="Gill Sans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Gill Sans"/>
                <a:ea typeface="Gill Sans"/>
              </a:rPr>
              <a:t>2% of children in special education</a:t>
            </a:r>
            <a:endParaRPr b="0" lang="en-US" sz="4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4" name="TextBox 1"/>
          <p:cNvSpPr/>
          <p:nvPr/>
        </p:nvSpPr>
        <p:spPr>
          <a:xfrm>
            <a:off x="254160" y="9153360"/>
            <a:ext cx="960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eaching Students with Severe Disabilities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863640" y="8710560"/>
            <a:ext cx="7086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6959520" y="1623960"/>
            <a:ext cx="5791320" cy="2762280"/>
          </a:xfrm>
          <a:prstGeom prst="rect">
            <a:avLst/>
          </a:prstGeom>
          <a:ln w="0">
            <a:noFill/>
          </a:ln>
        </p:spPr>
      </p:pic>
      <p:sp>
        <p:nvSpPr>
          <p:cNvPr id="87" name="TextBox 1"/>
          <p:cNvSpPr/>
          <p:nvPr/>
        </p:nvSpPr>
        <p:spPr>
          <a:xfrm>
            <a:off x="863640" y="85345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Light"/>
              </a:rPr>
              <a:t>The Good, Bad, and the Ugly Kruz and Paisley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Line 1"/>
          <p:cNvSpPr/>
          <p:nvPr/>
        </p:nvSpPr>
        <p:spPr>
          <a:xfrm>
            <a:off x="649440" y="9034560"/>
            <a:ext cx="11704320" cy="0"/>
          </a:xfrm>
          <a:prstGeom prst="line">
            <a:avLst/>
          </a:prstGeom>
          <a:ln w="13680">
            <a:solidFill>
              <a:srgbClr val="9fb8c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9" name="Line 2"/>
          <p:cNvSpPr/>
          <p:nvPr/>
        </p:nvSpPr>
        <p:spPr>
          <a:xfrm>
            <a:off x="649440" y="1625760"/>
            <a:ext cx="11704320" cy="0"/>
          </a:xfrm>
          <a:prstGeom prst="line">
            <a:avLst/>
          </a:prstGeom>
          <a:ln w="13680">
            <a:solidFill>
              <a:srgbClr val="9fb8c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0" name="AutoShape 3"/>
          <p:cNvSpPr/>
          <p:nvPr/>
        </p:nvSpPr>
        <p:spPr>
          <a:xfrm rot="5400000">
            <a:off x="566280" y="9169200"/>
            <a:ext cx="271800" cy="16992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360" rIns="72360" tIns="-15480" bIns="-15480" anchor="ctr">
            <a:norm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9440" y="215640"/>
            <a:ext cx="6286320" cy="205884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500" spc="-1" strike="noStrike">
                <a:solidFill>
                  <a:srgbClr val="464653"/>
                </a:solidFill>
                <a:latin typeface="Arial"/>
                <a:ea typeface="Arial"/>
              </a:rPr>
              <a:t>Why Severe Disabilities? 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</p:txBody>
      </p:sp>
      <p:grpSp>
        <p:nvGrpSpPr>
          <p:cNvPr id="92" name="Group 5"/>
          <p:cNvGrpSpPr/>
          <p:nvPr/>
        </p:nvGrpSpPr>
        <p:grpSpPr>
          <a:xfrm>
            <a:off x="179280" y="3879720"/>
            <a:ext cx="12562920" cy="6787800"/>
            <a:chOff x="179280" y="3879720"/>
            <a:chExt cx="12562920" cy="6787800"/>
          </a:xfrm>
        </p:grpSpPr>
        <p:grpSp>
          <p:nvGrpSpPr>
            <p:cNvPr id="93" name="Group 6"/>
            <p:cNvGrpSpPr/>
            <p:nvPr/>
          </p:nvGrpSpPr>
          <p:grpSpPr>
            <a:xfrm>
              <a:off x="179280" y="3905280"/>
              <a:ext cx="3575520" cy="6494040"/>
              <a:chOff x="179280" y="3905280"/>
              <a:chExt cx="3575520" cy="6494040"/>
            </a:xfrm>
          </p:grpSpPr>
          <p:sp>
            <p:nvSpPr>
              <p:cNvPr id="94" name="AutoShape 7"/>
              <p:cNvSpPr/>
              <p:nvPr/>
            </p:nvSpPr>
            <p:spPr>
              <a:xfrm>
                <a:off x="179280" y="3905280"/>
                <a:ext cx="3575520" cy="4718880"/>
              </a:xfrm>
              <a:custGeom>
                <a:avLst/>
                <a:gdLst>
                  <a:gd name="textAreaLeft" fmla="*/ 55080 w 3575520"/>
                  <a:gd name="textAreaRight" fmla="*/ 3520440 w 3575520"/>
                  <a:gd name="textAreaTop" fmla="*/ 55080 h 4718880"/>
                  <a:gd name="textAreaBottom" fmla="*/ 4663800 h 4718880"/>
                </a:gdLst>
                <a:ahLst/>
                <a:rect l="textAreaLeft" t="textAreaTop" r="textAreaRight" b="textAreaBottom"/>
                <a:pathLst>
                  <a:path w="21600" h="28506">
                    <a:moveTo>
                      <a:pt x="1139" y="0"/>
                    </a:moveTo>
                    <a:arcTo wR="1139" hR="1139" stAng="16200000" swAng="-5400000"/>
                    <a:lnTo>
                      <a:pt x="0" y="27367"/>
                    </a:lnTo>
                    <a:arcTo wR="1139" hR="1139" stAng="10800000" swAng="-5400000"/>
                    <a:lnTo>
                      <a:pt x="20461" y="28506"/>
                    </a:lnTo>
                    <a:arcTo wR="1139" hR="1139" stAng="5400000" swAng="-5400000"/>
                    <a:lnTo>
                      <a:pt x="21600" y="1139"/>
                    </a:lnTo>
                    <a:arcTo wR="1139" hR="1139" stAng="0" swAng="-5400000"/>
                    <a:close/>
                  </a:path>
                </a:pathLst>
              </a:custGeom>
              <a:solidFill>
                <a:srgbClr val="727ca3"/>
              </a:solidFill>
              <a:ln w="27000">
                <a:solidFill>
                  <a:srgbClr val="727c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360" rIns="72360" tIns="72360" bIns="72360" anchor="ctr">
                <a:norm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179280" y="4031640"/>
                <a:ext cx="3575520" cy="636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360" rIns="72360" tIns="72360" bIns="72360" anchor="t">
                <a:normAutofit/>
              </a:bodyPr>
              <a:p>
                <a:pPr marL="606600" indent="-343080">
                  <a:lnSpc>
                    <a:spcPct val="100000"/>
                  </a:lnSpc>
                  <a:tabLst>
                    <a:tab algn="l" pos="0"/>
                    <a:tab algn="l" pos="1300320"/>
                    <a:tab algn="l" pos="2600280"/>
                    <a:tab algn="l" pos="3900600"/>
                    <a:tab algn="l" pos="5200560"/>
                    <a:tab algn="l" pos="6500880"/>
                    <a:tab algn="l" pos="7800840"/>
                    <a:tab algn="l" pos="9101160"/>
                    <a:tab algn="l" pos="10401480"/>
                  </a:tabLst>
                </a:pPr>
                <a:r>
                  <a:rPr b="0" lang="en-US" sz="3500" spc="-1" strike="noStrike">
                    <a:solidFill>
                      <a:srgbClr val="ffffff"/>
                    </a:solidFill>
                    <a:latin typeface="Gill Sans"/>
                    <a:ea typeface="Gill Sans"/>
                  </a:rPr>
                  <a:t>Prenatal</a:t>
                </a:r>
                <a:endParaRPr b="0" lang="en-US" sz="3500" spc="-1" strike="noStrike">
                  <a:solidFill>
                    <a:srgbClr val="000000"/>
                  </a:solidFill>
                  <a:latin typeface="Helvetica Light"/>
                </a:endParaRPr>
              </a:p>
              <a:p>
                <a:pPr marL="606600" indent="-343080">
                  <a:lnSpc>
                    <a:spcPct val="100000"/>
                  </a:lnSpc>
                  <a:buClr>
                    <a:srgbClr val="ffffff"/>
                  </a:buClr>
                  <a:buFont typeface="Gill Sans MT"/>
                  <a:buChar char="•"/>
                  <a:tabLst>
                    <a:tab algn="l" pos="1300320"/>
                    <a:tab algn="l" pos="2600280"/>
                    <a:tab algn="l" pos="3900600"/>
                    <a:tab algn="l" pos="5200560"/>
                    <a:tab algn="l" pos="6500880"/>
                    <a:tab algn="l" pos="7800840"/>
                    <a:tab algn="l" pos="9101160"/>
                    <a:tab algn="l" pos="1040148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Gill Sans"/>
                    <a:ea typeface="Gill Sans"/>
                  </a:rPr>
                  <a:t>Chromosomal</a:t>
                </a:r>
                <a:endParaRPr b="0" lang="en-US" sz="3200" spc="-1" strike="noStrike">
                  <a:solidFill>
                    <a:srgbClr val="000000"/>
                  </a:solidFill>
                  <a:latin typeface="Helvetica Light"/>
                </a:endParaRPr>
              </a:p>
              <a:p>
                <a:pPr marL="606600" indent="-343080">
                  <a:lnSpc>
                    <a:spcPct val="100000"/>
                  </a:lnSpc>
                  <a:buClr>
                    <a:srgbClr val="ffffff"/>
                  </a:buClr>
                  <a:buFont typeface="Gill Sans MT"/>
                  <a:buChar char="•"/>
                  <a:tabLst>
                    <a:tab algn="l" pos="1300320"/>
                    <a:tab algn="l" pos="2600280"/>
                    <a:tab algn="l" pos="3900600"/>
                    <a:tab algn="l" pos="5200560"/>
                    <a:tab algn="l" pos="6500880"/>
                    <a:tab algn="l" pos="7800840"/>
                    <a:tab algn="l" pos="9101160"/>
                    <a:tab algn="l" pos="1040148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Gill Sans"/>
                    <a:ea typeface="Gill Sans"/>
                  </a:rPr>
                  <a:t>Infections</a:t>
                </a:r>
                <a:endParaRPr b="0" lang="en-US" sz="3200" spc="-1" strike="noStrike">
                  <a:solidFill>
                    <a:srgbClr val="000000"/>
                  </a:solidFill>
                  <a:latin typeface="Helvetica Light"/>
                </a:endParaRPr>
              </a:p>
              <a:p>
                <a:pPr marL="606600" indent="-343080">
                  <a:lnSpc>
                    <a:spcPct val="100000"/>
                  </a:lnSpc>
                  <a:buClr>
                    <a:srgbClr val="ffffff"/>
                  </a:buClr>
                  <a:buFont typeface="Gill Sans MT"/>
                  <a:buChar char="•"/>
                  <a:tabLst>
                    <a:tab algn="l" pos="1300320"/>
                    <a:tab algn="l" pos="2600280"/>
                    <a:tab algn="l" pos="3900600"/>
                    <a:tab algn="l" pos="5200560"/>
                    <a:tab algn="l" pos="6500880"/>
                    <a:tab algn="l" pos="7800840"/>
                    <a:tab algn="l" pos="9101160"/>
                    <a:tab algn="l" pos="1040148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Gill Sans"/>
                    <a:ea typeface="Gill Sans"/>
                  </a:rPr>
                  <a:t>Maternal Intake</a:t>
                </a:r>
                <a:endParaRPr b="0" lang="en-US" sz="3200" spc="-1" strike="noStrike">
                  <a:solidFill>
                    <a:srgbClr val="000000"/>
                  </a:solidFill>
                  <a:latin typeface="Helvetica Light"/>
                </a:endParaRPr>
              </a:p>
              <a:p>
                <a:pPr marL="606600" indent="-343080">
                  <a:lnSpc>
                    <a:spcPct val="100000"/>
                  </a:lnSpc>
                  <a:buClr>
                    <a:srgbClr val="ffffff"/>
                  </a:buClr>
                  <a:buFont typeface="Gill Sans MT"/>
                  <a:buChar char="•"/>
                  <a:tabLst>
                    <a:tab algn="l" pos="1300320"/>
                    <a:tab algn="l" pos="2600280"/>
                    <a:tab algn="l" pos="3900600"/>
                    <a:tab algn="l" pos="5200560"/>
                    <a:tab algn="l" pos="6500880"/>
                    <a:tab algn="l" pos="7800840"/>
                    <a:tab algn="l" pos="9101160"/>
                    <a:tab algn="l" pos="1040148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Gill Sans"/>
                    <a:ea typeface="Gill Sans"/>
                  </a:rPr>
                  <a:t>Malnutrition </a:t>
                </a:r>
                <a:endParaRPr b="0" lang="en-US" sz="3200" spc="-1" strike="noStrike">
                  <a:solidFill>
                    <a:srgbClr val="000000"/>
                  </a:solidFill>
                  <a:latin typeface="Helvetica Light"/>
                </a:endParaRPr>
              </a:p>
              <a:p>
                <a:pPr marL="606600" indent="-343080">
                  <a:lnSpc>
                    <a:spcPct val="100000"/>
                  </a:lnSpc>
                  <a:buClr>
                    <a:srgbClr val="ffffff"/>
                  </a:buClr>
                  <a:buFont typeface="Gill Sans MT"/>
                  <a:buChar char="•"/>
                  <a:tabLst>
                    <a:tab algn="l" pos="1300320"/>
                    <a:tab algn="l" pos="2600280"/>
                    <a:tab algn="l" pos="3900600"/>
                    <a:tab algn="l" pos="5200560"/>
                    <a:tab algn="l" pos="6500880"/>
                    <a:tab algn="l" pos="7800840"/>
                    <a:tab algn="l" pos="9101160"/>
                    <a:tab algn="l" pos="1040148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Gill Sans"/>
                    <a:ea typeface="Gill Sans"/>
                  </a:rPr>
                  <a:t>Physical trauma</a:t>
                </a:r>
                <a:endParaRPr b="0" lang="en-US" sz="32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  <p:sp>
          <p:nvSpPr>
            <p:cNvPr id="96" name="AutoShape 9"/>
            <p:cNvSpPr/>
            <p:nvPr/>
          </p:nvSpPr>
          <p:spPr>
            <a:xfrm>
              <a:off x="3757320" y="5249880"/>
              <a:ext cx="1041840" cy="1626120"/>
            </a:xfrm>
            <a:prstGeom prst="rightArrow">
              <a:avLst>
                <a:gd name="adj1" fmla="val 64000"/>
                <a:gd name="adj2" fmla="val 35157"/>
              </a:avLst>
            </a:prstGeom>
            <a:solidFill>
              <a:srgbClr val="cf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360" rIns="72360" tIns="72360" bIns="72360" anchor="ctr">
              <a:norm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grpSp>
          <p:nvGrpSpPr>
            <p:cNvPr id="97" name="Group 10"/>
            <p:cNvGrpSpPr/>
            <p:nvPr/>
          </p:nvGrpSpPr>
          <p:grpSpPr>
            <a:xfrm>
              <a:off x="4989600" y="3879720"/>
              <a:ext cx="3020040" cy="5785920"/>
              <a:chOff x="4989600" y="3879720"/>
              <a:chExt cx="3020040" cy="5785920"/>
            </a:xfrm>
          </p:grpSpPr>
          <p:sp>
            <p:nvSpPr>
              <p:cNvPr id="98" name="AutoShape 11"/>
              <p:cNvSpPr/>
              <p:nvPr/>
            </p:nvSpPr>
            <p:spPr>
              <a:xfrm>
                <a:off x="4989600" y="3879720"/>
                <a:ext cx="3020040" cy="4718520"/>
              </a:xfrm>
              <a:custGeom>
                <a:avLst/>
                <a:gdLst>
                  <a:gd name="textAreaLeft" fmla="*/ 46440 w 3020040"/>
                  <a:gd name="textAreaRight" fmla="*/ 2973600 w 3020040"/>
                  <a:gd name="textAreaTop" fmla="*/ 46440 h 4718520"/>
                  <a:gd name="textAreaBottom" fmla="*/ 4672080 h 4718520"/>
                </a:gdLst>
                <a:ahLst/>
                <a:rect l="textAreaLeft" t="textAreaTop" r="textAreaRight" b="textAreaBottom"/>
                <a:pathLst>
                  <a:path w="21600" h="33746">
                    <a:moveTo>
                      <a:pt x="1139" y="0"/>
                    </a:moveTo>
                    <a:arcTo wR="1139" hR="1139" stAng="16200000" swAng="-5400000"/>
                    <a:lnTo>
                      <a:pt x="0" y="32607"/>
                    </a:lnTo>
                    <a:arcTo wR="1139" hR="1139" stAng="10800000" swAng="-5400000"/>
                    <a:lnTo>
                      <a:pt x="20461" y="33746"/>
                    </a:lnTo>
                    <a:arcTo wR="1139" hR="1139" stAng="5400000" swAng="-5400000"/>
                    <a:lnTo>
                      <a:pt x="21600" y="1139"/>
                    </a:lnTo>
                    <a:arcTo wR="1139" hR="1139" stAng="0" swAng="-5400000"/>
                    <a:close/>
                  </a:path>
                </a:pathLst>
              </a:custGeom>
              <a:solidFill>
                <a:srgbClr val="727ca3"/>
              </a:solidFill>
              <a:ln w="27000">
                <a:solidFill>
                  <a:srgbClr val="727c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99" name="Rectangle 12"/>
              <p:cNvSpPr/>
              <p:nvPr/>
            </p:nvSpPr>
            <p:spPr>
              <a:xfrm>
                <a:off x="5026680" y="4032000"/>
                <a:ext cx="2930760" cy="563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360" rIns="72360" tIns="72360" bIns="72360" anchor="t">
                <a:normAutofit/>
              </a:bodyPr>
              <a:p>
                <a:pPr marL="561960" indent="-324000">
                  <a:lnSpc>
                    <a:spcPct val="100000"/>
                  </a:lnSpc>
                  <a:tabLst>
                    <a:tab algn="l" pos="0"/>
                    <a:tab algn="l" pos="1300320"/>
                    <a:tab algn="l" pos="2600280"/>
                    <a:tab algn="l" pos="3900600"/>
                    <a:tab algn="l" pos="5200560"/>
                    <a:tab algn="l" pos="6500880"/>
                    <a:tab algn="l" pos="7800840"/>
                    <a:tab algn="l" pos="9101160"/>
                    <a:tab algn="l" pos="10401480"/>
                  </a:tabLst>
                </a:pPr>
                <a:r>
                  <a:rPr b="0" lang="en-US" sz="3500" spc="-1" strike="noStrike">
                    <a:solidFill>
                      <a:srgbClr val="ffffff"/>
                    </a:solidFill>
                    <a:latin typeface="Gill Sans"/>
                    <a:ea typeface="Gill Sans"/>
                  </a:rPr>
                  <a:t>Perinatal</a:t>
                </a:r>
                <a:endParaRPr b="0" lang="en-US" sz="3500" spc="-1" strike="noStrike">
                  <a:solidFill>
                    <a:srgbClr val="000000"/>
                  </a:solidFill>
                  <a:latin typeface="Helvetica Light"/>
                </a:endParaRPr>
              </a:p>
              <a:p>
                <a:pPr marL="561960" indent="-324000">
                  <a:lnSpc>
                    <a:spcPct val="100000"/>
                  </a:lnSpc>
                  <a:buClr>
                    <a:srgbClr val="ffffff"/>
                  </a:buClr>
                  <a:buFont typeface="Gill Sans MT"/>
                  <a:buChar char="•"/>
                  <a:tabLst>
                    <a:tab algn="l" pos="1300320"/>
                    <a:tab algn="l" pos="2600280"/>
                    <a:tab algn="l" pos="3900600"/>
                    <a:tab algn="l" pos="5200560"/>
                    <a:tab algn="l" pos="6500880"/>
                    <a:tab algn="l" pos="7800840"/>
                    <a:tab algn="l" pos="9101160"/>
                    <a:tab algn="l" pos="1040148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Gill Sans"/>
                    <a:ea typeface="Gill Sans"/>
                  </a:rPr>
                  <a:t>Lack of oxygen</a:t>
                </a:r>
                <a:endParaRPr b="0" lang="en-US" sz="3400" spc="-1" strike="noStrike">
                  <a:solidFill>
                    <a:srgbClr val="000000"/>
                  </a:solidFill>
                  <a:latin typeface="Helvetica Light"/>
                </a:endParaRPr>
              </a:p>
              <a:p>
                <a:pPr marL="561960" indent="-324000">
                  <a:lnSpc>
                    <a:spcPct val="100000"/>
                  </a:lnSpc>
                  <a:buClr>
                    <a:srgbClr val="ffffff"/>
                  </a:buClr>
                  <a:buFont typeface="Gill Sans MT"/>
                  <a:buChar char="•"/>
                  <a:tabLst>
                    <a:tab algn="l" pos="1300320"/>
                    <a:tab algn="l" pos="2600280"/>
                    <a:tab algn="l" pos="3900600"/>
                    <a:tab algn="l" pos="5200560"/>
                    <a:tab algn="l" pos="6500880"/>
                    <a:tab algn="l" pos="7800840"/>
                    <a:tab algn="l" pos="9101160"/>
                    <a:tab algn="l" pos="1040148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Gill Sans"/>
                    <a:ea typeface="Gill Sans"/>
                  </a:rPr>
                  <a:t>Injury to brain</a:t>
                </a:r>
                <a:endParaRPr b="0" lang="en-US" sz="3400" spc="-1" strike="noStrike">
                  <a:solidFill>
                    <a:srgbClr val="000000"/>
                  </a:solidFill>
                  <a:latin typeface="Helvetica Light"/>
                </a:endParaRPr>
              </a:p>
              <a:p>
                <a:pPr marL="561960" indent="-324000">
                  <a:lnSpc>
                    <a:spcPct val="100000"/>
                  </a:lnSpc>
                  <a:buClr>
                    <a:srgbClr val="ffffff"/>
                  </a:buClr>
                  <a:buFont typeface="Gill Sans MT"/>
                  <a:buChar char="•"/>
                  <a:tabLst>
                    <a:tab algn="l" pos="1300320"/>
                    <a:tab algn="l" pos="2600280"/>
                    <a:tab algn="l" pos="3900600"/>
                    <a:tab algn="l" pos="5200560"/>
                    <a:tab algn="l" pos="6500880"/>
                    <a:tab algn="l" pos="7800840"/>
                    <a:tab algn="l" pos="9101160"/>
                    <a:tab algn="l" pos="1040148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Gill Sans"/>
                    <a:ea typeface="Gill Sans"/>
                  </a:rPr>
                  <a:t>Infections during birth</a:t>
                </a:r>
                <a:endParaRPr b="0" lang="en-US" sz="34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  <p:sp>
          <p:nvSpPr>
            <p:cNvPr id="100" name="AutoShape 13"/>
            <p:cNvSpPr/>
            <p:nvPr/>
          </p:nvSpPr>
          <p:spPr>
            <a:xfrm>
              <a:off x="8328960" y="5212440"/>
              <a:ext cx="1001520" cy="1623240"/>
            </a:xfrm>
            <a:prstGeom prst="rightArrow">
              <a:avLst>
                <a:gd name="adj1" fmla="val 64000"/>
                <a:gd name="adj2" fmla="val 35157"/>
              </a:avLst>
            </a:prstGeom>
            <a:solidFill>
              <a:srgbClr val="cf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360" rIns="72360" tIns="72360" bIns="72360" anchor="ctr">
              <a:norm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  <p:grpSp>
          <p:nvGrpSpPr>
            <p:cNvPr id="101" name="Group 14"/>
            <p:cNvGrpSpPr/>
            <p:nvPr/>
          </p:nvGrpSpPr>
          <p:grpSpPr>
            <a:xfrm>
              <a:off x="9330840" y="3879720"/>
              <a:ext cx="3411360" cy="6787800"/>
              <a:chOff x="9330840" y="3879720"/>
              <a:chExt cx="3411360" cy="6787800"/>
            </a:xfrm>
          </p:grpSpPr>
          <p:sp>
            <p:nvSpPr>
              <p:cNvPr id="102" name="AutoShape 15"/>
              <p:cNvSpPr/>
              <p:nvPr/>
            </p:nvSpPr>
            <p:spPr>
              <a:xfrm>
                <a:off x="9330840" y="3879720"/>
                <a:ext cx="3411360" cy="4986720"/>
              </a:xfrm>
              <a:custGeom>
                <a:avLst/>
                <a:gdLst>
                  <a:gd name="textAreaLeft" fmla="*/ 52560 w 3411360"/>
                  <a:gd name="textAreaRight" fmla="*/ 3358800 w 3411360"/>
                  <a:gd name="textAreaTop" fmla="*/ 52560 h 4986720"/>
                  <a:gd name="textAreaBottom" fmla="*/ 4934160 h 4986720"/>
                </a:gdLst>
                <a:ahLst/>
                <a:rect l="textAreaLeft" t="textAreaTop" r="textAreaRight" b="textAreaBottom"/>
                <a:pathLst>
                  <a:path w="21600" h="31574">
                    <a:moveTo>
                      <a:pt x="1139" y="0"/>
                    </a:moveTo>
                    <a:arcTo wR="1139" hR="1139" stAng="16200000" swAng="-5400000"/>
                    <a:lnTo>
                      <a:pt x="0" y="30435"/>
                    </a:lnTo>
                    <a:arcTo wR="1139" hR="1139" stAng="10800000" swAng="-5400000"/>
                    <a:lnTo>
                      <a:pt x="20461" y="31574"/>
                    </a:lnTo>
                    <a:arcTo wR="1139" hR="1139" stAng="5400000" swAng="-5400000"/>
                    <a:lnTo>
                      <a:pt x="21600" y="1139"/>
                    </a:lnTo>
                    <a:arcTo wR="1139" hR="1139" stAng="0" swAng="-5400000"/>
                    <a:close/>
                  </a:path>
                </a:pathLst>
              </a:custGeom>
              <a:solidFill>
                <a:srgbClr val="727ca3"/>
              </a:solidFill>
              <a:ln w="27000">
                <a:solidFill>
                  <a:srgbClr val="727c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tabLst>
                    <a:tab algn="l" pos="0"/>
                    <a:tab algn="l" pos="584280"/>
                    <a:tab algn="l" pos="1168560"/>
                    <a:tab algn="l" pos="1752480"/>
                    <a:tab algn="l" pos="2336760"/>
                    <a:tab algn="l" pos="2921040"/>
                    <a:tab algn="l" pos="3505320"/>
                    <a:tab algn="l" pos="4089240"/>
                    <a:tab algn="l" pos="4673520"/>
                    <a:tab algn="l" pos="5257800"/>
                    <a:tab algn="l" pos="5842080"/>
                    <a:tab algn="l" pos="6426360"/>
                    <a:tab algn="l" pos="7010280"/>
                    <a:tab algn="l" pos="7594560"/>
                    <a:tab algn="l" pos="8178840"/>
                    <a:tab algn="l" pos="8763120"/>
                    <a:tab algn="l" pos="9347040"/>
                    <a:tab algn="l" pos="9931320"/>
                    <a:tab algn="l" pos="105156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  <p:sp>
            <p:nvSpPr>
              <p:cNvPr id="103" name="Rectangle 16"/>
              <p:cNvSpPr/>
              <p:nvPr/>
            </p:nvSpPr>
            <p:spPr>
              <a:xfrm>
                <a:off x="9367920" y="4032000"/>
                <a:ext cx="3373920" cy="66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360" rIns="72360" tIns="72360" bIns="72360" anchor="t">
                <a:normAutofit/>
              </a:bodyPr>
              <a:p>
                <a:pPr marL="625320" indent="-361800">
                  <a:lnSpc>
                    <a:spcPct val="100000"/>
                  </a:lnSpc>
                  <a:tabLst>
                    <a:tab algn="l" pos="0"/>
                    <a:tab algn="l" pos="1300320"/>
                    <a:tab algn="l" pos="2600280"/>
                    <a:tab algn="l" pos="3900600"/>
                    <a:tab algn="l" pos="5200560"/>
                    <a:tab algn="l" pos="6500880"/>
                    <a:tab algn="l" pos="7800840"/>
                    <a:tab algn="l" pos="9101160"/>
                    <a:tab algn="l" pos="10401480"/>
                  </a:tabLst>
                </a:pPr>
                <a:r>
                  <a:rPr b="0" lang="en-US" sz="3500" spc="-1" strike="noStrike">
                    <a:solidFill>
                      <a:srgbClr val="ffffff"/>
                    </a:solidFill>
                    <a:latin typeface="Gill Sans"/>
                    <a:ea typeface="Gill Sans"/>
                  </a:rPr>
                  <a:t>Postnatal</a:t>
                </a:r>
                <a:endParaRPr b="0" lang="en-US" sz="3500" spc="-1" strike="noStrike">
                  <a:solidFill>
                    <a:srgbClr val="000000"/>
                  </a:solidFill>
                  <a:latin typeface="Helvetica Light"/>
                </a:endParaRPr>
              </a:p>
              <a:p>
                <a:pPr marL="625320" indent="-361800">
                  <a:lnSpc>
                    <a:spcPct val="100000"/>
                  </a:lnSpc>
                  <a:buClr>
                    <a:srgbClr val="ffffff"/>
                  </a:buClr>
                  <a:buFont typeface="Gill Sans MT"/>
                  <a:buChar char="•"/>
                  <a:tabLst>
                    <a:tab algn="l" pos="1300320"/>
                    <a:tab algn="l" pos="2600280"/>
                    <a:tab algn="l" pos="3900600"/>
                    <a:tab algn="l" pos="5200560"/>
                    <a:tab algn="l" pos="6500880"/>
                    <a:tab algn="l" pos="7800840"/>
                    <a:tab algn="l" pos="9101160"/>
                    <a:tab algn="l" pos="1040148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Gill Sans"/>
                    <a:ea typeface="Gill Sans"/>
                  </a:rPr>
                  <a:t>Infections</a:t>
                </a:r>
                <a:endParaRPr b="0" lang="en-US" sz="3400" spc="-1" strike="noStrike">
                  <a:solidFill>
                    <a:srgbClr val="000000"/>
                  </a:solidFill>
                  <a:latin typeface="Helvetica Light"/>
                </a:endParaRPr>
              </a:p>
              <a:p>
                <a:pPr marL="625320" indent="-361800">
                  <a:lnSpc>
                    <a:spcPct val="100000"/>
                  </a:lnSpc>
                  <a:buClr>
                    <a:srgbClr val="ffffff"/>
                  </a:buClr>
                  <a:buFont typeface="Gill Sans MT"/>
                  <a:buChar char="•"/>
                  <a:tabLst>
                    <a:tab algn="l" pos="1300320"/>
                    <a:tab algn="l" pos="2600280"/>
                    <a:tab algn="l" pos="3900600"/>
                    <a:tab algn="l" pos="5200560"/>
                    <a:tab algn="l" pos="6500880"/>
                    <a:tab algn="l" pos="7800840"/>
                    <a:tab algn="l" pos="9101160"/>
                    <a:tab algn="l" pos="1040148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Gill Sans"/>
                    <a:ea typeface="Gill Sans"/>
                  </a:rPr>
                  <a:t>TBI</a:t>
                </a:r>
                <a:endParaRPr b="0" lang="en-US" sz="3400" spc="-1" strike="noStrike">
                  <a:solidFill>
                    <a:srgbClr val="000000"/>
                  </a:solidFill>
                  <a:latin typeface="Helvetica Light"/>
                </a:endParaRPr>
              </a:p>
              <a:p>
                <a:pPr marL="625320" indent="-361800">
                  <a:lnSpc>
                    <a:spcPct val="100000"/>
                  </a:lnSpc>
                  <a:buClr>
                    <a:srgbClr val="ffffff"/>
                  </a:buClr>
                  <a:buFont typeface="Gill Sans MT"/>
                  <a:buChar char="•"/>
                  <a:tabLst>
                    <a:tab algn="l" pos="1300320"/>
                    <a:tab algn="l" pos="2600280"/>
                    <a:tab algn="l" pos="3900600"/>
                    <a:tab algn="l" pos="5200560"/>
                    <a:tab algn="l" pos="6500880"/>
                    <a:tab algn="l" pos="7800840"/>
                    <a:tab algn="l" pos="9101160"/>
                    <a:tab algn="l" pos="1040148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Gill Sans"/>
                    <a:ea typeface="Gill Sans"/>
                  </a:rPr>
                  <a:t>Lead Poisoning</a:t>
                </a:r>
                <a:endParaRPr b="0" lang="en-US" sz="3400" spc="-1" strike="noStrike">
                  <a:solidFill>
                    <a:srgbClr val="000000"/>
                  </a:solidFill>
                  <a:latin typeface="Helvetica Light"/>
                </a:endParaRPr>
              </a:p>
              <a:p>
                <a:pPr marL="625320" indent="-361800">
                  <a:lnSpc>
                    <a:spcPct val="100000"/>
                  </a:lnSpc>
                  <a:buClr>
                    <a:srgbClr val="ffffff"/>
                  </a:buClr>
                  <a:buFont typeface="Gill Sans MT"/>
                  <a:buChar char="•"/>
                  <a:tabLst>
                    <a:tab algn="l" pos="1300320"/>
                    <a:tab algn="l" pos="2600280"/>
                    <a:tab algn="l" pos="3900600"/>
                    <a:tab algn="l" pos="5200560"/>
                    <a:tab algn="l" pos="6500880"/>
                    <a:tab algn="l" pos="7800840"/>
                    <a:tab algn="l" pos="9101160"/>
                    <a:tab algn="l" pos="1040148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Gill Sans"/>
                    <a:ea typeface="Gill Sans"/>
                  </a:rPr>
                  <a:t>Rxn. to medications</a:t>
                </a:r>
                <a:endParaRPr b="0" lang="en-US" sz="3400" spc="-1" strike="noStrike">
                  <a:solidFill>
                    <a:srgbClr val="000000"/>
                  </a:solidFill>
                  <a:latin typeface="Helvetica Light"/>
                </a:endParaRPr>
              </a:p>
              <a:p>
                <a:pPr marL="625320" indent="-361800">
                  <a:lnSpc>
                    <a:spcPct val="100000"/>
                  </a:lnSpc>
                  <a:buClr>
                    <a:srgbClr val="ffffff"/>
                  </a:buClr>
                  <a:buFont typeface="Gill Sans MT"/>
                  <a:buChar char="•"/>
                  <a:tabLst>
                    <a:tab algn="l" pos="1300320"/>
                    <a:tab algn="l" pos="2600280"/>
                    <a:tab algn="l" pos="3900600"/>
                    <a:tab algn="l" pos="5200560"/>
                    <a:tab algn="l" pos="6500880"/>
                    <a:tab algn="l" pos="7800840"/>
                    <a:tab algn="l" pos="9101160"/>
                    <a:tab algn="l" pos="1040148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Gill Sans"/>
                    <a:ea typeface="Gill Sans"/>
                  </a:rPr>
                  <a:t>Environment</a:t>
                </a:r>
                <a:endParaRPr b="0" lang="en-US" sz="3400" spc="-1" strike="noStrike">
                  <a:solidFill>
                    <a:srgbClr val="000000"/>
                  </a:solidFill>
                  <a:latin typeface="Helvetica Light"/>
                </a:endParaRPr>
              </a:p>
            </p:txBody>
          </p:sp>
        </p:grpSp>
      </p:grpSp>
      <p:pic>
        <p:nvPicPr>
          <p:cNvPr id="104" name="Picture 17" descr="image21.jpg"/>
          <p:cNvPicPr/>
          <p:nvPr/>
        </p:nvPicPr>
        <p:blipFill>
          <a:blip r:embed="rId1"/>
          <a:stretch/>
        </p:blipFill>
        <p:spPr>
          <a:xfrm>
            <a:off x="6935760" y="0"/>
            <a:ext cx="5654880" cy="3476520"/>
          </a:xfrm>
          <a:prstGeom prst="rect">
            <a:avLst/>
          </a:prstGeom>
          <a:ln w="0">
            <a:noFill/>
          </a:ln>
        </p:spPr>
      </p:pic>
      <p:pic>
        <p:nvPicPr>
          <p:cNvPr id="105" name="Recorded Sound" descr=""/>
          <p:cNvPicPr/>
          <p:nvPr/>
        </p:nvPicPr>
        <p:blipFill>
          <a:blip r:embed="rId2"/>
          <a:stretch/>
        </p:blipFill>
        <p:spPr>
          <a:xfrm>
            <a:off x="6299280" y="467352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Line 1"/>
          <p:cNvSpPr/>
          <p:nvPr/>
        </p:nvSpPr>
        <p:spPr>
          <a:xfrm>
            <a:off x="649440" y="9034560"/>
            <a:ext cx="11704320" cy="0"/>
          </a:xfrm>
          <a:prstGeom prst="line">
            <a:avLst/>
          </a:prstGeom>
          <a:ln w="13680">
            <a:solidFill>
              <a:srgbClr val="9fb8c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7" name="Line 2"/>
          <p:cNvSpPr/>
          <p:nvPr/>
        </p:nvSpPr>
        <p:spPr>
          <a:xfrm>
            <a:off x="649440" y="1625760"/>
            <a:ext cx="11704320" cy="0"/>
          </a:xfrm>
          <a:prstGeom prst="line">
            <a:avLst/>
          </a:prstGeom>
          <a:ln w="13680">
            <a:solidFill>
              <a:srgbClr val="9fb8c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9760" y="215640"/>
            <a:ext cx="12023640" cy="140796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500" spc="-1" strike="noStrike">
                <a:solidFill>
                  <a:srgbClr val="464653"/>
                </a:solidFill>
                <a:latin typeface="Arial"/>
                <a:ea typeface="Arial"/>
              </a:rPr>
              <a:t>Characteristics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2361960"/>
            <a:ext cx="5435640" cy="708660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t">
            <a:normAutofit/>
          </a:bodyPr>
          <a:p>
            <a:pPr marL="222120" indent="-2221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IQ fall in severe (25-40) and profound (0-25) ranges of intellectual disabilities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marL="22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marL="222120" indent="-2221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Difficulty with abstract concepts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marL="22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marL="222120" indent="-2221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Difficulty generalizing concepts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marL="22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marL="222120" indent="-2221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Longer to learn and more practice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10" name="Picture 6" descr="image22.gif"/>
          <p:cNvPicPr/>
          <p:nvPr/>
        </p:nvPicPr>
        <p:blipFill>
          <a:blip r:embed="rId1"/>
          <a:stretch/>
        </p:blipFill>
        <p:spPr>
          <a:xfrm>
            <a:off x="5435640" y="179280"/>
            <a:ext cx="7478640" cy="9753840"/>
          </a:xfrm>
          <a:prstGeom prst="rect">
            <a:avLst/>
          </a:prstGeom>
          <a:ln w="0">
            <a:noFill/>
          </a:ln>
        </p:spPr>
      </p:pic>
      <p:pic>
        <p:nvPicPr>
          <p:cNvPr id="111" name="Recorded Sound" descr=""/>
          <p:cNvPicPr/>
          <p:nvPr/>
        </p:nvPicPr>
        <p:blipFill>
          <a:blip r:embed="rId2"/>
          <a:stretch/>
        </p:blipFill>
        <p:spPr>
          <a:xfrm>
            <a:off x="3301920" y="1744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Line 1"/>
          <p:cNvSpPr/>
          <p:nvPr/>
        </p:nvSpPr>
        <p:spPr>
          <a:xfrm>
            <a:off x="649440" y="9034560"/>
            <a:ext cx="11704320" cy="0"/>
          </a:xfrm>
          <a:prstGeom prst="line">
            <a:avLst/>
          </a:prstGeom>
          <a:ln w="13680">
            <a:solidFill>
              <a:srgbClr val="9fb8c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3" name="Line 2"/>
          <p:cNvSpPr/>
          <p:nvPr/>
        </p:nvSpPr>
        <p:spPr>
          <a:xfrm>
            <a:off x="649440" y="1625760"/>
            <a:ext cx="11704320" cy="0"/>
          </a:xfrm>
          <a:prstGeom prst="line">
            <a:avLst/>
          </a:prstGeom>
          <a:ln w="13680">
            <a:solidFill>
              <a:srgbClr val="9fb8c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4" name="AutoShape 3"/>
          <p:cNvSpPr/>
          <p:nvPr/>
        </p:nvSpPr>
        <p:spPr>
          <a:xfrm rot="5400000">
            <a:off x="566280" y="9169200"/>
            <a:ext cx="271800" cy="16992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360" rIns="72360" tIns="-15480" bIns="-15480" anchor="ctr">
            <a:norm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9440" y="128520"/>
            <a:ext cx="11704320" cy="140832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  <a:ea typeface="Arial"/>
              </a:rPr>
              <a:t>Academics</a:t>
            </a:r>
            <a:endParaRPr b="0" lang="en-US" sz="45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733040"/>
            <a:ext cx="6502320" cy="702180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72360" bIns="72360" anchor="t">
            <a:normAutofit/>
          </a:bodyPr>
          <a:p>
            <a:pPr marL="233280" indent="-2332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Language- may use nonverbal communication and augmentative CD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marL="233280" indent="-2332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Literacy- difficult. High frequency words and environmental prin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marL="233280" indent="-2332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Math- everyday activities, money, time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117" name="Picture 7" descr="image23.jpg"/>
          <p:cNvPicPr/>
          <p:nvPr/>
        </p:nvPicPr>
        <p:blipFill>
          <a:blip r:embed="rId1"/>
          <a:stretch/>
        </p:blipFill>
        <p:spPr>
          <a:xfrm>
            <a:off x="6502320" y="0"/>
            <a:ext cx="6502320" cy="9753480"/>
          </a:xfrm>
          <a:prstGeom prst="rect">
            <a:avLst/>
          </a:prstGeom>
          <a:ln w="0">
            <a:noFill/>
          </a:ln>
        </p:spPr>
      </p:pic>
      <p:pic>
        <p:nvPicPr>
          <p:cNvPr id="118" name="Recorded Sound" descr=""/>
          <p:cNvPicPr/>
          <p:nvPr/>
        </p:nvPicPr>
        <p:blipFill>
          <a:blip r:embed="rId2"/>
          <a:stretch/>
        </p:blipFill>
        <p:spPr>
          <a:xfrm>
            <a:off x="4521240" y="1014480"/>
            <a:ext cx="406440" cy="406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pencer, Amelia G.</dc:creator>
  <dc:description/>
  <dc:language>en-US</dc:language>
  <cp:lastModifiedBy>Spencer, Amelia G.</cp:lastModifiedBy>
  <dcterms:modified xsi:type="dcterms:W3CDTF">2021-04-14T18:48:10Z</dcterms:modified>
  <cp:revision>40</cp:revision>
  <dc:subject/>
  <dc:title>Physical and Health Impairments</dc:title>
</cp:coreProperties>
</file>