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2A3E-28DA-42D2-8176-AB2E71BF03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D2E4-9503-4D1A-8B59-3E6EFF83D3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nies are finding that to survive they must compete in international markets as well as fend off foreign corporation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ttempts to gain ground in the United States, 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develop global markets and prepare employees for global assign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business must be prepared to deal with the global economy. This is made easier by tech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ffshor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s to the exporting of jobs from developed countries to less developed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nshor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fers to exporting jobs to rural parts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FB44-E14A-407B-AFDB-AA7F97CA4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87E5-6E59-4D9D-8F0E-04630F9F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99C676-767D-46DE-88A5-FC8009C2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46FEF0-FA65-48B4-9C33-817EDB21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6BA0F3-6713-4B2D-B658-BC75BFD3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DAC7F8-F961-4513-A393-09CCFB27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F46FAC-15C6-4E44-9130-CA8D2B93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56AA97-9C61-4F4E-BA2D-906F34DF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3B074F-A5D0-4146-8D5F-C7A13C39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109A50-5B6C-4F6A-9360-F42A4A32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189573-C65E-4903-BF82-4D9B620D7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764156-DA2A-455D-873B-3E38CD525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5737-70EE-46F6-81BE-FF567E51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F05616-F61F-45B4-8850-8F3A99F1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A7D5B3-FC81-48A3-ADBF-F1238819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83ACBD-D8B2-4907-AFDD-6BE8B2EB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9141A6-0CAB-4998-821B-6EED85BD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5E81A5-2B0E-4260-B431-EAB2C1B6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CDF16F-13F3-4400-92C9-22887BEF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FE623B-2AD2-4F2D-BED7-66AF2D6A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922D38-E49A-4E6A-A33F-56B33ABC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CAB84C-100B-4B84-AEDA-4E0A8E2C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E8D44F-7791-4C58-A08E-2C714804E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BDDC-0CD5-4B65-84FF-10920CE1C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5D218C-C2A8-4398-9436-F365B1665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9F5CF4-B8C6-4EA7-B60A-98323C17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203242-A3FA-4AB1-A5C3-27103EB9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434536-E3E7-4508-AEE3-8585FA90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36ECD7-0250-4D91-AAF7-E59B8E93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54E0F0-CFEE-4D3F-825E-66960E44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F301C2-3699-450D-A88A-320675C5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78CE3B-B2A8-4E61-AFD5-09B06FA6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3FD1A3-8703-49A0-99D4-3F7B4FC8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068F06-3C46-4923-BFFD-2C61B971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57E96-6388-44B6-829C-68588D1EA73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10AE44-D504-40AF-848E-F07CA8D9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1667D8-C9C9-441E-A646-453B5908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CCBE4B-EC42-46A5-87D5-9C919FF8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4A5C1E-B471-47A7-9758-F330062D5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138C44-EFC7-41DB-96AE-F8E075EB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3089FB-0C65-421A-89F1-C9583BEB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2B965B-3908-4749-8BD3-7642C9C5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FE9EBA-5E28-46A2-94AF-DE963DEF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F1008C-EC4A-4106-A639-82E8C62A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6BDFD8-671A-4E94-A995-5E604287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C47C2-4436-4189-AF85-17F8B94C3EF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591A47-32C7-4C20-AAA5-6119C9CB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A43E29-D257-4DDE-8502-4962A9D7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51EDDE-2484-4856-967F-DB3DE979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2D5279-345A-493C-9F1F-86C6E5D1C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1710A0-9A9A-4047-90C5-357C125E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9CEA9A-2075-47F7-BE84-E29A668C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051CC3-6A17-412B-870A-2F6F8AC8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483EA9-C8F9-44C5-A1BB-25ADB75C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BB1E27-73BA-4E44-9C0F-D8140903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CAC448-DB04-43BB-8B04-86CB5F9F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4C203-2831-4447-BF4A-C33C40622C7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9FBEEA-FDAE-4D85-A898-ED8E5A64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9F7B7A-CE18-4019-97BA-7B308012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84E967-98F6-4C0D-9949-D05BC052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F3162B-F27D-48DF-A36F-0414A17F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3E68C5-6720-4AB9-9BCD-45B1E528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C350AF-E228-437D-ACD9-EA25653D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A181A6-4AA4-4D47-956C-DF745566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74E7705-777E-4C01-B3BB-6B8B6DE8C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72A7FE-E828-47BF-8CD0-DEA63EB6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CF2DD2-E7A2-4ADF-9BA8-438DB890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EC7C0-316A-4F1A-9061-38D8B4C1E8C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2D1A9F-663D-4043-9D50-FF9796DD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3A8AD2-3651-45CF-AE13-295DCD25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BD2806-2C38-4D55-B2EC-668B6331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BD9462-419F-40DA-8CE2-9D4D3DA4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3CEF376-41B8-4987-A436-9AE81E24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E5D73D-FE4B-42F1-B50E-6F2D8CB7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D1BBA3-2E69-4F24-8696-855CE70E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40E6A33-C993-4C3E-ADF5-4DEF9E617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549594-FF6F-428B-8190-9E3C9E35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DF025-42E8-4162-8C89-833488D24D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DE7E77-9E98-466C-93F4-02CA4D79DC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FF7AB-8432-4958-BBA4-C08C16034A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1C26-00B4-4BC7-9A53-F00A35AA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65E7A-7070-4782-A167-3B6C3F020A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8CD12-DA02-4E79-8C7D-D2A1419A73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FA6BD-C4D7-4AD8-A870-174D37D7E3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4E12D-049B-4D00-BD22-7D9D35A8DA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C52DE-7807-45F4-8F99-BC3368971A7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3A44-BE19-4F6A-A9DD-6AB9E6FD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528D-D35A-4095-B4A9-BA30FD98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D32E5C-B3CF-46AB-BC68-F3C842F66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4C9A-A39F-4000-917D-66AC7C3D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48CA1F-7116-498A-AD33-C82847BD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79B56A-6A02-468C-96F1-A649AEA8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4E48F5-BABA-4514-B052-7555641A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500E81-BE76-4F9D-B86E-DAB40001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08521F-F0C5-49E5-80F9-74A0B1E1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81EEC1-F490-47B4-9995-D522AC24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383C20-94D3-4C1B-B64F-84C3F692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BB6EAF-BC2D-49F3-A422-0EA9319E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3A11DC-3B3E-4F4D-8578-C4600339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F31FE4-8E54-47A5-B093-42E7ECB5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0091-249E-41DA-BFE1-5A33386B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31984A-DCC1-45E6-9C30-F7905309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B96EBC-AF60-49AA-8594-61476A7F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8E401D-0C68-43CD-84A6-02FBC833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379B1F-14B7-4236-8366-C9D33F32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BA910C-3047-4DB8-83B6-87FCB110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777CE5-1A5B-4F2E-A0C7-FD4D416C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1876B5-8968-4A8C-B569-33694A2F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021BE3-B75B-4B2B-8CF7-80A73E8E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3F4042-E192-4153-BF96-D8832987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5FBBF2-707C-4B26-B62C-85E0F3FB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693B-0463-4764-8BC0-D0B8C7B7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B04501-B226-4065-BA18-574182F1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3DDF8B-8029-4A35-A5A5-506E0DB4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E84746-6047-4744-ABFA-DBE25754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1D31A3-5828-4DF2-B216-E876C6176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AA8DDC-0FB0-4F9B-AEB4-1F8D10F9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C5FD53-D28A-46B1-AACF-1E9A4DB0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6AD857-DCB5-44E3-A80E-66BA7443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A5E2EB-9476-4CE8-8442-59C5DEA5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AB9E35-73B3-4FD4-B3FB-5C61C248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0F2FDF-5F4F-4783-B26E-1B719329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1B1B-4A95-478C-9027-9AD7A564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9A3317-F234-430F-8EDE-23C439EF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817994-3E05-4C89-9FD7-5FDC62EC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7A4692-2E68-4D25-B03D-12251208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F4E29D-963B-49FC-BAAE-43F76922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997707-1D20-452B-9CA1-3769335E2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048D95-C389-4CC4-9A12-5AC34EA72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36170C-7AA2-4239-B8E1-896749A0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75438E-C888-49CB-891E-32B659BA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36E145-B82C-47FD-9545-5D14F039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80BE8B-5B3E-4E54-B7C0-3B2ED61A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EE94-25B4-4674-B30A-905E9AA1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210205-E729-490E-AD9D-B5CF9995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0A7D13-CEB0-4D00-A398-75920102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4086C5-9655-4528-A389-75017432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D706C8-C143-42AF-B110-875AC765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04C37A-FA2C-484F-A34C-7AEB5218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CE0F89-D544-4E0E-BF7C-C35B2FBD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E68102-88B6-4002-A0CB-03BC1E85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37A46A-241F-47EA-B225-B74A7BC42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5CD031-2AC1-440E-9B9E-D2CCA0C8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AD41DA-3D5E-423C-BB58-B982AC08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A5D9-7D5F-4108-B4F5-5917E2B983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2F77-E55D-4F1B-8B56-625AE4F400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F7A0-FFB6-43DB-A318-A152D43FD1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CCDD-B81A-4AC6-9872-D1BE88E872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916A-B314-4E8E-95E2-3EE57FE597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6BD6-12E3-449A-8CEA-9383134BDD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8238-6920-41D8-B273-F11A3EF510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54B7-E99F-4A2E-ACD7-A8FBC87380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5A5C-43D2-4D99-9F28-2E9DFE59BA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A1E2-38C3-4DD9-9C38-03A4DAED6B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393D-11A9-440F-85F3-D1B693BEF4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4FD1-2089-4406-9023-14F62F6BC0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4e73"/>
                </a:solidFill>
                <a:latin typeface="News Gothic MT"/>
                <a:ea typeface="Geneva"/>
              </a:rPr>
              <a:t>Chapter 1</a:t>
            </a:r>
            <a:endParaRPr b="1" lang="en-US" sz="44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ategic Management 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amp; Strategic Competitiveness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ypes of Industry Structur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Perfect  (pure) competi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rge number of firm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mogeneous produc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 cost to enter the industr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ypes of Industry Structur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onopolistic Competi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rge number of firm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eterogeneous produc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 to moderate cost to enter the industr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onceptualiz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549000" y="1143000"/>
            <a:ext cx="8042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verage (normal)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equal to the returns that an investor would expect on an investment of similar risk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Risk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an investor’s level of uncertainty about the gains or losses from a particular investment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bove normal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greater than normal (exceeded expectations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Below normal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less than normal (failed to meet expectations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Measur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ccounting measures (via ratio analysis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rket measur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ubjective measures (stakeholders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urvival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e Need for a New Model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ny firms compete in lousy industries (many threats; intense rivalry; few opportunities)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CP logic suggests these firms will perform poorl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owever, some firms in lousy industries realize superior performance. Why?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icardian Economic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(Resource endowments)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nts (above normal returns) can be earned by changes that alter a resource’s valu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turns to a strategy depend upon the cost of implementing that strateg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Penrose’s View of the Firm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49000" y="1218960"/>
            <a:ext cx="804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 firm is a bundle of resourc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ed by an entrepreneur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What limits growth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51240" indent="-319680">
              <a:spcBef>
                <a:spcPts val="1199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creative capabilities of the entrepreneur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roductive resources are very broadly defined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rms are assumed to be heterogeneou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108000"/>
            <a:ext cx="9144000" cy="8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News Gothic MT"/>
              </a:rPr>
              <a:t>What are some useful resource categories?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hysical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uman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ational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ore useful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angible and In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 Resource-based Model of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bove Normal Returns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49000" y="1371240"/>
            <a:ext cx="8042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ources are heterogeneous and immobil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ources are used to develop capabilities (capacity of a set of resources to perform a task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pabilities give rise to core competencies, which may be a source of competitive advantag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trategic managers use these resources to formulate and implement strategies to achieve a competitive advantag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ategic Management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ic Management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t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e process of formulating and implementing strategies that are designed to achieve a competitive advantage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y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a pattern of resource deployments intended to improve or maintain performan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Understand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News Gothic MT"/>
              </a:rPr>
              <a:t>Firms that consistently underperform the market will experience a loss of support from investors and management will be forced to redeploy assets to more productive uses (Alchian &amp; Demsetz, 1972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News Gothic MT"/>
              </a:rPr>
              <a:t>What does this mean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It means . . .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vestors are interested in the performance of a firm relative to others in the capital market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rms that continue to perform poorly will be unable to attract investors and will not survive in the long ru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The preceding quote is based on efficient markets. 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is an efficient market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2514240"/>
            <a:ext cx="8042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n efficient market is one in which no single buyer or seller can systematically achieve superior performan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makes a market efficient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ny buyers and many seller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ull information is publicly availabl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dividuals are rational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The I/O Model of Above Normal Returns 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33520" y="121932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Examines the effect of the external environment on a firm’s performanc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Industry effects are greater than managerial effect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Four assumptions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Industry structure imposes constraint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Firms are homogeneous with respect to resources and strateg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Resources are highly mobile (differences are short lived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Managers are rational profit maximizer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8286840" y="6381720"/>
            <a:ext cx="819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0"/>
          <p:cNvSpPr/>
          <p:nvPr/>
        </p:nvSpPr>
        <p:spPr>
          <a:xfrm>
            <a:off x="8610480" y="653724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1-</a:t>
            </a:r>
            <a:fld id="{E085BDA9-00D3-4CD3-BBDE-9672B3EFA3C9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CP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ucture, Conduct,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rm performance is determined by its industry structur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earch suggests that 20% of a firm’s profitability is attributed to its indust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us, managers should look for </a:t>
            </a:r>
            <a:r>
              <a:rPr b="1" i="1" lang="en-US" sz="2800" spc="-1" strike="noStrike">
                <a:solidFill>
                  <a:srgbClr val="00b050"/>
                </a:solidFill>
                <a:latin typeface="News Gothic MT"/>
              </a:rPr>
              <a:t>attractive industrie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wever, 36% of the variance in profitability is traced to a firm’s characteristics and ac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ompetitive Outcom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914400"/>
            <a:ext cx="8042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parity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there are no perceived differences among rival firm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a firm implements a strategy that creates superior value for customers relative to its rival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Sustained competitive 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is a competitive advantage that is long lasting (competitors are unable to duplicate it, or find it too costly to do so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dis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a firm in an industry does not have an advantage that its rivals do hav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08-30T19:14:44Z</dcterms:modified>
  <cp:revision>330</cp:revision>
  <dc:subject/>
  <dc:title>Slide 1</dc:title>
</cp:coreProperties>
</file>