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C12E-9F05-47D6-8533-78C02346F9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BD2A-401D-4B5B-9A48-A768E231B6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nies are finding that to survive they must compete in international markets as well as fend off foreign corporation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ttempts to gain ground in the United States, 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develop global markets and prepare employees for global assign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business must be prepared to deal with the global economy. This is made easier by tech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ffshor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s to the exporting of jobs from developed countries to less developed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nshor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fers to exporting jobs to rural parts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11F3-43CF-4E5B-9379-DD014189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5910-2728-403D-8877-CCF4FFC9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769076-8F42-4771-A352-F1CFCB2E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48E4B8-97ED-4D1C-B552-25611A5C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74A7B7-95B7-4C0E-91F1-2C98CA53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1AADD3-BDE7-41FC-A03B-F6AF9E03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2FF931-BF70-4944-A687-CB045E74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DD3425-C3C1-4D10-960E-B1CDD012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7AE6DB-02F3-49C2-B7CE-258C5D14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FDF5AB-4A48-499D-A0D1-2796A0E90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272E64-C329-40A6-B176-376329BE2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6BD786-8A5D-4CCA-9D58-8916A061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78C2-3CD1-41BD-A9C0-8AA3A21D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4967C1-81AC-422E-BD43-F4E70AFB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E30958-8927-4FE9-A0DD-76437D1F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802A06-E4F3-47A8-9128-545E352E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51B18D-8FC9-4F70-99B9-496DF88D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70B886-0359-4D51-957A-94590FFE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E25291-135E-450F-84FB-C39A5060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7E17C0-47A9-4C56-8094-12F7842C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DDBF34-F145-4F16-814A-AD193E57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175648-6370-4FFB-817E-A1D71D03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C73A14-CAFC-4B1E-AFD6-3EE5CB35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3517-3B79-400A-B66B-D5485FA6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55ADFF-9A6A-4AE3-BD4A-024D8147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8795FD-55C6-43C3-82C0-285660CE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C4992D-5A39-4E9D-9680-B7A5205F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513AC3-CD0C-4380-8EC8-FF1089D6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FE14D5-FC3E-47B2-847D-0162406A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3767C7-8B93-47EA-9402-ED1F8CBA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50BF9A-5292-4F40-85BA-F80B6D46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37FB93-EFF6-4202-A785-0C3B74FB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87F81B-4056-405D-8E1D-818E22B0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EBD48F-3864-43D5-AE86-8F3A5C38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E6BDF-9AE4-4877-A286-431E6EEF9CC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735DF7-8CD6-42C7-AFD5-B6B47AC7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E54F96-1421-4C92-9893-7FB074A2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298634-2E2C-43DB-B291-7E2B2F096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F20B2C-9015-4F84-BB8C-95BCFA2B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7123E0-FFAD-4DAC-AA17-D479C0FA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4CCC27-BC6A-4F5B-A62E-78C403EF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C16603-26F7-4F2D-9C07-98139276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BC9B5A-18A0-4926-B2F3-ECDCCB4A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4AE4D6-FB71-49F3-A4E6-0DB3B488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9E8016-0F63-4981-BCE1-B58E30D7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43095-9612-4EB3-A9DB-DF144B94438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3A2539-AA98-440F-BF55-5C36BBCB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E8B330-3F7A-41F7-AAA7-11B27553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A7A5CD-AA16-4845-8BE3-31DF575F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A97DF1-4482-414C-A49D-4CCE995ED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1D04C0-5BB3-4C40-B90E-5926F675E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E7D7FE-EED7-42F9-B7CD-181198B19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A53F51-0D47-4B86-8E6C-F08F3660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0FECC7-510E-4321-A7ED-D2E5571A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A35321-E46D-4CD4-A0FF-DFB2A22F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E1AAD9-F74F-4A16-915E-897384A9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E5C78-71D0-4DC8-A917-7EEC4158700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710DEE-9FFE-4705-B346-21B67890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5F8F8F-F96B-4D95-94B6-A856677F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75C5616-B515-4B08-8816-E8602CB1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DD9135-EC08-4233-A26E-23DE33CA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9740E2-F670-4F90-944A-541894B7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97912D-E419-4109-A330-D6F34D3BF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9D328D-DFDB-48D9-8164-85C3489B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EF05449-474D-4B47-B975-A700D89F1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1C3618-A143-414A-A615-8F9F9619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F95111-6A58-4840-B1BB-AE141FD6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B002D-A1FF-4664-81BC-DF31E1510CD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F3140E4-C619-4B53-BFF8-C8ECF212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1062832-F61F-4E8F-8363-898F8BE8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C14F0E8-F4A2-4F86-B9D8-AB8594BA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6726A20-45EB-4111-830A-ED3ACEF3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F8D62F-66D9-48A5-9D69-5D0834A6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5969C0-CAF3-472C-AF21-B880E5A1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94A83D-F366-45A9-AA44-43664187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DF8F80-577F-47A0-8F4F-8746CC1EE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655760-1DA9-4DB6-8B6D-4AEEAF1BE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42717-26E5-4906-9DBD-973478F834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D69ED-720A-45D3-A14D-B2B66DFB44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A19DD-DBC3-4052-9D21-6B4222F8AA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0B9C-F1A9-4744-BE62-A48BF202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AA7F4-1F2E-4465-B1B7-60E9745517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42A28-32B1-4009-86DD-B68E0D9E53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82AA9-69B4-4566-B845-A8CD2FC057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5F2A6-DD32-4698-98AA-4ED9A6E4A8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255D3-1CC3-47C5-A543-5CEAAD70C92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02D6-E03F-4572-81F0-C41EBD2D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3676-4752-455B-9DFB-C4A8B6A6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0A2ABC-69CB-4BFC-BEB0-84641B00C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D4B2-40CB-4C7B-BFFB-B0D85206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2ECBDF-774E-40A3-86A0-8B0AB678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DF4C9C-F7D7-4BFF-8512-EA58F79C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A942E3-7972-4AB7-8620-F0157956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8061A3-BB0C-4426-965D-DD642193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9BFA24-BF74-4F3B-B1BB-7BEAB3D8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1A8F24-07C0-4C93-910F-E0503D18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32ADEC-0294-41FC-B8DE-5F41ACAA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7F3364-303F-405C-BAF6-B443CB7B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29BECA-2776-42A0-A966-87EBCA72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161517-1B86-4E6F-8971-EC904E3FD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1421-AF5A-4695-A432-F651E59B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EB094D-40AF-4D79-870B-58817FE5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7C2D21-43D2-4B5B-8987-16C92609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945125-5FF9-4B2E-8FC9-9C535C26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5E5C4A-7104-4673-B2B1-C95DB8E8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C0B08D-135E-46F0-84B8-8CB5508A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87ABEE-6095-4DA4-8952-CFF77C4E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29B4A3-BA54-4BD9-AF8A-1BDA7BFD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7BC3D8-4209-49D5-8460-0029C713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CA2FD4-8C1E-4279-AA41-88F30DCE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F623B1-AB61-4A29-ADF1-A770D43A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62FA-F970-4DE8-8DC3-C6F46765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69254E-947A-46D5-ABCF-F751E4DE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15F383-A15D-4C37-8329-98F0B7F9F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4BCF01-098A-44E0-8EC9-97409BF7F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C2CCD4-AD03-452D-9E08-367A3E28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1E2E72-E5BA-4E0C-90DA-7B807FB7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D35ABB-9749-4A77-8C3C-87DB9E72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7017E9-B29A-4695-9902-23AA3880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E785BB-72A1-4C9E-ACB6-E0DE1AFA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FBFD12-7175-4C26-A415-662147B7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DDB3A5-DB88-44AA-95AD-74DCEB6D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6BBC-CDBE-41CF-BA93-7BE1C1C7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B768B7-DCF4-42EB-BFBE-FC69BF6B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1FCCEB-13F0-46D4-9FE4-8DDB5974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CBFB30-5757-41E6-ADA8-B55B7DDA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41FF8E-CA4C-428F-A1AC-3670085E1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C6631B-E148-45FB-9C1E-8C50189F4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62815D-056C-4A1F-984F-2B9AE703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B9FAC0-CC16-4C60-B9BB-A007BCF7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CA2413-F4E5-4F54-8890-7FDB660B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C3499F-0989-4EC5-85BB-220BA917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7DA17B-2F16-43E0-980A-05A88454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62EE-D2FB-4CAE-B25E-2A667A1C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C866D2-7519-4835-8AA1-1540ECE2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F09432-373A-4BAD-8C08-B1804F6C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1B347C-F844-4404-9874-349685BF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EBD3D9-E700-43D9-8D55-1BA80A83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A95A96-9944-4143-9A1B-C5DC0329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EB40EA-DE61-45BC-A066-56EDC22FF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E6AAAC-A264-402A-9054-D60BCE65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6EB570-E9CE-4048-AEA9-900FA7A78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FE73C7-22F7-4DA5-9B51-ABB44FF0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9C91ED-671C-47EB-A867-3C6A2BF9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EF04-89DE-4767-AA66-263848FD98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20BF-229E-42F3-8770-E860CD9610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C66B-B8CE-4ECC-A91B-4CEA6810E6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8AE2-110E-4FC2-B94F-547E5620B0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CCB9-EA3E-4D56-BE59-C03C221418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BA14-16B6-462E-BDBA-6686049C84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CEC4-0CD1-4A01-8A35-653F903477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C2E7-3385-49DD-BD27-D78D4D3C9D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5E75-AACC-4211-8ADC-1B10A9188D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F858-EFC2-48DF-8FDF-9E49239BEB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CCE9-847D-47CE-A78E-36990C0918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6B0E-B912-4528-A3F6-947FFD66A4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4e73"/>
                </a:solidFill>
                <a:latin typeface="News Gothic MT"/>
                <a:ea typeface="Geneva"/>
              </a:rPr>
              <a:t>Chapter 1</a:t>
            </a:r>
            <a:endParaRPr b="1" lang="en-US" sz="44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ategic Management 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amp; Strategic Competitiveness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ypes of Industry Structur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Perfect  (pure) competi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rge number of firm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mogeneous produc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 cost to enter the industr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ypes of Industry Structur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onopolistic Competi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rge number of firm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eterogeneous produc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 to moderate cost to enter the industr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onceptualiz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549000" y="1143000"/>
            <a:ext cx="8042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verage (normal)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equal to the returns that an investor would expect on an investment of similar risk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Risk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an investor’s level of uncertainty about the gains or losses from a particular investment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bove normal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greater than normal (exceeded expectations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Below normal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less than normal (failed to meet expectations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Measur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ccounting measures (via ratio analysis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rket measur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ubjective measures (stakeholders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urvival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e Need for a New Model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ny firms compete in lousy industries (many threats; intense rivalry; few opportunities)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CP logic suggests these firms will perform poorl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owever, some firms in lousy industries realize superior performance. Why?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icardian Economic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(Resource endowments)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nts (above normal returns) can be earned by changes that alter a resource’s valu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turns to a strategy depend upon the cost of implementing that strateg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Penrose’s View of the Firm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49000" y="1218960"/>
            <a:ext cx="804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 firm is a bundle of resourc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ed by an entrepreneur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What limits growth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51240" indent="-319680">
              <a:spcBef>
                <a:spcPts val="1199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creative capabilities of the entrepreneur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roductive resources are very broadly defined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rms are assumed to be heterogeneou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108000"/>
            <a:ext cx="9144000" cy="8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News Gothic MT"/>
              </a:rPr>
              <a:t>What are some useful resource categories?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hysical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uman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ational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ore useful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angible and In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 Resource-based Model of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bove Normal Returns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49000" y="1371240"/>
            <a:ext cx="8042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ources are heterogeneous and immobil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ources are used to develop capabilities (capacity of a set of resources to perform a task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pabilities give rise to core competencies, which may be a source of competitive advantag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trategic managers use these resources to formulate and implement strategies to achieve a competitive advantag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ategic Management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ic Management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t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e process of formulating and implementing strategies that are designed to achieve a competitive advantage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y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a pattern of resource deployments intended to improve or maintain performan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Understand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News Gothic MT"/>
              </a:rPr>
              <a:t>Firms that consistently underperform the market will experience a loss of support from investors and management will be forced to redeploy assets to more productive uses (Alchian &amp; Demsetz, 1972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News Gothic MT"/>
              </a:rPr>
              <a:t>What does this mean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It means . . .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vestors are interested in the performance of a firm relative to others in the capital market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rms that continue to perform poorly will be unable to attract investors and will not survive in the long ru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The preceding quote is based on efficient markets. 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is an efficient market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2514240"/>
            <a:ext cx="8042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n efficient market is one in which no single buyer or seller can systematically achieve superior performan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makes a market efficient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ny buyers and many seller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ull information is publicly availabl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dividuals are rational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The I/O Model of Above Normal Returns 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33520" y="121932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Examines the effect of the external environment on a firm’s performanc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Industry effects are greater than managerial effect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Four assumptions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Industry structure imposes constraint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Firms are homogeneous with respect to resources and strateg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Resources are highly mobile (differences are short lived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Managers are rational profit maximizer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8286840" y="6381720"/>
            <a:ext cx="819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0"/>
          <p:cNvSpPr/>
          <p:nvPr/>
        </p:nvSpPr>
        <p:spPr>
          <a:xfrm>
            <a:off x="8610480" y="653724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1-</a:t>
            </a:r>
            <a:fld id="{FCF45EC6-B325-4530-98DF-5CD9F7D9196F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CP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ucture, Conduct,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rm performance is determined by its industry structur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earch suggests that 20% of a firm’s profitability is attributed to its indust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us, managers should look for </a:t>
            </a:r>
            <a:r>
              <a:rPr b="1" i="1" lang="en-US" sz="2800" spc="-1" strike="noStrike">
                <a:solidFill>
                  <a:srgbClr val="00b050"/>
                </a:solidFill>
                <a:latin typeface="News Gothic MT"/>
              </a:rPr>
              <a:t>attractive industrie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wever, 36% of the variance in profitability is traced to a firm’s characteristics and ac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ompetitive Outcom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914400"/>
            <a:ext cx="8042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parity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there are no perceived differences among rival firm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a firm implements a strategy that creates superior value for customers relative to its rival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Sustained competitive 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is a competitive advantage that is long lasting (competitors are unable to duplicate it, or find it too costly to do so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dis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a firm in an industry does not have an advantage that its rivals do hav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08-30T19:14:44Z</dcterms:modified>
  <cp:revision>330</cp:revision>
  <dc:subject/>
  <dc:title>Slide 1</dc:title>
</cp:coreProperties>
</file>