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FC2D-DEC4-4367-9B84-2F74924DE2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7BB6-A9A1-4D1A-B61D-1170F65374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nies are finding that to survive they must compete in international markets as well as fend off foreign corporation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ttempts to gain ground in the United States, 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develop global markets and prepare employees for global assign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business must be prepared to deal with the global economy. This is made easier by tech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ffshor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s to the exporting of jobs from developed countries to less developed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nshor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fers to exporting jobs to rural parts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E99D-AD83-4D86-A9AE-4CA584D8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08A6-239C-4E38-BA2D-2C4AD6CA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97D689-2D2A-4634-9514-B012C8BA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9C1271-41CE-41D6-9686-475A4F8F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BA761C-ABF6-48F9-B95C-C3888C42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6A2BD2-FAE2-4256-8522-6BAD5977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5D6E93-AACC-4C69-BAC9-2E5AA73A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FDC59D-FCF1-49E6-8C0D-73ABF969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777972-C5E3-489A-9C94-C5F65BCB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EBBD72-E5D3-4762-AEAD-2495F7386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5E59BF-6759-4205-9169-10FAB553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FB8763-9699-40C2-903B-E24E556C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3A6C-2A91-482D-BAE4-2CF4363FC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1BE9F5-8879-4DD7-91AD-61CE278E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007A96-94E2-475D-9E81-E87D9332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52D83A-9177-44E6-8760-50948D74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BDA31C-C57C-4625-B094-58EDECCC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319334-4361-4CED-BF8D-1C800223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34D871-A0A4-4E8D-A55F-2CF22E1A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560116-0585-476F-BC85-CAAD8B8D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FECB9E-D211-4950-B491-2680C723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5CAF36-05BC-4563-AD8F-1C3F4454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BB33B3-26FA-43CE-9521-AE85CFE64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08E0-A808-4308-97B1-B013333E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CD5557-DFA3-4B6A-94CD-CFE7694B9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90EC48-CEAD-4174-9D14-457D5ECB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A2060C-E718-4F89-A59B-04527B9C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60550B-068D-4F12-B76B-87D4C9EE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10B2E9-C6CB-4EF3-A04D-01423DC6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031DDE-E5D3-4D89-A326-8892EAD2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81C9CD-22F5-4B73-B6F2-CBB9F18C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855977-41D2-49CB-9A13-F96EDB04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058D80-287A-4A9E-BDB6-EAB3ADAC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0DCB4D-B564-45D5-8B2B-4F256D9D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CFA23-3D61-48AE-869B-B4F91A64276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3706B1-5F7C-4FA6-91F8-372E4484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7F9B3E-3496-43D4-87BF-7137104C3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E44543-5BE4-480D-8941-F902B77D2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EF9981-94F9-4883-B3DE-3721F6B4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4B8A30-17A2-4B9C-AED2-31A6CAFE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765EE9-3983-41AB-84B0-D64A935C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694417-A200-4704-A8B8-F1D3D882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BBB497-EE47-4A8C-89F8-C6AB6711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7710FB-EDCF-4827-AF65-3CC11731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0CD528-0BD8-4296-A173-9019D45A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644B2-5CA0-4D3A-9201-F47FEF1E6AC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985A2A-917A-49C7-9C06-037C4E42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59C8DA-D011-4A89-B2B4-8465D707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5266AE-AFC4-4828-8CC8-30623DEF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C3C9EF-57F9-46CD-857E-68E232A7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655A53-CC8A-4B39-9598-9EFE9734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890FA1-B80C-4DE2-82F0-5D22EB95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82365D-D7DF-4989-928A-A73B8355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B60D7E-BD88-4F69-AAC7-CB8E6B98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4BEF7D-7F96-4334-9B1A-BBB6FC42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C6E4E1-CD4D-4FD6-A765-C7285697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B4457-2908-4E72-AEE8-D1CF4A7CBA2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7EC75C-7B55-4CC5-BE23-D08CAEC5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7793B6-670B-4910-A3A0-62188B57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506486-E5D3-4E78-B7A3-759EEFE3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17D174-608C-45C1-AD43-954F64FA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18BEAB-2CA6-413C-9E2B-43B46514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6019A7-B5DD-49F3-BB7B-3FAB36B51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748248-01E3-46A7-BAA2-E820ADE9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BC27ED-BC26-4BFC-AD29-2F357358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A7D682-6611-4A4B-81A6-7FEC3D4A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C56B5DA-228D-4CE2-90C4-E9EAE8C8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E8B35-0011-44B3-89B1-DD9E4186AAC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853030-44C7-4EB7-9985-CEC96240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BB346F-EC07-4BD4-911A-7DF8CD3C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4FD73E9-8FBD-4EED-B528-61E3F48F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7C0BE7-E01D-4DD7-9B9F-A55DB9FF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7C6D71-C747-48F6-B0A1-3BEC88FA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0FFABF-E486-43F4-A05E-3BEC04BE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C337A2-FECC-4D57-8E03-1E9F4D0F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486E9AA-AAD2-433C-9332-0119B33F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A985D88-7478-430E-81B9-1DD32038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16CA5-170A-488D-BB6D-D7B1C70284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19774-8B7E-4DA7-8F8C-41F8A681CB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23159-0A14-47E8-813E-EA9F793B04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09DB-3701-43EC-AADE-4CBFA0C8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A9714-8EC3-451D-A6BF-737C4BF00E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B5798-AAA2-4BA2-BA4F-11E5DCEC8C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48BA3-C7B5-42FC-8BB4-283B7D2D10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49067-48EA-4152-ACD3-9DB3FC286B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20357-CF25-4459-92FB-04369D51CF8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A960-8E05-4C83-A9E0-14DB22D7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CAA2-099E-4B46-96E3-1F6E7AED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E5047E-C510-4D19-A58F-F789E4A9A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9A8B-AF77-4FB7-9A63-089CCE77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43FEB8-C3E9-4FAF-AF44-934A87BA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2891DD-D6FF-4D5C-A978-E909F7B1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00B837-E8BC-40AF-B3AC-A887A86F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CD5A1B-D94B-4C18-A404-9741D20E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BC6F74-8300-4E24-B578-4212CD56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719084-333A-4D2E-AF83-A0ACD095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09F983-412F-45F1-835C-C3157DA3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692C6E-C76E-4FB3-866A-DE86818E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BB73F3-2BCD-4498-95CF-0C84E8F2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4BAE50-4F31-4B30-9083-BE2728E8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6DE3-EA17-48BA-BC35-85FF2097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1E2D4C-E607-43B6-828C-A5BBD724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158115-7AA3-4E17-A667-F98246A3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26E864-D03E-4EF8-BC43-370D35B0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B0749F-56C5-49A7-BE69-AA8233A1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92750C-0D2E-4D59-B745-BA432088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985896-A10E-4A9F-9C01-B02B4314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D5CEFB-1E7B-43DE-8221-482E8BD7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7AE48F-3B1A-48D6-9B56-8AA3C90A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D684C1-9D8C-4596-90CB-0E5D537F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1DE5DA-37A4-4E2D-9F83-97F2DEB9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5DBA-ACF8-49A2-9D39-2AEA3BB7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F8CBEB-134E-4191-88F5-2910C092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61150B-C090-4FFD-948D-EB6CB2BB6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906F93-CE50-4D70-BBD4-242D6EE3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6CE68A-23D2-4215-8B18-B0ED64457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98C410-38E1-45DB-96ED-E8254FC0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EB8144-F820-4E95-8796-FC7A248B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EBED7B-64CD-4BE3-9BA1-974C1E97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DEA275-D883-494C-AD4A-F97857A1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789D5D-C918-4421-834E-13AFA9F2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1CBD29-86B1-4CB7-949C-283E0D32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FB19-2796-48B2-AA22-8C77DFC6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D9F3C0-1E0F-4279-B5F1-CBD8FC83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A3EA58-AAFC-4784-A70D-0EAE1006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C06FE8-49FB-4A69-8789-ED52D9F8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EB00A4-6F77-4AF1-824F-758F6699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11A941-EB76-44C3-8D60-221FDFD0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ABA2F3-2670-45B8-93D3-C453AA550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881F6C-A887-4110-BB3E-3BAF17A7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C329D8-3F04-4292-991D-501A8815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F546C6-C6D2-4FEB-894C-4D37BCAA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6D81CB-DDB2-40D9-B730-F349C826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2A66-2F47-45E3-8021-BF4C8C11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37F5EE-5518-481F-8E35-5878D4F8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335A65-6232-49FF-952B-F31D36AE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B83AAD-72B6-4EC4-9BAB-233E240B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F37A2D-28C9-4797-8EB5-2F2FFC56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E31732-D267-4FA3-A379-CAF4C4D4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589533-9A6F-435B-9F3E-3B637678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1BA6DB-C881-4087-9DA6-F81952CC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0C079E-13F0-4B72-B6C3-70F51D91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871AEE-2BC1-4DEE-BFB1-30B856D8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45E769-22EA-45AD-8D11-5DDFE5FE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42F6-F43F-4DCB-8D89-0810DE65F1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0FFB-2C67-4C27-8747-FA3D96DB53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865E-2CB2-4B28-8F53-9356D089C3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C4AF-F07C-4C97-8DA3-1F17BFC251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4525-A483-460A-9EF4-E54C13D79E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9008-ACA1-42E3-B594-3AD91675A0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D55E-5511-43AD-B40A-246BEDBEEB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FB28-92A9-46EB-9940-F942AE80A4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85C2-5585-4617-A53F-4B7BAD8B72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F264-A31E-4736-98D8-A1A008667E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2BEB-763A-4112-8675-A35347965A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7839-079B-4790-8621-FDA089039B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4e73"/>
                </a:solidFill>
                <a:latin typeface="News Gothic MT"/>
                <a:ea typeface="Geneva"/>
              </a:rPr>
              <a:t>Chapter 1</a:t>
            </a:r>
            <a:endParaRPr b="1" lang="en-US" sz="44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ategic Management 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amp; Strategic Competitiveness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ypes of Industry Structur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Perfect  (pure) competi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rge number of firm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mogeneous produc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 cost to enter the industr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ypes of Industry Structur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onopolistic Competi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rge number of firm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eterogeneous produc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 to moderate cost to enter the industr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onceptualiz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549000" y="1143000"/>
            <a:ext cx="8042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verage (normal)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equal to the returns that an investor would expect on an investment of similar risk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Risk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an investor’s level of uncertainty about the gains or losses from a particular investment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bove normal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greater than normal (exceeded expectations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Below normal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less than normal (failed to meet expectations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Measur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ccounting measures (via ratio analysis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rket measur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ubjective measures (stakeholders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urvival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e Need for a New Model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ny firms compete in lousy industries (many threats; intense rivalry; few opportunities)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CP logic suggests these firms will perform poorl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owever, some firms in lousy industries realize superior performance. Why?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icardian Economic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(Resource endowments)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nts (above normal returns) can be earned by changes that alter a resource’s valu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turns to a strategy depend upon the cost of implementing that strateg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Penrose’s View of the Firm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49000" y="1218960"/>
            <a:ext cx="804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 firm is a bundle of resourc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ed by an entrepreneur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What limits growth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51240" indent="-319680">
              <a:spcBef>
                <a:spcPts val="1199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creative capabilities of the entrepreneur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roductive resources are very broadly defined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rms are assumed to be heterogeneou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108000"/>
            <a:ext cx="9144000" cy="8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News Gothic MT"/>
              </a:rPr>
              <a:t>What are some useful resource categories?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hysical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uman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ational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ore useful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angible and In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 Resource-based Model of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bove Normal Returns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49000" y="1371240"/>
            <a:ext cx="8042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ources are heterogeneous and immobil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ources are used to develop capabilities (capacity of a set of resources to perform a task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pabilities give rise to core competencies, which may be a source of competitive advantag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trategic managers use these resources to formulate and implement strategies to achieve a competitive advantag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ategic Management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ic Management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t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e process of formulating and implementing strategies that are designed to achieve a competitive advantage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y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a pattern of resource deployments intended to improve or maintain performan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Understand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News Gothic MT"/>
              </a:rPr>
              <a:t>Firms that consistently underperform the market will experience a loss of support from investors and management will be forced to redeploy assets to more productive uses (Alchian &amp; Demsetz, 1972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News Gothic MT"/>
              </a:rPr>
              <a:t>What does this mean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It means . . .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vestors are interested in the performance of a firm relative to others in the capital market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rms that continue to perform poorly will be unable to attract investors and will not survive in the long ru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The preceding quote is based on efficient markets. 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is an efficient market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2514240"/>
            <a:ext cx="8042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n efficient market is one in which no single buyer or seller can systematically achieve superior performan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makes a market efficient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ny buyers and many seller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ull information is publicly availabl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dividuals are rational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The I/O Model of Above Normal Returns 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33520" y="121932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Examines the effect of the external environment on a firm’s performanc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Industry effects are greater than managerial effect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Four assumptions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Industry structure imposes constraint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Firms are homogeneous with respect to resources and strateg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Resources are highly mobile (differences are short lived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Managers are rational profit maximizer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8286840" y="6381720"/>
            <a:ext cx="819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0"/>
          <p:cNvSpPr/>
          <p:nvPr/>
        </p:nvSpPr>
        <p:spPr>
          <a:xfrm>
            <a:off x="8610480" y="653724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1-</a:t>
            </a:r>
            <a:fld id="{6FFB25DA-962C-4471-89FE-57BF5B2FEF80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CP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ucture, Conduct,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rm performance is determined by its industry structur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earch suggests that 20% of a firm’s profitability is attributed to its indust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us, managers should look for </a:t>
            </a:r>
            <a:r>
              <a:rPr b="1" i="1" lang="en-US" sz="2800" spc="-1" strike="noStrike">
                <a:solidFill>
                  <a:srgbClr val="00b050"/>
                </a:solidFill>
                <a:latin typeface="News Gothic MT"/>
              </a:rPr>
              <a:t>attractive industrie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wever, 36% of the variance in profitability is traced to a firm’s characteristics and ac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ompetitive Outcom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914400"/>
            <a:ext cx="8042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parity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there are no perceived differences among rival firm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a firm implements a strategy that creates superior value for customers relative to its rival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Sustained competitive 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is a competitive advantage that is long lasting (competitors are unable to duplicate it, or find it too costly to do so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dis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a firm in an industry does not have an advantage that its rivals do hav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08-30T19:14:44Z</dcterms:modified>
  <cp:revision>330</cp:revision>
  <dc:subject/>
  <dc:title>Slide 1</dc:title>
</cp:coreProperties>
</file>