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3455-8B72-4A6F-AC58-E9C5A8E44D8E}"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987B6-7A49-4E88-8017-5FCA725FBC8B}"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45EF6-16CA-4265-8731-DCCAD130F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1EF2F-933D-4144-8675-CC91BFBEC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AC5B821-370F-40A2-AA28-637F38B70CC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3977B8A-F40D-44D6-A98F-66117DBEDC6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628A3A2-5B21-4EB9-9DFE-1A140D1A01B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71CEA5D-5330-456C-8A31-D86E5B4CCDE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305421E-3809-450B-BC72-CAB1649C0E7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C52C4DD-9C5D-41F5-B293-AE3E9D8B0C9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AE3B10B-55DD-4A05-B5A2-EA3772E60A0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2665034-0614-4DBD-97C1-C0FC807F696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798E2D2-121E-4C88-BA0C-75AD0247A17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9CE5462-8F82-4B72-8907-3E476DD7C1B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BE8AA-6D0D-4D77-AE31-71CCED416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2427F0C-6FF4-47CA-9C9A-97B675BBCEF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5CBAC6B-5974-48C0-B47D-5729124C5D6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ABCEA67-C643-46A2-8E27-9A3421ECB47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52F356D-9C14-45AF-88E1-38181EB8862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F5D5FC4-429D-4B33-9DDE-44873D06123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2CD292E-08FB-444F-8927-81F47C5BBA5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9AC7EC0-C9DD-4CA7-8000-E48EB9F41E5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F19F5E6-87D2-47BB-89AE-83C38D23D82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46CD609-138F-4A7A-876F-73DE510C648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57D1AD7-320F-4DFA-BAAB-3E53D1BAACD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61221-0FB4-4FA7-9D92-C88386BB3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6AD4E9D-C5B2-4C3B-B3B1-FEA78AA9E03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0942F43-9E56-4EA0-B783-A563EAA43DE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89B8299-6BD2-4FC0-BD72-EB8CAF9946C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48C0532-00BC-4C74-B9D2-865D3288E7E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808751F-6D2F-4CE8-B99A-3179DF02A0D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B284038-2B3B-4CB6-8E27-DF1AF96B712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4EE77DD-F087-40D6-AF61-E524E17BDC5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F6C17FA-0D13-426B-9C6B-3640D33A24C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72E9C42-B459-46C8-ACAD-FE2D1C057D6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F74BB1B-6C06-47DE-B5BE-A8A6D64EE5A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81D109-0A48-46FF-B789-52A5DB26CFD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680B16F-FC7E-492F-B4A9-5A94B135FF1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D18A310-2001-4497-86DD-E6845711105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68A25EC-98FD-473B-89ED-104EF64C508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0D2152D-C099-4270-8513-0EAC844C81E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05DC3C2-863C-4C01-A709-450B90A1E02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05DDEC1-75D7-44AB-BD9F-AAD53712FEB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C0E5252-736D-44EC-A981-8F9470F1ABE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9B9AA53-F12C-4C16-845C-02E1907D50F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76A8E1A-F3D8-45EC-AC16-DF3E8679B72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C409F7B-AB47-40FC-BE74-DAE65354C8D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80ED36-BF7A-413D-AF4B-34DAC2A15D2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E05EE44-1138-48FC-9CBE-2056D468F06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8812041-62C6-47EB-AF1B-493EE453C24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E7CB545-2135-4CD4-BE0E-B17EA8AEEEE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5DD6252-A4CD-4BAA-9C1A-BFBAAC52A5F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03B21C6-AEF9-4A23-99C8-B2F68F679E8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FCBCDD1-0EA2-4DFD-8AD6-220B4ADB691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1D22134-B5F0-4918-9F03-7ADEE33CEEC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4524D8D-D272-417A-A13C-3677EB42650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DD02EBA-87BA-4369-8554-420A451E8D6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11C22CB-31DD-4A82-A5A6-95266CEF918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D08EF7-087E-4C25-BF42-11B252A5DF8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5D8D129-23FA-4299-B633-5C6A901DC94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75249D2-29C6-420C-A8F6-5DF7B4AA8DD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83EEEDE-D399-4B05-AE57-FED8636E942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843EC95-813C-4148-85CF-940FD92651E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6BE90A7-78A5-4B21-A1B4-7870AC5C638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5A95BAE-DC40-4B5F-B4EC-A0B128EAEB0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98C41E4-4AA9-4148-9647-D7EA73901AA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0AFFF8A-FB98-4D4E-BAA5-9AE42D9FE89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EDA0C6A-F13D-4C01-871C-49070C930CD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9C5ADEF-B84C-4696-AFD6-006248663E1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9A8B74-DA70-4B10-AB15-B4FD1C88BEE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8D8A786-C287-4D97-9C73-77DD820BC97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AC251E2-ED91-4509-BA6E-FEBFE6DC43A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06C8C43-99C3-4EB1-96B7-3717161B4EA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3031C77-5B7A-4A6D-B35C-405AAE43D5D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4D32163-4734-490E-BEC3-C267D1F9090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002C635-4719-4277-9F79-66AD57BD991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AFEFDE6-84D0-4495-88CE-C594F88C90C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22F55EE-F4F0-4B84-9C38-A54D4234C46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4B0E83F-DF1C-4059-89B6-3F14A0D0893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8E63F1-7116-490A-B148-B7D09B6C2BFE}"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458DDA-11BD-4DAE-A412-7AEA52F2C09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915DC7-74B7-450B-A473-491CD3C2BF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57B85-6AA2-4899-A9E6-E0DF037BE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AD7221-758E-462B-AB1B-0B87B24553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CC312E-FABF-43B6-8ABE-BDA03C8AAA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95A11D-6E33-4E01-B5B9-22FF41B841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CF47E3-3C6D-4642-A79C-BD9BF258A5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CF2A55-CBBE-4102-92E4-AADDD45AB5A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781F0-4C0D-4AB5-B14D-D5736FDAB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FE7C4-6D45-4ADA-AEAB-EB954E0BB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460D415-1A32-4290-A1FD-2DDA4104417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B1E99-08E9-4749-B99D-17F91BD7A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CE30FE8-F5E2-4838-88B1-7979B3C134F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1760F34-4C65-4AC0-BC52-3B8098C94B8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B3DBE72-7E34-482D-B457-F81097F8B09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253350-D26B-4ABE-9947-191776DEF1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0507B3F-1201-4D13-B84E-C6B69194F09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ED0D78-1F31-46F8-875F-699FE8D964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5F55EE-A3A2-4898-B280-03D970BC81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FF9200-C36E-4313-90B7-EA9199FA61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CFC2057-3A82-451F-ABBB-71053D7A02D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8CC88C6-A8E4-48AE-8404-F5FC2F09E96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4ECBB-0F76-48EF-95B2-EAE355933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DBE94A4-E54E-4417-8D1D-7C345726ADD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B56D4CE-4C59-496F-A6B2-64192D6ED07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6386EB3-D1D3-4C26-B26A-85014071CE2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876BE3-D169-453C-AE91-B635F6CD27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E125A36-BE70-49BA-B3FC-E2E02E1D55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261B131-F028-4C29-AFCE-1EBB1CA3902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CFCCFE9-25F8-4C51-B33B-864BD7747C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E0C02A-C151-4C8A-8654-C9EAF3577F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6FD8A7-0F7C-48D9-8E45-D3EC72809DF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12205D-C415-4666-AC07-28D3E5F423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17F6E-254D-43E6-801F-05F5E800D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4DA318A-4197-4CEC-A146-44777EA8E6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36841C6-EAF0-45CC-9984-D69A750337F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7858246-9677-48BA-92D0-C2C11E24396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5A72A99-5BEB-4604-8D41-EADC8E34510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05948CB-9A5C-494A-BF9E-30D3256A26B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821450C-86E2-4988-89B6-901ED801624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0E8372A-0834-437F-A87C-BDD3976FFB7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F38D4E3-3F72-4750-8771-D9F499F18C6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8FAFBD7-6AFD-4563-A14E-4145DFBAF6D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7BCFBA5-AA10-44DD-AC38-440446D8F24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BA613-33E0-4579-9F4A-D88CCCEE0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1A39012-AFF8-458D-93BC-E49519F327E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169F3A-60D5-4C35-8A70-507BEAC2045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A8A7D18-4142-4A03-BD04-74AD4BF7FF7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76237B2-80A5-47EA-B788-C7701BBE511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3EBD48D-CD2F-4456-AB9D-0B7A4F24042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D45454B-7EAC-4C76-AECF-C6FA31B4A98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6DF86D9-A694-4D36-BE7A-C4927ADEF93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FF31685-FFB0-46A1-A599-5D5F20F6E2D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EA12162-18C4-4436-AABD-3C8894D43FF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0A41239-55E1-4AF2-803E-BF4CEEAF3DF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C2BF8-705F-4AD0-8289-853613331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6B43C19-49DE-454E-93C8-B86EC2850FD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ACDAFAD-BA63-43D9-A625-BDAC7B2628F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190A527-F3E6-4607-9B24-D0897A74206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D01EB54-D7EA-4E55-A215-8D4499C1EED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E51D17C-A8AE-47CF-9411-F7E6B1D7C83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D87E360-1EBD-475E-869E-4D628BD60F6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E0C27D4-FCD1-4F06-BC0A-47F82E22862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3AC9405-1509-4CAF-8AF4-406CB38AE07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CCCB742-659B-480B-BD68-71156A59139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BDA000C-2AC0-45E6-932B-3892DE02C1C5}"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2FAF-D950-4403-B4DD-BCDB5E24CA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9F19-1DE4-4D08-9CB4-C0F0ECFF6D2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CA82-6544-422F-820C-B2004BF289F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9D4B-1176-45EB-A601-E082A428E6B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D94D-E1F2-4AA1-BC00-D00DB3EC92B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EC5D0-60BE-4B5C-9F49-27BBFD42037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40B1-EDE5-4312-8C30-FD64905EE1B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6E73-38AA-44C7-8D68-30E02D43CDC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AA3F-D9EE-40AF-963C-745F955A445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1067-C06A-4752-B63F-74EDBBCBCBE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C65C-61A0-4D7C-94B1-4711083135F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8035-F992-4421-8660-42F28E07CBA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e73"/>
                </a:solidFill>
                <a:latin typeface="News Gothic MT"/>
                <a:ea typeface="Geneva"/>
              </a:rPr>
              <a:t>Chapter 2 </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The External Environment:</a:t>
            </a:r>
            <a:endParaRPr b="0" lang="en-US" sz="3200" spc="-1" strike="noStrike">
              <a:solidFill>
                <a:srgbClr val="595959"/>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Opportunities, Threats, Industry Competition, and Competitor Analysi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nsity of Rivalry</a:t>
            </a:r>
            <a:endParaRPr b="1" lang="en-US" sz="3600" spc="-1" strike="noStrike">
              <a:solidFill>
                <a:srgbClr val="ff0000"/>
              </a:solidFill>
              <a:latin typeface="News Gothic MT"/>
            </a:endParaRPr>
          </a:p>
        </p:txBody>
      </p:sp>
      <p:sp>
        <p:nvSpPr>
          <p:cNvPr id="661" name=""/>
          <p:cNvSpPr txBox="1"/>
          <p:nvPr/>
        </p:nvSpPr>
        <p:spPr>
          <a:xfrm>
            <a:off x="549000" y="1599840"/>
            <a:ext cx="8042040" cy="4343400"/>
          </a:xfrm>
          <a:prstGeom prst="rect">
            <a:avLst/>
          </a:prstGeom>
          <a:noFill/>
          <a:ln w="0">
            <a:noFill/>
          </a:ln>
        </p:spPr>
        <p:txBody>
          <a:bodyPr anchor="t">
            <a:normAutofit/>
          </a:bodyPr>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balance of competitor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dustry growth rate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ack of product differentiation.</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 switching cost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stake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exit barri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Industry Attractiveness</a:t>
            </a:r>
            <a:endParaRPr b="1" lang="en-US" sz="3200" spc="-1" strike="noStrike">
              <a:solidFill>
                <a:srgbClr val="ff0000"/>
              </a:solidFill>
              <a:latin typeface="News Gothic MT"/>
            </a:endParaRPr>
          </a:p>
        </p:txBody>
      </p:sp>
      <p:sp>
        <p:nvSpPr>
          <p:cNvPr id="663" name=""/>
          <p:cNvSpPr txBox="1"/>
          <p:nvPr/>
        </p:nvSpPr>
        <p:spPr>
          <a:xfrm>
            <a:off x="549000" y="1218960"/>
            <a:ext cx="8042040" cy="47242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alyzing the five forces within an industry allows firms to determine the industry’s attractivenes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 </a:t>
            </a:r>
            <a:r>
              <a:rPr b="1" i="1" lang="en-US" sz="2800" spc="-1" strike="noStrike">
                <a:solidFill>
                  <a:srgbClr val="595959"/>
                </a:solidFill>
                <a:latin typeface="News Gothic MT"/>
              </a:rPr>
              <a:t>attractive industry </a:t>
            </a:r>
            <a:r>
              <a:rPr b="0" lang="en-US" sz="2800" spc="-1" strike="noStrike">
                <a:solidFill>
                  <a:srgbClr val="595959"/>
                </a:solidFill>
                <a:latin typeface="News Gothic MT"/>
              </a:rPr>
              <a:t>is one in which there are many opportunities and few threats. This gives firms the potential to earn normal to above normal returns.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Strategic Groups</a:t>
            </a:r>
            <a:endParaRPr b="1" lang="en-US" sz="3600" spc="-1" strike="noStrike">
              <a:solidFill>
                <a:srgbClr val="ff0000"/>
              </a:solidFill>
              <a:latin typeface="News Gothic MT"/>
            </a:endParaRPr>
          </a:p>
        </p:txBody>
      </p:sp>
      <p:sp>
        <p:nvSpPr>
          <p:cNvPr id="665" name="PlaceHolder 2"/>
          <p:cNvSpPr>
            <a:spLocks noGrp="1"/>
          </p:cNvSpPr>
          <p:nvPr>
            <p:ph/>
          </p:nvPr>
        </p:nvSpPr>
        <p:spPr>
          <a:xfrm>
            <a:off x="1218960" y="1752120"/>
            <a:ext cx="7467480" cy="4295880"/>
          </a:xfrm>
          <a:prstGeom prst="rect">
            <a:avLst/>
          </a:prstGeom>
          <a:noFill/>
          <a:ln w="0">
            <a:noFill/>
          </a:ln>
        </p:spPr>
        <p:txBody>
          <a:bodyPr anchor="t">
            <a:normAutofit/>
          </a:bodyPr>
          <a:p>
            <a:pPr marL="455760" indent="-455760">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set of firms that are similar among themselves but different from firms in other groups.</a:t>
            </a:r>
            <a:endParaRPr b="0" lang="en-US" sz="2800" spc="-1" strike="noStrike">
              <a:solidFill>
                <a:srgbClr val="595959"/>
              </a:solidFill>
              <a:latin typeface="News Gothic MT"/>
            </a:endParaRPr>
          </a:p>
          <a:p>
            <a:pPr marL="455760" indent="0">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66"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D681F237-6250-43B5-8DF8-8CFA4915B12F}"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665">
                                            <p:txEl>
                                              <p:pRg st="0" end="0"/>
                                            </p:txEl>
                                          </p:spTgt>
                                        </p:tgtEl>
                                        <p:attrNameLst>
                                          <p:attrName>style.visibility</p:attrName>
                                        </p:attrNameLst>
                                      </p:cBhvr>
                                      <p:to>
                                        <p:strVal val="visible"/>
                                      </p:to>
                                    </p:set>
                                    <p:animEffect filter="barn(inHorizontal)" transition="in">
                                      <p:cBhvr additive="repl">
                                        <p:cTn id="14" dur="500"/>
                                        <p:tgtEl>
                                          <p:spTgt spid="6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etitor Analysis</a:t>
            </a:r>
            <a:endParaRPr b="1" lang="en-US" sz="3600" spc="-1" strike="noStrike">
              <a:solidFill>
                <a:srgbClr val="ff0000"/>
              </a:solidFill>
              <a:latin typeface="News Gothic MT"/>
            </a:endParaRPr>
          </a:p>
        </p:txBody>
      </p:sp>
      <p:sp>
        <p:nvSpPr>
          <p:cNvPr id="6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etitor intelligence refers to the information on rival firms that is gathered to better understand and anticipate the strategies, assumptions and capabilities of competitors</a:t>
            </a:r>
            <a:r>
              <a:rPr b="0" lang="en-US" sz="2800" spc="-1" strike="noStrike">
                <a:solidFill>
                  <a:srgbClr val="595959"/>
                </a:solidFill>
                <a:latin typeface="News Gothic MT"/>
              </a:rPr>
              <a: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lementors</a:t>
            </a:r>
            <a:endParaRPr b="1" lang="en-US" sz="3600" spc="-1" strike="noStrike">
              <a:solidFill>
                <a:srgbClr val="ff0000"/>
              </a:solidFill>
              <a:latin typeface="News Gothic MT"/>
            </a:endParaRPr>
          </a:p>
        </p:txBody>
      </p:sp>
      <p:sp>
        <p:nvSpPr>
          <p:cNvPr id="67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fers to the companies that sell complementary goods and services that may add value to the focal firm’s goods and servic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76680"/>
            <a:ext cx="8042040" cy="13366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The General Environment</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The general environment is composed of segments that are external to the firm and these segments influence </a:t>
            </a:r>
            <a:r>
              <a:rPr b="1" i="1" lang="en-US" sz="3200" spc="-1" strike="noStrike">
                <a:solidFill>
                  <a:srgbClr val="595959"/>
                </a:solidFill>
                <a:latin typeface="News Gothic MT"/>
                <a:ea typeface="Geneva"/>
              </a:rPr>
              <a:t>all </a:t>
            </a:r>
            <a:r>
              <a:rPr b="0" lang="en-US" sz="3200" spc="-1" strike="noStrike">
                <a:solidFill>
                  <a:srgbClr val="595959"/>
                </a:solidFill>
                <a:latin typeface="News Gothic MT"/>
                <a:ea typeface="Geneva"/>
              </a:rPr>
              <a:t>organizations. However, these segments may impact different organizations in different way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3C6DB970-74A2-456C-819D-46FB19F66629}"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Industry Environment</a:t>
            </a:r>
            <a:endParaRPr b="1" lang="en-US" sz="3600" spc="-1" strike="noStrike">
              <a:solidFill>
                <a:srgbClr val="ff0000"/>
              </a:solidFill>
              <a:latin typeface="News Gothic MT"/>
            </a:endParaRPr>
          </a:p>
        </p:txBody>
      </p:sp>
      <p:sp>
        <p:nvSpPr>
          <p:cNvPr id="64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industry environment refers to a set of factors that directly impact all firms within a particular industry. These factors will vary from one industry to the next.</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External Environmental Analysis</a:t>
            </a:r>
            <a:endParaRPr b="1" lang="en-US" sz="3600" spc="-1" strike="noStrike">
              <a:solidFill>
                <a:srgbClr val="ff0000"/>
              </a:solidFill>
              <a:latin typeface="News Gothic MT"/>
            </a:endParaRPr>
          </a:p>
        </p:txBody>
      </p:sp>
      <p:sp>
        <p:nvSpPr>
          <p:cNvPr id="64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Opportunities are conditions, that if properly exploited, should help the firm achieve strategic competitivenes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reats are conditions that may hinder or interfere with a firm’s efforts to achieve strategic competitivenes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08000"/>
            <a:ext cx="86868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egments in the General Environment</a:t>
            </a:r>
            <a:endParaRPr b="1" lang="en-US" sz="3600" spc="-1" strike="noStrike">
              <a:solidFill>
                <a:srgbClr val="ff0000"/>
              </a:solidFill>
              <a:latin typeface="News Gothic MT"/>
            </a:endParaRPr>
          </a:p>
        </p:txBody>
      </p:sp>
      <p:sp>
        <p:nvSpPr>
          <p:cNvPr id="65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emographic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c</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olitical/Leg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ociocultural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echnology</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lob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Five Industry Forces</a:t>
            </a:r>
            <a:endParaRPr b="1" lang="en-US" sz="3600" spc="-1" strike="noStrike">
              <a:solidFill>
                <a:srgbClr val="ff0000"/>
              </a:solidFill>
              <a:latin typeface="News Gothic MT"/>
            </a:endParaRPr>
          </a:p>
        </p:txBody>
      </p:sp>
      <p:sp>
        <p:nvSpPr>
          <p:cNvPr id="653"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reat of new entra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es of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differentiation</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apital requireme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ccess to distribution channel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st advantages other than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overnmental polic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Suppliers</a:t>
            </a:r>
            <a:endParaRPr b="1" lang="en-US" sz="3600" spc="-1" strike="noStrike">
              <a:solidFill>
                <a:srgbClr val="ff0000"/>
              </a:solidFill>
              <a:latin typeface="News Gothic MT"/>
            </a:endParaRPr>
          </a:p>
        </p:txBody>
      </p:sp>
      <p:sp>
        <p:nvSpPr>
          <p:cNvPr id="655" name=""/>
          <p:cNvSpPr txBox="1"/>
          <p:nvPr/>
        </p:nvSpPr>
        <p:spPr>
          <a:xfrm>
            <a:off x="549000" y="1599840"/>
            <a:ext cx="8042040" cy="4343400"/>
          </a:xfrm>
          <a:prstGeom prst="rect">
            <a:avLst/>
          </a:prstGeom>
          <a:noFill/>
          <a:ln w="0">
            <a:noFill/>
          </a:ln>
        </p:spPr>
        <p:txBody>
          <a:bodyPr anchor="t">
            <a:normAutofit fontScale="89000"/>
          </a:bodyPr>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vailability of substitute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industry to the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the suppliers’ goods to the industry succes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of vertical integration.</a:t>
            </a:r>
            <a:endParaRPr b="0" lang="en-US" sz="3200" spc="-1" strike="noStrike">
              <a:solidFill>
                <a:srgbClr val="595959"/>
              </a:solidFill>
              <a:latin typeface="News Gothic MT"/>
            </a:endParaRPr>
          </a:p>
          <a:p>
            <a:pPr marL="310680" indent="-31068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Buyers</a:t>
            </a:r>
            <a:endParaRPr b="1" lang="en-US" sz="3600" spc="-1" strike="noStrike">
              <a:solidFill>
                <a:srgbClr val="ff0000"/>
              </a:solidFill>
              <a:latin typeface="News Gothic MT"/>
            </a:endParaRPr>
          </a:p>
        </p:txBody>
      </p:sp>
      <p:sp>
        <p:nvSpPr>
          <p:cNvPr id="657" name=""/>
          <p:cNvSpPr txBox="1"/>
          <p:nvPr/>
        </p:nvSpPr>
        <p:spPr>
          <a:xfrm>
            <a:off x="549000" y="1447920"/>
            <a:ext cx="8042040" cy="4495680"/>
          </a:xfrm>
          <a:prstGeom prst="rect">
            <a:avLst/>
          </a:prstGeom>
          <a:noFill/>
          <a:ln w="0">
            <a:noFill/>
          </a:ln>
        </p:spPr>
        <p:txBody>
          <a:bodyPr anchor="t">
            <a:normAutofit/>
          </a:bodyPr>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buyer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Knowledge of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is not differentiated, thus substitutes are available.</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vertical integrati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reat of Substitutes</a:t>
            </a:r>
            <a:endParaRPr b="1" lang="en-US" sz="3600" spc="-1" strike="noStrike">
              <a:solidFill>
                <a:srgbClr val="ff0000"/>
              </a:solidFill>
              <a:latin typeface="News Gothic MT"/>
            </a:endParaRPr>
          </a:p>
        </p:txBody>
      </p:sp>
      <p:sp>
        <p:nvSpPr>
          <p:cNvPr id="65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 products meet the customers’ needs but do so in different way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y are different goods and services that perform the same or a similar purpose.</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10-20T14:23:48Z</dcterms:modified>
  <cp:revision>319</cp:revision>
  <dc:subject/>
  <dc:title>Slide 1</dc:title>
</cp:coreProperties>
</file>