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7657-B8A4-43BE-8D51-EECD931206FD}"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B5C9-79D5-4B02-9C53-069D06A3A371}"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59648-788E-483C-906A-1819B3D80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23128-C10B-4D83-8BCE-FA588F51B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7D0CF8A-9CED-41C7-96ED-D54C2B64308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7093996-B4D9-4E77-AE69-B43E3000ADF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04B5712-B2A5-4E15-A344-B4C85E1245C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9D30A5A-AAEE-41B5-89B5-80159D83BF9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3061AFD-0987-4E67-B94D-97781DED95B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8262EF5-53FC-4FEC-9B38-30F9A159D0E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1396DDB-7E68-447D-ACC7-CFC2269ED38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908FB8A-CD4F-4820-B05D-39FF7CBEBF1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399C4D5-DB7C-4F24-9A69-25E606620A7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077A126-40FC-4C35-B48D-4AF9B850C00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142E5-0AF0-4454-A7C9-12D16CC0F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EE0DFF7-22B2-47B4-A97F-B1BD6BAAFD7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7F0DAF6-23E2-46F1-9E92-FFA4510C957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E9F45DC-6A75-4F8D-BC18-0AABE91655E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AD7DE3F-6A4E-45D0-8621-6719F188566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2543188-EA3E-43E0-9258-98F7613352B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58313AF-7FA4-4324-9F4F-DCF23B5E403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86F7218-F9AA-49E9-A2AD-8A4C8A52969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E80D851-F418-4713-A766-54FBC4C36E6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53708D0-3253-43EF-80F6-E45DC131AA0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0B7CB6C-9C38-4A95-A0EF-FB234812A4C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DCACB-7414-4E76-B8DB-82A57D84F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62852EC-AD14-483D-9C3D-743A8B89F48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56CCC85-CBD9-4067-AF4E-426D102DAA8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48F88B0-AF57-4158-9265-EE6B399FF43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63A4050-47F7-4FAB-88D1-A29863C4FC7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F34D621-9C36-4612-B82E-AF4F97365F3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41BEE48-1383-43F7-A7D0-C3CCCA0E643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66D4612-EFEA-416D-AB72-F188EFF9219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166419E-FA4C-4226-BC8D-A1B816206C4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B36D7AD-6983-4094-8702-E83F8C3435B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1D0D35F-8986-4077-8C85-9079E8C6BB0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1E27A9-27CA-443A-A565-B15994A3660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5ECA237-8132-4360-8B89-9B2F29C93D9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1FD9B56-3E34-46FE-A502-A4A4E27A772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5BE7201-89C2-4CD8-9760-77209B77835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B6F00D1-813A-4832-88EC-92576DC2B39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1D042EE-1367-4B02-975B-17381AE127D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2A2D2CD-06B0-4DFE-A5A1-28196E0AC02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9C42DFC-553B-40A3-ADDD-3DE02D1A34D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AE957EF-5A00-4432-B05C-99010A934E8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43F7EA5-3FE4-43FD-9B42-CB9ABD84A63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84CB85A-7275-4F1A-9873-D9FF1E9244C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473A08-20DC-4B04-9BB8-E07C2D4388D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E4E0B18-5550-4937-BFA3-E3EB138025C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1A101AF-83BD-4531-90A4-0B7340DB674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8FC7D9E-42E6-4B76-A2AC-86330804D53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FAB2197-8D36-4CCF-A825-541891937B7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75A1349-4B47-4323-B503-FB234A6AC13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BC16C2E-B3AB-4D57-8ACA-CE61248454D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8BF570E-D68A-4C81-8C68-5E3E55532F3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452213A-D0F5-458E-95CF-9B31ACC3624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AF4330E-95B9-4C94-A40F-2F53C0F200F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DED5113-2D21-4805-BDCB-65C808B7390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24DB4E-F439-4B6C-851F-2BA0340D09F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8087614-9A6E-4625-95B2-952DC1200EA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0460671-3F6D-45C5-9E96-E6B475E3FDF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DDFC492-2137-4A39-BAD4-FBCB8796611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A1BE00E-88D2-42F7-9A86-71F5BB208CC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E397672-FEAD-4096-A149-986AE9F0F0D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732996C-9289-49F6-A1A6-78B15498737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0A0EEA5-A1F1-44E0-A439-E83F68996FC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7639DA2-20E7-4F77-82D5-E5ED66D04DB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A17FBA2-54A1-4A33-9CFE-0E67C4C9B57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9B2A759-DA92-469D-83EE-509AC43D158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7BBC0C-E341-48EB-A114-FFDB7DAB33B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CCB9B1B-3F77-4CC2-9F2F-AE2EE2B328A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7A9E1A4-1CEF-4B1C-BF9B-A6574612967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E6C4CA7-944D-485D-A0BE-E018226F622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96F5872-891F-4DEB-B836-43C0A84D5D1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B75CFDA-64CC-45F5-A67D-A78ABA31528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5E2073F-03FC-45F3-8082-7E1000F0FA9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9DB2B05-9805-4B7C-A97C-ACED3F55EF3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BF95E921-132B-4D38-BB70-0FB0B8956AA5}"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C696CCAC-27B4-46B6-AB87-119221C91CAE}"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39279B-2B4E-4392-80E2-CE6B76C8BB7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01D582-2E63-46E5-B94F-E6426BECCCD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9E4526-C65A-4829-AEB5-93242B462A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ADD47-6790-46B9-A011-228F7366F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18C91-F06A-4006-9A97-F5F4C1D94D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11F8BC-D261-4B09-857E-FD69BDAD76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75F936-4EB1-4FE4-B9B4-8740BF136A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81A0F5-1A08-4D1B-B494-6A74D53B05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5296D3-FD83-4210-AE7F-91FACF149BF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4A224-A244-4E0F-80D6-24B3A1745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D9150-4BC1-4105-ABE9-720C2D94D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F35EB37-5D1B-4265-AC28-929E6E661EF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29819-4C41-4C33-B7ED-614ED8341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BE1D5D-4EA1-431F-A25D-E071805396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4E447CC-C097-4E56-A292-8A88F0468B8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FF587E2-3A5F-44DF-BA46-85759B97128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841F219-2831-4CAE-A169-0FB33BEF170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BFE5E1-93A2-4B93-87F7-4AE6EE75AA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2CCC08-E620-4CE9-AB3B-F88E25A35C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03745C-52AE-4568-9642-71DAA4F469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B863D4-2BC8-443B-A85A-F0DBDABD50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78EF144-C556-4363-8681-E26B965B22B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76F94C5-35C3-45DA-8BC4-FA445694D2B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0E5BC-3F90-4959-9FD1-C0C31AA11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A383B59-5677-40A8-AB45-F1FFDB686C0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CC08144-B388-4C1D-8CE4-4EB849D78AA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93F881F-F673-483A-9955-2F499D6ED6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8D6494D-661C-4DFF-B50E-E6A07FA79D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B725C2D-1DFA-4C14-9EC9-FA3B6DE071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6CC6175-F4F8-4A6F-9A4C-454109A862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0C554E-68E4-4AA4-86DE-39BC28A32A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95D8790-D7C9-4AB4-AF8E-8610AFC6D5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FB3B69-A7E7-4905-AB35-82E678B42E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BAA633-72F7-47BD-B8FD-F6AD7B0288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B6F5A-1A4B-4F95-AE55-3BB50A8A8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44C4979-D25E-44B6-8658-546FF88BD2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60DC253-18B6-4450-87FA-FFAC0BC5F36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119D272-C626-451F-98D0-04E4731894D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5035389-4343-4522-955E-4753FD2F24B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B58BFA9-1C57-4EAF-8BB3-C37E6BE0274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A315A05-9DFE-4504-91A8-9A480952F93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1204B3C-9159-4975-99D1-F42C9BC9C9E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74748A4-067F-4039-802D-7105F6FA5B1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13AA451-F4F9-4910-B876-3131E78CBC9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E883443-2FEE-4F18-BB3A-AE5A4DB8239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256FD-FAAD-49F2-83BE-FBFC12515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70EB3E3-1E54-4567-9CAB-0B7EA2A636D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202CDE7-9569-4D27-9413-60F91E04CB7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9344060-03F5-41D6-ABA8-83284B530D7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31AEF07-84E0-4A5D-9E31-55A4E49161D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7E27A60-E843-4A6D-9244-670B4AD3F90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627F1B5-2910-4646-BB68-69AB825F24B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B630F44-FC82-43C0-AC7B-EF53A89A7F7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6CC7D33-FFCB-4EE9-B7B5-CC5045EF707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6CEE961-9C94-49DF-A87B-C1CDA4614E9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DE28A93-B102-46BA-A03A-07A8D6F4AFB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D4B9D-44FF-48BA-B2CB-264348578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322A7CB-11A0-4F30-B0B5-4BA7919F800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543BF84-9077-4D19-AD20-D124B6795C2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090CE52-B150-428B-B7D8-B58159D6C82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2D4429E-AF5C-4515-AF18-37034CE88A6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3F5F14D-BCE9-4DE1-A939-E632FC1C81E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CD2F022-1EA2-46F2-9E4C-ECF358FF8A1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1DB1BFE-592C-450B-82D3-B9DF6AD962F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F2F23A4-72DB-42F1-A723-49BC9516522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B3CF626-9C7F-47E9-A407-98574E23EF5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C545A72-A112-4D4C-B399-CFE7F093BE65}"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475E-0280-459F-B2E5-2F1D788069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7119-AF16-4217-A862-C346B835029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9D32-473A-4D58-BDAA-F143127D5FE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D944-ED0B-43E3-95E2-A600E6B526A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72302-BB31-4520-BCD6-2F3E84941BD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7FC7-7FC8-47DD-8076-EAA9922524D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57DC-571B-4673-803C-2615862046E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F185-91D1-47C4-A65F-D78DA7785CE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5035-E820-4CE4-BC6A-9E4F66DDBBB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03D5-5313-42E7-BDA2-D84D87B1E08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3F6A-E3A6-47B1-A6F1-6455771AB52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2164-5768-4A69-8F9D-F884D93BC0F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e73"/>
                </a:solidFill>
                <a:latin typeface="News Gothic MT"/>
                <a:ea typeface="Geneva"/>
              </a:rPr>
              <a:t>Chapter 2 </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The External Environment:</a:t>
            </a:r>
            <a:endParaRPr b="0" lang="en-US" sz="3200" spc="-1" strike="noStrike">
              <a:solidFill>
                <a:srgbClr val="595959"/>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Opportunities, Threats, Industry Competition, and Competitor Analysi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nsity of Rivalry</a:t>
            </a:r>
            <a:endParaRPr b="1" lang="en-US" sz="3600" spc="-1" strike="noStrike">
              <a:solidFill>
                <a:srgbClr val="ff0000"/>
              </a:solidFill>
              <a:latin typeface="News Gothic MT"/>
            </a:endParaRPr>
          </a:p>
        </p:txBody>
      </p:sp>
      <p:sp>
        <p:nvSpPr>
          <p:cNvPr id="661" name=""/>
          <p:cNvSpPr txBox="1"/>
          <p:nvPr/>
        </p:nvSpPr>
        <p:spPr>
          <a:xfrm>
            <a:off x="549000" y="1599840"/>
            <a:ext cx="8042040" cy="4343400"/>
          </a:xfrm>
          <a:prstGeom prst="rect">
            <a:avLst/>
          </a:prstGeom>
          <a:noFill/>
          <a:ln w="0">
            <a:noFill/>
          </a:ln>
        </p:spPr>
        <p:txBody>
          <a:bodyPr anchor="t">
            <a:normAutofit/>
          </a:bodyPr>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balance of competitor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dustry growth rate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ack of product differentiation.</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 switching cost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stake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exit barri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Industry Attractiveness</a:t>
            </a:r>
            <a:endParaRPr b="1" lang="en-US" sz="3200" spc="-1" strike="noStrike">
              <a:solidFill>
                <a:srgbClr val="ff0000"/>
              </a:solidFill>
              <a:latin typeface="News Gothic MT"/>
            </a:endParaRPr>
          </a:p>
        </p:txBody>
      </p:sp>
      <p:sp>
        <p:nvSpPr>
          <p:cNvPr id="663" name=""/>
          <p:cNvSpPr txBox="1"/>
          <p:nvPr/>
        </p:nvSpPr>
        <p:spPr>
          <a:xfrm>
            <a:off x="549000" y="1218960"/>
            <a:ext cx="8042040" cy="47242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alyzing the five forces within an industry allows firms to determine the industry’s attractivenes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 </a:t>
            </a:r>
            <a:r>
              <a:rPr b="1" i="1" lang="en-US" sz="2800" spc="-1" strike="noStrike">
                <a:solidFill>
                  <a:srgbClr val="595959"/>
                </a:solidFill>
                <a:latin typeface="News Gothic MT"/>
              </a:rPr>
              <a:t>attractive industry </a:t>
            </a:r>
            <a:r>
              <a:rPr b="0" lang="en-US" sz="2800" spc="-1" strike="noStrike">
                <a:solidFill>
                  <a:srgbClr val="595959"/>
                </a:solidFill>
                <a:latin typeface="News Gothic MT"/>
              </a:rPr>
              <a:t>is one in which there are many opportunities and few threats. This gives firms the potential to earn normal to above normal returns.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Strategic Groups</a:t>
            </a:r>
            <a:endParaRPr b="1" lang="en-US" sz="3600" spc="-1" strike="noStrike">
              <a:solidFill>
                <a:srgbClr val="ff0000"/>
              </a:solidFill>
              <a:latin typeface="News Gothic MT"/>
            </a:endParaRPr>
          </a:p>
        </p:txBody>
      </p:sp>
      <p:sp>
        <p:nvSpPr>
          <p:cNvPr id="665" name="PlaceHolder 2"/>
          <p:cNvSpPr>
            <a:spLocks noGrp="1"/>
          </p:cNvSpPr>
          <p:nvPr>
            <p:ph/>
          </p:nvPr>
        </p:nvSpPr>
        <p:spPr>
          <a:xfrm>
            <a:off x="1218960" y="1752120"/>
            <a:ext cx="7467480" cy="4295880"/>
          </a:xfrm>
          <a:prstGeom prst="rect">
            <a:avLst/>
          </a:prstGeom>
          <a:noFill/>
          <a:ln w="0">
            <a:noFill/>
          </a:ln>
        </p:spPr>
        <p:txBody>
          <a:bodyPr anchor="t">
            <a:normAutofit/>
          </a:bodyPr>
          <a:p>
            <a:pPr marL="455760" indent="-455760">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set of firms that are similar among themselves but different from firms in other groups.</a:t>
            </a:r>
            <a:endParaRPr b="0" lang="en-US" sz="2800" spc="-1" strike="noStrike">
              <a:solidFill>
                <a:srgbClr val="595959"/>
              </a:solidFill>
              <a:latin typeface="News Gothic MT"/>
            </a:endParaRPr>
          </a:p>
          <a:p>
            <a:pPr marL="455760" indent="0">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66"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737FFA28-8531-4D83-BA04-35243ABBE412}"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665">
                                            <p:txEl>
                                              <p:pRg st="0" end="0"/>
                                            </p:txEl>
                                          </p:spTgt>
                                        </p:tgtEl>
                                        <p:attrNameLst>
                                          <p:attrName>style.visibility</p:attrName>
                                        </p:attrNameLst>
                                      </p:cBhvr>
                                      <p:to>
                                        <p:strVal val="visible"/>
                                      </p:to>
                                    </p:set>
                                    <p:animEffect filter="barn(inHorizontal)" transition="in">
                                      <p:cBhvr additive="repl">
                                        <p:cTn id="14" dur="500"/>
                                        <p:tgtEl>
                                          <p:spTgt spid="6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etitor Analysis</a:t>
            </a:r>
            <a:endParaRPr b="1" lang="en-US" sz="3600" spc="-1" strike="noStrike">
              <a:solidFill>
                <a:srgbClr val="ff0000"/>
              </a:solidFill>
              <a:latin typeface="News Gothic MT"/>
            </a:endParaRPr>
          </a:p>
        </p:txBody>
      </p:sp>
      <p:sp>
        <p:nvSpPr>
          <p:cNvPr id="6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etitor intelligence refers to the information on rival firms that is gathered to better understand and anticipate the strategies, assumptions and capabilities of competitors</a:t>
            </a:r>
            <a:r>
              <a:rPr b="0" lang="en-US" sz="2800" spc="-1" strike="noStrike">
                <a:solidFill>
                  <a:srgbClr val="595959"/>
                </a:solidFill>
                <a:latin typeface="News Gothic MT"/>
              </a:rPr>
              <a: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lementors</a:t>
            </a:r>
            <a:endParaRPr b="1" lang="en-US" sz="3600" spc="-1" strike="noStrike">
              <a:solidFill>
                <a:srgbClr val="ff0000"/>
              </a:solidFill>
              <a:latin typeface="News Gothic MT"/>
            </a:endParaRPr>
          </a:p>
        </p:txBody>
      </p:sp>
      <p:sp>
        <p:nvSpPr>
          <p:cNvPr id="67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fers to the companies that sell complementary goods and services that may add value to the focal firm’s goods and servic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76680"/>
            <a:ext cx="8042040" cy="13366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The General Environment</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The general environment is composed of segments that are external to the firm and these segments influence </a:t>
            </a:r>
            <a:r>
              <a:rPr b="1" i="1" lang="en-US" sz="3200" spc="-1" strike="noStrike">
                <a:solidFill>
                  <a:srgbClr val="595959"/>
                </a:solidFill>
                <a:latin typeface="News Gothic MT"/>
                <a:ea typeface="Geneva"/>
              </a:rPr>
              <a:t>all </a:t>
            </a:r>
            <a:r>
              <a:rPr b="0" lang="en-US" sz="3200" spc="-1" strike="noStrike">
                <a:solidFill>
                  <a:srgbClr val="595959"/>
                </a:solidFill>
                <a:latin typeface="News Gothic MT"/>
                <a:ea typeface="Geneva"/>
              </a:rPr>
              <a:t>organizations. However, these segments may impact different organizations in different way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5AFDB66E-E068-47F9-9CA2-650EC0F5FA7D}"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Industry Environment</a:t>
            </a:r>
            <a:endParaRPr b="1" lang="en-US" sz="3600" spc="-1" strike="noStrike">
              <a:solidFill>
                <a:srgbClr val="ff0000"/>
              </a:solidFill>
              <a:latin typeface="News Gothic MT"/>
            </a:endParaRPr>
          </a:p>
        </p:txBody>
      </p:sp>
      <p:sp>
        <p:nvSpPr>
          <p:cNvPr id="64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industry environment refers to a set of factors that directly impact all firms within a particular industry. These factors will vary from one industry to the next.</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External Environmental Analysis</a:t>
            </a:r>
            <a:endParaRPr b="1" lang="en-US" sz="3600" spc="-1" strike="noStrike">
              <a:solidFill>
                <a:srgbClr val="ff0000"/>
              </a:solidFill>
              <a:latin typeface="News Gothic MT"/>
            </a:endParaRPr>
          </a:p>
        </p:txBody>
      </p:sp>
      <p:sp>
        <p:nvSpPr>
          <p:cNvPr id="64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Opportunities are conditions, that if properly exploited, should help the firm achieve strategic competitivenes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reats are conditions that may hinder or interfere with a firm’s efforts to achieve strategic competitivenes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08000"/>
            <a:ext cx="86868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egments in the General Environment</a:t>
            </a:r>
            <a:endParaRPr b="1" lang="en-US" sz="3600" spc="-1" strike="noStrike">
              <a:solidFill>
                <a:srgbClr val="ff0000"/>
              </a:solidFill>
              <a:latin typeface="News Gothic MT"/>
            </a:endParaRPr>
          </a:p>
        </p:txBody>
      </p:sp>
      <p:sp>
        <p:nvSpPr>
          <p:cNvPr id="65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emographic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c</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olitical/Leg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ociocultural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echnology</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lob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Five Industry Forces</a:t>
            </a:r>
            <a:endParaRPr b="1" lang="en-US" sz="3600" spc="-1" strike="noStrike">
              <a:solidFill>
                <a:srgbClr val="ff0000"/>
              </a:solidFill>
              <a:latin typeface="News Gothic MT"/>
            </a:endParaRPr>
          </a:p>
        </p:txBody>
      </p:sp>
      <p:sp>
        <p:nvSpPr>
          <p:cNvPr id="653"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reat of new entra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es of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differentiation</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apital requireme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ccess to distribution channel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st advantages other than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overnmental polic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Suppliers</a:t>
            </a:r>
            <a:endParaRPr b="1" lang="en-US" sz="3600" spc="-1" strike="noStrike">
              <a:solidFill>
                <a:srgbClr val="ff0000"/>
              </a:solidFill>
              <a:latin typeface="News Gothic MT"/>
            </a:endParaRPr>
          </a:p>
        </p:txBody>
      </p:sp>
      <p:sp>
        <p:nvSpPr>
          <p:cNvPr id="655" name=""/>
          <p:cNvSpPr txBox="1"/>
          <p:nvPr/>
        </p:nvSpPr>
        <p:spPr>
          <a:xfrm>
            <a:off x="549000" y="1599840"/>
            <a:ext cx="8042040" cy="4343400"/>
          </a:xfrm>
          <a:prstGeom prst="rect">
            <a:avLst/>
          </a:prstGeom>
          <a:noFill/>
          <a:ln w="0">
            <a:noFill/>
          </a:ln>
        </p:spPr>
        <p:txBody>
          <a:bodyPr anchor="t">
            <a:normAutofit fontScale="89000"/>
          </a:bodyPr>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vailability of substitute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industry to the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the suppliers’ goods to the industry succes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of vertical integration.</a:t>
            </a:r>
            <a:endParaRPr b="0" lang="en-US" sz="3200" spc="-1" strike="noStrike">
              <a:solidFill>
                <a:srgbClr val="595959"/>
              </a:solidFill>
              <a:latin typeface="News Gothic MT"/>
            </a:endParaRPr>
          </a:p>
          <a:p>
            <a:pPr marL="310680" indent="-31068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Buyers</a:t>
            </a:r>
            <a:endParaRPr b="1" lang="en-US" sz="3600" spc="-1" strike="noStrike">
              <a:solidFill>
                <a:srgbClr val="ff0000"/>
              </a:solidFill>
              <a:latin typeface="News Gothic MT"/>
            </a:endParaRPr>
          </a:p>
        </p:txBody>
      </p:sp>
      <p:sp>
        <p:nvSpPr>
          <p:cNvPr id="657" name=""/>
          <p:cNvSpPr txBox="1"/>
          <p:nvPr/>
        </p:nvSpPr>
        <p:spPr>
          <a:xfrm>
            <a:off x="549000" y="1447920"/>
            <a:ext cx="8042040" cy="4495680"/>
          </a:xfrm>
          <a:prstGeom prst="rect">
            <a:avLst/>
          </a:prstGeom>
          <a:noFill/>
          <a:ln w="0">
            <a:noFill/>
          </a:ln>
        </p:spPr>
        <p:txBody>
          <a:bodyPr anchor="t">
            <a:normAutofit/>
          </a:bodyPr>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buyer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Knowledge of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is not differentiated, thus substitutes are available.</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vertical integrati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reat of Substitutes</a:t>
            </a:r>
            <a:endParaRPr b="1" lang="en-US" sz="3600" spc="-1" strike="noStrike">
              <a:solidFill>
                <a:srgbClr val="ff0000"/>
              </a:solidFill>
              <a:latin typeface="News Gothic MT"/>
            </a:endParaRPr>
          </a:p>
        </p:txBody>
      </p:sp>
      <p:sp>
        <p:nvSpPr>
          <p:cNvPr id="65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 products meet the customers’ needs but do so in different way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y are different goods and services that perform the same or a similar purpose.</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10-20T14:23:48Z</dcterms:modified>
  <cp:revision>319</cp:revision>
  <dc:subject/>
  <dc:title>Slide 1</dc:title>
</cp:coreProperties>
</file>