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C9F4-8E7B-45F2-BAB2-A4836C762279}"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7255-6C48-48F8-BAC4-D55259C064DF}"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76D8D-01A1-4967-B89D-AD628143B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47E9B-C7E9-4FEB-8502-A6226EA42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4DEC457-EF61-4279-8952-10B6DCDD582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58F05B2-F93D-40D8-A071-E077865F1E9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8D4C54B-570C-4881-AFD7-52C90B68341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1188773-B81D-42E8-91B4-FA16E208D70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E2DE941-589D-4C8F-A8D3-09D01F69EB6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7E82C6F-DD40-42C7-BED4-C1E4D6B8B9D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73D7266-079A-4F81-B7F2-3AE5D7E6D6C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9E9ABBE-0022-446B-929A-7EFFB72BD5F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1D6FC26-6169-40ED-ACAE-90371A74453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BE30CE4-2A85-4426-BBE5-465A60AC9C2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F2093-9ADB-4749-ADEC-2582B2A90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0FA765F-821E-4353-A568-662E5052F4A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551B94C-30A1-498F-BDB0-568E4F4FEE5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A1B52B1-28FC-4C59-9258-47BC2B01B09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3CF592F-66E2-4F55-B266-8C25F3CA786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27A6771-20A4-41FF-8082-40A9AF95D14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3791E79-40B1-4595-B36F-272D708C281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9EDAAF5-FAB7-4C1E-B7B0-B2630171689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7EAF914-D065-4B5B-B695-F16D4780626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EF53ED7-A1A1-4B09-B0D2-CC3336F8907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FB3B608-6832-4D54-8004-DC91B232203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0DF6D-B228-47CF-91C4-1BAAFE5F6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3AE4A6E-4FD1-4A7E-8342-9C1E0437E82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DB9FCB6-93F2-4048-A366-14144A6F385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BDEAC25-F21B-4B18-BD26-605A0BBDA36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27FBFE8-987E-4DF8-9C2E-D04F151C1CF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2F66FA7-3E09-4630-A8BA-36E0B517BB7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3429D33-268C-4C58-A490-BB82BDD9E68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6D37A8E-38DF-426C-890C-BBD0C959C37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62090DD-89E2-47E4-B9C2-92B1256AD28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1ADBAD6-F639-49E8-9815-64021B7A5A4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51D4C59-5CA7-4DF7-9096-B9DAE07A3D8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15E830-189C-4EC4-A5F9-12F230AAE00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89D7B31-D867-4C67-9F0B-81B6D84D936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04C4F8D-28C5-4E68-8DB4-189FECC508E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C997C90-7024-4EC4-A524-286E472A205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BB4192F-9505-4E25-A12B-371DD67FD20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DD59D66-1866-40F4-AC33-46A9A6FAB4F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97B4548-2935-4F47-BE20-331EBEC8DCA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F649BBB-2961-449D-8315-6BAA0FC5925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CCE5081-7B29-4AF7-A3C2-EEDD86662A5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46139C3-0616-422B-B3D2-553C3FC6B5E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5E949ED-1624-4B1C-B0D0-07CBF4FAF98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81864F-2E7B-4931-B098-B554409BD65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E4FBEC2-7A8E-42C0-87CF-E9E456F87FE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81EB72D-C3EE-4415-B6E9-1DB0D673447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BCE0CA1-B02C-4D09-8121-6288A108B0D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E3539D9-F913-40EF-9145-17A5CE0AC0E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686448D-04DF-4A58-A6DC-557A894B30A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9820F9F-C816-4966-A655-17DBE81F215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7534121-08C2-4A2B-A71C-A0F098E8788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F7E6F0C-1F75-4A2E-9128-A9D9FB724EB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283B86C-864C-43AE-A280-5D5E1B6C1C0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3F264FC-E089-47BF-8410-364858F6453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FBAC98-B803-47A8-8971-223845D86C6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F1BF148-212F-4118-81AA-DF46963C281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69099F3-FBCE-4FEC-90D5-9D292D02A13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6FE5E2B-D354-4D67-9F31-1BC458C3CBC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010F40C-D07D-45C2-9167-FDA93938373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414350C-9C35-4497-97F0-6D1837B2E38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B7B5EF1-C9F1-4AEA-8FF7-F7DFA29B8B2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B920C0B-09B1-422E-A6B4-C3EC468BDBC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F1A62A4-C942-4794-A32E-E826CD0FAD8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4D03C08-8236-42C8-8C29-7DBD2E0E1F4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E90C51F-67A9-4CB7-8290-2768DA29797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5FE950-D60D-4BFD-B6DF-DACD545654D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D93DBCC-AAB6-4154-867E-7744584ADC8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CF85E9E-96C9-41BD-BE99-6DBC5A5E0F3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EB3DF15-3A1D-4C24-8D17-874FF4CDE3E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3658962-37F1-44A8-8D93-F4922B4A03B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FEF7CCB-4C7C-4406-BC26-A0DC7EA24DB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1D61D76-011F-4F1D-AF0B-B56891ABAC7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71134BA-9DD6-40A3-B27A-56B990AD792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78200DD-BA33-4389-BAEB-8020C47A04A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0F8DA91C-96EB-41FA-8BAD-9FB856FB19A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23AD42-161A-43C5-9289-26D2CF2C21C0}"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B4D1B1-6816-4764-B335-979D41A410C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3CB3D3-C51B-4177-8425-107E7B94E5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5E781-929C-48A6-865C-2B5DF4EAC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5F06B1-DB87-4552-99B5-AD668131A1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AC7B9A-7359-4A87-AF37-ABED25EB5B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46840F-CB25-4921-A1C0-22D1011713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C81452-2AD9-4DA9-BF7C-FC088DFBB3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F5E9EA-73ED-4C3E-9473-75A06156EB4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785A4-7D21-4FBB-B8C0-F99ED6C49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7CA50-878E-4B08-86F8-AFF5672A5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1441D60-39E5-4DBB-8831-85B276636D9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6AD92-C587-4246-98A2-55AAEAE43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156BD34-125D-4981-80A5-D30B946CD5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F72CB84-F9E8-4EA5-A46F-6CADFB11277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E54206-4AB1-4867-910F-3DE4594A378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D8D777E-EE8A-4A38-B907-8B42DA2441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21E154-4854-4E02-8E83-EC39EBE092A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F5A71E-2515-49AC-A776-EE333FE2DA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41FF45-6085-424C-A3F9-A601B5B99D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11B668-FBE3-4345-A8AB-C093BACCC8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909D4B-8F50-48A8-9B18-A576AB7DAB4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39E9E0E-AD48-4C81-9B34-438A2491564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DE69B-E8A5-42C7-8D73-909EC3814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6B5652F-A684-4526-A5F1-7D5956BA57B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5750ED7-FAC0-49F2-BA88-08CA8553B4B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F219277-B465-4C5B-8CF9-2B523123EE4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CD68292-424E-4DFF-AFA5-52793BB713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46DFF80-5301-45FF-AFD2-F37F654864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D9EF3D8-1F01-4653-B0D1-90722E4444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74FD31D-821E-4BE3-A433-7865D264BB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F5EA183-E9E7-4D60-8849-0937E7A1E9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7B31B4-B9A3-4D86-AEB4-8EE4B65386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40A542-1880-4756-9273-821A6300A8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1F44D-2AD4-4029-B98F-C1B77F582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78DC49-D4CE-45E9-BC21-26C93069E1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1A4DD40-6B88-4566-A285-1FFF5AE4483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7015FAC-9D35-46BE-88C6-537462DE4E7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A0CECF3-E47F-40A1-AFB9-48F4CB3583C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0AC136A-5571-427C-88E6-924BAD6F221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EBE3FE9-BE15-48A1-89F4-8F62EB3D806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17F073D-FFCD-4D2B-AD75-E87382C6DD9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77F2C55-A562-433A-80E8-A377B7AB0EF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07053D1-8903-4C13-B879-33CF67A6455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A8958E-843B-485F-9367-7B1136C3D49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892F5-631C-4E59-80B3-E037FEAA4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7113BC2-3686-42BB-94FF-1EB46B3DA91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F401ECD-82F4-43F2-BCD7-43B04889474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48689C5-30C3-4672-90EE-3933B8663EB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1110091-235D-447A-9F75-FE9E75CEA44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BF52D9B-F959-4941-9C9C-DFB4E81D70D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B340325-D99D-49CE-AFDF-B9B69AF732A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A0372FC-9498-425D-AEFC-7860273D02B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831613B-4E35-4E0E-8AE0-9AC76631328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6CADFE6-04EB-43A0-BFBD-72CE26B59A1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CC9FDFA-9C4C-4A91-8F2C-4012FA4F9BE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609C7-D245-4FE4-9F98-67E3EE9C3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BF4F9FD-E3E2-4D92-BB58-F177B2F08CC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9CF4B18-AAA1-47C6-AB88-9F451525D5A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58536A2-DF78-4376-A893-9ECB2B6847E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9BC562B-3FDB-4121-B47E-4F3CB66DFDA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DC388E1-FE26-40C0-B252-F819D233F77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0483FD5-5340-4ED7-A4F5-AA80C487C54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3778AF5-FEF8-4CA1-9AFC-43B02C8C476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3DDDC9A-2131-435D-9EC4-72EC35008A6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CFF03CF-688D-4241-9DC5-26F625A894D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B054308-0D1C-477B-8F1C-C35A66CD7A54}"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2744-CCFB-4356-8360-9E75CE120A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E319-9611-4504-927A-79FCC75CC1F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A5B3-68CD-4E31-BBD8-28E4D310DB4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F01C-7F59-403D-9CC3-899F580FAB1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AFEE-40D2-4943-A79E-5677E901064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2EF08-D3AD-4285-BB40-DA249F2A12F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91AC-7404-4587-B307-FA8308CD00E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4ADE-B396-4BF8-8FB7-E7301C48A8C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0788A-5FC5-4D88-81D2-72BBF165DC7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D711-EA5C-4B09-9AEE-1DCE2D8D4D5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3F28-CA55-46C6-A3EE-61D28D72B14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7BE1-8490-4963-98BA-10EF5FD17E5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e73"/>
                </a:solidFill>
                <a:latin typeface="News Gothic MT"/>
                <a:ea typeface="Geneva"/>
              </a:rPr>
              <a:t>Chapter 2 </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The External Environment:</a:t>
            </a:r>
            <a:endParaRPr b="0" lang="en-US" sz="3200" spc="-1" strike="noStrike">
              <a:solidFill>
                <a:srgbClr val="595959"/>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Opportunities, Threats, Industry Competition, and Competitor Analysi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nsity of Rivalry</a:t>
            </a:r>
            <a:endParaRPr b="1" lang="en-US" sz="3600" spc="-1" strike="noStrike">
              <a:solidFill>
                <a:srgbClr val="ff0000"/>
              </a:solidFill>
              <a:latin typeface="News Gothic MT"/>
            </a:endParaRPr>
          </a:p>
        </p:txBody>
      </p:sp>
      <p:sp>
        <p:nvSpPr>
          <p:cNvPr id="661" name=""/>
          <p:cNvSpPr txBox="1"/>
          <p:nvPr/>
        </p:nvSpPr>
        <p:spPr>
          <a:xfrm>
            <a:off x="549000" y="1599840"/>
            <a:ext cx="8042040" cy="4343400"/>
          </a:xfrm>
          <a:prstGeom prst="rect">
            <a:avLst/>
          </a:prstGeom>
          <a:noFill/>
          <a:ln w="0">
            <a:noFill/>
          </a:ln>
        </p:spPr>
        <p:txBody>
          <a:bodyPr anchor="t">
            <a:normAutofit/>
          </a:bodyPr>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balance of competitor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dustry growth rate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ack of product differentiation.</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 switching cost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stake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exit barri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Industry Attractiveness</a:t>
            </a:r>
            <a:endParaRPr b="1" lang="en-US" sz="3200" spc="-1" strike="noStrike">
              <a:solidFill>
                <a:srgbClr val="ff0000"/>
              </a:solidFill>
              <a:latin typeface="News Gothic MT"/>
            </a:endParaRPr>
          </a:p>
        </p:txBody>
      </p:sp>
      <p:sp>
        <p:nvSpPr>
          <p:cNvPr id="663" name=""/>
          <p:cNvSpPr txBox="1"/>
          <p:nvPr/>
        </p:nvSpPr>
        <p:spPr>
          <a:xfrm>
            <a:off x="549000" y="1218960"/>
            <a:ext cx="8042040" cy="47242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alyzing the five forces within an industry allows firms to determine the industry’s attractivenes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 </a:t>
            </a:r>
            <a:r>
              <a:rPr b="1" i="1" lang="en-US" sz="2800" spc="-1" strike="noStrike">
                <a:solidFill>
                  <a:srgbClr val="595959"/>
                </a:solidFill>
                <a:latin typeface="News Gothic MT"/>
              </a:rPr>
              <a:t>attractive industry </a:t>
            </a:r>
            <a:r>
              <a:rPr b="0" lang="en-US" sz="2800" spc="-1" strike="noStrike">
                <a:solidFill>
                  <a:srgbClr val="595959"/>
                </a:solidFill>
                <a:latin typeface="News Gothic MT"/>
              </a:rPr>
              <a:t>is one in which there are many opportunities and few threats. This gives firms the potential to earn normal to above normal returns.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Strategic Groups</a:t>
            </a:r>
            <a:endParaRPr b="1" lang="en-US" sz="3600" spc="-1" strike="noStrike">
              <a:solidFill>
                <a:srgbClr val="ff0000"/>
              </a:solidFill>
              <a:latin typeface="News Gothic MT"/>
            </a:endParaRPr>
          </a:p>
        </p:txBody>
      </p:sp>
      <p:sp>
        <p:nvSpPr>
          <p:cNvPr id="665" name="PlaceHolder 2"/>
          <p:cNvSpPr>
            <a:spLocks noGrp="1"/>
          </p:cNvSpPr>
          <p:nvPr>
            <p:ph/>
          </p:nvPr>
        </p:nvSpPr>
        <p:spPr>
          <a:xfrm>
            <a:off x="1218960" y="1752120"/>
            <a:ext cx="7467480" cy="4295880"/>
          </a:xfrm>
          <a:prstGeom prst="rect">
            <a:avLst/>
          </a:prstGeom>
          <a:noFill/>
          <a:ln w="0">
            <a:noFill/>
          </a:ln>
        </p:spPr>
        <p:txBody>
          <a:bodyPr anchor="t">
            <a:normAutofit/>
          </a:bodyPr>
          <a:p>
            <a:pPr marL="455760" indent="-455760">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set of firms that are similar among themselves but different from firms in other groups.</a:t>
            </a:r>
            <a:endParaRPr b="0" lang="en-US" sz="2800" spc="-1" strike="noStrike">
              <a:solidFill>
                <a:srgbClr val="595959"/>
              </a:solidFill>
              <a:latin typeface="News Gothic MT"/>
            </a:endParaRPr>
          </a:p>
          <a:p>
            <a:pPr marL="455760" indent="0">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66"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256A3D68-B43A-4115-B1DC-4E0AD0B8223B}"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665">
                                            <p:txEl>
                                              <p:pRg st="0" end="0"/>
                                            </p:txEl>
                                          </p:spTgt>
                                        </p:tgtEl>
                                        <p:attrNameLst>
                                          <p:attrName>style.visibility</p:attrName>
                                        </p:attrNameLst>
                                      </p:cBhvr>
                                      <p:to>
                                        <p:strVal val="visible"/>
                                      </p:to>
                                    </p:set>
                                    <p:animEffect filter="barn(inHorizontal)" transition="in">
                                      <p:cBhvr additive="repl">
                                        <p:cTn id="14" dur="500"/>
                                        <p:tgtEl>
                                          <p:spTgt spid="6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etitor Analysis</a:t>
            </a:r>
            <a:endParaRPr b="1" lang="en-US" sz="3600" spc="-1" strike="noStrike">
              <a:solidFill>
                <a:srgbClr val="ff0000"/>
              </a:solidFill>
              <a:latin typeface="News Gothic MT"/>
            </a:endParaRPr>
          </a:p>
        </p:txBody>
      </p:sp>
      <p:sp>
        <p:nvSpPr>
          <p:cNvPr id="6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etitor intelligence refers to the information on rival firms that is gathered to better understand and anticipate the strategies, assumptions and capabilities of competitors</a:t>
            </a:r>
            <a:r>
              <a:rPr b="0" lang="en-US" sz="2800" spc="-1" strike="noStrike">
                <a:solidFill>
                  <a:srgbClr val="595959"/>
                </a:solidFill>
                <a:latin typeface="News Gothic MT"/>
              </a:rPr>
              <a: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lementors</a:t>
            </a:r>
            <a:endParaRPr b="1" lang="en-US" sz="3600" spc="-1" strike="noStrike">
              <a:solidFill>
                <a:srgbClr val="ff0000"/>
              </a:solidFill>
              <a:latin typeface="News Gothic MT"/>
            </a:endParaRPr>
          </a:p>
        </p:txBody>
      </p:sp>
      <p:sp>
        <p:nvSpPr>
          <p:cNvPr id="67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fers to the companies that sell complementary goods and services that may add value to the focal firm’s goods and servic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76680"/>
            <a:ext cx="8042040" cy="13366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The General Environment</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The general environment is composed of segments that are external to the firm and these segments influence </a:t>
            </a:r>
            <a:r>
              <a:rPr b="1" i="1" lang="en-US" sz="3200" spc="-1" strike="noStrike">
                <a:solidFill>
                  <a:srgbClr val="595959"/>
                </a:solidFill>
                <a:latin typeface="News Gothic MT"/>
                <a:ea typeface="Geneva"/>
              </a:rPr>
              <a:t>all </a:t>
            </a:r>
            <a:r>
              <a:rPr b="0" lang="en-US" sz="3200" spc="-1" strike="noStrike">
                <a:solidFill>
                  <a:srgbClr val="595959"/>
                </a:solidFill>
                <a:latin typeface="News Gothic MT"/>
                <a:ea typeface="Geneva"/>
              </a:rPr>
              <a:t>organizations. However, these segments may impact different organizations in different way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D255AAEE-B3BC-4575-9CA3-7EE5D0D05EB6}"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Industry Environment</a:t>
            </a:r>
            <a:endParaRPr b="1" lang="en-US" sz="3600" spc="-1" strike="noStrike">
              <a:solidFill>
                <a:srgbClr val="ff0000"/>
              </a:solidFill>
              <a:latin typeface="News Gothic MT"/>
            </a:endParaRPr>
          </a:p>
        </p:txBody>
      </p:sp>
      <p:sp>
        <p:nvSpPr>
          <p:cNvPr id="64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industry environment refers to a set of factors that directly impact all firms within a particular industry. These factors will vary from one industry to the next.</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External Environmental Analysis</a:t>
            </a:r>
            <a:endParaRPr b="1" lang="en-US" sz="3600" spc="-1" strike="noStrike">
              <a:solidFill>
                <a:srgbClr val="ff0000"/>
              </a:solidFill>
              <a:latin typeface="News Gothic MT"/>
            </a:endParaRPr>
          </a:p>
        </p:txBody>
      </p:sp>
      <p:sp>
        <p:nvSpPr>
          <p:cNvPr id="64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Opportunities are conditions, that if properly exploited, should help the firm achieve strategic competitivenes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reats are conditions that may hinder or interfere with a firm’s efforts to achieve strategic competitivenes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08000"/>
            <a:ext cx="86868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egments in the General Environment</a:t>
            </a:r>
            <a:endParaRPr b="1" lang="en-US" sz="3600" spc="-1" strike="noStrike">
              <a:solidFill>
                <a:srgbClr val="ff0000"/>
              </a:solidFill>
              <a:latin typeface="News Gothic MT"/>
            </a:endParaRPr>
          </a:p>
        </p:txBody>
      </p:sp>
      <p:sp>
        <p:nvSpPr>
          <p:cNvPr id="65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emographic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c</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olitical/Leg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ociocultural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echnology</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lob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Five Industry Forces</a:t>
            </a:r>
            <a:endParaRPr b="1" lang="en-US" sz="3600" spc="-1" strike="noStrike">
              <a:solidFill>
                <a:srgbClr val="ff0000"/>
              </a:solidFill>
              <a:latin typeface="News Gothic MT"/>
            </a:endParaRPr>
          </a:p>
        </p:txBody>
      </p:sp>
      <p:sp>
        <p:nvSpPr>
          <p:cNvPr id="653"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reat of new entra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es of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differentiation</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apital requireme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ccess to distribution channel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st advantages other than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overnmental polic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Suppliers</a:t>
            </a:r>
            <a:endParaRPr b="1" lang="en-US" sz="3600" spc="-1" strike="noStrike">
              <a:solidFill>
                <a:srgbClr val="ff0000"/>
              </a:solidFill>
              <a:latin typeface="News Gothic MT"/>
            </a:endParaRPr>
          </a:p>
        </p:txBody>
      </p:sp>
      <p:sp>
        <p:nvSpPr>
          <p:cNvPr id="655" name=""/>
          <p:cNvSpPr txBox="1"/>
          <p:nvPr/>
        </p:nvSpPr>
        <p:spPr>
          <a:xfrm>
            <a:off x="549000" y="1599840"/>
            <a:ext cx="8042040" cy="4343400"/>
          </a:xfrm>
          <a:prstGeom prst="rect">
            <a:avLst/>
          </a:prstGeom>
          <a:noFill/>
          <a:ln w="0">
            <a:noFill/>
          </a:ln>
        </p:spPr>
        <p:txBody>
          <a:bodyPr anchor="t">
            <a:normAutofit fontScale="89000"/>
          </a:bodyPr>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vailability of substitute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industry to the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the suppliers’ goods to the industry succes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of vertical integration.</a:t>
            </a:r>
            <a:endParaRPr b="0" lang="en-US" sz="3200" spc="-1" strike="noStrike">
              <a:solidFill>
                <a:srgbClr val="595959"/>
              </a:solidFill>
              <a:latin typeface="News Gothic MT"/>
            </a:endParaRPr>
          </a:p>
          <a:p>
            <a:pPr marL="310680" indent="-31068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Buyers</a:t>
            </a:r>
            <a:endParaRPr b="1" lang="en-US" sz="3600" spc="-1" strike="noStrike">
              <a:solidFill>
                <a:srgbClr val="ff0000"/>
              </a:solidFill>
              <a:latin typeface="News Gothic MT"/>
            </a:endParaRPr>
          </a:p>
        </p:txBody>
      </p:sp>
      <p:sp>
        <p:nvSpPr>
          <p:cNvPr id="657" name=""/>
          <p:cNvSpPr txBox="1"/>
          <p:nvPr/>
        </p:nvSpPr>
        <p:spPr>
          <a:xfrm>
            <a:off x="549000" y="1447920"/>
            <a:ext cx="8042040" cy="4495680"/>
          </a:xfrm>
          <a:prstGeom prst="rect">
            <a:avLst/>
          </a:prstGeom>
          <a:noFill/>
          <a:ln w="0">
            <a:noFill/>
          </a:ln>
        </p:spPr>
        <p:txBody>
          <a:bodyPr anchor="t">
            <a:normAutofit/>
          </a:bodyPr>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buyer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Knowledge of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is not differentiated, thus substitutes are available.</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vertical integrati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reat of Substitutes</a:t>
            </a:r>
            <a:endParaRPr b="1" lang="en-US" sz="3600" spc="-1" strike="noStrike">
              <a:solidFill>
                <a:srgbClr val="ff0000"/>
              </a:solidFill>
              <a:latin typeface="News Gothic MT"/>
            </a:endParaRPr>
          </a:p>
        </p:txBody>
      </p:sp>
      <p:sp>
        <p:nvSpPr>
          <p:cNvPr id="65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 products meet the customers’ needs but do so in different way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y are different goods and services that perform the same or a similar purpose.</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10-20T14:23:48Z</dcterms:modified>
  <cp:revision>319</cp:revision>
  <dc:subject/>
  <dc:title>Slide 1</dc:title>
</cp:coreProperties>
</file>