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5729-6563-492D-A4DC-53C716102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343A-0BAB-4028-8E47-B220FC22BF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B49-3653-4166-A288-D0664BAF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581-DDA4-4F8B-BB66-4ED13360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CD2270-F155-4423-9C7E-F49F0848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BC8D4-F7F8-407E-8F53-A987E815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522227-24A1-4593-A97F-9C8FD1EB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093A6-8572-49D6-891B-B34B2287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0B52D-784B-4E3F-906C-2EFD61F7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1DA0E-F0F8-43BD-92DC-DBB6AC3F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1C2A0-2BBC-4442-923B-F4873782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F48A9-5B70-40A8-A066-E4464DC4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E93AE-3938-412B-A751-123E82B6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46BC51-9A60-4F49-A12A-73C2939B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4E8-0E32-4097-84C1-651B7E05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042233-D809-4241-A97F-13BD2F06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31A05-4FB2-439A-8631-A177BDEF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89AE4C-DA08-4ABE-965B-8512BEA1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C95328-153F-4915-94B0-7237A2BF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9BAD91-F9BE-4452-9AFB-DE3C8519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857AC6-5529-4C31-8B4C-2CD9EFE0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FBD0EB-0A2F-4D23-B697-9C2D1C2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142683-5E51-4852-A6A5-23B6A00E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A30076-5137-4A87-8EE7-DD7B11E2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BC3FF3-9464-4D21-958B-6473D4B4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C27-DAB7-4F9F-84E5-B650CC69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DF4F78-CBD6-41FB-9B16-B2C8F795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EF42A8-1ACA-4EFE-A5A0-FAEAEA3B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49EB2A-E93E-4FFA-8267-4727ED7B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04E7D4-2447-4AE9-B133-48C36086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796135-FF44-487C-AFC4-C5514A7B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35EB4B-3F03-45E0-BE08-923279C1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7EA6D6-0B56-4D93-A454-8716023D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299455-6C48-4C51-B75F-627789CD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250DF9-BC89-41E6-95AD-F59F5477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BDD038-DB6B-4911-80DF-0219403D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02263-4CD2-4211-97E3-DF8F6DFA92F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4AFE6A-A927-4125-A629-FD4B1E7D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5DB62C-8F48-4B30-A163-6763A21F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F19B51-A35A-424B-9739-5005F678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CEE701-08E5-4BA7-B58C-82ABC415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B05FDA-9939-450D-9CDF-23CC1177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830B46-27EA-4477-8978-36BA786B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428F67-C6C5-4D38-82EF-DD88BCEB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161A67-D10A-4A5F-ADA1-F45AD28D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62E3D4-39F1-467A-9CD8-7935DE1A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44B1E0-8EF0-4BDD-BC3D-19B5A6A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B809D-005E-4E6B-9BE8-F93A0133227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F831FF-6D37-4C51-966B-17CC4C63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D2ED99-2DA5-43C5-88BD-03FC78C0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697DBA-F035-4505-8999-9BE7A9DA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7E5C5F-ACFA-4C1A-87F3-6B16FF5F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201478-0FA5-499D-93C4-F6079CBC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F7C1FF-354A-4F95-9A70-77567590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246FD5-0D57-4457-98DF-ECAE9282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D92EF5-0E84-411D-BBE8-E1C15040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0DF565-8B12-487B-9FD2-C0A95EF6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D95F16-18BD-467E-8F37-292C6E71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8DC72-4B25-4D9E-8CFA-F6EBE64CD0C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518717-691F-4D97-A965-43DD4D01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BEF8E5-E82B-4DEC-A7CF-0955B9F7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0BC0F0-76B3-406B-9174-41C6AC95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DFBB78-0774-4E06-9B56-D2B1181B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421B7C-2BC7-43C7-8B77-22F4A0F5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EBE154-C8FD-4F4E-B2C1-C6941301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263B73-07BC-4879-943A-A3AB2B55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393B46-44F8-4C10-98E0-E69D3F10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94FB38-8381-4BAA-871A-9CD87F31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75BACE-B99B-4BA6-A1E2-51494F9A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B5F15-DD92-4C94-AB2B-D5B231B6262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72E5E7-B338-4EAF-87EA-9A1A5A22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4FB049-28F8-4BB5-9100-475CDC59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4EF05B-31A0-4DB3-AE41-D574B5ED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B3F149-4B70-4243-8C8F-504F1EF3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879D53-159A-4072-8185-9FA22246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8BE999-30EA-46AE-A235-C475EF91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7B571B-52A0-43CC-B734-7E272FD2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E08B17-AEB5-4D17-AA9B-EC3028F9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F53BC0-BC75-4B5F-AFC1-8C079C38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F4751-D244-414B-895F-CE35D4478A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65915-02F7-4C12-8707-F3E6FBE622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60B91-112A-4CE4-9A02-569D1AC12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0CD-70F4-4573-9742-604FC449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53070-7E0B-4B20-82C3-F4F07106CE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4D8CC-91B5-42F9-A4E6-9C951F88F2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C3EC0-23E6-4265-85BE-D0428FC10E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16795-FA6B-4291-9914-A4838583A7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3ACEE-8708-4574-BB1B-AFA3A63F96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69D-D567-45AB-8A3D-486C6F7B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595-3F2B-4C23-9357-48C3AF15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AC235-C0EC-444C-9B36-C8A9D19E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215-F93C-4EDD-AF00-8854B024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8DFF7-442D-46AF-8277-9A83185B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BE71D-9881-4FF9-96BC-AB535A59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5C483-C860-4188-B25C-1F69D361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8E661-94BE-491E-9373-93A7C682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C91AA-B695-4EDB-BC5A-77C1B148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EED01-5B72-47BE-95DA-8F6F354E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F6DF4-61FF-459D-862B-623BBCB4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764B9-BA27-4D8B-B1F6-773F5A7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98E04-D8E5-446C-BA94-37F46FDF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8C697-F3FE-42D5-9F75-F2E35842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680-A570-48D6-A1E8-832237C3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54685-270C-4EBB-95CC-551D345B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48C76-3E77-4E3F-AC2B-646041A4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4BBFD-3A8E-4CCE-9B25-C7171887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24DEC-9E8D-489E-ACCE-58FC137C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EB41A-35EC-4564-A460-D5649347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3300C-3A6D-4421-A562-3C5DC218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6F90C-2134-484B-BEFA-3EBB0A89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C6070-0063-4108-9809-EEB5A253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0D798-7413-4539-B26B-CFEB4E67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56A9A-86AA-41CB-855D-F627BD4E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D49-F997-45EC-9943-7CD6C630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5764C-C6BB-4DEF-99FF-6F58C10E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CBBD5F-3B42-40D7-9557-C9FD3372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593E2-466C-4043-9EDE-C42DBCBF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08A4C-E784-4449-BBF4-51492582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50B0C-3EFD-4693-AEB6-AF270C86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7E1A3-3C12-4EE7-AD4A-0B99564D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8D428-0DC7-4782-925C-17D64689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7CD15-F519-45D0-9648-749D7630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48FB2-0111-4F39-BE44-7800ED9C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5EFBA-CFF4-480D-874B-87BA3143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FEC-2C71-4C7F-BC15-1A3071CC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33E88-A599-41F3-8B8A-48DB4FF1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4082B-EC18-4458-AF10-32B8B495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2256D-7120-4D71-90A5-7AD3B738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47B8B-C063-4C9C-B397-0448B2ED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63E95-8C7D-4B00-A08B-04D3272E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7B509-4F8D-44F1-8DF8-C44DC6BD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1B783-7AB4-44E2-A1DF-105C75ED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8EE0A-5DF9-40AE-A893-E702B774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44569-0858-4CAF-9615-ED6024CA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CDF9D-9A64-4E6A-B849-FC555DA9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1BD-1D84-4ED0-A056-AB11FC19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5979AA-79B7-4F46-97FA-6F995BA1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2A6448-3CED-44C7-88CE-A1E34F78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11287-4F4F-42C8-89C1-AD3851BC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F1AAB-F40F-4D98-BA0D-F1AF1C8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41EAFD-07BE-4A38-89B5-744080C4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E75A8-3F59-4B55-9541-0A007752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DCAAB5-8A0F-4A3B-887A-82D3C3A8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2158DA-1290-4D04-95EA-DCF89B81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50377-656F-495E-BD59-2A200412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4D4D7-3414-492B-ADDE-29660AB6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5303-842C-4760-A672-BEF5799EBE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11FD-E3DE-4068-A5AE-26358C708A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3F72-2B55-4649-9531-4A36B018F7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3AFB-E5F9-4E84-B7F5-1977DE31E7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CFD4-8109-452C-9B54-807BFAD8EA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BB14-ACB3-41CE-8D87-4619C3DC0D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8CAB-42C0-46A3-998F-C70DBFDDD2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6123-8CB5-4AA6-A3CA-B0D8F835AD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1C56-FCF3-4760-AFC3-53261EBC51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B2DE-8206-4B34-BB8F-FE9EBC5E28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7A80-14BC-4EA7-B78B-3D55EADB44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8B97-121A-44DC-B24E-BF5E4CC7B9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45FF200D-E83A-4C5A-96EB-04FE97ACFB78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9-09-19T18:15:58Z</dcterms:modified>
  <cp:revision>316</cp:revision>
  <dc:subject/>
  <dc:title>Slide 1</dc:title>
</cp:coreProperties>
</file>