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2793-F2C9-4A23-A515-ABEBC42EDA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A0F7-8B1D-40A4-ADC2-E36C4694FB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779-F28F-46EE-BF83-90ED4826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061F-0D61-426D-847D-1846F5A9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DDF57-11A6-4C21-BAB5-76BF1791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08EF6A-8564-41C1-8CB4-BF0787B6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CD620-77E7-437A-9754-E1AD44EF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0F6A01-B453-48A7-902F-95F76387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108AC-482A-4408-BC49-1AFCC5D0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F6E66-CCCD-44D2-9FFB-C84AAF39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C67CB9-E900-4673-9778-816BFB46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7D829F-7A9B-44AD-8E02-A189C8697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2D2B48-26B3-44C6-BE45-C81601D3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F521A5-ADE9-415E-BB53-E64A793F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879-711B-49D3-BC8E-BAB0C469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0DD4A3-86F9-466A-A434-B21C85D8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3CED72-168D-4DEA-81C3-553D853D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78FB46-5D4D-42CF-81CD-59D0D052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487FE3-FF37-4A39-A197-3D0B8547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96CC43-45B2-42C4-9E99-0F5D122B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6F5208-014B-4747-9D4B-8A1D02A4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C18196-11A3-4B88-BE9E-0A5BFD88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E97D25-FA9B-4E14-9859-DD50D2A6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9D08FF-0336-4CDB-8700-A6252995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B0839B-8FEF-43DA-8978-4E37B481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655-ED59-4CB9-9707-6507BF49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48C0C9-B823-4B5E-BF5E-680E7C0A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C01692-4599-49AD-9CF3-B288756F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9680E4-3B7C-47DF-A1F7-3FEC2434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253E26-626C-4EF5-8F53-A8FB77C1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E8E45B-DD6B-4E93-B815-18805D4D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ADC7CC-0F90-4975-B486-C3D25131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DDB35C-092B-4BB3-9951-83FD69F1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65631D-C7EE-49E3-9CAE-76A29C6C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F7C0DC-8D15-4BBD-AD6F-6347B816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45CB59-AE74-4A1A-8067-22A59A2E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B08A1-1870-41E9-B940-BB18BA4D1EF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E8B28E-2D3E-47D0-921D-42FBE40C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311594-A664-4F2D-A3EF-DB560778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D088B3-6476-4B93-9E10-71B5E9BC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4CD15F-884C-43B9-9B6C-33349B2C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50AD5F-D878-42FA-BC53-D1611392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766281-2079-4EBC-99D3-E761457B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33BA02-1C57-4CC7-8AA5-C5AAE9BA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A39B2E-A5A5-4239-86CB-5AC4C249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5393D6-B035-47D5-9B3D-F35C4F69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44E5BD-F5F9-47F1-8706-73A19982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7C9B5-CB23-44ED-9F6E-9556CD6E553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6C909C-017E-4233-9B24-E68B7CA1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5848B0-5AFD-4DBC-81A5-273BDFA2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1C06F8-2027-4A36-9727-26EBD832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4344C5-70D7-41BB-8EE4-6244A0E0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8D6100-5A05-4885-A109-7B4665B4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1A16AB-39BC-4825-BC17-C9A04441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2CF051-D235-40B4-9FF3-2F025917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4C88D1-C2DB-48A6-BDF3-5485D2AF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825A2F-D5F2-48A4-852E-663CFA67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4029C0-378C-4200-9CCB-F886DEEF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4383A-0596-4236-A60C-599C3C53898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1A4F62-86B9-472D-8DEE-5C48EC08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63459D-2154-4622-9538-C55EA8CC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DB06CF-612F-4740-884C-4D7CFFAE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196DFE-ED05-426D-94BB-9250BC9F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A190B9-793C-4490-B5A5-D30DF42B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F9151F-E64B-47E4-B619-ADCA08ED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932176-63C8-4A59-888D-B9798AF7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43E926-3391-4E0F-8D4B-F620B286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919771-2071-4946-975E-B80BA057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93D129-67E1-424F-BC11-535DCEAF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7C744-F6C2-4BB2-A0EC-5DA48702112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917392-2F81-49B0-BB20-4DE0F392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723B43-AAC9-45B6-82F6-DB9CA24D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3B041A-7558-4DD4-9D4E-94864DDB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23EDC5-8ED3-42EB-80B3-5F746E68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BCEE91-4DA3-427C-A4D5-588135AD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6CF972-B31B-4B78-8D54-7F8D8975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7C5DC2-7E67-4B08-84F2-1E288FC5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B205EE-BEB0-4D85-B276-1AABB124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1EC593-BF76-4A95-81A5-8E8B26CD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C1B35-0798-4F2E-8754-0CD7B6EAC9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CE516-463F-4765-9261-6038150FA5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0A181-4874-49F2-92A2-E76A2FB05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1D49-38D9-43B9-A6F3-A81FF814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030C9-56A7-4B41-A19C-6B7DE60DB3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7E9CD-6659-4285-9F28-B463B24196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76945-8EB0-489C-BD1A-1011FA83F3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D19BC-30B7-43AA-8164-147C4ECAB0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0F1E8-A290-4420-9E1E-4CD02CF50D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9EF-1EFE-479F-8652-2956FFCB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67D-9446-42FC-998A-DB66270C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5810D-9CFB-4A4C-A241-A3A01146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CE0-BD00-4316-92D1-2F8C1167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EC386-ED1F-4C93-970F-9981A686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D01EB-E23A-4F9B-9EC8-5323CFF0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35F04-89F0-4542-9821-5D86F524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AE770-F45A-4856-8304-A5771C47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8BC2C-6A4B-4989-8404-8F82132C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E1157-1637-4C3F-850F-83F295CA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692DE-6ED7-4F87-A629-CFF335AF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93B3D-E886-4789-B0C2-DE233B92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F0770-9DDA-48A0-B5EB-208F402D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43D012-E192-4D7A-90A8-EB0A3E3C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7D4E-69A7-4C79-A2C3-8DC31A02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FE7D2-7561-456B-A6BE-AFCFA74A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60ED8-A7B5-474B-9BF4-7A907E1C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CDC06-9440-4D57-B39C-3243B6FA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5F35A-8F5A-448A-8E6D-DE00BCDD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5EB4D-6E47-43F6-9654-BC24E435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F5F1D-90E4-4473-9A5C-A92D6BD8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700CD-B317-4F80-AC93-616EECDE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1892F-3EA1-44AC-8643-6BC16075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11D4DA-AC7D-452B-B0C0-2B0489EC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F882E2-F939-4434-AFC0-D1DAC8A2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A11-9EBA-477D-A979-9B1CC504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15B76F-BF53-4708-96EC-B23F1A78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B9FB7-D01F-43B0-B723-C0A1A51D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4747E-893E-494D-8605-8C70F6D7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C7863-5E17-4EF0-8A66-E935D08A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BA470-35BE-44F6-9EAC-80E290BA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7C7FE-A277-4A74-B38C-F267F04F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A4973-83CB-40D1-BA94-173B0A46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EE62BE-5AEC-4065-B24B-0B747502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1A0FB-0EC1-4DBB-ADE1-22C31EC4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36B60-938D-4188-B25F-9DE32C3D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8F2-C682-47F2-B628-91D38F0E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981E0-D1A3-498B-A788-6E9261EA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0A48E-D0F1-4094-B370-7503BF66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6A57F-A232-4A78-B138-142C45AF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00D3B-DC2A-45C1-8113-2B069F4A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D559F0-3803-444E-9122-94558294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5E902-0EFA-4012-8787-4D71EC93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BC8B41-1D46-45BF-9EB1-92C51C8C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9C26A-0F84-4B0F-B9FE-93812842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F0B5AF-2224-49C9-90D3-25D36393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0FEB52-4718-4A7E-98BE-AAF1BA1B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83D-CF21-42EE-9CDC-ADE5B33E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E989CE-0B54-44C9-9909-E2D49BEC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872CE-B5BE-4E8D-9112-A1965E50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F44042-9ECB-4F50-ABFA-BC1F0E9A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FE4E3-7FC4-4AA9-B674-57DC3779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205EA-CC54-47DC-8396-8AED23FC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7908C5-83FE-47D2-B36F-876A3E9C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84DF9-61B9-4B70-B957-8A35E2B8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EB98CF-CE6B-464D-BC64-91B57285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E7C7D-E218-4452-AE05-32C4C8E3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D52F7-09B4-424F-8F1A-07C86619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E52B-A5B9-4C6C-A1A2-D8F48A7151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6C25-F287-4B8C-B18B-7B77329530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8AE0-D968-4DA9-9F18-11BFAA9E2D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8939-BDCC-4F9C-B417-6776A5512F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28B4-9715-4F28-A92B-E2C10D992A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B96B-8637-4FF6-9E65-C83C05AF54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1186-C959-4848-BBAC-A12F1860A9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8F8D-ABF6-4990-986F-C218F47426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109F-8C83-490F-B6BB-61DBA1C8C0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3C6D-08AB-4E38-A35D-ADCF1947E5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D5AA-0352-47F4-ABCE-448B994063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68F1-BBC7-4013-8F0C-BE3EE95041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4F92A756-26A4-4DC6-8A97-132497C22736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9-09-19T18:15:58Z</dcterms:modified>
  <cp:revision>316</cp:revision>
  <dc:subject/>
  <dc:title>Slide 1</dc:title>
</cp:coreProperties>
</file>