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FDBE-BB6D-48F8-B8E6-A218438BF7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1774-EA76-4DD3-8225-1CF0A10106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672-0DAB-4838-80EB-C460C705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725-BB80-46D5-8F22-ED49CCD3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7D065-429E-4FF5-B0B9-B56A41E3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D8EF9-B022-42AC-B3D6-B521B9B1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0948C3-3FE9-4150-B235-A6FAC036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65B29F-A094-4E62-8A11-4D06F0D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1F9A83-ED76-42BD-A445-4C692236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55E5FE-7354-4FC6-BC4D-FA4BE2AA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CE268-3E01-444D-A77D-828CDCFA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AEA1C-6A21-43B7-A5F6-82F0A095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A5844-0261-44A8-A32A-8DE66957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3A3E8-DE92-4933-9810-57AE3497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487-D12B-420B-B612-2B70514C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9285BC-A555-48A6-8A86-BEACDAFC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04F506-6F97-4BD5-A1F7-BA53267B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D7BF65-FC3D-4730-AE30-A2F3F689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2BEB9B-84BC-4640-BD01-843AF4B9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F916A4-475D-4330-B32F-582B9469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D92546-8781-448E-ADDF-6A5D5FFC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EB58CF-81A1-4DC6-87FE-385AF496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CD2FEB-2977-48FD-BD9D-5C0D03E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79752C-D05B-4C84-AA90-5AC62A7B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B360D4-9681-46AD-AD48-99750C46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55D-0387-4E4E-8BD9-9644E5BA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E1E583-731D-4BAE-915A-C0645215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B990D9-39EF-4B75-9CCE-A1DA07EE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3ECE7A-AFB7-4109-B890-81C1008D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E533ED-E17F-4C2F-BD4E-13305A75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1E94FE-253C-4E0A-AC1D-AD88CB66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F59DC3-2BE2-46FE-BDE0-1A4359C2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AADFFA-2067-45C9-A035-11F239C7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100EAC-A7CC-4646-9787-63626052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1E492F-EE53-45A5-BED2-E67566CC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40C56A-813F-497C-BC0D-C25ADE0E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72A97-3F08-40B0-A8F3-E2E87529475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4C56B7-6118-490C-B9E2-317575C3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660800-973E-4D58-A82F-FFFF0A91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9C87D-80CA-4B2F-BF00-4D4F772C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1F678A-F600-4154-A6F3-03D4387B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64AF82-B563-43F6-BCE1-CEB134AD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150DFE-8ADB-4F4F-8FA1-483AC468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D9C173-B234-41B1-AF3E-A5C418AC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ECD7F9-E8D5-44EB-8B36-9763AC89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B529AA-2727-42FD-8B3F-A00EF304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10F896-1B6E-4E52-A7BA-2A164887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1A2E1-9DB6-4A2E-8685-10F02F6DABE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4F59E6-5948-460F-B79C-3813CED8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DF7D13-5371-4E40-BCAE-C87EECB2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DE0432-73B8-4788-915E-DF8C243F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DAC4EB-0596-4489-9397-E2D79FCC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2DD223-7A70-4E95-BBFE-F5E6D8D3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B9E4AA-D747-4862-B201-57047099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371CB9-CB6F-4F3B-A98F-5A4F5B39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83F132-B161-44A2-8B52-AA7F8027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36BC5D-4A61-4712-9523-132603CD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59E35F-EEE9-477A-AB82-F7920052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6FF17-81AA-49CA-8C40-5209AF35C4B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36CEDC-4353-4459-A81A-61D7422B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64BAED-B334-4CB0-9B15-CD4913F7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DB8CEE-B50C-4826-A48E-A241AC7D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8DAA6E-E872-421E-BDE1-729CE555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550F22-CC78-46E6-B193-CD870D40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F37247-9D62-4C83-9FE3-2C804C3F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66E5E9-49A6-4AE6-80E9-4E8B81FA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2A7837-3733-4EC6-A3CC-200F3165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B9B668-3325-435E-86C3-C1BC15E6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2244FB-2278-4C57-B985-77AFE4DA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0B9AA-35D6-4D0A-AD13-9C3B5348C98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220601-F524-4AB6-8ADC-7B6DCBA6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A8667B-45F5-42CF-982B-76BB8469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E0FFE2-95C4-4CF7-81D4-A92791EF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EA3649-444B-4628-B751-5AAE9F70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1668E0-2486-4995-953B-F69EE925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55F33E-BC6E-4347-AA13-F4186B69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E0CEC1-A7C8-4BF9-97B7-411DFD97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6262E6-71DC-48DA-AEDD-26B825C9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0428EB-6FE2-44FB-94D6-393F6B58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292EB-355D-4799-A1C1-1BD3D80583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0341A-C882-47D8-BBC7-63446200B8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C12AD-8E89-4561-B806-F41426A031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A20-06FD-4C15-A249-78F30893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F8121-9CE8-42F5-8FC3-FECBA0DC7F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DB411-351B-49D3-A28A-03A102134F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14109-63F3-4C19-9E13-E00388554D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520A5-D5C3-4457-9C16-1C1C67139E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E1EC9-3806-4B49-9DBF-8F10F3985C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E31-F484-4286-8D93-85C3AFFA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07D-E107-43DD-B9A1-82D3D606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2F994-47B1-409A-8713-7EB66B20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87D-6726-41CC-A831-261B780C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E3505-4541-451B-8E38-8FDEE899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6FFB0-6FC0-409B-93BB-AD363DBE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8E29B-4F85-455F-A8B6-D4F4CB2B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567F8-0FE9-4DF6-9CBF-48571713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D99FD-D205-4707-BA1A-12C57DF6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0DB9E-E594-4621-BF61-FB384F75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65986-897B-4AB0-8AC8-95AC07DD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CC1CF-8A51-456C-9CC1-48ADEA9E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B98BC-8B7A-4665-8418-2CBB8558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F3494-FE01-4CE3-B708-1ECBB912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245-2FEF-45D6-9F23-F0509289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064D1-8B29-4FFB-8068-79ADCC38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F81E41-D131-42B1-85AB-BF34E67B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456CC-7CC8-4594-AA5F-401A895E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7704C-685C-46D4-9201-64783099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BD7D4-0BFC-4EEB-AB98-138536C3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91AC7-E685-43EE-B142-2027AB92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1B1AD-C298-41FD-B999-0941B9E5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7EA63-FA26-4000-9422-8D439843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34AF04-8345-4EC5-BDCC-8A927937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B344E-5999-4D8F-90BF-56E011BF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70F-E935-427E-BFB3-241A4853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AB979-ABF7-4F62-A7B6-E9A02763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4DAEF-37B6-4E21-91DE-5CB96A1F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609427-1475-4535-AA74-881D2B80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5228F-5ADF-4E32-9933-EC055C68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87029-555D-4D24-8736-288CD5F8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4AB16-8A84-4515-910D-A1605886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FF098-C409-4EDB-988B-AFC5B661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53CAA-9A45-4994-ADE4-46A081F4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83EA3-22DD-41F7-8D2C-68B3A30D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48A31-AA63-4D9C-88E3-B963D1BA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EA2-8E5C-4DDD-8CAC-1F17A2D3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95615-026C-4BEB-B3F2-90FC9D21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20DC2F-C6BB-42E7-B611-4AECBCBB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4492F-0EF0-48BC-B28D-B68909AE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8A60E-EF5C-4D88-A38E-F42B9115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F0522-18C3-4921-9EA8-DF89C1AA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16183-3487-4969-ADBE-52531465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14602-BC78-4426-8194-AAF7C5F4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FDFF0-482D-4000-98AB-EDCC890D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30352-5BC2-4C0F-B236-F4EF10EC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E9A20-B4BA-4240-A71A-C57DC118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850-0785-4EEF-9229-4AA5A489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30EBC-2087-4CE0-9D79-D4CA6BC6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98800-E081-4762-A040-1C1F1D49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80F1B-C065-4C8A-8177-2540679D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5F440-7013-428B-B11C-365F5287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EAF0E-646D-4238-A0AD-79BFDB5A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FA0E9-AC76-47AE-91E7-5CEBA83A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859C4-2D8B-4E7A-83FA-92157218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D9DFD-9141-47D6-BDC1-0B18DF99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13F65A-46B0-4119-82C7-B1C96034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37EC43-F18F-4D5C-8BDF-58269DFD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3319-9416-4F46-93EC-BFA17DC3EF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C78F-217A-429B-AB73-DDD591C9DA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FB05-B89C-4825-A8AF-1977A8ACDF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49FB-151F-4E6C-A663-6E6624FEAC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A21D-B00B-4068-968F-D1C7A65C53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5D79-1484-4E5A-8F6A-9A6D5477EB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3E86-1A5A-402B-8856-D2B220AEF9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00FB-DABD-4849-94CF-D3AD227515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E3EC-CA29-4980-9D70-7FC74BB225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6CD0-15D5-4358-8609-A040B7FFBC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3CA7-5A51-4E1E-9A50-3E041B00B3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43ED-9C2A-4B41-983A-304111F2E6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2A1D5049-1DA4-425C-9F3C-66A27D2818EC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9-09-19T18:15:58Z</dcterms:modified>
  <cp:revision>316</cp:revision>
  <dc:subject/>
  <dc:title>Slide 1</dc:title>
</cp:coreProperties>
</file>