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FDC98-05F1-404B-93CA-1BD458ECBBC1}"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3521-D488-40E4-9182-5ADA207B9B38}"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64F58-912A-4131-AC6D-BE2BFC006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6E44E-40F2-4374-A428-439418ECC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48E8EFA-4840-447D-9C44-9A18167DBEA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FAE5B75-35FC-4B0F-B37A-45C91BD6B7A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ED7547-2EDD-459E-B18C-A3D1799FA97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0FFDF61-D1C1-4548-A2E2-C956031F7B3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6223792-6894-4277-88F7-1630687A15A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D4BC4EA-C4A7-4B37-AFAD-2BE82331A10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6B8E874-129C-4500-873D-CC2853D34EB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E18064A-8BF2-4E11-98C4-F06A16A1D07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2D13946-C6B4-4BB8-AA2F-27363BEC7C6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3DD2B78-8BC8-4F9F-BBD7-A6E84522B75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3A9DC-355D-474C-AAB8-3AD2FBD72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6A1B1E3-7160-48A2-A27F-284539EBD23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76DEE44-30C3-457A-A038-F6D9B2E151E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3505A34-E7F3-4453-B666-1C95AB9BD93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F90F8AC-AE61-4C04-8FC7-1CA8AB0F58F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4967019-AE60-4900-AC38-527284A06D0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3AE185-5AB8-499C-AF0E-927E0675037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D086FBC-14FD-45D6-8A73-201B5C9A11B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82C2C1C-2036-4880-BFE8-7B348639A92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B4A6593-8621-4462-95DB-082295C521B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A20D805-7920-4979-B394-B769D076D1A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8EE04-AA5A-4847-AAED-D6240F84F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C8CE4B2-5D22-4570-B932-72F6E8164BC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76FEF77-6E23-44F8-9152-D80FC055428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E932114-8E9E-487D-B541-C5B1E82F3DF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6088D0E-1AD9-41A1-BAF2-FE1719C70B7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11CAAE8-BC2F-4E1A-B0FE-0A8D21BA769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8D3C656-7FE3-47DB-B974-F590F809C20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581ECD7-7953-471E-8FF8-62698F40996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58B0969-1B00-431B-8F09-EF0B054FC09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2341EC9-9BA8-4BC2-B3E5-52FFA3A487E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70D4932-5FDD-4EE8-9DED-8E49828B52A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5290AE-4717-456B-B445-0A84F55C74F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2EF5471-64D1-4C74-A1C9-C537AF0A947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7DACE56-4B06-4307-8D6A-426E9047573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07F795F-F8E7-4AF4-A404-D3481F8D5B7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C30BCA8-D043-4B9F-B285-18E2DA29A89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073B04E-6427-4C31-B9FE-F0645EBB473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F6CC7C8-F8C2-44E0-8650-C0A4BF540DC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EE98D5B-B237-4BE1-90A6-435D84EA5C3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47EB23B-8BE9-4662-9891-81445B6A2E6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AE66934-C9AD-4C8B-9435-2111869C27F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2575991-1ABC-4296-918B-8D4EA37B03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F2BDFD-2264-45EC-806B-986B679E954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D684F4C-1C6E-443E-B803-828C96164E9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3231A12-B4EA-4A21-80FB-3F4725A7602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E3AA6F2-0EBF-4875-A68C-684F3468C19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E5AE235-5D33-4340-9522-DCF88BDDC91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A3283DF-ECA2-47A5-B446-9A3A8AD2346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F3B8866-6485-48D1-9CF9-CE60563EC6C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52B8CB9-50FD-4EB7-9E11-65230E71176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D71E28F-AC44-4635-BD49-DF3339CAC27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472E6E2-5B81-4480-950D-031330CF901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3D70C1C-BD35-4319-9C4C-D672DE7DAE8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61D015-2500-4F76-B558-A57AB5D9BCB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DE4C082-BA83-42AD-9122-3DE5D04C1E2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B91352D-62AB-409E-BFF9-73E36B4E636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11F15C0-D1A6-4176-AECB-04A7AE63DD9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8348E72-2297-4DF3-8C5E-7086C0B1691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8BB4D53-66ED-42B7-96EA-0864008995F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8C482B1-81DF-4A45-98E8-02539DF7301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A0B5CEB-4EDE-485F-8614-249D3CF8D65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141E642-2267-49E7-9EA3-EAE887C1206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C6FEF87-9B15-403D-96B3-7AD745083E8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1496F02-14CF-4899-A2EF-32249EA0703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3B8F81-D2C0-47EC-AF86-0004D771EDB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BA71125-4F86-4CA2-BD6F-27932C7DBC3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82FF5E3-721E-471D-9ADA-1900975CC61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1C69542-98BC-4F06-B993-98FAF201208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881E7C3-F291-4D49-A36A-BD4F2E4A7FC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6AEA3ED-3EB6-424A-A11E-21700D356ED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8A86E52-7390-46FA-904B-D61D64A0702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6FABE72-A0F1-4DF4-ABC8-559F6453A01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4B5F5BF-C626-48F8-827B-FE40006928A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A862CC1-6EBD-47E1-B3A1-A9F26332AB2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2FB825-53D6-4FF2-A864-988786E4975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F58496-8175-4F43-9BA3-B695951EE19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B0EA2F-8FD8-40AC-B439-1A5CF28B16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BCA5A-2040-4BA4-9D15-4A3C1E113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7A0D2A-4048-4F3B-8BC3-CCDB193EFC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B9D72A-77A3-422F-8A29-5B13BF8773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F44414-77BB-4323-B69A-D96F37666A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653966-2655-4FD0-87B9-5D69DC528B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A65A7C-2A82-44A5-B67E-D02A3B0F23D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65F9F-5612-4AEA-9401-9F07734FD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69C57-3C1D-4F10-9F1B-5C0098F35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527AAB2-2936-4BE6-94B1-62EBC8B61AF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8B092-33ED-4783-8F32-0AD152553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BC8D88-2410-4418-B077-8FE6ABF898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611B2C-B312-4DC9-89D5-A33E07124F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18726D-2D6F-462A-BA69-4B75133C48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446F22-936E-4C5E-9EF3-FE12145DB6C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41E4AF-6574-41A3-BC43-33063D3B53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1553BF-188A-496F-AB95-93693EBEC5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6E9AC1-21B2-4389-9A5E-7288750938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FFA4A8-AC14-4E01-A8FD-C918E2D5E4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607A1F-62AA-4214-80B6-A93F470F532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EB5115F-2CB0-4BAE-84EA-2A192827910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ECC3-35CE-4F48-9495-4FB2BF2CF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DED66C3-F957-4899-8AC2-7E8E232F839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6D233C6-2DEF-4329-B973-E3F9DA070C2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67E9EB-E3A6-4BAE-AED8-B7689B3AC4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BBCC1B-E17D-453B-BA36-72C76DAD7B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EACC19F-1E74-411A-9911-C2426F05B3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07FDC4-17B8-48FB-A415-D8A2BA94B7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BA377D-A7D9-4119-BE5B-8B42AC3C320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5D9A89-65EE-495A-B8DA-389116759C5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14752C-E7C8-4DE5-B5C7-51DD0DF4AA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950E15-C306-4F9D-A602-F8F6E0C98F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9C46-73D4-40DE-906A-E2D35E154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27F1A4-4392-463E-A641-75E21C8847C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8ED3E23-A811-4182-887B-7D4DD59E2EB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911873F-6EAE-4AF4-976D-9E192956D94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C2C9B64-FF88-4186-8599-7D10802419E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EE0BFAD-0BB1-4C94-AD9C-76B650EDE7F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6624C6F-9665-4258-ADD5-F1EEDE1BFA7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0EDECA4-AB89-4567-8AED-3B46532C943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1E973FB-07BC-4126-8E05-8A90688A25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8FB906-4DCF-45F4-9314-1CCF1B35750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4E4B2C-6189-470C-8E5E-3E26CC16F60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4AE98-830D-475E-B7EF-3EFC5B3D5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69AFCF8-6CDE-409A-9A41-39EAF6B3C83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A015C4-CBC8-49D7-A20E-EDF6CDA2CF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43E20C-C71B-4580-8936-350D9D14A4C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92CEF9D-99F5-4313-BE5F-BCFB859E6DE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86892D6-04EC-4208-9A9D-EB608E76B08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E28352B-2E26-4F9B-B1F8-E3FEDD32950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D739E99-B4F0-4C24-8D6C-D5CF0134F20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FF2BF46-33ED-4DFB-9C6A-C8189B07158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06EBF14-6B0D-49F8-A33D-54DC59243AB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54D0555-9463-4B90-A4FF-0B2C3B4F1EA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0940-9317-4AED-AEC7-5179D4143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5895542-F084-4161-BC25-B372EEC7E2D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DFE7B6B-AD69-4FF3-9EDA-25DFCD6CDB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D88BEC0-5212-4737-97E8-A90328B61A4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8EFC03F-77F4-41F3-8DDE-EE2C61E778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74477FD-9D92-48BE-8E71-6A0FE8504B4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BFD3189-CDCD-40BD-A09B-26B225266F2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001AEC1-046F-44F8-831A-74927824F42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ABAE700-7596-4FFF-9AD8-B034210B9B8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6B2A5A8-7F84-4A8C-BF7D-B8A72926A83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3EE47BF-AFA1-4DE6-9E8C-3BEE784E94DF}"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3FA8-5312-4D19-BBF3-795FB810FC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C4CC-FB27-42DC-A8D8-DF601205094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4904-9BF6-4894-97F2-179DF2B9113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F67F-07AE-4F29-BF81-9AD69C3F3E8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E610-0E82-471D-A4AB-4F7418868F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C705-E822-4F54-9A78-969CDC0ECAE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5E47-3D2E-4A6E-8878-43CBA1E931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D565-C598-462B-AF2B-698C5C5D8D9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1D69-C9FA-4FF8-ADC0-2D38F156FE2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453CD-186F-4777-BCCC-20C98DACB02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1A16-3917-41D7-BE3A-D31C265DBC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53E8-3B6A-4E2A-9433-6DE5A2B15D6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E308B6E3-7B58-4DAC-8302-B6F98465D2C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A954A22E-58D3-4616-B376-175DFCB86CF0}"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8-10-17T14:23:48Z</dcterms:modified>
  <cp:revision>322</cp:revision>
  <dc:subject/>
  <dc:title>Slide 1</dc:title>
</cp:coreProperties>
</file>