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2221-C4D5-49E5-8634-A29D3DF136C7}"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593C-E3A1-458F-A3A5-26FD44C8E7BC}"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5CCBB-1D0C-4746-ADD6-18B76DDA9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4BE55-1A35-49B7-9AC0-7C2A60FA4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FC677B1-D5C6-4EE5-876A-1766E6F9F2F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1E2E63A-84D5-4B62-9016-3B46BDB10E9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D1180B3-4692-4481-BD01-A17D38DFCE3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E1FC84-FA4B-4882-B0C7-02AABA30DA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BCE9142-2D7E-4475-BC9A-D1114A078FB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9AE693-4144-4D0E-B7AF-F7DA1480A42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7759666-8BA9-4C93-9F6A-9C048A90DE1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06167B0-B87F-4FE0-BF43-8C1D4E06111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7D32E9C-B1AC-439D-9580-311290B962F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CF6D562-30BD-43DC-B7D8-AF727368B6F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C0BBF-A013-4BBB-8E9A-7B9716FCC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4490DB-11B6-4380-9987-C64E8D549F7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DF96FA9-0C04-4123-BFD4-93AFB513B98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2189B9A-CFE9-4019-AB8E-4E05926D220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7187C16-E875-4860-9FCF-E057BDB56FE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E736856-E88C-4D10-91B2-BF0FB9CDE03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92606E-8F3D-4351-B0DE-89B21B89E5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558DD4A-8F43-4308-93A8-F6DA90DE754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B0EBD73-2D00-4BC7-A089-F1168529162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C953434-FC5A-4BEE-9DD5-7E9749F9D9E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D9CBF6C-8C4E-4595-BF30-929C7DA3051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2077C-E1CA-4DA2-A607-23518FF12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D989442-4AD1-473E-8AAE-0BA7B5D77D2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6F7A2A1-EC4E-41E7-B598-43DD6A811A5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D359832-F6A3-4202-A454-D6DC527AB92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741F82B-64D3-413A-AFE2-179F77161F6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8FDAF13-BDA2-49CE-924C-29E1F84E743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698F9B9-FEFA-4C77-87B5-67B03025C42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AA3E259-4DEC-41BA-A767-8C5A56FCDDC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3EC589E-2DA7-496A-9432-C90A13AE366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D733202-1E28-4821-8759-FC1E4E13DAF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4E1E7D2-ACBB-4439-849C-4F25EB58874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1F1329-1283-465A-9BD6-55C72A0AB5E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356EBC0-8A5E-4312-861D-985EC44498C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ADDBB03-F325-4D4E-88BC-8FEC97F3EF9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9F1059F-66A2-4703-BE66-1203A427970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394F32E-6BB8-4666-A089-A62E0156388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2CB4501-F820-474D-83BA-E0D902410D0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28DEA2F-1B5F-4B74-9BE1-A4D598477A6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79C763B-6ADB-4DA0-A791-23566DD54D1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789F980-A327-4E7E-9084-B3D08538355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4389716-38F0-4839-A78A-66D891F7A3C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697C135-7CA4-4FA7-9C97-B43125B1841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C4A775-AA83-43D8-BE5C-C76B64336FF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6CA34A3-DAAD-4312-AD25-EF0402667E5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9D53989-4851-4EF4-BAF6-03A928FC3C0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CCE40A9-EF21-4B7B-865B-4F0FC4E65BF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DFEA7BA-1CF8-4735-BDD7-DBEB8ACAE12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B760512-A000-4365-8632-C499E7C03F4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D197631-369D-469B-A850-C9E4E4DD53C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2D200FF-E2C9-4153-B6C2-8CCE30E2107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1539202-3D08-4045-B4D8-13614BAB446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756A844-E122-435F-A8DF-5B755B2A6EA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5C4E16F-DB35-4912-93C5-D8CEC82AFDC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F2993A-1AF2-44D7-BECE-0B20EB0DBF2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C80840D-15C0-4513-8C16-20FFD97595F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D06DC8A-946D-4623-B0DA-773ABECC10A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E17CF7F-6ADC-435C-A354-D2A130F18A2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C1DCCF3-2AA5-4290-B40D-6BBBC75D8B8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C8F783F-241E-4FA6-8DE0-670D11BEC68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03CDD64-6A7D-438C-A6F6-B27532B5ADA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5ACDC43-AE7B-4A8F-869E-6A8759486AD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6BA9F8D-3832-4923-9881-69562199628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9258FDA-04E7-4293-9DCF-A851291CC34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A5664F8-E9D0-44B9-86F9-91225B80B08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EF81BE-2196-442B-B0FF-5E71DA74B8C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9CCA2EA-592D-4184-9D9B-A360CCA824E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947F9EE-0645-459B-AC59-29EE3651E8E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14B4EA1-1E2D-49FC-8F0A-53231BA3B8C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B8A92D8-33D0-4184-8C76-84DD988362F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AB17611-B80D-4B3E-99F6-215D467BFC4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90868F4-7578-40DD-81A1-9BEC8013158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56886D1-69BF-4EF5-B8EC-F8A8EE83B80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00D87F2-940B-4E70-92E1-361145D0106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A2FAC0D-844B-4687-8DB5-C880B71E1DA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CFB6E4-F679-4901-AB81-7D5F29D48E3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EAF0F4-0ECB-478C-9180-726E4C7B5B8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30569D-52A2-4CFC-A3F0-DEA25E6460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94984-9E64-4E75-B21D-FC4CF9E04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E3BEE2-4335-4905-8843-485C292844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692DD-E9F2-4A54-8959-F79D9DBF5A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85E0BD-8C7F-4FAD-B7E0-A97D48D4F5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9D594E-F39F-4FE7-836A-D9F4520D3D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B25A02-9FCC-4589-9280-F1944C91A62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32863-D59E-43AC-8E85-D6E2A999E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ED87A-ED94-4C18-890B-C14D3FE34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7150761-646D-4656-B1C3-1D6452DFE5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C4E54-4CB5-406D-9753-D3060864F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4402E16-D1FF-4F3E-B51F-8C8F35A1EE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C6E495-F71B-442D-B6E2-642CE0CC76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9BF345-C5FC-4D1F-8020-71F1C55C10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0F9472-E342-4EEF-BB48-C40331231A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BC02BF-1C02-4C00-9C38-700A1799E6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1FE3C8-8E42-4263-82DD-BE8C54E09B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EC757B-E5C0-4383-9F67-E5F54C13E1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14C7DD-4B02-4A35-9FCA-A58B9E8B54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7A084B-D80C-4DE3-9869-68BC96F66F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0C3A16B-4549-4A7D-A13F-89ACED229F3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7D5FA-676F-4D4B-A00F-0D323ECA7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C8950DF-8A82-4496-B70B-438B48D85EF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822EBA4-553C-4019-A0FD-06A81E2A08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5DF8B39-3067-4DF0-AA6C-F8706CD5DB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CDC1E7-FE50-42C7-952E-0A5055D8FE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DAC98A2-40D3-4EA8-BEB3-1F56809403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21CD83E-CE3A-49EE-86DF-9A6CE7D665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2245DF-69F5-4A41-850B-1747F74E7A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FE4196-8376-465E-9A9C-F91EE507B1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18D958-CC9E-4619-BAFA-E5352E89A9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5BFE05-C84C-4F4B-9030-BD94D4A5EB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BAC7B-C13B-4F58-B4BC-BD6024990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92DD45B-7F41-42CF-837A-EB12E99B9B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0EF9786-5317-4577-8D14-85F2E8AC261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103167D-00D6-419B-A817-B74D5EDC7C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6911D18-0C23-45EC-9195-341F5C2BD41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BC9CBD4-7F30-4578-9CAA-8668F46D474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87AD2D8-9669-46C9-BB82-36007E91B5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86EB05-4554-4EC6-AAEA-630FAE98E5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42BFD69-F12F-47FD-B62D-8AD645868D4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4CC6FF8-DEC8-4EF2-84ED-BCBACEBAF5B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82A45F-1343-4A6C-B413-C789D4F560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395D2-196F-4A25-8BAD-43E72F369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7CC15E-BEF5-4AD1-A345-6078AD144AF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2DF3AC8-7595-4EBD-808F-2280104F3C1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0215CCB-09FD-4BD6-9BCF-B1AC670097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F161BFC-7307-4FAB-BB79-A70B0F52BD8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8122039-724A-4692-AB49-BB1FFD000CC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2F02591-5433-4667-89DA-75225D6E927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DDBCE44-29E9-44A1-A6AD-94E2BC08428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BC48B0C-1439-44A7-BD5B-A21068DB01E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A1EB108-68C8-447F-B62A-6E1D674ABC8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2EEA001-6F55-4950-BA30-7413517D77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49E22-080A-42F8-9338-D58FBF6EA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D74EA7D-DD13-40BC-BC7B-C1F6D70F36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4B96806-40F2-40CE-9F30-F11D8F76756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7A0950-51EA-4748-A0A3-BFE4388E3AE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F62872F-FD8A-4537-819F-2890B45B508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C2F63A8-AAC9-47C6-A709-E0C68C97853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45B33D4-4F46-48E0-B03E-5F7146FA3C3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C829C94-4295-48F5-AFD1-3BFA3AD894E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4D8790E-2793-49E2-9803-4D91B3C1545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C52DE2F-B586-404A-AE7C-39BA36EBD95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BAE445E-D96D-4B3A-BA19-BA087457294B}"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B1C8-F65B-4195-A2E8-1DDF807E3A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6C45-BF51-455A-B804-6AB54716BA6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AC23-003D-4D30-AE60-1922FA120B8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C8C4-1EFE-4279-98B7-951D3201F2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47BD-5B12-4BA5-9BF7-17EB61A30A9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C1B8-8EFE-4FD7-A55B-9E7554D351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FFE3-45E5-4C76-9BC8-FB7F9A87895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03D6-19A1-42D3-8342-C09B057355F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769A-6338-4F09-BA37-8E95C8AB4D9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5A10-B71C-4FC1-825A-3537D0EB00A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6136-DFFA-4BD9-8F72-EFDCE5AD00C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19EE-94CC-41BF-A653-67564F5FEB6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FA00417A-B852-4CF6-A89C-4E1F8EC3AA30}"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EAEB8CAA-0529-4B06-9C55-29A21E404E6A}"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8-10-17T14:23:48Z</dcterms:modified>
  <cp:revision>322</cp:revision>
  <dc:subject/>
  <dc:title>Slide 1</dc:title>
</cp:coreProperties>
</file>