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2ED6-2C62-4AD5-93D9-1D9FEA4B29AD}"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ABC4-7630-4F3B-AD4A-7685ADEA35DA}"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C09A8-7D24-4501-990A-BCF826DBE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B0C1B-FE50-4A86-9EFF-C49C6800E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9DC7008-1093-4CB9-8A72-91EC12D6002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86B1C7-36DE-427D-8C71-AB9263E8002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861E02A-5770-4E1E-ACCC-5F779730CC0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A6D171B-0FF1-418E-B409-D81B2F203AB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7B135B-20C3-4020-B3F3-3B2EEED2689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1CA016F-D97E-40A7-AEF1-C67C4F6504A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8EA48E6-B5DB-4B1D-BD44-0DB621CEEB9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605E20E-C54D-4561-88C0-234E93AAECB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8E51F5F-5109-4355-A5DB-67A68B008B6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91B4530-5086-4830-9B23-9129763193F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8CEA0-8426-496E-B998-B49C2DB08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6B8876E-0244-468A-B442-F91ECC98AB7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0ED2965-29C4-449D-A6CE-0CD5D3A1E7D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1B10806-DB98-49C9-AA85-B9D2DE5F5DD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8A923F5-6AF2-440A-A9B7-D8FE8F9E030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3B5FB82-CB15-4263-818E-6CA396BF196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A744B3-7F11-4829-8ED7-C4BED962563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06FBD7-D386-44EC-8E72-40B87D5CEDC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0367E01-8873-4D3C-8984-9A4E0AAC871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4A47C96-C62A-4151-BABA-1591F46CC47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2B20688-5156-47E2-A937-BAA12DD32EB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83C18-E05D-4BC9-8184-0F1C37659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709E1E2-648B-4A3E-BCBF-18EDFA481A5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5431818-558D-44CB-8620-B30239B7152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D3F74E2-0D7A-444B-A858-E13A15AB525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B324454-E338-4199-B662-3CD635FD824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598EEDB-54B4-4773-8461-665D561B6C9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45E4C7A-D297-4351-A73A-412851A0D77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19F7A5B-733C-4ED3-B66B-42730AA90F8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651B5AE-FC89-47DF-B374-B120EE12B43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75799D4-5F52-4A90-AF61-A93256FB743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95BD355-77A6-4D49-9F93-A80E10AA320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999B44-36F8-4668-8089-8A4AAC6D666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37DE555-C173-4FEC-BF88-3D957838A2F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E240F11-29FF-4093-884E-8725264AFD4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942251A-02D4-4E61-9DB2-B62DFDD7778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81B84BD-994E-46D6-92A6-F968EE9C6BE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4B5DB67-B45C-4067-AC64-43331B371B1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A24830A-35A7-4C19-9554-1FDDF233752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346248B-9496-4D4B-8F05-A3C5513184F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D3519BB-7A46-41DF-BF0E-DB2CB73D9D3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1BD5F19-CE04-4292-ABB9-E826F4E3232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458D3C0-D13B-4731-8676-CA8968B7186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8D053B-AC41-4C38-9D81-A14381DC043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DDBD331-4740-458E-90B0-AEF3AB67E22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EC75BBE-4C8C-48E6-AE81-6BD7B3FAD0A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77DF8D8-BF8E-4365-AF62-AE31726B8E8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205F116-B2D8-4E69-B0A9-62E77C7C89B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A446F8C-0687-4F6E-AF63-10F1B802A54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42EE449-F2C2-4C95-A409-5FE87375267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0A22341-9DB3-4497-8708-EBD3BBAFD1D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FDD2F6D-AE9E-4F17-BFB6-BC3141ABCD6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756895F-1743-471F-A814-8886159B42E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694BE5C-3C74-4CB5-B807-7618A25A4E0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EB6484-95F2-4094-9973-D51D18D8E1F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7887C83-5125-4958-A04D-AC590EFCCDB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A01AEE6-1C22-4D11-AC0C-9538F05025B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B06AF14-F754-488B-8C11-4E266105713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08368BD-87C3-4B1F-9081-CCC563F9947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8D14CBB-3C2C-435D-9D0E-18E40A4E632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A99F026-EFCF-46E6-9186-11107B6B5F5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993E026-09DC-43F8-8080-0E457CDD0A3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03CB522-370D-491C-B293-247D27F4BC9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D994C73-4CAC-463B-BF75-D33909E3CAD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97B7012-58C5-4FB7-9BB0-4ECCE1FB306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5BFB8F-C579-4210-8E24-BEEA0E95F93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512788B-F4DB-4065-B6FA-C01A5585BB4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9EFE95E-7E85-4EAF-B645-0FA98F1B104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987928C-55E9-46D0-BBDE-DB0C9112E6D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E43A676-C923-4E25-ACB2-8E1DABBE6CE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EA745E4-6DDB-43A9-8230-A0B12637137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D45507F-35AD-477F-B4A6-BF4643FF04B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E1F9D6C-8986-4D47-8B53-0D8BD1FF347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5FB43CE-D415-43B4-9C2D-9592F6A2851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91E3E21-C49E-4191-9581-BB88D3944D4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6979B0-6EC2-42E8-B22B-D8CB7D51E85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E01B55-F9B7-43A7-9B46-8BB0C1E0340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78EE5C-038B-4FA8-A983-A898A11753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144A5-2E32-4A89-8764-E053866B2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8F3139-A5B0-4770-AC4D-B8EA1B63B0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DC9C16-C325-46AE-9007-86A395AD2F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4AC23E-338C-4A5B-91C7-A143276CBA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197956-3AB4-4F87-9D84-2C4C434A45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5802BE-A6A2-496B-9D9B-7207DB3CCD4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976D2-85E3-4FE8-ACF6-82F43BAA0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4B818-A9F7-4E94-B4A4-72F7EC7E6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CFCA753-55E8-407C-A50C-128AC07A6BD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E0D9C-31E7-4147-9059-521DCF36E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A52907-11F4-4E2F-8E7E-D5D12F471D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840259-021C-42D0-9292-0CC247C857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FBC5D7-969C-4F83-A1A6-F34009B385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0B2C80-AF11-4532-95B3-16EA315F5F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3C9F8F-E18E-46BB-A6BA-00F681D2EF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48FD34-034D-4DA5-8B07-A6D6C889F2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D0B860-357E-4604-95F5-4F877AD2C1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56E027-A338-4CE2-9D3F-E330907874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3DC4E1-1842-4D71-8855-4988686613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0D8874D-89F9-4B9B-A300-890E852C681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85982-31A6-477C-8FD5-CD50D0769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A86D703-95DE-473C-8556-4228A222864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AF11E43-1CE2-4BB5-B96D-737C044B251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2D881D-6828-4C11-B7E9-17ADD96F8E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86236F-2770-47E1-B93C-84C0B7EEAE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851DE7-3B32-4D93-A05A-3C093DC482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584B21-C429-467E-A986-30026540C0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ED1AEA-D7F8-4B60-8B3B-6C4C1CEE67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D9F1AF-94C7-462B-958E-74BCBD58CA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F1AF9C-1EAC-4BB4-A348-12800C6E86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4506B3-F8C4-435E-8EDF-FF08A68BD4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FF101-75EF-49DF-B145-4F99E009C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827860-BD80-435A-A0BB-614A9DAFEC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94C70AE-3D81-45CD-A70B-B0362F8EC0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1B2A2E4-65E9-49B3-9381-87212C956A6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313A1F9-B3DD-406C-8F8C-B02044AB959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FA7990-D167-4669-9925-DB5EA7AC511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39F3219-1306-4DD2-83F5-DA4E201AC50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4D94E32-1039-4851-8B27-4849D4879FA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777EF27-052C-4347-98A8-FAC22196152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8EDDA4F-EDC3-495B-BE13-0D94A627E5F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FEC1842-F249-4BE1-82A9-2E97AB206D4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51178-6887-4612-BDE5-C04640D9A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D954E0-7640-43AB-85FF-8FB6063C6E1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3C5D85-2256-4A24-8889-9937E559F9A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061CF3-569F-4D45-8EE7-2F6255261CC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851E8DC-0A6D-4977-8DF9-9A25CD2E7E6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32A99C1-E9AA-4430-AFC5-68A08C98D0B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63D1863-CEDE-49C0-86F9-113EB360D32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7138467-FCD6-417E-BF39-0BC0B0B6893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278B299-03EE-43C0-83A0-7E255DDF927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637A3E7-62F9-44C2-B8F4-5406DFDEE41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C69F596-A02C-4EB9-9199-734F82EC6B1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E154-B5F7-469B-9ECF-E70C6C9E5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60389E6-7F5A-488A-8915-C2925C55064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A80206-9A9E-4BAC-83AF-089D957D7F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B7D9BD1-8CE8-4298-AEED-D3272FFC715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429C56D-1E4E-4EA9-B5E6-B5FFE74475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445A06-E818-4067-84BD-E00C48889F0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07D71A0-D761-430B-95E9-FB6119FDEF3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158D569-26FF-43D8-9E0C-8168BE99EB6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0E19065-5E99-4BC4-8F27-22516C08926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5CF3E23-4F68-4AEE-BC2E-AF26B6999A3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5C70C31-2752-4B75-8C4A-E0F1F4A424C7}"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437B-A323-4EA4-9963-53B98D4521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1B42-31A7-48DE-933D-761F01E5305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18D6-BB55-4166-B3B0-3F580846BB2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875D-B98A-40FE-B833-4CA16D291B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BC0D-712F-4B46-8A5F-F8CF201840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A14A-4D26-4CBF-B8AB-17B9CC309A3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67AF-0C39-44C5-8094-15069FA99D9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4D70-683E-4F19-90C6-7769012ECC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6D3B-5631-4B6F-8354-AF97F2B6605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ED60-4780-4DE9-B794-77D6DCF82C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F7BC-3257-4E0D-BE07-C3ABF28AA2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6B27-0A91-4F97-B5BE-672BE4BDDDC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656D7B89-4178-4855-97C1-792082F53CC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CEB22E30-F698-4244-BC0A-E926AC0CDC44}"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8-10-17T14:23:48Z</dcterms:modified>
  <cp:revision>322</cp:revision>
  <dc:subject/>
  <dc:title>Slide 1</dc:title>
</cp:coreProperties>
</file>