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5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97"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EBBD2-267B-4B80-AD2C-09423B970AC2}" type="datetime">
              <a:rPr b="0" lang="en-US" sz="1200" spc="-1" strike="noStrike">
                <a:solidFill>
                  <a:srgbClr val="000000"/>
                </a:solidFill>
                <a:latin typeface="Times New Roman"/>
                <a:ea typeface="Geneva"/>
              </a:rPr>
              <a:t>07/28/26</a:t>
            </a:fld>
            <a:endParaRPr b="0" lang="en-US" sz="1200" spc="-1" strike="noStrike">
              <a:solidFill>
                <a:srgbClr val="000000"/>
              </a:solidFill>
              <a:latin typeface="Times New Roman"/>
            </a:endParaRPr>
          </a:p>
        </p:txBody>
      </p:sp>
      <p:sp>
        <p:nvSpPr>
          <p:cNvPr id="5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move the slide</a:t>
            </a:r>
            <a:endParaRPr b="1" lang="en-US" sz="3200" spc="-1" strike="noStrike">
              <a:solidFill>
                <a:srgbClr val="ff0000"/>
              </a:solidFill>
              <a:latin typeface="News Gothic MT"/>
            </a:endParaRPr>
          </a:p>
        </p:txBody>
      </p:sp>
      <p:sp>
        <p:nvSpPr>
          <p:cNvPr id="5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00"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01"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3BCB7-E36D-4517-B33A-027CD3534608}" type="slidenum">
              <a:rPr b="0" lang="en-US" sz="1200" spc="-1" strike="noStrike">
                <a:solidFill>
                  <a:srgbClr val="000000"/>
                </a:solidFill>
                <a:latin typeface="Times New Roman"/>
                <a:ea typeface="Genev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apter I discusses the roles, skills and practices of a company’s human resource management (HRM)  function, implications of the economy, the makeup of the labor force, and ethics for company sustainability. It discusses how HRM affects a company’s balanced scorecard, what companies should do to compete in the global marketplace, how technology such as social networking is influencing HRM and what HRM practices support high-performance work system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AF0036-5B83-4166-ACAC-B84CACE699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CB6854-8589-480B-9EAD-D88167079B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60EFF6E2-3E1F-442E-A858-3CDB23441CEC}"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4C7287EB-2202-4245-8569-2833DF07479F}"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BD58C679-856A-4BB8-B397-77AA824D3ADB}"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C505A74-D2EC-4A86-99AD-702D6CBE3534}"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0"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3FCBF89-83BE-4E23-BB4B-7BD9328A6C8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4"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71F7815-A700-4426-9E38-6CD1CD04D3E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6"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7"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61245315-809B-4F71-984A-7973A0691D5E}"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2"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2C9E9F9E-673D-4C4E-B2E9-15D667CC1232}"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84"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5"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6"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7"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8"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9"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7B500F6B-E0C8-426A-914B-E58F460408BC}"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726A5BE2-28AD-4461-8879-BBA0A27A41F6}"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B8D8FE-99C6-4B65-86A6-06A74606BD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4B8ACEE7-D447-4F16-AFDF-402DCCAD652F}"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E6A6BF90-8C6F-4E04-8E26-77160E7B4C06}"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CA691EB6-64BE-4B84-A80C-3818A6A7B967}"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3CC90B46-DE18-41A2-9E80-ACDE822A26F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559055D4-387F-4A1E-A3B5-593438FD4F44}"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B5F4D34-3744-4A3A-8741-BE0DC8DFE5E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92A65BE-8904-4FDF-8FB5-BDFD91D6468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EC3EFF7-0695-4982-AF5A-FDF2274EE37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E2355AF7-B5C2-43E0-9207-26557ADD3ED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FD0F6CD7-372E-42A4-8CE8-22B71F57720F}"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7FB5A5-31F3-43FE-9B0D-B852A58C46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3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98845EEC-2C81-4C76-B002-43ED0968EFA9}"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886C9824-D078-48CF-BD64-D552863A4791}"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7"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7860ADE9-4C5D-45DF-998B-3946A653733E}"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9"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CE342EE7-DF41-47E8-B6AE-2F49FDB589E4}"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2361C05A-A655-440E-A949-5436C922A8FC}"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AABA02DD-50A1-4E80-A5C0-6F63AC275272}"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B57B308E-017A-4FE8-B438-F15CBBD02C3E}"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F593A5F-3C08-4609-B3D8-45CA2F7B67A2}"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2"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20E01BD-7DB4-4FF4-A7FE-1827FD06A577}"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6"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39DF481-EF1A-4CA2-891B-E66189DE0CB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1DA411B-C291-4545-9EE0-C9F0ACCD024A}"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8"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9"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A62422CA-A413-4B13-91CA-18E79B0C7523}"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4"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FA2CE627-3B6D-4461-9EA4-2D97F6D9C176}"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6"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7"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8"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9"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0"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1"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12B2865D-802B-4002-AA01-EBAD04CB7105}"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12E57E25-0690-48E4-B0A0-F4C81A2C9AB1}"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7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6992FC5C-5732-4F11-9438-D1B55286B19B}"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8C19DED3-D611-41EF-AC6D-CB64FBEBF0A2}"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CB211F2C-EF16-4A73-B9F3-9F674AD95734}"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5E92EA62-05FD-4F82-9EB9-154C25B6DB27}"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A0ABDBB7-5874-46AF-8BAE-2D40E63702A9}"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8EA77B1E-87D4-463D-BA94-32F50836E6D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596E405-33DB-4DDD-A532-CB1CB27246F8}"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D956C66A-818D-4E23-9F69-C220857C6205}"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EA8C1F51-1A26-461B-8FA6-1EBB28D68BA1}"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1A9C73CD-1901-4D39-A542-BD19D102846F}"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31A8182B-6BA8-4461-AF31-7D406A194A9B}"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01ACEECA-5380-492F-9509-9625E7519087}"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E96B1FDD-ED08-4895-80B4-ECF1F7B2E23D}"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19"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15BC4E46-9046-4F2E-980B-2D6D52CEA03D}"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1"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9C7EF4E6-F5B2-4FF6-B2A9-957CC1029241}"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20A4D846-D0BE-4E50-BF84-785391A077E8}"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EA1664B4-4E3E-4B6A-B4FA-C93F174CF088}"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951F9B4-333C-4E5C-B13D-1B6AB0B65C7F}"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7E9CEA96-9AB4-475B-9258-FE965D2D62C6}"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739AA6E9-EB49-4A58-9C05-CA218B2697BF}"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4"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40A1D891-A0D9-4BFB-AE74-7C575612417F}"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8"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C2579350-5D4E-4F52-8895-4C36A52B6BAE}"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0"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1"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5E45852E-5290-43B8-9115-BA1027F77504}"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6"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264B29DF-010A-48DA-A231-C3138183E601}"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8"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9"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0"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1"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2"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3"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409FFD8A-4897-45FD-A881-D0DA1B4A5A6D}"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266AA93C-8C12-41EE-BDE5-F9DAA2D7F91B}"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7B74D91F-9AE5-4621-BEC2-E8F63E12C2CE}"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6ED5CF94-23ED-4422-808C-3B6F128FB7EB}"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E26756D-FE53-4388-ACB6-DCAEB710778B}"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EFBDC0D0-4240-4AE5-A249-0FD7D3193DFD}"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A721EDF8-D558-4F98-861C-6B8548325CBF}"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EFF449F8-064F-40F0-8FAA-DD84CA884432}"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2293D7BC-26DD-43D5-9B0A-7CB0E3777294}"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86D7156A-CB60-4625-947F-768D846AF7B8}"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AD49C816-5647-45DC-B822-83944C3B879E}"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0F3F9B9B-70A9-4455-B919-E6FED49B72EB}"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0A6F858F-56A1-4E46-976E-77295BF319F4}"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E7C8D173-B580-4BCB-B6AE-3BB09B71295D}"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6DB7777-991B-411A-A366-78BCF331E59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76B5A9-7C61-4C9D-8C82-3755C5ABB91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77CCFA-634A-4477-884A-7707B002DA8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0211BF-ACB8-45DF-951B-4E050991B6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17328A-7D97-4F3B-BBE5-B56761B6B43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612869-2ADC-4327-920B-4A8D4F3E0D7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A65AD1-F921-4ED8-8CB5-3068E851335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F24B047-B921-435F-BC69-CA3B1FDA47C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F32DE2E-ED86-4B3F-8CE6-E16A20CAE59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7F8200-BD3B-4E49-88A5-A8FCFB2A46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4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F5B884-03E9-45A0-A532-73F17A5E1E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5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9F127E3-D62A-4206-9326-AFA1F4F52E4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EFC4BF-FDA8-49CC-88EC-97611A6155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1"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2D89EE8-3165-43EB-8FEF-80EA0FECFC3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3"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7B1C11A-F151-4935-BEF0-E0439089FFA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9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8344781-D9D1-4F4B-A83B-D7CD1737FF7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5C0A7B4-0F60-4622-8D73-0D26C3BF2EB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4F221DB-0599-491F-BFDD-7D644E6786B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45BFA78-EE9C-47C8-A677-FA144966047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6"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FF2A35A-828F-4491-9BD9-28157D679DD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0"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F24B70A-EABF-40E0-8853-CE1116A63D7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2"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3"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DFF2FAC-14E0-4084-B2ED-FC6A1202F8D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8"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BFE6DDB-5B38-493C-B0E5-B9E5AC3B3DA3}"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BACE8B-9A75-4D27-9C05-CB6B2D0548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20"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1"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2"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3"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4"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5"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D990B1A-A7AE-45D5-9A5D-05D216E4D120}"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A4A814C-3DCB-4B25-9D62-450BC422274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CF52A83-C255-47F7-B099-9C244C0CADE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9ACDB3B-A1DB-4619-AB04-8CEFFB070EC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3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57DB6A4-1CB1-4E8E-A5F5-4FA1B38736D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D18FED6-A4D4-44B2-B5D6-5B5D1FE3258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A95817E-CFF7-465C-AF63-DF1E084BB87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E10C741-7616-4668-897E-7F3BDCF1E21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2684B26-A77B-4C96-8CDB-9766C3CE292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0B70C4A-FE77-445D-AAF5-7E59C672A53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4242CB-0E33-4AF3-8673-9996ADF867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498E3CA-0025-4CE4-A7FE-7BF89619D7B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40545635-4A45-4BE5-AED9-65E9F5B74B9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6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6BEAA825-CB8A-4287-84A1-A73C733E38D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04A1F6BD-689F-408D-ACDD-804199503757}"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3"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BBDE075F-3A2B-41CD-9885-F1802E251BCA}"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5"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36B289B-0C0A-4354-83CD-4B1DB8190570}"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7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EE672F4-251E-493A-87C9-4D1ECC47EAA3}"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81C6AC5E-C84A-49D9-8644-E156518BD285}"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1A1B1F6-A727-486A-B166-C58AE9A6996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40946C1-C86F-4496-9CC3-787B8D79624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1FBDED-C38C-4614-807B-8D616EE786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8"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307DED2-DD74-40CC-8BBA-28603F8727D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2"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F6FCBC6-94EC-49A4-8335-6FCA487517C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4"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5"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7E64E52-BFA0-45D1-9F67-CBD7888CFE0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0"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9E647202-2A74-46A1-AF05-52B74CCCAFF4}"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2"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3"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4"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5"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6"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7"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061540DB-2725-43B3-A1C0-207C4228AB73}"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EB578F94-BBD0-4C22-9353-4BC0B2387ED8}"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4"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FE76E778-4370-44ED-9538-8AB9B5D1AF66}"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6"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D628929F-4A06-4982-BAA8-13A4EB54AB2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220A590C-8698-4DB6-A8C0-26C1555A4EC7}"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158187DA-6EF8-4784-953C-8FA1DE79FACD}"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BE0A29-C524-4F31-AC56-5B45E4AB55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273D88E9-124F-4B02-AC03-51C1AAFA69D6}"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D8216CC-C56E-4F0B-8CC1-6D6AC9B5DD2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9"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6BC3DAD-3D0B-45D3-850E-7AE9A16B9F0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3"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2540294-3873-48B8-9BB6-9079DC1A3E27}"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5"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6"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9229340-439F-483E-8C62-45A5E50AA800}"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1"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012FC960-833C-4D1B-BEFE-94B1E306F2D4}"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43"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4"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5"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6"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7"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8"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BF5E94C2-47AD-44F6-A295-CB48C5E02D4B}"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DD519546-D2FC-4B2D-92C2-3A0DCDD06BBB}"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5"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7535BCFF-1827-4200-89DA-BFBCC5438AEF}"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7"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00115A70-3820-4ED6-86D1-06C0F24942CD}"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ＭＳ Ｐゴシック"/>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A619C-CD0F-4FDA-B701-B5D32531C46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9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92" name="PlaceHolder 3"/>
          <p:cNvSpPr>
            <a:spLocks noGrp="1"/>
          </p:cNvSpPr>
          <p:nvPr>
            <p:ph type="dt" idx="21"/>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PlaceHolder 4"/>
          <p:cNvSpPr>
            <a:spLocks noGrp="1"/>
          </p:cNvSpPr>
          <p:nvPr>
            <p:ph type="ftr" idx="22"/>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94" name="PlaceHolder 5"/>
          <p:cNvSpPr>
            <a:spLocks noGrp="1"/>
          </p:cNvSpPr>
          <p:nvPr>
            <p:ph type="sldNum" idx="23"/>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39D7A-DB5C-4E11-B834-AABE41A1FB8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3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3" name="PlaceHolder 3"/>
          <p:cNvSpPr>
            <a:spLocks noGrp="1"/>
          </p:cNvSpPr>
          <p:nvPr>
            <p:ph type="dt" idx="24"/>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4" name="PlaceHolder 4"/>
          <p:cNvSpPr>
            <a:spLocks noGrp="1"/>
          </p:cNvSpPr>
          <p:nvPr>
            <p:ph type="ftr" idx="25"/>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35" name="PlaceHolder 5"/>
          <p:cNvSpPr>
            <a:spLocks noGrp="1"/>
          </p:cNvSpPr>
          <p:nvPr>
            <p:ph type="sldNum" idx="26"/>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EB95A-5A78-449A-B98B-3A0EA7E4D08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7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74" name="PlaceHolder 3"/>
          <p:cNvSpPr>
            <a:spLocks noGrp="1"/>
          </p:cNvSpPr>
          <p:nvPr>
            <p:ph type="dt" idx="27"/>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5" name="PlaceHolder 4"/>
          <p:cNvSpPr>
            <a:spLocks noGrp="1"/>
          </p:cNvSpPr>
          <p:nvPr>
            <p:ph type="ftr" idx="28"/>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76" name="PlaceHolder 5"/>
          <p:cNvSpPr>
            <a:spLocks noGrp="1"/>
          </p:cNvSpPr>
          <p:nvPr>
            <p:ph type="sldNum" idx="29"/>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20B90-8D33-45F5-B847-54AF3DF6D2F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14"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15" name="PlaceHolder 3"/>
          <p:cNvSpPr>
            <a:spLocks noGrp="1"/>
          </p:cNvSpPr>
          <p:nvPr>
            <p:ph type="dt" idx="30"/>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PlaceHolder 4"/>
          <p:cNvSpPr>
            <a:spLocks noGrp="1"/>
          </p:cNvSpPr>
          <p:nvPr>
            <p:ph type="ftr" idx="31"/>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17" name="PlaceHolder 5"/>
          <p:cNvSpPr>
            <a:spLocks noGrp="1"/>
          </p:cNvSpPr>
          <p:nvPr>
            <p:ph type="sldNum" idx="32"/>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77340-586D-4130-B97E-AAD09596D69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55"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56" name="PlaceHolder 3"/>
          <p:cNvSpPr>
            <a:spLocks noGrp="1"/>
          </p:cNvSpPr>
          <p:nvPr>
            <p:ph type="dt" idx="33"/>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PlaceHolder 4"/>
          <p:cNvSpPr>
            <a:spLocks noGrp="1"/>
          </p:cNvSpPr>
          <p:nvPr>
            <p:ph type="ftr" idx="3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58" name="PlaceHolder 5"/>
          <p:cNvSpPr>
            <a:spLocks noGrp="1"/>
          </p:cNvSpPr>
          <p:nvPr>
            <p:ph type="sldNum" idx="3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7EA69-8608-4B5E-9B4F-4A3D2185E57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 name="PlaceHolder 3"/>
          <p:cNvSpPr>
            <a:spLocks noGrp="1"/>
          </p:cNvSpPr>
          <p:nvPr>
            <p:ph type="ftr" idx="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4" name="PlaceHolder 4"/>
          <p:cNvSpPr>
            <a:spLocks noGrp="1"/>
          </p:cNvSpPr>
          <p:nvPr>
            <p:ph type="sldNum" idx="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98D8E-F424-4516-AA23-080428C1B15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5"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 name="Group 14"/>
          <p:cNvGrpSpPr/>
          <p:nvPr/>
        </p:nvGrpSpPr>
        <p:grpSpPr>
          <a:xfrm>
            <a:off x="152280" y="914400"/>
            <a:ext cx="990720" cy="990360"/>
            <a:chOff x="152280" y="914400"/>
            <a:chExt cx="990720" cy="990360"/>
          </a:xfrm>
        </p:grpSpPr>
        <p:sp>
          <p:nvSpPr>
            <p:cNvPr id="47" name="Oval 12"/>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Oval 13"/>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9" name="Group 15"/>
          <p:cNvGrpSpPr/>
          <p:nvPr/>
        </p:nvGrpSpPr>
        <p:grpSpPr>
          <a:xfrm>
            <a:off x="152280" y="2209680"/>
            <a:ext cx="838440" cy="838440"/>
            <a:chOff x="152280" y="2209680"/>
            <a:chExt cx="838440" cy="838440"/>
          </a:xfrm>
        </p:grpSpPr>
        <p:sp>
          <p:nvSpPr>
            <p:cNvPr id="50" name="Oval 16"/>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Oval 17"/>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2" name="Group 18"/>
          <p:cNvGrpSpPr/>
          <p:nvPr/>
        </p:nvGrpSpPr>
        <p:grpSpPr>
          <a:xfrm>
            <a:off x="533520" y="3048120"/>
            <a:ext cx="457200" cy="457200"/>
            <a:chOff x="533520" y="3048120"/>
            <a:chExt cx="457200" cy="457200"/>
          </a:xfrm>
        </p:grpSpPr>
        <p:sp>
          <p:nvSpPr>
            <p:cNvPr id="53" name="Oval 19"/>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Oval 20"/>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Rectangle 15"/>
          <p:cNvSpPr/>
          <p:nvPr/>
        </p:nvSpPr>
        <p:spPr>
          <a:xfrm>
            <a:off x="1328760" y="1295280"/>
            <a:ext cx="6486480" cy="3152880"/>
          </a:xfrm>
          <a:prstGeom prst="rect">
            <a:avLst/>
          </a:prstGeom>
          <a:noFill/>
          <a:ln w="3240">
            <a:solidFill>
              <a:srgbClr val="ffffff"/>
            </a:solidFill>
            <a:miter/>
          </a:ln>
          <a:effectLst>
            <a:outerShdw dist="153753"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10"/>
          <p:cNvSpPr/>
          <p:nvPr/>
        </p:nvSpPr>
        <p:spPr>
          <a:xfrm>
            <a:off x="8534520" y="0"/>
            <a:ext cx="60948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4" name="Group 15"/>
          <p:cNvGrpSpPr/>
          <p:nvPr/>
        </p:nvGrpSpPr>
        <p:grpSpPr>
          <a:xfrm>
            <a:off x="152280" y="914400"/>
            <a:ext cx="990720" cy="990360"/>
            <a:chOff x="152280" y="914400"/>
            <a:chExt cx="990720" cy="990360"/>
          </a:xfrm>
        </p:grpSpPr>
        <p:sp>
          <p:nvSpPr>
            <p:cNvPr id="95" name="Oval 16"/>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Oval 17"/>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97" name="Group 18"/>
          <p:cNvGrpSpPr/>
          <p:nvPr/>
        </p:nvGrpSpPr>
        <p:grpSpPr>
          <a:xfrm>
            <a:off x="152280" y="2209680"/>
            <a:ext cx="838440" cy="838440"/>
            <a:chOff x="152280" y="2209680"/>
            <a:chExt cx="838440" cy="838440"/>
          </a:xfrm>
        </p:grpSpPr>
        <p:sp>
          <p:nvSpPr>
            <p:cNvPr id="98" name="Oval 19"/>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Oval 20"/>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0" name="Group 21"/>
          <p:cNvGrpSpPr/>
          <p:nvPr/>
        </p:nvGrpSpPr>
        <p:grpSpPr>
          <a:xfrm>
            <a:off x="533520" y="3048120"/>
            <a:ext cx="457200" cy="457200"/>
            <a:chOff x="533520" y="3048120"/>
            <a:chExt cx="457200" cy="457200"/>
          </a:xfrm>
        </p:grpSpPr>
        <p:sp>
          <p:nvSpPr>
            <p:cNvPr id="101" name="Oval 22"/>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Oval 23"/>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3" name="Group 24"/>
          <p:cNvGrpSpPr/>
          <p:nvPr/>
        </p:nvGrpSpPr>
        <p:grpSpPr>
          <a:xfrm>
            <a:off x="7772400" y="6248520"/>
            <a:ext cx="457200" cy="457200"/>
            <a:chOff x="7772400" y="6248520"/>
            <a:chExt cx="457200" cy="457200"/>
          </a:xfrm>
        </p:grpSpPr>
        <p:sp>
          <p:nvSpPr>
            <p:cNvPr id="104" name="Oval 25"/>
            <p:cNvSpPr/>
            <p:nvPr/>
          </p:nvSpPr>
          <p:spPr>
            <a:xfrm>
              <a:off x="7772400" y="62485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Oval 26"/>
            <p:cNvSpPr/>
            <p:nvPr/>
          </p:nvSpPr>
          <p:spPr>
            <a:xfrm>
              <a:off x="7837560" y="63136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6" name="Group 27"/>
          <p:cNvGrpSpPr/>
          <p:nvPr/>
        </p:nvGrpSpPr>
        <p:grpSpPr>
          <a:xfrm>
            <a:off x="8305920" y="5638680"/>
            <a:ext cx="838080" cy="838440"/>
            <a:chOff x="8305920" y="5638680"/>
            <a:chExt cx="838080" cy="838440"/>
          </a:xfrm>
        </p:grpSpPr>
        <p:sp>
          <p:nvSpPr>
            <p:cNvPr id="107" name="Oval 28"/>
            <p:cNvSpPr/>
            <p:nvPr/>
          </p:nvSpPr>
          <p:spPr>
            <a:xfrm>
              <a:off x="8305920" y="5638680"/>
              <a:ext cx="83808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Oval 29"/>
            <p:cNvSpPr/>
            <p:nvPr/>
          </p:nvSpPr>
          <p:spPr>
            <a:xfrm>
              <a:off x="8425440" y="5757840"/>
              <a:ext cx="60120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1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4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8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187" name="PlaceHolder 3"/>
          <p:cNvSpPr>
            <a:spLocks noGrp="1"/>
          </p:cNvSpPr>
          <p:nvPr>
            <p:ph type="dt" idx="6"/>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4"/>
          <p:cNvSpPr>
            <a:spLocks noGrp="1"/>
          </p:cNvSpPr>
          <p:nvPr>
            <p:ph type="ftr" idx="7"/>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189" name="PlaceHolder 5"/>
          <p:cNvSpPr>
            <a:spLocks noGrp="1"/>
          </p:cNvSpPr>
          <p:nvPr>
            <p:ph type="sldNum" idx="8"/>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0C3C4-0365-43C3-B853-88BF00688AF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27"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28" name="PlaceHolder 3"/>
          <p:cNvSpPr>
            <a:spLocks noGrp="1"/>
          </p:cNvSpPr>
          <p:nvPr>
            <p:ph type="dt" idx="9"/>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4"/>
          <p:cNvSpPr>
            <a:spLocks noGrp="1"/>
          </p:cNvSpPr>
          <p:nvPr>
            <p:ph type="ftr" idx="10"/>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30" name="PlaceHolder 5"/>
          <p:cNvSpPr>
            <a:spLocks noGrp="1"/>
          </p:cNvSpPr>
          <p:nvPr>
            <p:ph type="sldNum" idx="11"/>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4D995-18B1-4CF5-82E6-E9ABEB79FDB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6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69" name="PlaceHolder 3"/>
          <p:cNvSpPr>
            <a:spLocks noGrp="1"/>
          </p:cNvSpPr>
          <p:nvPr>
            <p:ph type="dt" idx="12"/>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4"/>
          <p:cNvSpPr>
            <a:spLocks noGrp="1"/>
          </p:cNvSpPr>
          <p:nvPr>
            <p:ph type="ftr" idx="13"/>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71" name="PlaceHolder 5"/>
          <p:cNvSpPr>
            <a:spLocks noGrp="1"/>
          </p:cNvSpPr>
          <p:nvPr>
            <p:ph type="sldNum" idx="14"/>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87983-06A6-4638-AE8C-3700288B290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09"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10" name="PlaceHolder 3"/>
          <p:cNvSpPr>
            <a:spLocks noGrp="1"/>
          </p:cNvSpPr>
          <p:nvPr>
            <p:ph type="dt" idx="15"/>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4"/>
          <p:cNvSpPr>
            <a:spLocks noGrp="1"/>
          </p:cNvSpPr>
          <p:nvPr>
            <p:ph type="ftr" idx="16"/>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12" name="PlaceHolder 5"/>
          <p:cNvSpPr>
            <a:spLocks noGrp="1"/>
          </p:cNvSpPr>
          <p:nvPr>
            <p:ph type="sldNum" idx="17"/>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19616-574D-4187-8421-27EC7D12BBB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5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51" name="PlaceHolder 3"/>
          <p:cNvSpPr>
            <a:spLocks noGrp="1"/>
          </p:cNvSpPr>
          <p:nvPr>
            <p:ph type="dt" idx="18"/>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PlaceHolder 4"/>
          <p:cNvSpPr>
            <a:spLocks noGrp="1"/>
          </p:cNvSpPr>
          <p:nvPr>
            <p:ph type="ftr" idx="19"/>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53" name="PlaceHolder 5"/>
          <p:cNvSpPr>
            <a:spLocks noGrp="1"/>
          </p:cNvSpPr>
          <p:nvPr>
            <p:ph type="sldNum" idx="20"/>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BB9F9-6DA3-4829-A0D7-A59B0854F29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549000" y="762120"/>
            <a:ext cx="80420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News Gothic MT"/>
            </a:endParaRPr>
          </a:p>
        </p:txBody>
      </p:sp>
      <p:sp>
        <p:nvSpPr>
          <p:cNvPr id="603" name=""/>
          <p:cNvSpPr txBox="1"/>
          <p:nvPr/>
        </p:nvSpPr>
        <p:spPr>
          <a:xfrm>
            <a:off x="549000" y="1676160"/>
            <a:ext cx="8042040" cy="4267080"/>
          </a:xfrm>
          <a:prstGeom prst="rect">
            <a:avLst/>
          </a:prstGeom>
          <a:noFill/>
          <a:ln w="0">
            <a:noFill/>
          </a:ln>
        </p:spPr>
        <p:txBody>
          <a:bodyPr anchor="t">
            <a:normAutofit/>
          </a:bodyPr>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e73"/>
                </a:solidFill>
                <a:latin typeface="News Gothic MT"/>
                <a:ea typeface="Geneva"/>
              </a:rPr>
              <a:t>Corporate Social Responsibility </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ea typeface="PMingLiU"/>
              </a:rPr>
              <a:t>Ethics in Business</a:t>
            </a:r>
            <a:endParaRPr b="1" lang="en-US" sz="3600" spc="-1" strike="noStrike">
              <a:solidFill>
                <a:srgbClr val="ff0000"/>
              </a:solidFill>
              <a:latin typeface="News Gothic MT"/>
            </a:endParaRPr>
          </a:p>
        </p:txBody>
      </p:sp>
      <p:sp>
        <p:nvSpPr>
          <p:cNvPr id="605"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95959"/>
                </a:solidFill>
                <a:latin typeface="News Gothic MT"/>
              </a:rPr>
              <a:t>Business Ethics </a:t>
            </a:r>
            <a:r>
              <a:rPr b="0" lang="en-US" sz="3200" spc="-1" strike="noStrike">
                <a:solidFill>
                  <a:srgbClr val="595959"/>
                </a:solidFill>
                <a:latin typeface="News Gothic MT"/>
              </a:rPr>
              <a:t>is the moral thinking and analyses by corporate decision-makers regarding the motives and consequences of their decisions and action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ea typeface="PMingLiU"/>
              </a:rPr>
              <a:t>Corporate Social Responsibility</a:t>
            </a:r>
            <a:endParaRPr b="1" lang="en-US" sz="3600" spc="-1" strike="noStrike">
              <a:solidFill>
                <a:srgbClr val="ff0000"/>
              </a:solidFill>
              <a:latin typeface="News Gothic MT"/>
            </a:endParaRPr>
          </a:p>
        </p:txBody>
      </p:sp>
      <p:sp>
        <p:nvSpPr>
          <p:cNvPr id="607" name=""/>
          <p:cNvSpPr txBox="1"/>
          <p:nvPr/>
        </p:nvSpPr>
        <p:spPr>
          <a:xfrm>
            <a:off x="549000" y="1295280"/>
            <a:ext cx="8042040" cy="4648320"/>
          </a:xfrm>
          <a:prstGeom prst="rect">
            <a:avLst/>
          </a:prstGeom>
          <a:noFill/>
          <a:ln w="0">
            <a:noFill/>
          </a:ln>
        </p:spPr>
        <p:txBody>
          <a:bodyPr anchor="t">
            <a:normAutofit fontScale="99000"/>
          </a:bodyPr>
          <a:p>
            <a:pPr marL="345600" indent="-345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95959"/>
                </a:solidFill>
                <a:latin typeface="News Gothic MT"/>
                <a:ea typeface="PMingLiU"/>
              </a:rPr>
              <a:t>CSR</a:t>
            </a:r>
            <a:r>
              <a:rPr b="0" lang="en-US" sz="3200" spc="-1" strike="noStrike">
                <a:solidFill>
                  <a:srgbClr val="595959"/>
                </a:solidFill>
                <a:latin typeface="News Gothic MT"/>
                <a:ea typeface="PMingLiU"/>
              </a:rPr>
              <a:t>: Action of a firm to benefit society beyond the requirements of the law and direct interests of the firm.</a:t>
            </a:r>
            <a:endParaRPr b="0" lang="en-US" sz="3200" spc="-1" strike="noStrike">
              <a:solidFill>
                <a:srgbClr val="595959"/>
              </a:solidFill>
              <a:latin typeface="News Gothic MT"/>
            </a:endParaRPr>
          </a:p>
          <a:p>
            <a:pPr lvl="4" marL="905040" indent="-279720">
              <a:lnSpc>
                <a:spcPct val="80000"/>
              </a:lnSpc>
              <a:spcBef>
                <a:spcPts val="601"/>
              </a:spcBef>
              <a:buClr>
                <a:srgbClr val="6fb7d7"/>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95959"/>
              </a:solidFill>
              <a:latin typeface="News Gothic MT"/>
            </a:endParaRPr>
          </a:p>
          <a:p>
            <a:pPr lvl="4" marL="905040" indent="-279720">
              <a:lnSpc>
                <a:spcPct val="80000"/>
              </a:lnSpc>
              <a:spcBef>
                <a:spcPts val="601"/>
              </a:spcBef>
              <a:buClr>
                <a:srgbClr val="6fb7d7"/>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ea typeface="PMingLiU"/>
              </a:rPr>
              <a:t>Closely related to ethics.</a:t>
            </a:r>
            <a:endParaRPr b="0" lang="en-US" sz="3200" spc="-1" strike="noStrike">
              <a:solidFill>
                <a:srgbClr val="595959"/>
              </a:solidFill>
              <a:latin typeface="News Gothic MT"/>
            </a:endParaRPr>
          </a:p>
          <a:p>
            <a:pPr lvl="4" marL="905040" indent="-279720">
              <a:lnSpc>
                <a:spcPct val="80000"/>
              </a:lnSpc>
              <a:spcBef>
                <a:spcPts val="601"/>
              </a:spcBef>
              <a:buClr>
                <a:srgbClr val="6fb7d7"/>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ea typeface="PMingLiU"/>
              </a:rPr>
              <a:t>CSR involves taking voluntary action.</a:t>
            </a:r>
            <a:endParaRPr b="0" lang="en-US" sz="3200" spc="-1" strike="noStrike">
              <a:solidFill>
                <a:srgbClr val="595959"/>
              </a:solidFill>
              <a:latin typeface="News Gothic MT"/>
            </a:endParaRPr>
          </a:p>
          <a:p>
            <a:pPr lvl="4" marL="905040" indent="-279720">
              <a:lnSpc>
                <a:spcPct val="80000"/>
              </a:lnSpc>
              <a:spcBef>
                <a:spcPts val="601"/>
              </a:spcBef>
              <a:buClr>
                <a:srgbClr val="6fb7d7"/>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ea typeface="PMingLiU"/>
              </a:rPr>
              <a:t>CSR concerns include working conditions in factories and service centers as well as environmental impacts of corporate activities.</a:t>
            </a:r>
            <a:endParaRPr b="0" lang="en-US" sz="3200" spc="-1" strike="noStrike">
              <a:solidFill>
                <a:srgbClr val="595959"/>
              </a:solidFill>
              <a:latin typeface="News Gothic MT"/>
            </a:endParaRPr>
          </a:p>
          <a:p>
            <a:pPr marL="345600" indent="-345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News Gothic MT"/>
              </a:rPr>
              <a:t>The Classical View</a:t>
            </a:r>
            <a:endParaRPr b="1" lang="en-US" sz="4000" spc="-1" strike="noStrike">
              <a:solidFill>
                <a:srgbClr val="ff0000"/>
              </a:solidFill>
              <a:latin typeface="News Gothic MT"/>
            </a:endParaRPr>
          </a:p>
        </p:txBody>
      </p:sp>
      <p:sp>
        <p:nvSpPr>
          <p:cNvPr id="609" name="PlaceHolder 2"/>
          <p:cNvSpPr>
            <a:spLocks noGrp="1"/>
          </p:cNvSpPr>
          <p:nvPr>
            <p:ph/>
          </p:nvPr>
        </p:nvSpPr>
        <p:spPr>
          <a:xfrm>
            <a:off x="549000" y="1599840"/>
            <a:ext cx="8042040" cy="4343400"/>
          </a:xfrm>
          <a:prstGeom prst="rect">
            <a:avLst/>
          </a:prstGeom>
          <a:noFill/>
          <a:ln w="0">
            <a:noFill/>
          </a:ln>
        </p:spPr>
        <p:txBody>
          <a:bodyPr anchor="t">
            <a:normAutofit/>
          </a:bodyPr>
          <a:p>
            <a:pPr marL="3492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a:t>
            </a:r>
            <a:r>
              <a:rPr b="0" i="1" lang="en-US" sz="2800" spc="-1" strike="noStrike">
                <a:solidFill>
                  <a:srgbClr val="595959"/>
                </a:solidFill>
                <a:latin typeface="News Gothic MT"/>
              </a:rPr>
              <a:t>Few trends could so thoroughly undermine the very foundations of our free society as the acceptance by corporate officials of social responsibility other than to make as much money for their stockholders as possible.”  </a:t>
            </a:r>
            <a:r>
              <a:rPr b="0" lang="en-US" sz="2800" spc="-1" strike="noStrike">
                <a:solidFill>
                  <a:srgbClr val="595959"/>
                </a:solidFill>
                <a:latin typeface="News Gothic MT"/>
              </a:rPr>
              <a:t>Milton Friedman.</a:t>
            </a:r>
            <a:endParaRPr b="0" lang="en-US" sz="2800" spc="-1" strike="noStrike">
              <a:solidFill>
                <a:srgbClr val="595959"/>
              </a:solidFill>
              <a:latin typeface="News Gothic MT"/>
            </a:endParaRPr>
          </a:p>
          <a:p>
            <a:pPr marL="349200" indent="-349200">
              <a:spcBef>
                <a:spcPts val="2001"/>
              </a:spcBef>
              <a:buClr>
                <a:srgbClr val="ff33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Management’s only responsibility is to maximize returns for the stockholder. </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News Gothic MT"/>
              </a:rPr>
              <a:t>The Business Roundtable</a:t>
            </a:r>
            <a:endParaRPr b="1" lang="en-US" sz="4000" spc="-1" strike="noStrike">
              <a:solidFill>
                <a:srgbClr val="ff0000"/>
              </a:solidFill>
              <a:latin typeface="News Gothic MT"/>
            </a:endParaRPr>
          </a:p>
        </p:txBody>
      </p:sp>
      <p:sp>
        <p:nvSpPr>
          <p:cNvPr id="611"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August 19, 2019: Business Roundtable today announced the release of a new Statement on the Purpose of a Corporation signed by 181 CEOs who commit to lead their companies for the benefit of all stakeholders – customers, employees, supplies, communities and shareholders.</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0" y="0"/>
            <a:ext cx="91058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ea typeface="PMingLiU"/>
              </a:rPr>
              <a:t>Corporate Social Responsibility Perspectives </a:t>
            </a:r>
            <a:endParaRPr b="1" lang="en-US" sz="3200" spc="-1" strike="noStrike">
              <a:solidFill>
                <a:srgbClr val="ff0000"/>
              </a:solidFill>
              <a:latin typeface="News Gothic MT"/>
            </a:endParaRPr>
          </a:p>
        </p:txBody>
      </p:sp>
      <p:sp>
        <p:nvSpPr>
          <p:cNvPr id="613" name=""/>
          <p:cNvSpPr txBox="1"/>
          <p:nvPr/>
        </p:nvSpPr>
        <p:spPr>
          <a:xfrm>
            <a:off x="549000" y="1142640"/>
            <a:ext cx="8042040" cy="4800600"/>
          </a:xfrm>
          <a:prstGeom prst="rect">
            <a:avLst/>
          </a:prstGeom>
          <a:noFill/>
          <a:ln w="0">
            <a:noFill/>
          </a:ln>
        </p:spPr>
        <p:txBody>
          <a:bodyPr anchor="t">
            <a:normAutofit fontScale="98000"/>
          </a:bodyPr>
          <a:p>
            <a:pPr marL="342000" indent="-3420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Utilitarian</a:t>
            </a:r>
            <a:r>
              <a:rPr b="0" lang="en-US" sz="2800" spc="-1" strike="noStrike">
                <a:solidFill>
                  <a:srgbClr val="595959"/>
                </a:solidFill>
                <a:latin typeface="News Gothic MT"/>
              </a:rPr>
              <a:t> perspective suggests that CSR is a tool to help achieve a firm’s performance objectives (e.g. sales volume, profitability, ROI).</a:t>
            </a:r>
            <a:endParaRPr b="0" lang="en-US" sz="2800" spc="-1" strike="noStrike">
              <a:solidFill>
                <a:srgbClr val="595959"/>
              </a:solidFill>
              <a:latin typeface="News Gothic MT"/>
            </a:endParaRPr>
          </a:p>
          <a:p>
            <a:pPr marL="342000" indent="-3420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Positive duty </a:t>
            </a:r>
            <a:r>
              <a:rPr b="0" lang="en-US" sz="2800" spc="-1" strike="noStrike">
                <a:solidFill>
                  <a:srgbClr val="595959"/>
                </a:solidFill>
                <a:latin typeface="News Gothic MT"/>
              </a:rPr>
              <a:t>approach suggests that businesses believe that have a duty toward CSR.</a:t>
            </a:r>
            <a:endParaRPr b="0" lang="en-US" sz="2800" spc="-1" strike="noStrike">
              <a:solidFill>
                <a:srgbClr val="595959"/>
              </a:solidFill>
              <a:latin typeface="News Gothic MT"/>
            </a:endParaRPr>
          </a:p>
          <a:p>
            <a:pPr marL="342000" indent="-3420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Negative duty </a:t>
            </a:r>
            <a:r>
              <a:rPr b="0" lang="en-US" sz="2800" spc="-1" strike="noStrike">
                <a:solidFill>
                  <a:srgbClr val="595959"/>
                </a:solidFill>
                <a:latin typeface="News Gothic MT"/>
              </a:rPr>
              <a:t>approach occurs when businesses engage in CSR because they feel compelled to do so.</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CSR and Business Operations</a:t>
            </a:r>
            <a:endParaRPr b="1" lang="en-US" sz="3600" spc="-1" strike="noStrike">
              <a:solidFill>
                <a:srgbClr val="ff0000"/>
              </a:solidFill>
              <a:latin typeface="News Gothic MT"/>
            </a:endParaRPr>
          </a:p>
        </p:txBody>
      </p:sp>
      <p:sp>
        <p:nvSpPr>
          <p:cNvPr id="615"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Responsive CSR: </a:t>
            </a:r>
            <a:r>
              <a:rPr b="0" lang="en-US" sz="2800" spc="-1" strike="noStrike">
                <a:solidFill>
                  <a:srgbClr val="595959"/>
                </a:solidFill>
                <a:latin typeface="News Gothic MT"/>
              </a:rPr>
              <a:t>Views the community as an entity in tension or conflict with the company. Engages in CSR as a response to negative publicity.</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Strategic CSR: </a:t>
            </a:r>
            <a:r>
              <a:rPr b="0" lang="en-US" sz="2800" spc="-1" strike="noStrike">
                <a:solidFill>
                  <a:srgbClr val="595959"/>
                </a:solidFill>
                <a:latin typeface="News Gothic MT"/>
              </a:rPr>
              <a:t>Attempts to use CSR in an attempt to build competitive advantage and reach business goals.</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3T19:11:20Z</dcterms:created>
  <dc:creator>sara_hunter</dc:creator>
  <dc:description/>
  <dc:language>en-US</dc:language>
  <cp:lastModifiedBy>Morrow, Bert</cp:lastModifiedBy>
  <dcterms:modified xsi:type="dcterms:W3CDTF">2020-08-22T18:23:16Z</dcterms:modified>
  <cp:revision>331</cp:revision>
  <dc:subject/>
  <dc:title>Slide 1</dc:title>
</cp:coreProperties>
</file>