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276E-5D98-4186-8BDC-2463CF0A5604}"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FC27-0375-4E99-81F2-79647BC3F836}"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E788D-08E1-4458-B134-F4E2D5B5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DC2C1-DF79-4812-B8AD-047E9D31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91A420-1C76-48FF-A2C0-827816D8CF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637319-EB71-48A7-A4FD-C34309BC8E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C9BC805-F149-4A91-88E3-542FCA8C94C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2BF9FE-1347-4E3D-A1E5-9E825D6028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78F4EC-9E89-44AE-BFEA-0BE24904E0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96974C-4D3E-4304-8690-5D0456C3A1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1B8820F-7B9F-4C8D-AD83-61E34EA9B5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FBA182-4D73-4EBE-A475-92D79C56F7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770B82-F05D-4C2A-9C5C-38327096F28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D4DD156-38A2-4488-962D-EC51F6683B6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5533A-A2C5-493F-B807-776A9AB0F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F55255B-AF0C-4076-A6A0-F50F3AD4EB9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BF9ADB-831B-45B2-ADFC-29D2E85A1A7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2E52981-914E-4288-8C19-D5A408EB95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A365F9-BF88-49DF-AA25-859472AD5D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5534AD-7234-4B60-8514-DEE278DBF7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4B8F63C-2BB8-4F01-9DA9-6C8FE7B3110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ADD537-4D5C-4204-A915-0A53797DA65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CAD94C-7378-4F80-B25B-786F69B4A4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6E3C841-0AAB-4699-9F8B-73C0B6FD6BF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B45229D-9FBD-45D9-BE0B-9BAFD96A095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DBCCD-DFDF-4642-88D1-39128120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461B28-8B6A-41D1-B903-84CD841C796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302437E-9D9B-4B1E-B45B-6208A8563AE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58C3D7-E084-42E7-9872-5D4314687DD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E5B3F5B-2F9C-4B87-9CE0-89B7C3CFBD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A7C5994-81DE-4C24-BC7A-1637C73418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C6F9DB-30B2-4318-898F-78C5380AD81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D782A15-4740-4D53-9D9F-9C2CD54867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D039152-BF58-4051-8F79-99CBFCFF07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6F10AC-3F4A-4386-B6F6-81E59BF5075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B65190-7BA6-44C3-8FCA-9C8F5CD978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A53E6D-1BEF-40C7-8333-16AAD5BABA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554DA9-64F1-4879-89DA-D41E5C001A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6517E79-D5A0-4681-91DC-77CEC4AF611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2568500-4D5F-4CEB-9EC1-E0EBDA5863F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0998747-C86C-4374-8631-5848247F7CA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20B4330-6B7B-4D15-A1BE-C6F1BDDF67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4BA5B3E-2DC7-4939-9EFA-F997C2602D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21288F0-1AB8-4AC3-86A7-1BB0712AA59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95F54F3-9994-4BE9-B24F-C8A0B9A49E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E0A3AE2-2BC5-4E18-AA25-83EB848D5CA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8A4BF21-EE89-4C04-A657-9F4592FB9E1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C7F162-616E-43FE-A34E-0069EADF533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7F8F4A-7BAF-43BF-BD2C-A214B9BC32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BAC6D65-D0A7-4C58-9E7D-EB4DE2B980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17AFD5C-D8E8-41C0-AB39-BBACCDBEE3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976C135-186E-4935-9A2C-D953563A63A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098629F-F4FA-41CB-A9E6-FAF5232420D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158E1D9-2AEC-40F3-8F37-E9541F3A879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56324AD-A9AD-4B0E-AB65-0D8A6A65BC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13C4C0B-2329-4FE5-9E8F-BA13F56B705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F08BB03-B2EF-4C2A-BA83-79E5EFEFAEE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138DF29-B9D9-4A0F-ACF3-9B4505F0CA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3C1991-AEFE-4192-9D0C-EA7B244DF29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615A548-A852-44AE-8E65-904ECA5E56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2AD8513-7FF7-4EB5-9AC5-CCD2BE27144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C2EA7B-E414-43C2-B51A-BCDDA8CF0D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244E8CC-F2A0-4B43-945C-CC8CEB09083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0F22AE-87E2-4185-907D-493F1437AF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D92156A-535F-45F1-9927-92BC7A4B94C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9A67DBF-98A1-4D08-93D2-4F08B995E7D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F1211E9-712C-4AD1-8D88-4A0F7EBD341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E003E2F-3A2B-4854-835D-40E7A94F86F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537C750-CB66-4D3F-B38B-5610B922BEA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D41F48-4DC7-4808-9440-0CC00B1AAC40}"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05603D9-7676-4D44-A55B-85DA0448C5B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1336F74-8C84-4FD6-9683-4E23797BA7C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9AAA5FE-515F-4F73-99BC-48E6BF1D07A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2421D45-5F2D-49E9-A721-0EF046D158A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D9B889-ACAD-4901-9173-813D79A7061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9647C41-92E6-4D51-BECC-7BAE341487C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FFAD1BF-DE9E-4B18-96F0-B8D50BDA6E0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8F9222B-8078-48B7-B134-1E94BEDDE51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6767224-D01B-449D-9FC8-43C6E015453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76D1D-ACFE-4712-B958-04280E965A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2C275-923F-4884-A5E3-0E558F1BA7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7D674-5787-4321-BC51-C78A4F6727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2EB8-F69C-4DE3-B3D4-735BDFCD0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CCA32-116E-4D8A-A13E-1D8261D3A1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16F75-63A0-4714-B86E-70C0E7EBFF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FC976-9EE6-4954-986A-ADD8355C27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D9B6B-1E26-48BE-B2F6-CB2E604DB1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7F868C-9598-4245-9CFF-A73B97CCD5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0449-CE2B-4983-801E-627B944F5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EF152-C2E3-423A-B960-592B35C35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2DE416-1C83-4612-B162-CD4BDF890B8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FF09-1B1F-4380-9E0D-EB8E090F7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7C9F116-6C08-4E4A-829F-A54B4AE132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FD8AA72-E4CC-4AC3-AD89-1A9F2BE050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E6A178E-7824-4563-9D11-4DB4FCA3C05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F3EA6BB-A51F-414C-9845-B8DA0EA1C9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746DA0-12E1-476F-BCB0-078EAF2D25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471818-76FC-48EC-9797-9404F7DF1B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BAD6EB-B774-46C5-9025-B98B148666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1A0819-877F-495E-B72E-FBFCBBC0DE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F1E0064-59C0-4D4D-BE1D-AF28FBB1D3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7F13E2-59ED-4A18-A28D-A649D37E7A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F47E7-B6B4-4205-850A-67B9E7519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A2EA67-096F-4EE4-B549-AE5CA84D4B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DEE349A-A288-4532-8440-63B30BBB91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935BAA-743F-4CD7-A68A-6C10C981C5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DEDE23-55B3-426E-B0C2-91A2F85D94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306550-BEEC-4255-B11F-F7C44C306D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6362A5-E2CD-4840-8ABA-8C002CA021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3A48E1-68E0-46E8-866E-F63CC661EC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72A449-4079-449E-BD95-1317AECFE9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EE922B-B927-4640-90F0-0B133AC569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E6BBC7-E24E-423C-9E31-626B55020B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FF654-E815-44D5-95FC-8E1D568E2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244A4D-BEDC-426B-82C3-7943B06884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FB3CB8F-16CC-4B6B-BCD5-52E659BBE3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BBA8060-C25F-4BCB-ADD5-8D48BC13F5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5BD72D6-FF0B-4D5A-A6CA-F2E29AACB5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A620918-F1FD-4C49-9976-6A6A13BE33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5FA98B4-A52C-4873-BB97-6C1F85CC9B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52C47A-85CD-4564-9918-B5E1F8307DC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CE7081-8C1F-4CA2-891E-75DFFC6B43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9033E41-C4F2-44BB-B2A6-3D838D7C85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E211510-68B9-451E-B913-40559C799E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86AE-5192-419B-B5B9-39E43B24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D43BD3A-6E92-4C21-9BF0-2E5FD30F0F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A6DCEF-E83A-4E61-8356-BC35085AA3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AA1C86-C3AF-4E7F-B38B-A2A528078B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D948432-CAFC-4C91-8D50-60D6486505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0ED28B9-C57A-4393-8F92-84FFDD4464C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80FA050-0360-4B36-9608-05F4B9AE4B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73120AA-FC63-480E-BD90-79E84FF033F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04B69E-F87F-4485-BBE6-4A6C7D8F18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C9E38E-2A65-4E64-A27E-7D90875B89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0F73170-F714-4EBB-A12B-DDB2E8B24EA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E59FA-A255-4634-9521-C9A69F9B2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002718-7D4D-4685-9C65-124FAD76C4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A3BF18-0DE9-4D46-AA23-13D08C6128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FADEC3-49C5-42A8-8019-5CC09D329A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23408F-6B96-486D-AC25-61F626EB86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2D229C1-6C44-49EC-B8BE-5513E16BBE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C2D5B00-3246-44C9-AE6E-F1F370BC9E1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22AAA91-709E-4873-8F88-D2404B69954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335097E-0E4C-4FBE-B26B-4BA7F43494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1666BA4-6877-4BAD-8F75-AC7738CF301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BCFAEAA-DCED-43D5-8A31-ACC59A966C8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9E60-DE21-456B-989A-DA6A8CA906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8BF1-291E-4EA6-931F-2BB412625E1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C3BF-7F5A-41BC-89D2-FC7CE5212D6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4D70-4CA9-410F-98F7-80C99AFF6EA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B4C0-4610-4268-B6CB-4EB621D313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183-CAB2-48CC-BF94-2CEA635F9E8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4800-6D7C-4824-9490-4979312356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46A2-8AD2-415A-97CE-62771C60C84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AC7A-830E-4915-B074-BE41227438D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2BDF-87D8-42C7-8EAF-6C13A85094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9683-59D0-46EE-B322-B696201A76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7A79-8071-4C6F-905A-3966B104EE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00200"/>
            <a:ext cx="8042040" cy="26668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4e73"/>
                </a:solidFill>
                <a:latin typeface="News Gothic MT"/>
                <a:ea typeface="Geneva"/>
              </a:rPr>
              <a:t>Critical Thinking</a:t>
            </a:r>
            <a:endParaRPr b="0" lang="en-US" sz="5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evidence?</a:t>
            </a:r>
            <a:endParaRPr b="1" lang="en-US" sz="3200" spc="-1" strike="noStrike">
              <a:solidFill>
                <a:srgbClr val="ff0000"/>
              </a:solidFill>
              <a:latin typeface="News Gothic MT"/>
            </a:endParaRPr>
          </a:p>
        </p:txBody>
      </p:sp>
      <p:sp>
        <p:nvSpPr>
          <p:cNvPr id="62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Evidence – the available body of facts or information indicating whether a belief or proposition is true or valid</a:t>
            </a:r>
            <a:r>
              <a:rPr b="0" lang="en-US" sz="2800" spc="-1" strike="noStrike">
                <a:solidFill>
                  <a:srgbClr val="595959"/>
                </a:solidFill>
                <a:latin typeface="News Gothic MT"/>
              </a:rPr>
              <a:t>. The Oxford Dictiona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49000" y="107640"/>
            <a:ext cx="80420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ff0000"/>
                </a:solidFill>
                <a:latin typeface="News Gothic MT"/>
              </a:rPr>
              <a:t>There is nothing as practical for decision-making as a good theory!</a:t>
            </a:r>
            <a:endParaRPr b="1" lang="en-US" sz="3200" spc="-1" strike="noStrike">
              <a:solidFill>
                <a:srgbClr val="ff0000"/>
              </a:solidFill>
              <a:latin typeface="News Gothic MT"/>
            </a:endParaRPr>
          </a:p>
        </p:txBody>
      </p:sp>
      <p:sp>
        <p:nvSpPr>
          <p:cNvPr id="629"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 theory is a story about what we expect to observ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y – a set of interrelated variables intended to model some aspect of the empirical world. A theory presents a systematic view of phenomena.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eories should guide our decision-making and enable us to think criticall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aid another way, critical thinking begins by applying an appropriate theory.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29">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9">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29">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Price Theory</a:t>
            </a:r>
            <a:endParaRPr b="1" lang="en-US" sz="3200" spc="-1" strike="noStrike">
              <a:solidFill>
                <a:srgbClr val="ff0000"/>
              </a:solidFill>
              <a:latin typeface="News Gothic MT"/>
            </a:endParaRPr>
          </a:p>
        </p:txBody>
      </p:sp>
      <p:sp>
        <p:nvSpPr>
          <p:cNvPr id="631" name=""/>
          <p:cNvSpPr txBox="1"/>
          <p:nvPr/>
        </p:nvSpPr>
        <p:spPr>
          <a:xfrm>
            <a:off x="549000" y="1371240"/>
            <a:ext cx="8042040" cy="52578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economic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determines the price of a good or servi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is an efficient market?</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makes a market efficient?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hat role does price serve in economics?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31">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eet Dr. Thomas Sowell</a:t>
            </a:r>
            <a:endParaRPr b="1" lang="en-US" sz="3200" spc="-1" strike="noStrike">
              <a:solidFill>
                <a:srgbClr val="ff0000"/>
              </a:solidFill>
              <a:latin typeface="News Gothic MT"/>
            </a:endParaRPr>
          </a:p>
        </p:txBody>
      </p:sp>
      <p:sp>
        <p:nvSpPr>
          <p:cNvPr id="605" name=""/>
          <p:cNvSpPr txBox="1"/>
          <p:nvPr/>
        </p:nvSpPr>
        <p:spPr>
          <a:xfrm>
            <a:off x="549000" y="1143000"/>
            <a:ext cx="8042040" cy="541008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Thomas Sowell is an American economist and social theorist who was born in North Carolina in 1930 and moved to Harlem in 1939. </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Education:</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Harvard University, B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rnell University, MA</a:t>
            </a:r>
            <a:endParaRPr b="0" lang="en-US" sz="20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University of Chicago, PhD</a:t>
            </a:r>
            <a:endParaRPr b="0" lang="en-US" sz="20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pic>
        <p:nvPicPr>
          <p:cNvPr id="606" name="Picture 5" descr="Thomas Sowell.jpg"/>
          <p:cNvPicPr/>
          <p:nvPr/>
        </p:nvPicPr>
        <p:blipFill>
          <a:blip r:embed="rId1"/>
          <a:stretch/>
        </p:blipFill>
        <p:spPr>
          <a:xfrm>
            <a:off x="2819520" y="1219320"/>
            <a:ext cx="304776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Thoughts from Thomas Sowell</a:t>
            </a:r>
            <a:endParaRPr b="1" lang="en-US" sz="3200" spc="-1" strike="noStrike">
              <a:solidFill>
                <a:srgbClr val="ff0000"/>
              </a:solidFill>
              <a:latin typeface="News Gothic MT"/>
            </a:endParaRPr>
          </a:p>
        </p:txBody>
      </p:sp>
      <p:sp>
        <p:nvSpPr>
          <p:cNvPr id="608"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It takes considerable knowledge just to realize the extent of your own ignoranc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Warren Buffett conceptualized this thought as  a </a:t>
            </a:r>
            <a:r>
              <a:rPr b="1" lang="en-US" sz="2800" spc="-1" strike="noStrike">
                <a:solidFill>
                  <a:srgbClr val="595959"/>
                </a:solidFill>
                <a:latin typeface="News Gothic MT"/>
              </a:rPr>
              <a:t>circle of competence </a:t>
            </a:r>
            <a:r>
              <a:rPr b="0" lang="en-US" sz="2800" spc="-1" strike="noStrike">
                <a:solidFill>
                  <a:srgbClr val="595959"/>
                </a:solidFill>
                <a:latin typeface="News Gothic MT"/>
              </a:rPr>
              <a:t>and observed :</a:t>
            </a:r>
            <a:endParaRPr b="0" lang="en-US" sz="28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	</a:t>
            </a:r>
            <a:r>
              <a:rPr b="0" i="1" lang="en-US" sz="2800" spc="-1" strike="noStrike">
                <a:solidFill>
                  <a:srgbClr val="595959"/>
                </a:solidFill>
                <a:latin typeface="News Gothic MT"/>
              </a:rPr>
              <a:t>Most of the returns from what you do in life and business will come from operating in areas that you know bes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0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ircle of Competence</a:t>
            </a:r>
            <a:endParaRPr b="1" lang="en-US" sz="3200" spc="-1" strike="noStrike">
              <a:solidFill>
                <a:srgbClr val="ff0000"/>
              </a:solidFill>
              <a:latin typeface="News Gothic MT"/>
            </a:endParaRPr>
          </a:p>
        </p:txBody>
      </p:sp>
      <p:pic>
        <p:nvPicPr>
          <p:cNvPr id="610" name="Content Placeholder 3" descr="C of C.png"/>
          <p:cNvPicPr/>
          <p:nvPr/>
        </p:nvPicPr>
        <p:blipFill>
          <a:blip r:embed="rId1"/>
          <a:stretch/>
        </p:blipFill>
        <p:spPr>
          <a:xfrm>
            <a:off x="685800" y="1447920"/>
            <a:ext cx="4259160" cy="4343400"/>
          </a:xfrm>
          <a:prstGeom prst="rect">
            <a:avLst/>
          </a:prstGeom>
          <a:ln w="0">
            <a:noFill/>
          </a:ln>
        </p:spPr>
      </p:pic>
      <p:sp>
        <p:nvSpPr>
          <p:cNvPr id="611" name="TextBox 4"/>
          <p:cNvSpPr/>
          <p:nvPr/>
        </p:nvSpPr>
        <p:spPr>
          <a:xfrm>
            <a:off x="5093640" y="1981080"/>
            <a:ext cx="239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know</a:t>
            </a:r>
            <a:endParaRPr b="0" lang="en-US" sz="2400" spc="-1" strike="noStrike">
              <a:solidFill>
                <a:srgbClr val="000000"/>
              </a:solidFill>
              <a:latin typeface="Arial"/>
            </a:endParaRPr>
          </a:p>
        </p:txBody>
      </p:sp>
      <p:sp>
        <p:nvSpPr>
          <p:cNvPr id="612" name="TextBox 6"/>
          <p:cNvSpPr/>
          <p:nvPr/>
        </p:nvSpPr>
        <p:spPr>
          <a:xfrm>
            <a:off x="5208840" y="4038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Handwriting"/>
              </a:rPr>
              <a:t>What you feel you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1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11"/>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08000"/>
            <a:ext cx="82296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omas Sowell on “</a:t>
            </a:r>
            <a:r>
              <a:rPr b="1" i="1" lang="en-US" sz="3000" spc="-1" strike="noStrike">
                <a:solidFill>
                  <a:srgbClr val="ff0000"/>
                </a:solidFill>
                <a:latin typeface="News Gothic MT"/>
              </a:rPr>
              <a:t>thinking</a:t>
            </a:r>
            <a:r>
              <a:rPr b="1" lang="en-US" sz="3000" spc="-1" strike="noStrike">
                <a:solidFill>
                  <a:srgbClr val="ff0000"/>
                </a:solidFill>
                <a:latin typeface="News Gothic MT"/>
              </a:rPr>
              <a:t>” and “</a:t>
            </a:r>
            <a:r>
              <a:rPr b="1" i="1" lang="en-US" sz="3000" spc="-1" strike="noStrike">
                <a:solidFill>
                  <a:srgbClr val="ff0000"/>
                </a:solidFill>
                <a:latin typeface="News Gothic MT"/>
              </a:rPr>
              <a:t>feeling</a:t>
            </a:r>
            <a:r>
              <a:rPr b="1" lang="en-US" sz="3000" spc="-1" strike="noStrike">
                <a:solidFill>
                  <a:srgbClr val="ff0000"/>
                </a:solidFill>
                <a:latin typeface="News Gothic MT"/>
              </a:rPr>
              <a:t>.”</a:t>
            </a:r>
            <a:endParaRPr b="1" lang="en-US" sz="3000" spc="-1" strike="noStrike">
              <a:solidFill>
                <a:srgbClr val="ff0000"/>
              </a:solidFill>
              <a:latin typeface="News Gothic MT"/>
            </a:endParaRPr>
          </a:p>
        </p:txBody>
      </p:sp>
      <p:sp>
        <p:nvSpPr>
          <p:cNvPr id="614" name=""/>
          <p:cNvSpPr txBox="1"/>
          <p:nvPr/>
        </p:nvSpPr>
        <p:spPr>
          <a:xfrm>
            <a:off x="549000" y="1599840"/>
            <a:ext cx="8042040" cy="4343400"/>
          </a:xfrm>
          <a:prstGeom prst="rect">
            <a:avLst/>
          </a:prstGeom>
          <a:noFill/>
          <a:ln w="0">
            <a:noFill/>
          </a:ln>
        </p:spPr>
        <p:txBody>
          <a:bodyPr anchor="t">
            <a:normAutofit/>
          </a:bodyPr>
          <a:p>
            <a:pPr marL="349200" indent="-349200">
              <a:lnSpc>
                <a:spcPct val="15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a:t>
            </a:r>
            <a:r>
              <a:rPr b="0" i="1" lang="en-US" sz="2800" spc="-1" strike="noStrike">
                <a:solidFill>
                  <a:srgbClr val="595959"/>
                </a:solidFill>
                <a:latin typeface="News Gothic MT"/>
              </a:rPr>
              <a:t>The problem isn't that Johnny can't read. The problem isn't even that Johnny can't think. The problem is that Johnny doesn't know what thinking is; he confuses it with feeling.” </a:t>
            </a:r>
            <a:br>
              <a:rPr sz="2800"/>
            </a:br>
            <a:r>
              <a:rPr b="0" i="1" lang="en-US" sz="2800" spc="-1" strike="noStrike">
                <a:solidFill>
                  <a:srgbClr val="595959"/>
                </a:solidFill>
                <a:latin typeface="News Gothic MT"/>
              </a:rPr>
              <a:t>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6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Humans struggle daily with the conflict between their heart and their head.</a:t>
            </a:r>
            <a:endParaRPr b="1" lang="en-US" sz="3200" spc="-1" strike="noStrike">
              <a:solidFill>
                <a:srgbClr val="ff0000"/>
              </a:solidFill>
              <a:latin typeface="News Gothic MT"/>
            </a:endParaRPr>
          </a:p>
        </p:txBody>
      </p:sp>
      <p:sp>
        <p:nvSpPr>
          <p:cNvPr id="616" name=""/>
          <p:cNvSpPr txBox="1"/>
          <p:nvPr/>
        </p:nvSpPr>
        <p:spPr>
          <a:xfrm>
            <a:off x="549000" y="1599840"/>
            <a:ext cx="8042040" cy="4343400"/>
          </a:xfrm>
          <a:prstGeom prst="rect">
            <a:avLst/>
          </a:prstGeom>
          <a:noFill/>
          <a:ln w="0">
            <a:noFill/>
          </a:ln>
        </p:spPr>
        <p:txBody>
          <a:bodyPr anchor="t">
            <a:normAutofit fontScale="97000"/>
          </a:bodyPr>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d is the home for your learning or cognition – the acquisition of knowledge.</a:t>
            </a:r>
            <a:endParaRPr b="0" lang="en-US" sz="2800" spc="-1" strike="noStrike">
              <a:solidFill>
                <a:srgbClr val="595959"/>
              </a:solidFill>
              <a:latin typeface="News Gothic MT"/>
            </a:endParaRPr>
          </a:p>
          <a:p>
            <a:pPr marL="338400" indent="-3384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Your heart is the home for your feelings or </a:t>
            </a:r>
            <a:r>
              <a:rPr b="0" i="1" lang="en-US" sz="2800" spc="-1" strike="noStrike">
                <a:solidFill>
                  <a:srgbClr val="595959"/>
                </a:solidFill>
                <a:latin typeface="News Gothic MT"/>
              </a:rPr>
              <a:t>affect</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have two meanings. It may mean to have an effect on; influence; produce a change in.</a:t>
            </a:r>
            <a:endParaRPr b="0" lang="en-US" sz="2800" spc="-1" strike="noStrike">
              <a:solidFill>
                <a:srgbClr val="595959"/>
              </a:solidFill>
              <a:latin typeface="News Gothic MT"/>
            </a:endParaRPr>
          </a:p>
          <a:p>
            <a:pPr marL="338400" indent="-3384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95959"/>
                </a:solidFill>
                <a:latin typeface="News Gothic MT"/>
              </a:rPr>
              <a:t>Affect</a:t>
            </a:r>
            <a:r>
              <a:rPr b="0" lang="en-US" sz="2800" spc="-1" strike="noStrike">
                <a:solidFill>
                  <a:srgbClr val="595959"/>
                </a:solidFill>
                <a:latin typeface="News Gothic MT"/>
              </a:rPr>
              <a:t> can also refer to an emotion, feeling, or mood as a factor in behavior.</a:t>
            </a:r>
            <a:endParaRPr b="0" lang="en-US" sz="2800" spc="-1" strike="noStrike">
              <a:solidFill>
                <a:srgbClr val="595959"/>
              </a:solidFill>
              <a:latin typeface="News Gothic MT"/>
            </a:endParaRPr>
          </a:p>
          <a:p>
            <a:pPr marL="338400" indent="-3384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616">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6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News Gothic MT"/>
              </a:rPr>
              <a:t>The Struggle between the Heart and Head</a:t>
            </a:r>
            <a:endParaRPr b="1" lang="en-US" sz="3000" spc="-1" strike="noStrike">
              <a:solidFill>
                <a:srgbClr val="ff0000"/>
              </a:solidFill>
              <a:latin typeface="News Gothic MT"/>
            </a:endParaRPr>
          </a:p>
        </p:txBody>
      </p:sp>
      <p:pic>
        <p:nvPicPr>
          <p:cNvPr id="618" name="Content Placeholder 3" descr="Head.png"/>
          <p:cNvPicPr/>
          <p:nvPr/>
        </p:nvPicPr>
        <p:blipFill>
          <a:blip r:embed="rId1"/>
          <a:stretch/>
        </p:blipFill>
        <p:spPr>
          <a:xfrm>
            <a:off x="5181480" y="1905120"/>
            <a:ext cx="3200400" cy="3057480"/>
          </a:xfrm>
          <a:prstGeom prst="rect">
            <a:avLst/>
          </a:prstGeom>
          <a:ln w="0">
            <a:noFill/>
          </a:ln>
        </p:spPr>
      </p:pic>
      <p:pic>
        <p:nvPicPr>
          <p:cNvPr id="619" name="Picture 4" descr="Head.png"/>
          <p:cNvPicPr/>
          <p:nvPr/>
        </p:nvPicPr>
        <p:blipFill>
          <a:blip r:embed="rId2"/>
          <a:stretch/>
        </p:blipFill>
        <p:spPr>
          <a:xfrm>
            <a:off x="914400" y="2209680"/>
            <a:ext cx="3581280" cy="2971800"/>
          </a:xfrm>
          <a:prstGeom prst="rect">
            <a:avLst/>
          </a:prstGeom>
          <a:ln w="0">
            <a:noFill/>
          </a:ln>
        </p:spPr>
      </p:pic>
      <p:sp>
        <p:nvSpPr>
          <p:cNvPr id="620" name="TextBox 5"/>
          <p:cNvSpPr/>
          <p:nvPr/>
        </p:nvSpPr>
        <p:spPr>
          <a:xfrm>
            <a:off x="1461240" y="3124080"/>
            <a:ext cx="257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urce of mood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eelings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otions. </a:t>
            </a:r>
            <a:endParaRPr b="0" lang="en-US" sz="2400" spc="-1" strike="noStrike">
              <a:solidFill>
                <a:srgbClr val="000000"/>
              </a:solidFill>
              <a:latin typeface="Arial"/>
            </a:endParaRPr>
          </a:p>
        </p:txBody>
      </p:sp>
      <p:sp>
        <p:nvSpPr>
          <p:cNvPr id="621" name="TextBox 6"/>
          <p:cNvSpPr/>
          <p:nvPr/>
        </p:nvSpPr>
        <p:spPr>
          <a:xfrm>
            <a:off x="5791320" y="2590920"/>
            <a:ext cx="19047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 of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ionalit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an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critical thinking?</a:t>
            </a:r>
            <a:endParaRPr b="1" lang="en-US" sz="3200" spc="-1" strike="noStrike">
              <a:solidFill>
                <a:srgbClr val="ff0000"/>
              </a:solidFill>
              <a:latin typeface="News Gothic MT"/>
            </a:endParaRPr>
          </a:p>
        </p:txBody>
      </p:sp>
      <p:sp>
        <p:nvSpPr>
          <p:cNvPr id="62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Critical Thinking – noun – The objective analysis and evaluation of an issue in order to form a judgment</a:t>
            </a:r>
            <a:r>
              <a:rPr b="0" lang="en-US" sz="2800" spc="-1" strike="noStrike">
                <a:solidFill>
                  <a:srgbClr val="595959"/>
                </a:solidFill>
                <a:latin typeface="News Gothic MT"/>
              </a:rPr>
              <a:t>. The Oxford Dictionar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2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is the process of critical thinking?</a:t>
            </a:r>
            <a:endParaRPr b="1" lang="en-US" sz="3200" spc="-1" strike="noStrike">
              <a:solidFill>
                <a:srgbClr val="ff0000"/>
              </a:solidFill>
              <a:latin typeface="News Gothic MT"/>
            </a:endParaRPr>
          </a:p>
        </p:txBody>
      </p:sp>
      <p:sp>
        <p:nvSpPr>
          <p:cNvPr id="625" name=""/>
          <p:cNvSpPr txBox="1"/>
          <p:nvPr/>
        </p:nvSpPr>
        <p:spPr>
          <a:xfrm>
            <a:off x="549000" y="1295280"/>
            <a:ext cx="8042040" cy="4648320"/>
          </a:xfrm>
          <a:prstGeom prst="rect">
            <a:avLst/>
          </a:prstGeom>
          <a:noFill/>
          <a:ln w="0">
            <a:noFill/>
          </a:ln>
        </p:spPr>
        <p:txBody>
          <a:bodyPr anchor="t">
            <a:normAutofit/>
          </a:bodyPr>
          <a:p>
            <a:pPr marL="349200" indent="-349200">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	</a:t>
            </a:r>
            <a:r>
              <a:rPr b="1" i="1" lang="en-US" sz="2400" spc="-1" strike="noStrike">
                <a:solidFill>
                  <a:srgbClr val="595959"/>
                </a:solidFill>
                <a:latin typeface="News Gothic MT"/>
              </a:rPr>
              <a:t>Critical thinking</a:t>
            </a:r>
            <a:r>
              <a:rPr b="0" i="1" lang="en-US" sz="2400" spc="-1" strike="noStrike">
                <a:solidFill>
                  <a:srgbClr val="595959"/>
                </a:solidFill>
                <a:latin typeface="News Gothic MT"/>
              </a:rPr>
              <a:t> means making reasoned judgments that are logical and well-thought out. It is a way of thinking in which you don't simply accept all arguments and conclusions you are exposed to but rather have an attitude involving questioning such arguments and conclusions. It requires wanting to see what evidence is involved to support a particular argument or conclusion. </a:t>
            </a:r>
            <a:r>
              <a:rPr b="0" lang="en-US" sz="2400" spc="-1" strike="noStrike">
                <a:solidFill>
                  <a:srgbClr val="595959"/>
                </a:solidFill>
                <a:latin typeface="News Gothic MT"/>
              </a:rPr>
              <a:t>Tara DeLecc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1-08-31T13:23:24Z</dcterms:modified>
  <cp:revision>330</cp:revision>
  <dc:subject/>
  <dc:title>Slide 1</dc:title>
</cp:coreProperties>
</file>