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D946-6589-41D2-9C91-5033F1D493FE}"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1FBC-F91C-46D0-9902-902623A0440C}"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8E3BA-38E3-4851-862E-248F40FE0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A532A-1417-4FA0-8A9C-7BF1887B6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96C307A-E914-496C-9B52-E80448BCECE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1B48AD5-89E4-4870-B22C-8625E4A08E4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28A3373-3899-4C6F-998B-469BA372DD3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94601D0-DCAA-416C-AFF1-D9B954D83F5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0FCF9D8-2D27-459E-B688-BC000910598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D943ADF-E67B-402C-B7BC-A0D30D7DAC3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DF54B64-26A2-4AB0-98F3-BC330F86330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BF8924F-7968-4730-994E-C0C2771659C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DFA352E-5EC2-465F-B6AD-4A7DAC0FCBB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B69694A-3AF2-499A-BE35-0E1C16A3A31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A9E86-4F6D-4486-9C46-BEA2B9318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CAFB88C-63B0-448A-B1D6-8C7A42A0D01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EFD1276-2306-43E7-BCE0-3C19786BA5C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F295784-BC86-481D-9FA7-FDC75AE1366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B00C489-49A6-4614-A5A2-BD55D5FADEC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5B28FE3-92CE-44CF-A522-35E48DAD1D3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5D463BD-F261-402D-B578-3F0E02BCE75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E2540B7-F4A2-4906-87B8-35D306058C6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00BF9AA-08AC-4B49-A51C-176AE5291AE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5269B38-269D-4B65-9B6B-7558E1F3C7F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C59C03A-8CEA-4C5B-B95E-7518AF414BB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A677D-E02A-491A-87CA-D9036D8A3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C4E7B56-0512-48B3-A475-6462D3E3660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6ED1F7F-9C9C-4D07-967B-A1F61565A4D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1E6465D-DC16-49B8-9AF5-A726F001047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380F881-20A2-4B9D-9479-543765977F7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38731C3-137B-4CB7-98E0-57D2274AD5D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1ECA326-AD3C-4DBB-98C3-000C8B29062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FBD9863-2BC1-49D4-A7A7-96328890C79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4C500C-32AC-41DE-B0AE-3DB827AC2C3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6825C1C-0327-4357-A867-DEFB97BA91C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DC803FA-384D-4359-BD65-455454AAAA1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A9303D-2E5B-4BD4-B13D-78D357063A2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452BCF2-B01E-441A-83BB-1E71E45F715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41F89D2-7430-4C1B-B7AD-81FCE37016F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581F699-4DAC-4C64-9DF6-222952F30CA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8F6A2B0-8870-4719-B455-411B984054F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EE1A29F-9475-4B19-B455-020E17DA562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D70879A-B9F6-462D-B0E0-A567B914950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E813E89-12D6-43CA-952D-FA6DEAC5BBE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1A50615-340A-488D-84D3-6E964E01686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7144776-0821-4F6A-AA0B-9F645D217ED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212DA0B-F3C9-4891-BC4E-718B90ED0FF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409152-813B-4DEE-9805-2138181D5B3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CD37AC9-2CF6-4E35-BFF6-6A9DC6CBF2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FF5A960-F8CB-46B8-9D58-291B62DE947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C11D2A7-0C95-4237-9878-117C4DB18AF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D969A76-B4A6-4394-BC29-35DD4B1E082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BB680D1-50BC-415E-B5C6-087357C460E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D189FFA-ACD6-4F27-8061-D17FF5AC069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2511A32-E77E-4895-95A4-800DAD081A4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CBC04A4-86D5-4B43-A613-751A6B453B2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6E7E9A5-B50A-4905-8D9E-27639B61DE8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C080BF0-550B-4377-B3EB-73F0D94B794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A53291-992A-4135-8417-08480DF45BC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E282BE9-A356-462B-8731-4E2BE135961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014D9F1-CBDB-4055-8EAB-7C85B07139C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F763429-280C-409A-81E6-20BFEB4C58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958DBEF-B7AE-472D-A8DF-3786E68110E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13D2798-157B-41F1-ACF4-F78533E76E6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D9FEE25-5BC3-4B86-9D22-255E7D5ED70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688C9F3-B246-4E58-A614-7D4A3BC8A6E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15473AA-27B1-436C-AA04-8598A684859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F7958E1-A089-4319-ABF3-3E0138B76C2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DBF937C-CBF3-48E8-826F-75FDD2C99D3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1086C0-47A8-466B-8C49-9780B9425BE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3CC5A74-F7C0-4332-B0F6-4DE62461C21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E64DC68-CD21-4C9F-B6FF-FBE518C4BA4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F95B244-F38A-426F-90E2-4438206B387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3AFA2E7-2C30-41AF-B7BA-D187A80D81B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6BE6BC6-537B-45F5-8FCF-9AFD986A55B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4EE392B-6FEC-46D4-A0D8-15E37EE0CF2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1C92495-247C-4766-97DD-E59B7605153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C540B37-3584-4EEC-BDE3-5D676D6D84C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0214715-F906-427A-8040-0D8D90A5A38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18E159-6F1E-469E-BE57-7839882913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EA0E47-C791-43A5-8C94-BE463110E4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FAD400-954F-4684-A8FE-2D33E559BC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68C06-7BC0-4178-B10E-E2D8C740E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4D1CAF-5C81-4AA4-82DC-6C61A218C4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16F815-C508-4F8A-9639-E6C0AAA01B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7CBF8F-341A-4A71-A1C9-3AD183CBD9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879FA8-687E-4F6D-BC03-F451EC975B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AB75A1-EABF-46F1-914A-FA1928C9BF2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556F9-25D4-40E6-8AC9-82E82382B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5CCB0-7646-4C69-AFFD-D0FC85E22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7322AD4-D750-4E7D-94B7-2E5CD18018B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5D54A-4DAF-4BE4-8F80-8C9DFB46F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E2FD3D8-4340-4637-A4F9-25A161A12D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22DB2D-DC2D-4D70-89CF-51D29E9555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D591F9-0822-46DE-A937-62EE092683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31CC0D-3D1F-4302-97D9-8FA3EF576F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2B1822-43B5-45D8-82E7-ABD7069AA4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B17BC7-3F14-4E04-9ADE-1A25ED2584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3EA791-956A-4E60-B24C-4546A96F503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B81E7E-4DDF-4D49-A967-3358284052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77851A-547C-4585-9608-27336BEA2A6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84BF0C4-5C4B-49B2-9E89-04E78BD64DB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47409-AFCD-45C1-81FE-A10474842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3ABE10-F90E-4646-80C2-41CFC620BEA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DC87C12-0956-435F-AB92-5DC8B253993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93D4917-F8D1-4594-A1ED-B76628C23C3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90C680E-C651-4D24-9301-84C4403795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1ED12D-B535-4C42-92DF-46DD6FA4EB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8A0AE20-8B77-4B5D-B737-35333C07AC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FCAABE-9B52-43CC-88A7-77C678C132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9A6DCF-2B73-4167-A16B-D398A76DB6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CF29FE-F65E-4E69-9B00-3641DD9CF9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29575F-494C-4018-BF5D-8C1DEDEF56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9FC1D-1AD2-459C-B297-D157FF14A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FE8673-E2D2-4744-BEC0-FC37BDDE27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19F3A34-E267-4526-BBA6-550F89B70B8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C3ED2BF-0CD8-4E51-9EC6-009FC3B067F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31C4D12-C5FC-40BF-AE97-B180A2DA985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F95B387-07E1-45CE-A1CE-CCD9A8B0186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A869C6B-AECA-4EA1-BEFF-2BEF218563E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72BA6CA-EFB4-4F42-8C92-E5D5BB08357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861905A-F691-4D6C-B8A0-D48119F51E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60C70B-3FE3-4CCD-953D-A57A259F32A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A0E2F2-686A-483B-AEAE-69D0A50B2C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A6380-62F3-4F82-8057-A61E05567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04E4CF-2582-4698-B0C7-95C49CD9165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CC5081A-A722-43E3-9DB2-F17ED30014F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806A28-074B-4D71-B360-3E9487146FB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10F7A6A-5B14-4AE0-A02C-56383E7A742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FC123C0-D96B-4A27-9448-9CA21D16083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A4F4E6E-70DB-45F3-942A-C57C8604DB2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3C6E6FE-8A3D-4609-A507-B1AE3E4CE85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993097B-E093-4D76-B791-23F13D992D6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4A5F45A-85EA-48CB-9CE8-0F991D67CE8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690D839-2128-46D4-8FD9-0204403E571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FB181-B17A-4171-9609-207E47F28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35AB7FE-B8E3-4931-8DC8-22BFC6C26B9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7993B6-DD48-48E9-A261-78D8982B7E0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039924-E6DD-4143-BF00-3617754FCB3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79E3CE6-B7B8-4491-A3C7-5038C62210B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D6A144D-971F-43E8-B96B-19B28B2384E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827549F-93DA-42FA-BDD4-B5BDB7EC5AA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8B3FD6F-FB43-40BA-9567-482F0045FC9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A2A7439-65AC-4F3F-9FB4-EE7A0BC32F7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281C419-B22B-42B5-A1BD-6FC4AE6185D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3AD5EDD-7AAB-4955-9CE0-A93564FB3983}"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F4D6-4CC5-4DDA-9B31-C46713D0B5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797E-EC17-4131-88F0-F937BA18FF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19AC-5BA9-4461-A97E-6F6694D5C7F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A759-57D2-48AA-A0C2-7C3918629EC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33A9-EAD9-4341-8D30-2BA852846B0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E01F-FB80-4B24-A3B8-B5B21181A7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2ACC-08F2-445D-B404-CB39082E54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B772-A991-4AC0-BDF7-6F6F63116D7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8EC8-69CA-4C91-9FEC-D47938017F6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56A4-31ED-4B96-A05C-5A53CB0624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94F1-3EA1-4E2D-9F40-038B02C6C55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6080C-7F20-479D-A3B1-4FFF53DCB3C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00200"/>
            <a:ext cx="8042040" cy="26668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54e73"/>
                </a:solidFill>
                <a:latin typeface="News Gothic MT"/>
                <a:ea typeface="Geneva"/>
              </a:rPr>
              <a:t>Critical Thinking</a:t>
            </a:r>
            <a:endParaRPr b="0" lang="en-US" sz="5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evidence?</a:t>
            </a:r>
            <a:endParaRPr b="1" lang="en-US" sz="3200" spc="-1" strike="noStrike">
              <a:solidFill>
                <a:srgbClr val="ff0000"/>
              </a:solidFill>
              <a:latin typeface="News Gothic MT"/>
            </a:endParaRPr>
          </a:p>
        </p:txBody>
      </p:sp>
      <p:sp>
        <p:nvSpPr>
          <p:cNvPr id="6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Evidence – the available body of facts or information indicating whether a belief or proposition is true or valid</a:t>
            </a:r>
            <a:r>
              <a:rPr b="0" lang="en-US" sz="2800" spc="-1" strike="noStrike">
                <a:solidFill>
                  <a:srgbClr val="595959"/>
                </a:solidFill>
                <a:latin typeface="News Gothic MT"/>
              </a:rPr>
              <a:t>. The Oxford Dictionar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49000" y="107640"/>
            <a:ext cx="80420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ff0000"/>
                </a:solidFill>
                <a:latin typeface="News Gothic MT"/>
              </a:rPr>
              <a:t>There is nothing as practical for decision-making as a good theory!</a:t>
            </a:r>
            <a:endParaRPr b="1" lang="en-US" sz="3200" spc="-1" strike="noStrike">
              <a:solidFill>
                <a:srgbClr val="ff0000"/>
              </a:solidFill>
              <a:latin typeface="News Gothic MT"/>
            </a:endParaRPr>
          </a:p>
        </p:txBody>
      </p:sp>
      <p:sp>
        <p:nvSpPr>
          <p:cNvPr id="629" name=""/>
          <p:cNvSpPr txBox="1"/>
          <p:nvPr/>
        </p:nvSpPr>
        <p:spPr>
          <a:xfrm>
            <a:off x="549000" y="13712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 theory is a story about what we expect to observ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ory – a set of interrelated variables intended to model some aspect of the empirical world. A theory presents a systematic view of phenomena.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ories should guide our decision-making and enable us to think criticall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aid another way, critical thinking begins by applying an appropriate theor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9">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9">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9">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49000" y="10800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Price Theory</a:t>
            </a:r>
            <a:endParaRPr b="1" lang="en-US" sz="3200" spc="-1" strike="noStrike">
              <a:solidFill>
                <a:srgbClr val="ff0000"/>
              </a:solidFill>
              <a:latin typeface="News Gothic MT"/>
            </a:endParaRPr>
          </a:p>
        </p:txBody>
      </p:sp>
      <p:sp>
        <p:nvSpPr>
          <p:cNvPr id="631" name=""/>
          <p:cNvSpPr txBox="1"/>
          <p:nvPr/>
        </p:nvSpPr>
        <p:spPr>
          <a:xfrm>
            <a:off x="549000" y="13712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is economic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determines the price of a good or servic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is an efficient market?</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makes a market efficient?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role does price serve in economic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31">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eet Dr. Thomas Sowell</a:t>
            </a:r>
            <a:endParaRPr b="1" lang="en-US" sz="3200" spc="-1" strike="noStrike">
              <a:solidFill>
                <a:srgbClr val="ff0000"/>
              </a:solidFill>
              <a:latin typeface="News Gothic MT"/>
            </a:endParaRPr>
          </a:p>
        </p:txBody>
      </p:sp>
      <p:sp>
        <p:nvSpPr>
          <p:cNvPr id="605" name=""/>
          <p:cNvSpPr txBox="1"/>
          <p:nvPr/>
        </p:nvSpPr>
        <p:spPr>
          <a:xfrm>
            <a:off x="549000" y="1143000"/>
            <a:ext cx="8042040" cy="54100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omas Sowell is an American economist and social theorist who was born in North Carolina in 1930 and moved to Harlem in 1939. </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ducation:</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arvard University, BA</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rnell University, MA</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University of Chicago, PhD</a:t>
            </a:r>
            <a:endParaRPr b="0" lang="en-US" sz="20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606" name="Picture 5" descr="Thomas Sowell.jpg"/>
          <p:cNvPicPr/>
          <p:nvPr/>
        </p:nvPicPr>
        <p:blipFill>
          <a:blip r:embed="rId1"/>
          <a:stretch/>
        </p:blipFill>
        <p:spPr>
          <a:xfrm>
            <a:off x="2819520" y="1219320"/>
            <a:ext cx="3047760" cy="23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oughts from Thomas Sowell</a:t>
            </a:r>
            <a:endParaRPr b="1" lang="en-US" sz="3200" spc="-1" strike="noStrike">
              <a:solidFill>
                <a:srgbClr val="ff0000"/>
              </a:solidFill>
              <a:latin typeface="News Gothic MT"/>
            </a:endParaRPr>
          </a:p>
        </p:txBody>
      </p:sp>
      <p:sp>
        <p:nvSpPr>
          <p:cNvPr id="608" name=""/>
          <p:cNvSpPr txBox="1"/>
          <p:nvPr/>
        </p:nvSpPr>
        <p:spPr>
          <a:xfrm>
            <a:off x="549000" y="1599840"/>
            <a:ext cx="8042040" cy="4343400"/>
          </a:xfrm>
          <a:prstGeom prst="rect">
            <a:avLst/>
          </a:prstGeom>
          <a:noFill/>
          <a:ln w="0">
            <a:noFill/>
          </a:ln>
        </p:spPr>
        <p:txBody>
          <a:bodyPr anchor="t">
            <a:normAutofit/>
          </a:bodyPr>
          <a:p>
            <a:pPr marL="349200" indent="-349200">
              <a:lnSpc>
                <a:spcPct val="1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t>
            </a:r>
            <a:r>
              <a:rPr b="0" i="1" lang="en-US" sz="2800" spc="-1" strike="noStrike">
                <a:solidFill>
                  <a:srgbClr val="595959"/>
                </a:solidFill>
                <a:latin typeface="News Gothic MT"/>
              </a:rPr>
              <a:t>It takes considerable knowledge just to realize the extent of your own ignoranc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arren Buffett conceptualized this thought as  a </a:t>
            </a:r>
            <a:r>
              <a:rPr b="1" lang="en-US" sz="2800" spc="-1" strike="noStrike">
                <a:solidFill>
                  <a:srgbClr val="595959"/>
                </a:solidFill>
                <a:latin typeface="News Gothic MT"/>
              </a:rPr>
              <a:t>circle of competence </a:t>
            </a:r>
            <a:r>
              <a:rPr b="0" lang="en-US" sz="2800" spc="-1" strike="noStrike">
                <a:solidFill>
                  <a:srgbClr val="595959"/>
                </a:solidFill>
                <a:latin typeface="News Gothic MT"/>
              </a:rPr>
              <a:t>and observed :</a:t>
            </a:r>
            <a:endParaRPr b="0" lang="en-US" sz="28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	</a:t>
            </a:r>
            <a:r>
              <a:rPr b="0" i="1" lang="en-US" sz="2800" spc="-1" strike="noStrike">
                <a:solidFill>
                  <a:srgbClr val="595959"/>
                </a:solidFill>
                <a:latin typeface="News Gothic MT"/>
              </a:rPr>
              <a:t>Most of the returns from what you do in life and business will come from operating in areas that you know bes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0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ircle of Competence</a:t>
            </a:r>
            <a:endParaRPr b="1" lang="en-US" sz="3200" spc="-1" strike="noStrike">
              <a:solidFill>
                <a:srgbClr val="ff0000"/>
              </a:solidFill>
              <a:latin typeface="News Gothic MT"/>
            </a:endParaRPr>
          </a:p>
        </p:txBody>
      </p:sp>
      <p:pic>
        <p:nvPicPr>
          <p:cNvPr id="610" name="Content Placeholder 3" descr="C of C.png"/>
          <p:cNvPicPr/>
          <p:nvPr/>
        </p:nvPicPr>
        <p:blipFill>
          <a:blip r:embed="rId1"/>
          <a:stretch/>
        </p:blipFill>
        <p:spPr>
          <a:xfrm>
            <a:off x="685800" y="1447920"/>
            <a:ext cx="4259160" cy="4343400"/>
          </a:xfrm>
          <a:prstGeom prst="rect">
            <a:avLst/>
          </a:prstGeom>
          <a:ln w="0">
            <a:noFill/>
          </a:ln>
        </p:spPr>
      </p:pic>
      <p:sp>
        <p:nvSpPr>
          <p:cNvPr id="611" name="TextBox 4"/>
          <p:cNvSpPr/>
          <p:nvPr/>
        </p:nvSpPr>
        <p:spPr>
          <a:xfrm>
            <a:off x="5093640" y="1981080"/>
            <a:ext cx="23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What you know</a:t>
            </a:r>
            <a:endParaRPr b="0" lang="en-US" sz="2400" spc="-1" strike="noStrike">
              <a:solidFill>
                <a:srgbClr val="000000"/>
              </a:solidFill>
              <a:latin typeface="Arial"/>
            </a:endParaRPr>
          </a:p>
        </p:txBody>
      </p:sp>
      <p:sp>
        <p:nvSpPr>
          <p:cNvPr id="612" name="TextBox 6"/>
          <p:cNvSpPr/>
          <p:nvPr/>
        </p:nvSpPr>
        <p:spPr>
          <a:xfrm>
            <a:off x="5208840" y="4038480"/>
            <a:ext cx="361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What you feel you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1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1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08000"/>
            <a:ext cx="82296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omas Sowell on “</a:t>
            </a:r>
            <a:r>
              <a:rPr b="1" i="1" lang="en-US" sz="3000" spc="-1" strike="noStrike">
                <a:solidFill>
                  <a:srgbClr val="ff0000"/>
                </a:solidFill>
                <a:latin typeface="News Gothic MT"/>
              </a:rPr>
              <a:t>thinking</a:t>
            </a:r>
            <a:r>
              <a:rPr b="1" lang="en-US" sz="3000" spc="-1" strike="noStrike">
                <a:solidFill>
                  <a:srgbClr val="ff0000"/>
                </a:solidFill>
                <a:latin typeface="News Gothic MT"/>
              </a:rPr>
              <a:t>” and “</a:t>
            </a:r>
            <a:r>
              <a:rPr b="1" i="1" lang="en-US" sz="3000" spc="-1" strike="noStrike">
                <a:solidFill>
                  <a:srgbClr val="ff0000"/>
                </a:solidFill>
                <a:latin typeface="News Gothic MT"/>
              </a:rPr>
              <a:t>feeling</a:t>
            </a:r>
            <a:r>
              <a:rPr b="1" lang="en-US" sz="3000" spc="-1" strike="noStrike">
                <a:solidFill>
                  <a:srgbClr val="ff0000"/>
                </a:solidFill>
                <a:latin typeface="News Gothic MT"/>
              </a:rPr>
              <a:t>.”</a:t>
            </a:r>
            <a:endParaRPr b="1" lang="en-US" sz="3000" spc="-1" strike="noStrike">
              <a:solidFill>
                <a:srgbClr val="ff0000"/>
              </a:solidFill>
              <a:latin typeface="News Gothic MT"/>
            </a:endParaRPr>
          </a:p>
        </p:txBody>
      </p:sp>
      <p:sp>
        <p:nvSpPr>
          <p:cNvPr id="614" name=""/>
          <p:cNvSpPr txBox="1"/>
          <p:nvPr/>
        </p:nvSpPr>
        <p:spPr>
          <a:xfrm>
            <a:off x="549000" y="1599840"/>
            <a:ext cx="8042040" cy="4343400"/>
          </a:xfrm>
          <a:prstGeom prst="rect">
            <a:avLst/>
          </a:prstGeom>
          <a:noFill/>
          <a:ln w="0">
            <a:noFill/>
          </a:ln>
        </p:spPr>
        <p:txBody>
          <a:bodyPr anchor="t">
            <a:normAutofit/>
          </a:bodyPr>
          <a:p>
            <a:pPr marL="349200" indent="-349200">
              <a:lnSpc>
                <a:spcPct val="1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t>
            </a:r>
            <a:r>
              <a:rPr b="0" i="1" lang="en-US" sz="2800" spc="-1" strike="noStrike">
                <a:solidFill>
                  <a:srgbClr val="595959"/>
                </a:solidFill>
                <a:latin typeface="News Gothic MT"/>
              </a:rPr>
              <a:t>The problem isn't that Johnny can't read. The problem isn't even that Johnny can't think. The problem is that Johnny doesn't know what thinking is; he confuses it with feeling.” </a:t>
            </a:r>
            <a:br>
              <a:rPr sz="2800"/>
            </a:br>
            <a:r>
              <a:rPr b="0" i="1" lang="en-US" sz="2800" spc="-1" strike="noStrike">
                <a:solidFill>
                  <a:srgbClr val="595959"/>
                </a:solidFill>
                <a:latin typeface="News Gothic MT"/>
              </a:rPr>
              <a:t>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Humans struggle daily with the conflict between their heart and their head.</a:t>
            </a:r>
            <a:endParaRPr b="1" lang="en-US" sz="3200" spc="-1" strike="noStrike">
              <a:solidFill>
                <a:srgbClr val="ff0000"/>
              </a:solidFill>
              <a:latin typeface="News Gothic MT"/>
            </a:endParaRPr>
          </a:p>
        </p:txBody>
      </p:sp>
      <p:sp>
        <p:nvSpPr>
          <p:cNvPr id="616" name=""/>
          <p:cNvSpPr txBox="1"/>
          <p:nvPr/>
        </p:nvSpPr>
        <p:spPr>
          <a:xfrm>
            <a:off x="549000" y="1599840"/>
            <a:ext cx="8042040" cy="4343400"/>
          </a:xfrm>
          <a:prstGeom prst="rect">
            <a:avLst/>
          </a:prstGeom>
          <a:noFill/>
          <a:ln w="0">
            <a:noFill/>
          </a:ln>
        </p:spPr>
        <p:txBody>
          <a:bodyPr anchor="t">
            <a:normAutofit fontScale="97000"/>
          </a:bodyPr>
          <a:p>
            <a:pPr marL="338400" indent="-3384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Your head is the home for your learning or cognition – the acquisition of knowledge.</a:t>
            </a:r>
            <a:endParaRPr b="0" lang="en-US" sz="2800" spc="-1" strike="noStrike">
              <a:solidFill>
                <a:srgbClr val="595959"/>
              </a:solidFill>
              <a:latin typeface="News Gothic MT"/>
            </a:endParaRPr>
          </a:p>
          <a:p>
            <a:pPr marL="338400" indent="-3384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Your heart is the home for your feelings or </a:t>
            </a:r>
            <a:r>
              <a:rPr b="0" i="1" lang="en-US" sz="2800" spc="-1" strike="noStrike">
                <a:solidFill>
                  <a:srgbClr val="595959"/>
                </a:solidFill>
                <a:latin typeface="News Gothic MT"/>
              </a:rPr>
              <a:t>affect</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38400" indent="-3384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Affect</a:t>
            </a:r>
            <a:r>
              <a:rPr b="0" lang="en-US" sz="2800" spc="-1" strike="noStrike">
                <a:solidFill>
                  <a:srgbClr val="595959"/>
                </a:solidFill>
                <a:latin typeface="News Gothic MT"/>
              </a:rPr>
              <a:t> can have two meanings. It may mean to have an effect on; influence; produce a change in.</a:t>
            </a:r>
            <a:endParaRPr b="0" lang="en-US" sz="2800" spc="-1" strike="noStrike">
              <a:solidFill>
                <a:srgbClr val="595959"/>
              </a:solidFill>
              <a:latin typeface="News Gothic MT"/>
            </a:endParaRPr>
          </a:p>
          <a:p>
            <a:pPr marL="338400" indent="-3384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Affect</a:t>
            </a:r>
            <a:r>
              <a:rPr b="0" lang="en-US" sz="2800" spc="-1" strike="noStrike">
                <a:solidFill>
                  <a:srgbClr val="595959"/>
                </a:solidFill>
                <a:latin typeface="News Gothic MT"/>
              </a:rPr>
              <a:t> can also refer to an emotion, feeling, or mood as a factor in behavior.</a:t>
            </a:r>
            <a:endParaRPr b="0" lang="en-US" sz="2800" spc="-1" strike="noStrike">
              <a:solidFill>
                <a:srgbClr val="595959"/>
              </a:solidFill>
              <a:latin typeface="News Gothic MT"/>
            </a:endParaRPr>
          </a:p>
          <a:p>
            <a:pPr marL="338400" indent="-3384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616">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6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e Struggle between the Heart and Head</a:t>
            </a:r>
            <a:endParaRPr b="1" lang="en-US" sz="3000" spc="-1" strike="noStrike">
              <a:solidFill>
                <a:srgbClr val="ff0000"/>
              </a:solidFill>
              <a:latin typeface="News Gothic MT"/>
            </a:endParaRPr>
          </a:p>
        </p:txBody>
      </p:sp>
      <p:pic>
        <p:nvPicPr>
          <p:cNvPr id="618" name="Content Placeholder 3" descr="Head.png"/>
          <p:cNvPicPr/>
          <p:nvPr/>
        </p:nvPicPr>
        <p:blipFill>
          <a:blip r:embed="rId1"/>
          <a:stretch/>
        </p:blipFill>
        <p:spPr>
          <a:xfrm>
            <a:off x="5181480" y="1905120"/>
            <a:ext cx="3200400" cy="3057480"/>
          </a:xfrm>
          <a:prstGeom prst="rect">
            <a:avLst/>
          </a:prstGeom>
          <a:ln w="0">
            <a:noFill/>
          </a:ln>
        </p:spPr>
      </p:pic>
      <p:pic>
        <p:nvPicPr>
          <p:cNvPr id="619" name="Picture 4" descr="Head.png"/>
          <p:cNvPicPr/>
          <p:nvPr/>
        </p:nvPicPr>
        <p:blipFill>
          <a:blip r:embed="rId2"/>
          <a:stretch/>
        </p:blipFill>
        <p:spPr>
          <a:xfrm>
            <a:off x="914400" y="2209680"/>
            <a:ext cx="3581280" cy="2971800"/>
          </a:xfrm>
          <a:prstGeom prst="rect">
            <a:avLst/>
          </a:prstGeom>
          <a:ln w="0">
            <a:noFill/>
          </a:ln>
        </p:spPr>
      </p:pic>
      <p:sp>
        <p:nvSpPr>
          <p:cNvPr id="620" name="TextBox 5"/>
          <p:cNvSpPr/>
          <p:nvPr/>
        </p:nvSpPr>
        <p:spPr>
          <a:xfrm>
            <a:off x="1461240" y="3124080"/>
            <a:ext cx="257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ource of moo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eelings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otions. </a:t>
            </a:r>
            <a:endParaRPr b="0" lang="en-US" sz="2400" spc="-1" strike="noStrike">
              <a:solidFill>
                <a:srgbClr val="000000"/>
              </a:solidFill>
              <a:latin typeface="Arial"/>
            </a:endParaRPr>
          </a:p>
        </p:txBody>
      </p:sp>
      <p:sp>
        <p:nvSpPr>
          <p:cNvPr id="621" name="TextBox 6"/>
          <p:cNvSpPr/>
          <p:nvPr/>
        </p:nvSpPr>
        <p:spPr>
          <a:xfrm>
            <a:off x="5791320" y="2590920"/>
            <a:ext cx="19047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 o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nalit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critical thinking?</a:t>
            </a:r>
            <a:endParaRPr b="1" lang="en-US" sz="3200" spc="-1" strike="noStrike">
              <a:solidFill>
                <a:srgbClr val="ff0000"/>
              </a:solidFill>
              <a:latin typeface="News Gothic MT"/>
            </a:endParaRPr>
          </a:p>
        </p:txBody>
      </p:sp>
      <p:sp>
        <p:nvSpPr>
          <p:cNvPr id="62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Critical Thinking – noun – The objective analysis and evaluation of an issue in order to form a judgment</a:t>
            </a:r>
            <a:r>
              <a:rPr b="0" lang="en-US" sz="2800" spc="-1" strike="noStrike">
                <a:solidFill>
                  <a:srgbClr val="595959"/>
                </a:solidFill>
                <a:latin typeface="News Gothic MT"/>
              </a:rPr>
              <a:t>. The Oxford Dictionar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the process of critical thinking?</a:t>
            </a:r>
            <a:endParaRPr b="1" lang="en-US" sz="3200" spc="-1" strike="noStrike">
              <a:solidFill>
                <a:srgbClr val="ff0000"/>
              </a:solidFill>
              <a:latin typeface="News Gothic MT"/>
            </a:endParaRPr>
          </a:p>
        </p:txBody>
      </p:sp>
      <p:sp>
        <p:nvSpPr>
          <p:cNvPr id="625" name=""/>
          <p:cNvSpPr txBox="1"/>
          <p:nvPr/>
        </p:nvSpPr>
        <p:spPr>
          <a:xfrm>
            <a:off x="549000" y="1295280"/>
            <a:ext cx="8042040" cy="4648320"/>
          </a:xfrm>
          <a:prstGeom prst="rect">
            <a:avLst/>
          </a:prstGeom>
          <a:noFill/>
          <a:ln w="0">
            <a:noFill/>
          </a:ln>
        </p:spPr>
        <p:txBody>
          <a:bodyPr anchor="t">
            <a:normAutofit/>
          </a:bodyPr>
          <a:p>
            <a:pPr marL="349200" indent="-3492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	</a:t>
            </a:r>
            <a:r>
              <a:rPr b="1" i="1" lang="en-US" sz="2400" spc="-1" strike="noStrike">
                <a:solidFill>
                  <a:srgbClr val="595959"/>
                </a:solidFill>
                <a:latin typeface="News Gothic MT"/>
              </a:rPr>
              <a:t>Critical thinking</a:t>
            </a:r>
            <a:r>
              <a:rPr b="0" i="1" lang="en-US" sz="2400" spc="-1" strike="noStrike">
                <a:solidFill>
                  <a:srgbClr val="595959"/>
                </a:solidFill>
                <a:latin typeface="News Gothic MT"/>
              </a:rPr>
              <a:t> means making reasoned judgments that are logical and well-thought out. It is a way of thinking in which you don't simply accept all arguments and conclusions you are exposed to but rather have an attitude involving questioning such arguments and conclusions. It requires wanting to see what evidence is involved to support a particular argument or conclusion. </a:t>
            </a:r>
            <a:r>
              <a:rPr b="0" lang="en-US" sz="2400" spc="-1" strike="noStrike">
                <a:solidFill>
                  <a:srgbClr val="595959"/>
                </a:solidFill>
                <a:latin typeface="News Gothic MT"/>
              </a:rPr>
              <a:t>Tara DeLecc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8-31T13:23:24Z</dcterms:modified>
  <cp:revision>330</cp:revision>
  <dc:subject/>
  <dc:title>Slide 1</dc:title>
</cp:coreProperties>
</file>