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E1D9-F021-4803-9148-A9673E1383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861CE-ABD1-4AC8-9E1C-05AAAF5243A9}"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186" name="PlaceHolder 1"/>
          <p:cNvSpPr>
            <a:spLocks noGrp="1"/>
          </p:cNvSpPr>
          <p:nvPr>
            <p:ph type="sldImg"/>
          </p:nvPr>
        </p:nvSpPr>
        <p:spPr>
          <a:xfrm>
            <a:off x="1144440" y="687240"/>
            <a:ext cx="4569120" cy="3426120"/>
          </a:xfrm>
          <a:prstGeom prst="rect">
            <a:avLst/>
          </a:prstGeom>
          <a:ln w="0">
            <a:noFill/>
          </a:ln>
        </p:spPr>
      </p:sp>
      <p:sp>
        <p:nvSpPr>
          <p:cNvPr id="18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414E-3013-4B35-AEAF-7BFCB7859A74}"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180" name="PlaceHolder 1"/>
          <p:cNvSpPr>
            <a:spLocks noGrp="1"/>
          </p:cNvSpPr>
          <p:nvPr>
            <p:ph type="sldImg"/>
          </p:nvPr>
        </p:nvSpPr>
        <p:spPr>
          <a:xfrm>
            <a:off x="1144440" y="687240"/>
            <a:ext cx="4569120" cy="3426120"/>
          </a:xfrm>
          <a:prstGeom prst="rect">
            <a:avLst/>
          </a:prstGeom>
          <a:ln w="0">
            <a:noFill/>
          </a:ln>
        </p:spPr>
      </p:sp>
      <p:sp>
        <p:nvSpPr>
          <p:cNvPr id="1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1143000"/>
            <a:ext cx="4114800" cy="3086280"/>
          </a:xfrm>
          <a:prstGeom prst="rect">
            <a:avLst/>
          </a:prstGeom>
          <a:ln w="0">
            <a:noFill/>
          </a:ln>
        </p:spPr>
      </p:sp>
      <p:sp>
        <p:nvSpPr>
          <p:cNvPr id="183" name="PlaceHolder 2"/>
          <p:cNvSpPr>
            <a:spLocks noGrp="1"/>
          </p:cNvSpPr>
          <p:nvPr>
            <p:ph type="body"/>
          </p:nvPr>
        </p:nvSpPr>
        <p:spPr>
          <a:xfrm>
            <a:off x="685800" y="4400280"/>
            <a:ext cx="5486400" cy="3600360"/>
          </a:xfrm>
          <a:prstGeom prst="rect">
            <a:avLst/>
          </a:prstGeom>
          <a:noFill/>
          <a:ln w="0">
            <a:noFill/>
          </a:ln>
        </p:spPr>
        <p:txBody>
          <a:bodyPr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that don’t remember what sleep spindles are.</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part of stage 2 sleep and are about 1-2 second bursts of 12-14Hz wave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er and his colleges believe that these sleep spindles are taking information from the hippocampus were are memories are made and transferring them to the prefrontal cortex were they are stored thus allowing the hippocampus to have more room for memories when we wake up</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6C342-4812-449E-8C09-BE7D51173A81}"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92E11-E5B9-4153-9720-79C9040E4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F40E5-C62F-4345-A714-9E74E4A02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E0B46-2242-4260-ADF0-7D774E172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9B2B6-7990-460E-AF13-98B0C8645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9A0848-6862-46D7-9CCD-ADEC84F1D6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F4E2D-FCD0-461D-A654-B8D21DB2E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E774E-A45D-471E-9D97-E6677C551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9A397-3161-48F0-8CCE-E893E9C29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50C12-1478-494E-AE39-55D929330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90185-6E43-4B54-8803-4F54A81C9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BFB8C-46FA-48D2-9DF6-D57D347D8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30AFD-20F9-4116-A8B4-3E8DFA7CE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D33E1-0BB7-4A4C-8220-A6DFE1738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DC4CF-8EB0-458E-8C64-9C7EA91A4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1678A-0F3C-4F04-B110-C153918C3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7D0BD8-53A3-4F70-8859-88073CB193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AF3FAD-B5B2-4FFB-A260-5224CB6274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CA468-4DB7-4180-9819-1977F1F9F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6864D-0E1F-4009-85CF-1C053DC62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B57E5-633F-4BDC-9958-F052934A6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67578-8E59-4FDD-A279-3C7328936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EE43F-4159-4F03-8960-254342A34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99EA5-BDB8-4FB9-B6A7-E5460C825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749C1-8C59-4DAC-A3F7-7B3D965A5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B0133-5C53-4ADD-94C3-3E5DFB6A3D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C6F5-4212-4F03-AF99-A4E466F11E93}"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www.sciencedaily.com/releases/2012/07/120711131030.htm" TargetMode="External"/><Relationship Id="rId2" Type="http://schemas.openxmlformats.org/officeDocument/2006/relationships/hyperlink" Target="https://www.youtube.com/watch?v=0XhcsZKa3jo"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sciousness</a:t>
            </a:r>
            <a:endParaRPr b="0" i="1" lang="en-US" sz="44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4</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 Sleep Cycle</a:t>
            </a:r>
            <a:endParaRPr b="0" i="1" lang="en-US" sz="4400" spc="-1" strike="noStrike">
              <a:solidFill>
                <a:srgbClr val="ffcc66"/>
              </a:solidFill>
              <a:latin typeface="Times New Roman"/>
            </a:endParaRPr>
          </a:p>
        </p:txBody>
      </p:sp>
      <p:pic>
        <p:nvPicPr>
          <p:cNvPr id="117" name="Picture 4" descr=""/>
          <p:cNvPicPr/>
          <p:nvPr/>
        </p:nvPicPr>
        <p:blipFill>
          <a:blip r:embed="rId1"/>
          <a:stretch/>
        </p:blipFill>
        <p:spPr>
          <a:xfrm>
            <a:off x="0" y="1506600"/>
            <a:ext cx="8839080" cy="53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leep Architecture</a:t>
            </a:r>
            <a:endParaRPr b="0" i="1" lang="en-US" sz="4400" spc="-1" strike="noStrike">
              <a:solidFill>
                <a:srgbClr val="ffcc66"/>
              </a:solidFill>
              <a:latin typeface="Times New Roman"/>
            </a:endParaRPr>
          </a:p>
        </p:txBody>
      </p:sp>
      <p:pic>
        <p:nvPicPr>
          <p:cNvPr id="119" name="Picture 4" descr="typical_sleep"/>
          <p:cNvPicPr/>
          <p:nvPr/>
        </p:nvPicPr>
        <p:blipFill>
          <a:blip r:embed="rId1"/>
          <a:stretch/>
        </p:blipFill>
        <p:spPr>
          <a:xfrm>
            <a:off x="609480" y="1676520"/>
            <a:ext cx="6934320" cy="499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0" y="0"/>
            <a:ext cx="9131400" cy="6832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reaming</a:t>
            </a:r>
            <a:endParaRPr b="0" i="1" lang="en-US" sz="4400" spc="-1" strike="noStrike">
              <a:solidFill>
                <a:srgbClr val="ffcc66"/>
              </a:solidFill>
              <a:latin typeface="Times New Roman"/>
            </a:endParaRPr>
          </a:p>
        </p:txBody>
      </p:sp>
      <p:sp>
        <p:nvSpPr>
          <p:cNvPr id="1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dreams occur in REM sleep</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0% of awakenings produce reports</a:t>
            </a:r>
            <a:endParaRPr b="0" lang="en-US" sz="2400" spc="-1" strike="noStrike">
              <a:solidFill>
                <a:srgbClr val="ffffcc"/>
              </a:solidFill>
              <a:latin typeface="Times New Roman"/>
            </a:endParaRPr>
          </a:p>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reaming can occur in NREM sleep</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7% of awakenings produce reports</a:t>
            </a:r>
            <a:endParaRPr b="0" lang="en-US" sz="2400" spc="-1" strike="noStrike">
              <a:solidFill>
                <a:srgbClr val="ffffcc"/>
              </a:solidFill>
              <a:latin typeface="Times New Roman"/>
            </a:endParaRPr>
          </a:p>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REM dreams more elaborate and “hallucinatory”</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ociated with increased activity in some brain areas, esp. amygdala and visual areas.</a:t>
            </a:r>
            <a:endParaRPr b="0" lang="en-US" sz="2400" spc="-1" strike="noStrike">
              <a:solidFill>
                <a:srgbClr val="ffffcc"/>
              </a:solidFill>
              <a:latin typeface="Times New Roman"/>
            </a:endParaRPr>
          </a:p>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REM dreams more mundane and less elaborate </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ociated with general deactivation of many brain areas</a:t>
            </a:r>
            <a:endParaRPr b="0" lang="en-US" sz="2400" spc="-1" strike="noStrike">
              <a:solidFill>
                <a:srgbClr val="ffffcc"/>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22">
                                            <p:txEl>
                                              <p:pRg st="4" end="4"/>
                                            </p:txEl>
                                          </p:spTgt>
                                        </p:tgtEl>
                                        <p:attrNameLst>
                                          <p:attrName>style.visibility</p:attrName>
                                        </p:attrNameLst>
                                      </p:cBhvr>
                                      <p:to>
                                        <p:strVal val="visible"/>
                                      </p:to>
                                    </p:set>
                                  </p:childTnLst>
                                </p:cTn>
                              </p:par>
                              <p:par>
                                <p:cTn id="53" nodeType="withEffect" fill="hold" presetClass="entr" presetID="1" repeatCount="1000">
                                  <p:stCondLst>
                                    <p:cond delay="0"/>
                                  </p:stCondLst>
                                  <p:childTnLst>
                                    <p:set>
                                      <p:cBhvr>
                                        <p:cTn id="54"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22">
                                            <p:txEl>
                                              <p:pRg st="6" end="6"/>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12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y do we dream?</a:t>
            </a:r>
            <a:endParaRPr b="0" i="1" lang="en-US" sz="4400" spc="-1" strike="noStrike">
              <a:solidFill>
                <a:srgbClr val="ffcc66"/>
              </a:solidFill>
              <a:latin typeface="Times New Roman"/>
            </a:endParaRPr>
          </a:p>
        </p:txBody>
      </p:sp>
      <p:sp>
        <p:nvSpPr>
          <p:cNvPr id="12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reud’s view (dreams are based on unconscious conflict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ctivation synthesis theory</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andom neural firing in brainstem.  This can activate mechanisms that normally interpret sensory inpu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ain tries to make sense of this by attaching meaning, creating storie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imbic areas active, frontal lobes inactiv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y do we sleep?</a:t>
            </a:r>
            <a:endParaRPr b="0" i="1" lang="en-US" sz="4400" spc="-1" strike="noStrike">
              <a:solidFill>
                <a:srgbClr val="ffcc66"/>
              </a:solidFill>
              <a:latin typeface="Times New Roman"/>
            </a:endParaRPr>
          </a:p>
        </p:txBody>
      </p:sp>
      <p:sp>
        <p:nvSpPr>
          <p:cNvPr id="126"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ree main reasons:</a:t>
            </a:r>
            <a:endParaRPr b="0" lang="en-US" sz="32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storation</a:t>
            </a:r>
            <a:endParaRPr b="0" lang="en-US" sz="2800" spc="-1" strike="noStrike">
              <a:solidFill>
                <a:srgbClr val="ffffcc"/>
              </a:solidFill>
              <a:latin typeface="Times New Roman"/>
            </a:endParaRPr>
          </a:p>
          <a:p>
            <a:pPr lvl="2" marL="1119960" indent="-2239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leep allows body to rest and repair itself</a:t>
            </a:r>
            <a:endParaRPr b="0" lang="en-US" sz="24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llowing circadian rhythms</a:t>
            </a:r>
            <a:endParaRPr b="0" lang="en-US" sz="2800" spc="-1" strike="noStrike">
              <a:solidFill>
                <a:srgbClr val="ffffcc"/>
              </a:solidFill>
              <a:latin typeface="Times New Roman"/>
            </a:endParaRPr>
          </a:p>
          <a:p>
            <a:pPr lvl="2" marL="1119960" indent="-2239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leep has evolved to keep animals quiet and inactive during periods of greatest danger (the dark)</a:t>
            </a:r>
            <a:endParaRPr b="0" lang="en-US" sz="24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acilitating learning</a:t>
            </a:r>
            <a:endParaRPr b="0" lang="en-US" sz="2800" spc="-1" strike="noStrike">
              <a:solidFill>
                <a:srgbClr val="ffffcc"/>
              </a:solidFill>
              <a:latin typeface="Times New Roman"/>
            </a:endParaRPr>
          </a:p>
          <a:p>
            <a:pPr lvl="2" marL="1119960" indent="-2239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en people sleep after learning, they remember more than those who didn’t.  Especially REM sleep.</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 disturbances</a:t>
            </a:r>
            <a:endParaRPr b="0" i="1" lang="en-US" sz="4400" spc="-1" strike="noStrike">
              <a:solidFill>
                <a:srgbClr val="ffcc66"/>
              </a:solidFill>
              <a:latin typeface="Times New Roman"/>
            </a:endParaRPr>
          </a:p>
        </p:txBody>
      </p:sp>
      <p:sp>
        <p:nvSpPr>
          <p:cNvPr id="12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somnia</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o little sleep</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people underestimate amount of sleep they get and overestimate time it takes them to fall asleep</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blem with medicatio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arious behavioral methods to help</a:t>
            </a:r>
            <a:endParaRPr b="0" lang="en-US" sz="28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 disturbances</a:t>
            </a:r>
            <a:endParaRPr b="0" i="1" lang="en-US" sz="4400" spc="-1" strike="noStrike">
              <a:solidFill>
                <a:srgbClr val="ffcc66"/>
              </a:solidFill>
              <a:latin typeface="Times New Roman"/>
            </a:endParaRPr>
          </a:p>
        </p:txBody>
      </p:sp>
      <p:sp>
        <p:nvSpPr>
          <p:cNvPr id="13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ypersomnia</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o much sleep</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arcolepsy</a:t>
            </a:r>
            <a:endParaRPr b="0" lang="en-US" sz="28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controllable urge to sleep during the day</a:t>
            </a:r>
            <a:endParaRPr b="0" lang="en-US" sz="24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mmediately fall in REM sleep</a:t>
            </a:r>
            <a:endParaRPr b="0" lang="en-US" sz="24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tacks last 5-30 min, usually 10-15</a:t>
            </a:r>
            <a:endParaRPr b="0" lang="en-US" sz="2400" spc="-1" strike="noStrike">
              <a:solidFill>
                <a:srgbClr val="ffffcc"/>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 disturbances</a:t>
            </a:r>
            <a:endParaRPr b="0" i="1" lang="en-US" sz="4400" spc="-1" strike="noStrike">
              <a:solidFill>
                <a:srgbClr val="ffcc66"/>
              </a:solidFill>
              <a:latin typeface="Times New Roman"/>
            </a:endParaRPr>
          </a:p>
        </p:txBody>
      </p:sp>
      <p:sp>
        <p:nvSpPr>
          <p:cNvPr id="13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asomnia (disturbed sleep)</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eep apnea</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eepwalking (during stage 3 and 4)</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ight Terror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M sleep behavior disorder</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1"/>
              </a:rPr>
              <a:t>https://www.sciencedaily.com/releases/2012/07/120711131030.htm</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2"/>
              </a:rPr>
              <a:t>https://www.youtube.com/watch?v=0XhcsZKa3jo</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d section on how to improve your sleep p. 141-142</a:t>
            </a:r>
            <a:endParaRPr b="0" i="1" lang="en-US" sz="4400" spc="-1" strike="noStrike">
              <a:solidFill>
                <a:srgbClr val="ffcc66"/>
              </a:solidFill>
              <a:latin typeface="Times New Roman"/>
            </a:endParaRPr>
          </a:p>
        </p:txBody>
      </p:sp>
      <p:pic>
        <p:nvPicPr>
          <p:cNvPr id="134" name="" descr=""/>
          <p:cNvPicPr/>
          <p:nvPr/>
        </p:nvPicPr>
        <p:blipFill>
          <a:blip r:embed="rId1"/>
          <a:stretch/>
        </p:blipFill>
        <p:spPr>
          <a:xfrm>
            <a:off x="685800" y="20574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is Consciousness?</a:t>
            </a:r>
            <a:endParaRPr b="0" i="1" lang="en-US" sz="4400" spc="-1" strike="noStrike">
              <a:solidFill>
                <a:srgbClr val="ffcc66"/>
              </a:solidFill>
              <a:latin typeface="Times New Roman"/>
            </a:endParaRPr>
          </a:p>
        </p:txBody>
      </p:sp>
      <p:sp>
        <p:nvSpPr>
          <p:cNvPr id="102"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ne’s subjective experience of the world; your sensations, thoughts, and memories, all resulting from brain activit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though we don’t know if everyone experiences “red” or the taste of apple the same way, people do share common patterns of brain activity that can provide insights into their conscious experienc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ypnosis</a:t>
            </a:r>
            <a:endParaRPr b="0" i="1" lang="en-US" sz="44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t well understood, but thought to be a trance-like state in which conscious awareness is separated from other aspects of consciousnes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n you be hypnotized against your will?</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ople differ in their susceptibility to hypnosi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ighly susceptible individuals are open to experience, are very imaginative, can filter out distractions and get very absorbed in activiti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ypnosis</a:t>
            </a:r>
            <a:endParaRPr b="0" i="1" lang="en-US" sz="4400" spc="-1" strike="noStrike">
              <a:solidFill>
                <a:srgbClr val="ffcc66"/>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n hypnosis improve your memor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yb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ut it also increases false memories and makes individuals prone to suggestion</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ypnosis does seem effective in reducing pain in clinical setting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bliminal Messages</a:t>
            </a:r>
            <a:endParaRPr b="0" i="1" lang="en-US" sz="4400" spc="-1" strike="noStrike">
              <a:solidFill>
                <a:srgbClr val="ffcc66"/>
              </a:solidFill>
              <a:latin typeface="Times New Roman"/>
            </a:endParaRPr>
          </a:p>
        </p:txBody>
      </p:sp>
      <p:sp>
        <p:nvSpPr>
          <p:cNvPr id="140"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bliminal perception – when stimuli are processed by senses, but b/c of short duration or subtle forms, don’t reach consciousness.</a:t>
            </a:r>
            <a:endParaRPr b="0" lang="en-US" sz="32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 these work to influence behavior?</a:t>
            </a:r>
            <a:endParaRPr b="0" lang="en-US" sz="32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ery little evidence that they work but may subtly influence bx for a short time in some cas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bliminal Messages</a:t>
            </a:r>
            <a:endParaRPr b="0" i="1" lang="en-US" sz="4400" spc="-1" strike="noStrike">
              <a:solidFill>
                <a:srgbClr val="ffcc66"/>
              </a:solidFill>
              <a:latin typeface="Times New Roman"/>
            </a:endParaRPr>
          </a:p>
        </p:txBody>
      </p:sp>
      <p:sp>
        <p:nvSpPr>
          <p:cNvPr id="142"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reenwald et al., 1992 study</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udents told subliminal tapes would improve confidence or improve memory.  Half the tapes were mislabeled.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ults?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lacebo effect, people reported improved confidence or memory regardless, but improvement was always in what skill they were </a:t>
            </a:r>
            <a:r>
              <a:rPr b="1" lang="en-US" sz="2400" spc="-1" strike="noStrike">
                <a:solidFill>
                  <a:srgbClr val="ffffcc"/>
                </a:solidFill>
                <a:latin typeface="Times New Roman"/>
              </a:rPr>
              <a:t>told</a:t>
            </a:r>
            <a:r>
              <a:rPr b="0" lang="en-US" sz="2400" spc="-1" strike="noStrike">
                <a:solidFill>
                  <a:srgbClr val="ffffcc"/>
                </a:solidFill>
                <a:latin typeface="Times New Roman"/>
              </a:rPr>
              <a:t> the tape was, not necessarily what it actually was.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fore, subliminal messages did not work.</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ditation</a:t>
            </a:r>
            <a:endParaRPr b="0" i="1" lang="en-US" sz="4400" spc="-1" strike="noStrike">
              <a:solidFill>
                <a:srgbClr val="ffcc66"/>
              </a:solidFill>
              <a:latin typeface="Times New Roman"/>
            </a:endParaRPr>
          </a:p>
        </p:txBody>
      </p:sp>
      <p:sp>
        <p:nvSpPr>
          <p:cNvPr id="14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 main type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ncentrative Medita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cus attention on your breathing, on a mental image, or a specific phras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indfulness Medita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et thoughts flow freely; try not to react to them</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 this for at least 20 min</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at are the health benefits of thi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sciousness Altering Drugs</a:t>
            </a:r>
            <a:endParaRPr b="0" i="1" lang="en-US" sz="4400" spc="-1" strike="noStrike">
              <a:solidFill>
                <a:srgbClr val="ffcc66"/>
              </a:solidFill>
              <a:latin typeface="Times New Roman"/>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sychoactive drugs affect feelings, thoughts, perceptions, or behavior</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hysical dependence</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ake drug to avoid consequences of physical withdrawal symptom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sychological dependence</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ake drug b/c crave pleasurable effect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ependence (Addiction) Characterized by:</a:t>
            </a:r>
            <a:endParaRPr b="0" i="1" lang="en-US" sz="4000" spc="-1" strike="noStrike">
              <a:solidFill>
                <a:srgbClr val="ffcc66"/>
              </a:solidFill>
              <a:latin typeface="Times New Roman"/>
            </a:endParaRPr>
          </a:p>
        </p:txBody>
      </p:sp>
      <p:sp>
        <p:nvSpPr>
          <p:cNvPr id="14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rug use that remains compulsive despite its negative consequences.</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e DSM-V criteria for AUD</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yone meeting any 2 of the 11 criteria during the same 12 month period would be diagnosed with AUD.  The severity of AUD is based on the number of criteria met; </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ild 2-3, Moderate 4-5, Severe 6 or more.</a:t>
            </a:r>
            <a:endParaRPr b="0" lang="en-US" sz="3200" spc="-1" strike="noStrike">
              <a:solidFill>
                <a:srgbClr val="ffffcc"/>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riteria for AUD </a:t>
            </a:r>
            <a:br>
              <a:rPr sz="3600"/>
            </a:br>
            <a:r>
              <a:rPr b="0" lang="en-US" sz="3600" spc="-1" strike="noStrike">
                <a:solidFill>
                  <a:srgbClr val="ffcc66"/>
                </a:solidFill>
                <a:latin typeface="Times New Roman"/>
              </a:rPr>
              <a:t>In the Past Year, Have you:</a:t>
            </a:r>
            <a:endParaRPr b="0" i="1" lang="en-US" sz="3600" spc="-1" strike="noStrike">
              <a:solidFill>
                <a:srgbClr val="ffcc66"/>
              </a:solidFill>
              <a:latin typeface="Times New Roman"/>
            </a:endParaRPr>
          </a:p>
        </p:txBody>
      </p:sp>
      <p:sp>
        <p:nvSpPr>
          <p:cNvPr id="150"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Had times when you ended up drinking more, or longer, than you intended?</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More than once wanted to cut down or stop drinking, or tried to, but couldn’t?</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Spent a lot of time drinking? Or being sick or getting over other aftereffects?</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Wanted a drink so badly you couldn’t think of anything else?</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Found that drinking- or being sick from drinking- often interfered with taking care of your home or family? Or caused job troubles? Or school problems?</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Continued to drink even though it was causing trouble with your family or friends?</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Given up or cut back on activities that were important or interesting to you, or gave you pleasure, in order to drink?</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More than once gotten into situations while or after drinking that increased your chances of getting hurt (such as driving, swimming, using machinery, walking in a dangerous area, or having unsafe sex)?</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Continued to drink even though it was making you feel depressed or anxious or adding to another health problem? Or after having had a memory blackout?</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Had to drink much more than you once did to get the effect you want? Or found that your usual number of drinks had much less effect than before?</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Found that when the effects of alcohol were wearing off, you had withdrawal symptoms, such as trouble sleeping, shakiness, restlessness, nausea, sweating, a racing heart, or a seizure? Or sensed things that were not there?</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50">
                                            <p:txEl>
                                              <p:pRg st="4" end="4"/>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150">
                                            <p:txEl>
                                              <p:pRg st="5" end="5"/>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50">
                                            <p:txEl>
                                              <p:pRg st="6" end="6"/>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7" end="7"/>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50">
                                            <p:txEl>
                                              <p:pRg st="8" end="8"/>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150">
                                            <p:txEl>
                                              <p:pRg st="9" end="9"/>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5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pressants</a:t>
            </a:r>
            <a:endParaRPr b="0" i="1" lang="en-US" sz="4400" spc="-1" strike="noStrike">
              <a:solidFill>
                <a:srgbClr val="ffcc66"/>
              </a:solidFill>
              <a:latin typeface="Times New Roman"/>
            </a:endParaRPr>
          </a:p>
        </p:txBody>
      </p:sp>
      <p:sp>
        <p:nvSpPr>
          <p:cNvPr id="15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press CNS activity (reduce firing of neurons)</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lude Barbiturates, Benzodiazepines, Alcohol</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rbiturates (Phenobarbital, Pentobarbital) and more often Benzodiazepines (Valium, Librim, Xanax) are used to reduce anxiety and seizures, and as sleep ai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pressants</a:t>
            </a:r>
            <a:endParaRPr b="0" i="1" lang="en-US" sz="4400" spc="-1" strike="noStrike">
              <a:solidFill>
                <a:srgbClr val="ffcc66"/>
              </a:solidFill>
              <a:latin typeface="Times New Roman"/>
            </a:endParaRPr>
          </a:p>
        </p:txBody>
      </p:sp>
      <p:sp>
        <p:nvSpPr>
          <p:cNvPr id="15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cohol</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low doses, inhibits frontal lobes (involved in reasoning, inhibitions, judgmen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higher doses, inhibits cerebellar functio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still higher doses, inhibits neurons in spinal cord and medulla that control breathing, body temperature and heart rat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apter topics</a:t>
            </a:r>
            <a:endParaRPr b="0" i="1" lang="en-US" sz="4400" spc="-1" strike="noStrike">
              <a:solidFill>
                <a:srgbClr val="ffcc66"/>
              </a:solidFill>
              <a:latin typeface="Times New Roman"/>
            </a:endParaRPr>
          </a:p>
        </p:txBody>
      </p:sp>
      <p:sp>
        <p:nvSpPr>
          <p:cNvPr id="10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is chapter we will talk about sleep and dreaming, and about the effects of various drug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ffects of Alcohol Depend on:</a:t>
            </a:r>
            <a:endParaRPr b="0" i="1" lang="en-US" sz="4400" spc="-1" strike="noStrike">
              <a:solidFill>
                <a:srgbClr val="ffcc66"/>
              </a:solidFill>
              <a:latin typeface="Times New Roman"/>
            </a:endParaRPr>
          </a:p>
        </p:txBody>
      </p:sp>
      <p:sp>
        <p:nvSpPr>
          <p:cNvPr id="15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x differences - females more affected by alcohol, even at same BAC</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peed of drinking</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mount of food in stomach</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ody weight</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lerance</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ther factors (environment, expectations, state of emotional/physical health, other drugs)</a:t>
            </a:r>
            <a:endParaRPr b="0" lang="en-US" sz="2800" spc="-1" strike="noStrike">
              <a:solidFill>
                <a:srgbClr val="ffffcc"/>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156">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6">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lood Alcohol Concentration (BAC)</a:t>
            </a:r>
            <a:endParaRPr b="0" i="1" lang="en-US" sz="4000" spc="-1" strike="noStrike">
              <a:solidFill>
                <a:srgbClr val="ffcc66"/>
              </a:solidFill>
              <a:latin typeface="Times New Roman"/>
            </a:endParaRPr>
          </a:p>
        </p:txBody>
      </p:sp>
      <p:sp>
        <p:nvSpPr>
          <p:cNvPr id="1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mount of alcohol in exhaled air is a reliable index of alcohol in blood.</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g alcohol in blood/100 ml of blood, as %</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C of 0.05 = 0.05 g alcohol per 100 ml blood</a:t>
            </a:r>
            <a:endParaRPr b="0" lang="en-US" sz="3200" spc="-1" strike="noStrike">
              <a:solidFill>
                <a:srgbClr val="ffff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C</a:t>
            </a:r>
            <a:endParaRPr b="0" i="1" lang="en-US" sz="4400" spc="-1" strike="noStrike">
              <a:solidFill>
                <a:srgbClr val="ffcc66"/>
              </a:solidFill>
              <a:latin typeface="Times New Roman"/>
            </a:endParaRPr>
          </a:p>
        </p:txBody>
      </p:sp>
      <p:sp>
        <p:nvSpPr>
          <p:cNvPr id="1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 beer = 1 glass wine = 1 shot = 1 wine cooler</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verage person can metabolize 1 drink per hour</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C only drops .015% per hour once drinking has STOPPED (can’t do anything to speed it up)</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1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havioral Effects at BACs</a:t>
            </a:r>
            <a:endParaRPr b="0" i="1" lang="en-US" sz="4400" spc="-1" strike="noStrike">
              <a:solidFill>
                <a:srgbClr val="ffcc66"/>
              </a:solidFill>
              <a:latin typeface="Times New Roman"/>
            </a:endParaRPr>
          </a:p>
        </p:txBody>
      </p:sp>
      <p:graphicFrame>
        <p:nvGraphicFramePr>
          <p:cNvPr id="162" name=""/>
          <p:cNvGraphicFramePr/>
          <p:nvPr/>
        </p:nvGraphicFramePr>
        <p:xfrm>
          <a:off x="685800" y="1676520"/>
          <a:ext cx="7772400" cy="4937040"/>
        </p:xfrm>
        <a:graphic>
          <a:graphicData uri="http://schemas.openxmlformats.org/drawingml/2006/table">
            <a:tbl>
              <a:tblPr/>
              <a:tblGrid>
                <a:gridCol w="914400"/>
                <a:gridCol w="6858000"/>
              </a:tblGrid>
              <a:tr h="9903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0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eel good, less alert, uninhibited, impaired judgmen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1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ower reaction times, impaired motor function, less caution, poor judgmen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2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ysphoria, nausea, “sloppy drunk”, blackout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2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gering, mental confusion, some vomiting</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3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esthesia, loss of consciousness, “pass ou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4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D 50, coma, death is likely (usually due to respiratory failure, decreased heart rate)</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64" name="Picture 4" descr="BAC"/>
          <p:cNvPicPr/>
          <p:nvPr/>
        </p:nvPicPr>
        <p:blipFill>
          <a:blip r:embed="rId1"/>
          <a:stretch/>
        </p:blipFill>
        <p:spPr>
          <a:xfrm>
            <a:off x="228600" y="228600"/>
            <a:ext cx="8610480" cy="6440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imulants</a:t>
            </a:r>
            <a:endParaRPr b="0" i="1" lang="en-US" sz="4400" spc="-1" strike="noStrike">
              <a:solidFill>
                <a:srgbClr val="ffcc66"/>
              </a:solidFill>
              <a:latin typeface="Times New Roman"/>
            </a:endParaRPr>
          </a:p>
        </p:txBody>
      </p:sp>
      <p:sp>
        <p:nvSpPr>
          <p:cNvPr id="16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xcite CNS; increase neural firing</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rease alertness and self-confidence, decrease hunger</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ffeine reduces total number sleep minutes and increases time to fall asleep</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icotine is also a stimulant</a:t>
            </a:r>
            <a:endParaRPr b="0" lang="en-US" sz="3200" spc="-1" strike="noStrike">
              <a:solidFill>
                <a:srgbClr val="ffffcc"/>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imulants</a:t>
            </a:r>
            <a:endParaRPr b="0" i="1" lang="en-US" sz="4400" spc="-1" strike="noStrike">
              <a:solidFill>
                <a:srgbClr val="ffcc66"/>
              </a:solidFill>
              <a:latin typeface="Times New Roman"/>
            </a:endParaRPr>
          </a:p>
        </p:txBody>
      </p:sp>
      <p:sp>
        <p:nvSpPr>
          <p:cNvPr id="16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mphetamines (“speed” or “uppers”)</a:t>
            </a:r>
            <a:endParaRPr b="0" lang="en-US" sz="32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lerance develops rapidly</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thdrawal includes irritability, fatigue, depression, anxiety, craving for more</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DMA has stimulant properties</a:t>
            </a:r>
            <a:endParaRPr b="0" lang="en-US" sz="2800" spc="-1" strike="noStrike">
              <a:solidFill>
                <a:srgbClr val="ffffcc"/>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imulants</a:t>
            </a:r>
            <a:endParaRPr b="0" i="1" lang="en-US" sz="4400" spc="-1" strike="noStrike">
              <a:solidFill>
                <a:srgbClr val="ffcc66"/>
              </a:solidFill>
              <a:latin typeface="Times New Roman"/>
            </a:endParaRPr>
          </a:p>
        </p:txBody>
      </p:sp>
      <p:sp>
        <p:nvSpPr>
          <p:cNvPr id="17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caine</a:t>
            </a:r>
            <a:endParaRPr b="0" lang="en-US" sz="32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at common product did this used to be in?</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ery addictive, especially “crack”</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thdrawal effects similar to those for amphetamines</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ows dopamine and norepinephrine to act on receptors longer, eventually depleting these chemical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70">
                                            <p:txEl>
                                              <p:pRg st="3" end="3"/>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allucinogens</a:t>
            </a:r>
            <a:endParaRPr b="0" i="1" lang="en-US" sz="4400" spc="-1" strike="noStrike">
              <a:solidFill>
                <a:srgbClr val="ffcc66"/>
              </a:solidFill>
              <a:latin typeface="Times New Roman"/>
            </a:endParaRPr>
          </a:p>
        </p:txBody>
      </p:sp>
      <p:sp>
        <p:nvSpPr>
          <p:cNvPr id="17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ange perceptual experience; mescaline (peyote), psilocybin (shrooms), PCP, LSD</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SD</a:t>
            </a:r>
            <a:endParaRPr b="0" lang="en-US" sz="28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sual and auditory hallucinations; affects time perception</a:t>
            </a:r>
            <a:endParaRPr b="0" lang="en-US" sz="24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dverse reactions include “bad trip” and flashbacks</a:t>
            </a:r>
            <a:endParaRPr b="0" lang="en-US" sz="24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n lead to irrational behavior and panic</a:t>
            </a:r>
            <a:endParaRPr b="0" lang="en-US" sz="24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ought to increase serotonin activity</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72">
                                            <p:txEl>
                                              <p:pRg st="1" end="1"/>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2">
                                            <p:txEl>
                                              <p:pRg st="3" end="3"/>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2">
                                            <p:txEl>
                                              <p:pRg st="4" end="4"/>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annabis</a:t>
            </a:r>
            <a:endParaRPr b="0" i="1" lang="en-US" sz="4400" spc="-1" strike="noStrike">
              <a:solidFill>
                <a:srgbClr val="ffcc66"/>
              </a:solidFill>
              <a:latin typeface="Times New Roman"/>
            </a:endParaRPr>
          </a:p>
        </p:txBody>
      </p:sp>
      <p:sp>
        <p:nvSpPr>
          <p:cNvPr id="17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rijuana </a:t>
            </a:r>
            <a:endParaRPr b="0" lang="en-US" sz="32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C is active ingredient</a:t>
            </a:r>
            <a:endParaRPr b="0" lang="en-US" sz="28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duces “high”, then relaxation; sometimes anxiety/hallucinations with high doses</a:t>
            </a:r>
            <a:endParaRPr b="0" lang="en-US" sz="28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pairs motor coordination, even 24 hrs later</a:t>
            </a:r>
            <a:endParaRPr b="0" lang="en-US" sz="28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cute effects disrupt memory and learning</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74">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74">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a:t>
            </a:r>
            <a:endParaRPr b="0" i="1" lang="en-US" sz="4400" spc="-1" strike="noStrike">
              <a:solidFill>
                <a:srgbClr val="ffcc66"/>
              </a:solidFill>
              <a:latin typeface="Times New Roman"/>
            </a:endParaRPr>
          </a:p>
        </p:txBody>
      </p:sp>
      <p:sp>
        <p:nvSpPr>
          <p:cNvPr id="10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es the brain shut down during sleep?</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are circadian rhythm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w many hours do you sleep a nigh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w many hours would you sleep if you didn’t have to set an alarm?</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 you remember most of your dream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the function of dreaming?</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piates</a:t>
            </a:r>
            <a:endParaRPr b="0" i="1" lang="en-US" sz="4400" spc="-1" strike="noStrike">
              <a:solidFill>
                <a:srgbClr val="ffcc66"/>
              </a:solidFill>
              <a:latin typeface="Times New Roman"/>
            </a:endParaRPr>
          </a:p>
        </p:txBody>
      </p:sp>
      <p:sp>
        <p:nvSpPr>
          <p:cNvPr id="17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pium and derivatives (codeine, morphine)</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in killers, reduce anxiety, clinical uses include cough suppression and antidiarrhea effects</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e 19</a:t>
            </a:r>
            <a:r>
              <a:rPr b="0" lang="en-US" sz="3200" spc="-1" strike="noStrike" baseline="30000">
                <a:solidFill>
                  <a:srgbClr val="ffffcc"/>
                </a:solidFill>
                <a:latin typeface="Times New Roman"/>
              </a:rPr>
              <a:t>th</a:t>
            </a:r>
            <a:r>
              <a:rPr b="0" lang="en-US" sz="3200" spc="-1" strike="noStrike">
                <a:solidFill>
                  <a:srgbClr val="ffffcc"/>
                </a:solidFill>
                <a:latin typeface="Times New Roman"/>
              </a:rPr>
              <a:t> century, opium was put in OTC medicines, usually dissolved in alcoho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piates</a:t>
            </a:r>
            <a:endParaRPr b="0" i="1" lang="en-US" sz="4400" spc="-1" strike="noStrike">
              <a:solidFill>
                <a:srgbClr val="ffcc66"/>
              </a:solidFill>
              <a:latin typeface="Times New Roman"/>
            </a:endParaRPr>
          </a:p>
        </p:txBody>
      </p:sp>
      <p:sp>
        <p:nvSpPr>
          <p:cNvPr id="17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roin</a:t>
            </a:r>
            <a:endParaRPr b="0" lang="en-US" sz="32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duces “rush” (euphoria, well-being, relaxation)</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er forgets troubles, feels no hunger or pain</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lerance and dependence develop rapidly</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thdrawal includes sweating, chills, diarrhea, vomiting, headaches, shak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178">
                                            <p:txEl>
                                              <p:pRg st="3" end="3"/>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a:t>
            </a:r>
            <a:endParaRPr b="0" i="1" lang="en-US" sz="4400" spc="-1" strike="noStrike">
              <a:solidFill>
                <a:srgbClr val="ffcc66"/>
              </a:solidFill>
              <a:latin typeface="Times New Roman"/>
            </a:endParaRPr>
          </a:p>
        </p:txBody>
      </p:sp>
      <p:sp>
        <p:nvSpPr>
          <p:cNvPr id="108" name=""/>
          <p:cNvSpPr txBox="1"/>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n you sleep, your conscious experience of the world is mostly turned off.</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t you still remain somewhat aware of surroundings and brain still processes some information.</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 EEG (electroencephalogram) measures electrical activity of the brain.  What does sleep look like on an EEG?</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ges of Waking &amp; Sleep</a:t>
            </a:r>
            <a:endParaRPr b="0" i="1" lang="en-US"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ert wakefulness (Be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laxed wakefulness (Alph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1 sleep (onset of The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2 sleep (sleep spindles &amp; K complex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3 sleep (some Del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4 sleep (mostly Del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apid Eye Movement sleep (REM), like alert wakefulness there are Beta wav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0" y="0"/>
            <a:ext cx="9131400" cy="6832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13" name="Content Placeholder 5" descr="sleepwaves.gif"/>
          <p:cNvPicPr/>
          <p:nvPr/>
        </p:nvPicPr>
        <p:blipFill>
          <a:blip r:embed="rId1"/>
          <a:srcRect l="-41878" t="0" r="-41878" b="0"/>
          <a:stretch/>
        </p:blipFill>
        <p:spPr>
          <a:xfrm>
            <a:off x="-612720" y="1143000"/>
            <a:ext cx="9766080" cy="459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M Sleep</a:t>
            </a:r>
            <a:endParaRPr b="0" i="1"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fter around 90 min of sleep, enter REM</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haracterized by Beta waves and eyes dart around beneath closed eyelids.</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ome neurons active (esp. in occipital lobe and brain stem).</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st of body’s muscles are paralyzed.</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0% of time if woken in REM report dreaming.</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s cycle repeats about 5 times.</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 night goes on, cycle gets shorter, more time spent in REM sleep.</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1:02:00Z</dcterms:created>
  <dc:creator>Campus Computing</dc:creator>
  <dc:description/>
  <dc:language>en-US</dc:language>
  <cp:lastModifiedBy>Trench, Lynne S.</cp:lastModifiedBy>
  <dcterms:modified xsi:type="dcterms:W3CDTF">2021-03-02T18:50:48Z</dcterms:modified>
  <cp:revision>64</cp:revision>
  <dc:subject/>
  <dc:title>Sensorimotor System</dc:title>
</cp:coreProperties>
</file>