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519E-ED48-4618-BF1A-7170861A2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D851-4085-4DC3-B559-9BCA08024035}"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764D-F806-42C5-A27F-3700F86944C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82BC-24DA-4EF3-A729-DEB7B630D46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F785E-DE8C-4FDD-9EED-B78A99085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2077-3B2A-43A6-B551-5AC93260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87E1D-4771-46C1-B246-5CB5E004E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1AA4E-73F9-4B65-9C91-182964F68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FE390-2A41-4C30-B796-246290498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450D1-BC82-48DC-A6BD-CC4542E7D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67EF3-6DD6-46E7-8D96-2AB5F2E61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B311D-28DB-40E2-826C-7C1E7818A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E2834-38FB-42F8-A51B-DD89A2797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370F1-3190-49F2-8C19-D7A02039D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44CF3-CE93-4EF0-94AE-CD6DEBA13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159F-16CE-40F4-9B6B-0D402688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08FBA-32B0-40B7-AC8F-76ACB378D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009F0-5D05-4F0E-A147-28C53135E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A499C-3DF5-49CF-BE7D-9B907C92D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388E0-C205-4031-B5B4-CF617523A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4C976-982A-4748-B123-ABBE8F3FD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CD3DB-8D9B-4002-960A-EE23078F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5BEB-15CB-48FC-953A-A2C3D4327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7F5A-20F7-4B29-B5AA-5179684DA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3BF21-1F64-476F-A574-D3D856A6B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6C7A-4A43-4B5B-A5D2-9378E2C5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A741-F18D-4ACE-813C-2C50BDFF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AAEA-D00B-4118-A7E2-DAB819EE2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3BA4-BB72-4325-A88A-08EBCA0CB8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4821-54E4-4AFC-B4E7-4795C2891F3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ud’s view (dreams are based on unconscious confli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tivation synthesis theory</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andom neural firing in brainstem.  This can activate mechanisms that normally interpret sensory inpu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tries to make sense of this by attaching meaning, creating stori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mbic areas active, frontal lobes inactiv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 and overestimate time it takes them to fall a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 (during stage 3 and 4)</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eyote), psilocybin (shrooms),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crease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electroencephalogram)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612720" y="11430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3-02T18:50:48Z</dcterms:modified>
  <cp:revision>64</cp:revision>
  <dc:subject/>
  <dc:title>Sensorimotor System</dc:title>
</cp:coreProperties>
</file>