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1810-B1A0-48C0-92AE-B9515538B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C878-370F-49E4-A362-423CF6CD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588E-6717-4C56-9F5A-FD1E6535A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EB1D-216A-442D-A263-D4BF631F2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A088-1FDD-4C47-8C40-28F9561A8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AD04-5537-4827-8538-AF61934D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D0EB-6BCF-43F6-88DD-3D512855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4478-6C91-4D12-8D87-66842A7A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E452-7BD5-41E9-8E58-543556F0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606E-9AE8-4066-A086-2EEA9606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7D64-E1EE-4862-895A-C0918978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9376-7C91-4181-8E88-4B272F01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45FB-6438-4CC2-98EB-4A797C60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5713-1580-4ED0-A6ED-A2CF1C69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6D0D-2115-4EB4-BE53-625BB16E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F6B7-3FCA-4781-8A92-C00322931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77C4-87F5-4C4B-AFA1-E9F781D68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B782-619A-4981-B9A3-7AEFBEAE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68A1-54B5-4E18-9851-82DB94F9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27A4-C192-44D1-8D94-68090722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FA1C-1283-4721-99C6-3EAD148B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4F92-C55F-4760-A7F7-D711499B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98C2-B3D8-4893-B37B-ACFD44EC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9DBD-E74B-42B5-A1F3-1E69F99D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D12D-1DEE-4C91-AE3E-305385E0A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CFD2-5784-4CD5-B350-6A14B5CB15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HZPXVb0W3Hc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fanm--WyQJo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MOgowRy2WC0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eE_Ymzc1rE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LSHWzOXJDSs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Learning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.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re Ter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muli similar to the CS produce the C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ri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iation between two stimuli, especially if one is associated with the US and one is 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-Order Conditioning (also called Higher Order Condition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S is associated with a US now C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ssociated with C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C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sults in a C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chick-fil-A 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ob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ar conditi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itional emotional responses- emotional reactions are often learned through Pavlovian conditio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could phobias be a result of condition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ttle Albert 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s://www.youtube.com/watch?v=HZPXVb0W3H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ob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ing Phob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erconditioning Peter study by Mary Cover J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atic Desensit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a hierarchy of fears, pair each with relax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perant Conditio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ward Thornd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studied animal intellig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zzle Box” experiments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s://www.youtube.com/watch?v=fanm--WyQ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 of Effec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a response is followed by a satisfying event, it will be repea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a response is followed by an annoying event, it will not be repea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ther words, behavior is a function of its consequen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ength of behavior depends on consequences it had in the pa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perant or Instrumental Learnin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havior operates on the environment =&gt; operant learning or operant conditi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havior (bx) is instrumental in producing consequences =&gt; instrumental learning or conditi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is this different from Classical Condition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" descr=""/>
          <p:cNvPicPr/>
          <p:nvPr/>
        </p:nvPicPr>
        <p:blipFill>
          <a:blip r:embed="rId1"/>
          <a:stretch/>
        </p:blipFill>
        <p:spPr>
          <a:xfrm>
            <a:off x="1371600" y="190440"/>
            <a:ext cx="6400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perant Conditio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4" descr="OpCond"/>
          <p:cNvPicPr/>
          <p:nvPr/>
        </p:nvPicPr>
        <p:blipFill>
          <a:blip r:embed="rId1"/>
          <a:stretch/>
        </p:blipFill>
        <p:spPr>
          <a:xfrm>
            <a:off x="685800" y="2057400"/>
            <a:ext cx="769608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1"/>
          <a:stretch/>
        </p:blipFill>
        <p:spPr>
          <a:xfrm>
            <a:off x="1600200" y="560520"/>
            <a:ext cx="624852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inforce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timulus following a response that increases the likelihood that the response will be repe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kinner B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s://www.youtube.com/watch?v=MOgowRy2WC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ping - Reinforcement of successive approximations of a desired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inforce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reinforc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nately reinforcing; satisfy biological needs, e.g. food, water, s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 reinforc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ome reinforcers through their repeated pairings with primary reinforc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ool bell, clicker, whistle, “Good Dog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imple Forms of Lear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bit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ecrease in a behavioral response after repeated exposure to a stimul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 once you have lived by train tracks for awhile, you don’t really pay attention to the sound of the passing train anymo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sit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increase in a behavioral response after repeated exposure to a stimul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 babysitting in a strange house, if you are scared, you react more and more to each house noi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inforcement and Punish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Reinfor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s probability of behavior being repeated by administering a pleasant stimu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child cleans room, mom gives him a h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gative Reinfor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s probability of behavior being repeated by removing an aversive (unpleasant) stimu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aspirin to get rid of annoying head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inforcement and Punish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Punish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s probability of behavior being repeated by administering an aversive (unpleasant) stimu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child stalls, he is scolded by pa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gative Punish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s probability of behavior being repeated by removing a pleasant stimu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pinching her sister, child gets a time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inforcement vs. Punish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457200" y="1981080"/>
          <a:ext cx="8229600" cy="4542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798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s response rate (likely to do again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reases response rate (less likely to do again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thing is added to sit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ve Reinforc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ve Punish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thing is taken away from sit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 reinforc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 Punish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are these examples of?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P, NP, PR, N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take away my son’s video games for the next day if he comes home past curfe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the car, if I don’t put my seatbelt on right away, an annoying dinging sound goes on until I put it on.  At that point the dinging sto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John touches the hot stove, he gets burn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Jenny completes her homework, her Mother lets her have cook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put up an umbrella to keep from getting wet in the ra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Jim swears, his Mom washes his mouth out with soa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my dog comes when I call, I give him a tre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hocky game, after high sticking, a player has to sit in the penalty bo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roblems with Punishment, especially corpora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ca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n’t teach proper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nishment may be rewarding (may do behavior to get atten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lead to fear, anger, aggression, im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chedules of Reinforce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often should a reinforcer be giv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uous reinfor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al reinfor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 schedules of reinfor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xed and Variable Rat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xed and Variable Inter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atio Schedules: </a:t>
            </a:r>
            <a:br>
              <a:rPr sz="40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ocus is on Number of Respons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xed Rat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ertain (consistent) number of responses have to be performed to get reinforc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la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 has to press lever 3 times to get a pellet of food.  This is a F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the factory, whenever John completes 6 widgets, he gets $5 added to his payche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tio Schedules:</a:t>
            </a:r>
            <a:br>
              <a:rPr sz="44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ocus is on number of respons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able Rat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variable number of responses have to be performed to get reinforc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la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 has to press lever anywhere from 1-10 times to get a piece of food, but on average, 5 times.  This is a VR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the casino, the slot machine button has to be pressed some variable number of times before a payout is receiv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val Schedules: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Focus is on time before a response is reinforce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xed 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pecific amount of time has to pass before a response is reinfor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 is only reinforced for bar press after 10 seconds have passed FI10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ing at the clock is only reinforced when class is over (after 60 minutes) FI60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val Schedules: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Focus is on time before a response is reinforce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able 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variable amount of time passes before a response is reinfor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 is only reinforced for a bar press after 1-30 seconds, but on average, after 15, VI15’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tening for “Practice is Over” is reinforced after a variable amount of time.  It might be 60 min; it might be 150 m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assical or Pavlovian Conditio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van Pavlov was a Russian physiologist interested in the salivary refle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ould give dogs various types of food and see how much saliva they produ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realized the dogs were salivating well before they tasted the food, when researcher entered the room or when dog saw the bowl food was 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are these examples of?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R, FI, VR, V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ill works at a clothing store.  Sometimes she has to approach 5 customers before she makes a sale, sometimes she only has to approach one.  Her approach bx is on a …schedu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takes my dishwasher 2 hours to get the dishes clean.  My bx of waiting for clean dishes is on a …schedu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I was young, I had to practice the piano for 30 min, then I could do what I wan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are waiting for your significant other to call you. It might take 30 min or an hou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ery time the realtor sells a house, he/she gets a certain percentage as inco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nny has an old car.  Sometimes she has to turn the key 3 times for it to start, sometimes just o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training my dog, every third time she sits I give her a tre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 vacation, I wait to see a beautiful sunset.  I might see one every night, or I might see none at all.  My bx of watching for a pretty sunset is on a … schedu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bservational Lear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behaviors are acquired or modified following exposure to others performing the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ndura’s observational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id he show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youtube.com/watch?v=ZeE_Ymzc1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(Bobo Doll Experiment Vide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ational learning of f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assical or Pavlovian Conditio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eutral stimulus is associated with a stimulus that reliably causes a response.  With enough pairings, the neutral stimulus will eventually bring about a respon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sic Ter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 – elicits an automatic response without prior training (foo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 – automatic response to US without prior training (saliv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 – originally neutral, after paired with US several times, it elicits a response (metronome or be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 – response to CS after training (salivation to metronome or be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 Things to Remember About C.C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ation of 2 stimuli (CS and US) is independent of behavior of org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onse involved is often a reflex or relatively simple response, e.g. salivating, blinking, startle response, emo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ice Cl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s://www.youtube.com/watch?v=LSHWzOXJD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itioned Emotional Respon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ie soundtrack ex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r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quisi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 learning of a behavior; formation of association between conditioned and unconditioned stimu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i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ditioned stimulus is presented without the unconditioned stimulus – will result in inhibition of respo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ntaneous Reco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extinction, CS again produces CR, after the passage of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0" y="30240"/>
            <a:ext cx="89917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21-10-06T18:05:09Z</dcterms:modified>
  <cp:revision>54</cp:revision>
  <dc:subject/>
  <dc:title>How do organisms adapt to change?</dc:title>
</cp:coreProperties>
</file>