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0A3-4E0D-40D1-A8A5-7C3C38E1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6BF-20D3-45D7-A155-54A81DA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96A-90B8-4F80-B2A2-1E532200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6E2-38DF-4AA6-8FEC-79A7CCB6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001-19A4-4437-AD11-C47E5219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7B88-4DBB-4835-82C9-1C8ED78F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8E3B-FA84-4926-9D85-AF71BE48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9B09-567A-4EC1-9BC0-1374A4BA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AA3C-6BCF-4DA1-A7E2-1850D91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8F7E-9D0E-4647-A51A-42B58A45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48A-DD6D-4EA7-9D1F-B5E9644A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E8B-5D87-4EC0-8AB8-6CB506E3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56AB-406C-4CE7-AEDC-33B3682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5150-11AE-4681-9F4A-D9E95D3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8A4A-B46C-4004-9653-917E2EE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55E-FAF1-40C9-B567-E635832C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68FB-78B1-47A6-BB61-17177772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750-174F-4CCE-96BD-90C340EE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E0A-9E51-45D8-8F97-1C4C245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90C-57F9-4EE8-A214-E8FA2024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F57-B84A-441A-AFB0-DFEDADC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3D2-76B7-4002-805E-D0BCCEE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A6D-549F-433B-B70B-0AE0AD7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B5C-3EF4-4A36-BBC3-4B799F2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762-7B32-454B-B76A-F45CB2250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6F92-0981-4A4E-BF97-A25FDE830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ZPXVb0W3H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anm--WyQJ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OgowRy2WC0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eE_Ymzc1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SHWzOXJDS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arnin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similar to the CS produce the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between two stimuli, especially if one is associated with the US and on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-Order Conditioning (also called Higher Order Conditio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 is associated with a US now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ssociated with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 in a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hick-fil-A 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HZPXVb0W3H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ing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conditioning Peter study by Mary Cover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hierarchy of fears, pair each with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ard 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udied animal intel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zzle Box” experiments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fanm--WyQ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 satisfying event, it will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n annoying event, it will not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 words, behavior is a function of its consequ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ngth of behavior depends on consequences it had in the p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rant or Instrumental Lear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operates on the environment =&gt; operant learning or operant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(bx) is instrumental in producing consequences =&gt; instrumental learning o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different from Classical Conditio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1371600" y="19044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mulus following a response that increases the likelihood that the response will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ner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MOgowRy2WC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- Reinforcement of successive approximations of a desir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ately reinforcing; satisfy biological needs, e.g. food, water,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reinforcers through their repeated pairings with primary reinfor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bell, clicker, whistle, “Good Do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mple Form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once you have lived by train tracks for awhile, you don’t really pay attention to the sound of the passing train anym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babysitting in a strange house, if you are scared, you react more and more to each house no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administer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hild cleans room, mom gives him a h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remov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spirin to get rid of annoying head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administer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ild stalls, he is scolded by 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remov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inching her sister, child gets a time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vs.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response rate (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s response rate (less 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added to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taken away from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P, NP, PR, N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ake away my son’s video games for the next day if he comes home past curfe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car, if I don’t put my seatbelt on right away, an annoying dinging sound goes on until I put it on.  At that point the dinging s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ohn touches the hot stove, he gets bur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enny completes her homework, her Mother lets her have cook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put up an umbrella to keep from getting wet in the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im swears, his Mom washes his mouth out with so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my dog comes when I call, I give him a tr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hocky game, after high sticking, a player has to sit in the penalty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blems with Punishment, especially corpo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teach prop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ment may be rewarding (may do behavior to get att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lead to fear, anger, aggression, im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en should a reinforcer be gi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schedules of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tio Schedules: 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rtain (consistent)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3 times to get a pellet of food.  This is a F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factory, whenever John completes 6 widgets, he gets $5 added to his pay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anywhere from 1-10 times to get a piece of food, but on average, 5 times.  This is a VR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casino, the slot machine button has to be pressed some variable number of times before a payout is rece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cific amount of time has to pas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bar press after 10 seconds have passed FI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at the clock is only reinforced when class is over (after 60 minutes) FI60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amount of time passe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a bar press after 1-30 seconds, but on average, after 15, VI15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ing for “Practice is Over” is reinforced after a variable amount of time.  It might be 60 min; it might be 15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an Pavlov was a Russian physiologist interested in the salivary refle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give dogs various types of food and see how much saliva they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alized the dogs were salivating well before they tasted the food, when researcher entered the room or when dog saw the bowl food wa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, FI, VR, 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ll works at a clothing store.  Sometimes she has to approach 5 customers before she makes a sale, sometimes she only has to approach one.  Her approach bx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takes my dishwasher 2 hours to get the dishes clean.  My bx of waiting for clean dishes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 was young, I had to practice the piano for 30 min, then I could do what I wa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are waiting for your significant other to call you. It might take 30 min or an ho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time the realtor sells a house, he/she gets a certain percentage as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nny has an old car.  Sometimes she has to turn the key 3 times for it to start, sometimes just o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raining my dog, every third time she sits I give her a tr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vacation, I wait to see a beautiful sunset.  I might see one every night, or I might see none at all.  My bx of watching for a pretty sunset is on a … 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al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ehaviors are acquired or modified following exposure to others performing th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ra’s 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he s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ZeE_Ymzc1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Bobo Doll Experiment Vid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learning of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tral stimulus is associated with a stimulus that reliably causes a response.  With enough pairings, the neutral stimulus will eventually bring about a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– elicits an automatic response without prior training (f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 – automatic response to US without prior training (saliv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– originally neutral, after paired with US several times, it elicits a response (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 – response to CS after training (salivation to 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 Things to Remember About C.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involved is often a reflex or relatively simple response, e.g. salivating, blinking, startle response, e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LSHWzOXJ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ed Emotional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soundtrack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earning of a behavior; formation of association between conditioned and unconditioned 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ed stimulus is presented without the unconditioned stimulus – will result in inhibition of resp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extinction, CS again produces CR, after the passage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1-10-06T18:05:09Z</dcterms:modified>
  <cp:revision>54</cp:revision>
  <dc:subject/>
  <dc:title>How do organisms adapt to change?</dc:title>
</cp:coreProperties>
</file>