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79F-9710-49DB-9BE6-34022A33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B2C-BAD4-4CB3-A24A-A55CDE2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D8A-6205-475C-850E-F77813D5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F8C-7E52-404B-A539-A733F4FB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04E0-EE45-471F-9514-6CCCE530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BD98-9F2B-412C-8955-EDCCB004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E96A-D11B-40BF-AFC2-E0700816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6D3B-8F56-43FB-A65A-F8E6D6A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3A55-FDB5-414C-A972-E8965C1E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B174-FE60-42AE-8AFA-377BD6F3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0537-3103-46F7-AA17-0DDB4D2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F8C-40CE-43D7-965F-F01A24ED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13D9-0B89-45B0-BA25-9B1A62D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C243-9510-410F-9A23-707CF05A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DFCC-E4E7-423E-90D2-EC830AD8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C8AA-A9EE-4F8F-8859-F39F1ED5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CABD-4BFA-4A50-A57E-41080647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C5A-A776-436B-8423-893461C1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7BF-F6FE-4C37-AD36-38FAE2CB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F4B-9C7A-479C-AA15-DAF89146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D8F-26BF-42C4-A33F-D34CDD5A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AA7-08B9-4913-BFCD-452CCE40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55E-5C43-4046-B6D0-646B15F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F86-05FB-4017-8659-7DC8308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2A8B-59B7-43FB-9CE9-C8599BA5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EA75-98AF-4267-A6C5-B9CC2F80F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ZPXVb0W3H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anm--WyQJ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OgowRy2WC0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eE_Ymzc1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SHWzOXJDS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arnin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similar to the CS produce the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between two stimuli, especially if one is associated with the US and on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-Order Conditioning (also called Higher Order Conditio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 is associated with a US now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ssociated with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 in a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hick-fil-A 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HZPXVb0W3H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ing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conditioning Peter study by Mary Cover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hierarchy of fears, pair each with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ard 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udied animal intel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zzle Box” experiments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fanm--WyQ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 satisfying event, it will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n annoying event, it will not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 words, behavior is a function of its consequ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ngth of behavior depends on consequences it had in the p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rant or Instrumental Lear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operates on the environment =&gt; operant learning or operant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(bx) is instrumental in producing consequences =&gt; instrumental learning o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different from Classical Conditio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1371600" y="19044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mulus following a response that increases the likelihood that the response will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ner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MOgowRy2WC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- Reinforcement of successive approximations of a desir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ately reinforcing; satisfy biological needs, e.g. food, water,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reinforcers through their repeated pairings with primary reinfor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bell, clicker, whistle, “Good Do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mple Form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once you have lived by train tracks for awhile, you don’t really pay attention to the sound of the passing train anym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rease in a behavioral response after repeated exposure to a stimul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babysitting in a strange house, if you are scared, you react more and more to each house no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administer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hild cleans room, mom gives him a h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remov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spirin to get rid of annoying head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administer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ild stalls, he is scolded by 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remov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inching her sister, child gets a time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vs.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response rate (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s response rate (less 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added to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taken away from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P, NP, PR, N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ake away my son’s video games for the next day if he comes home past curfe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car, if I don’t put my seatbelt on right away, an annoying dinging sound goes on until I put it on.  At that point the dinging s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ohn touches the hot stove, he gets bur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enny completes her homework, her Mother lets her have cook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put up an umbrella to keep from getting wet in the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Jim swears, his Mom washes his mouth out with so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my dog comes when I call, I give him a tr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hocky game, after high sticking, a player has to sit in the penalty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blems with Punishment, especially corpo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teach prop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ment may be rewarding (may do behavior to get att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lead to fear, anger, aggression, im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en should a reinforcer be gi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schedules of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and Variabl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tio Schedules: 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rtain (consistent)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3 times to get a pellet of food.  This is a F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factory, whenever John completes 6 widgets, he gets $5 added to his pay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cus is on number of respons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number of responses have to be performed to get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has to press lever anywhere from 1-10 times to get a piece of food, but on average, 5 times.  This is a VR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casino, the slot machine button has to be pressed some variable number of times before a payout is rece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ecific amount of time has to pas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bar press after 10 seconds have passed FI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ing at the clock is only reinforced when class is over (after 60 minutes) FI60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cus is on time before a response is reinforc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amount of time passes before a response is rei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is only reinforced for a bar press after 1-30 seconds, but on average, after 15, VI15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ing for “Practice is Over” is reinforced after a variable amount of time.  It might be 60 min; it might be 15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an Pavlov was a Russian physiologist interested in the salivary refle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give dogs various types of food and see how much saliva they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alized the dogs were salivating well before they tasted the food, when researcher entered the room or when dog saw the bowl food wa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se examples of?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, FI, VR, 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ll works at a clothing store.  Sometimes she has to approach 5 customers before she makes a sale, sometimes she only has to approach one.  Her approach bx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takes my dishwasher 2 hours to get the dishes clean.  My bx of waiting for clean dishes is on a …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 was young, I had to practice the piano for 30 min, then I could do what I wa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are waiting for your significant other to call you. It might take 30 min or an ho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time the realtor sells a house, he/she gets a certain percentage as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nny has an old car.  Sometimes she has to turn the key 3 times for it to start, sometimes just o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raining my dog, every third time she sits I give her a tr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vacation, I wait to see a beautiful sunset.  I might see one every night, or I might see none at all.  My bx of watching for a pretty sunset is on a … sched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al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ehaviors are acquired or modified following exposure to others performing th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ra’s 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he s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ZeE_Ymzc1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Bobo Doll Experiment Vid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learning of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tral stimulus is associated with a stimulus that reliably causes a response.  With enough pairings, the neutral stimulus will eventually bring about a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– elicits an automatic response without prior training (f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 – automatic response to US without prior training (saliv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– originally neutral, after paired with US several times, it elicits a response (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 – response to CS after training (salivation to 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 Things to Remember About C.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involved is often a reflex or relatively simple response, e.g. salivating, blinking, startle response, e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LSHWzOXJ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ed Emotional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soundtrack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earning of a behavior; formation of association between conditioned and unconditioned 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ed stimulus is presented without the unconditioned stimulus – will result in inhibition of resp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extinction, CS again produces CR, after the passage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1-10-06T18:05:09Z</dcterms:modified>
  <cp:revision>54</cp:revision>
  <dc:subject/>
  <dc:title>How do organisms adapt to change?</dc:title>
</cp:coreProperties>
</file>