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2B3-1907-42EF-B583-AC657DDA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07F-007F-4770-AC22-67FBE447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B47-0987-46A7-A080-ED1458C3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534-A3D3-4F1B-A714-0D3715C2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7EF-FB78-44C3-82AA-03BD3207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A3C64-F265-4855-A697-E5ADBA7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81B91-8954-4615-AC2A-A4922297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940E7-8339-4A5C-BDB6-658D7262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EB3CA-D3C2-4049-8846-B38B1EF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2A5AAF-A595-459C-A836-D5536CAE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DB9-523A-4876-AAC4-33762C67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D0470-26DA-4381-A001-9351AC8F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08735-86D9-49F5-BB4E-CABFD8D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94DAB-C142-402C-A7EF-8412F1F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34359C-772C-4354-988A-70F93566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62C9DC-AC7A-4475-B882-DE1DF4E4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228E6-B47A-4A8E-93D9-BCDC4ECA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14E8C-346F-4222-8144-A0B8AD5E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0678E-AA35-4292-B8D2-6C8BBB44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C2040-790E-4BA6-8EC3-614D7CB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57D9D-3288-43C3-B606-944D87B7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EC7-D4D2-493F-818F-B2F2C029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539DC-0EE7-4345-949E-8210C65A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11677-BCC0-4E1A-AF80-B57F3F8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D37E0-6264-4B68-A303-684010BD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DB06C-086A-4CF2-B863-B3E2794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CA004-493A-41D1-A4C7-C913AB1D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DCE45-DDB7-4B06-9328-BFAFB6CE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BED13-3A06-4EDB-BE38-60686750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D0489-A928-4B2E-822F-A27D1F49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D50D0-1187-4F52-BC85-AA57E8E3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249-C923-4B98-BBEF-A955583F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2FB-E384-4528-960A-039ABF39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13E-F97B-49C5-BCB9-F5B78288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08B-99AD-4748-99A6-0BDB62E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AC9-5935-4D1E-991E-5623D05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8FD6-CC39-40FA-8493-47532D482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2B3-CF19-4472-9DB6-8F8CC93179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B364-CD04-432A-B6BE-CC54EE9437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2444760" y="1697040"/>
            <a:ext cx="4260960" cy="484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4840" y="304560"/>
            <a:ext cx="6377040" cy="35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Postmodernism from the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168" name="Title 1"/>
          <p:cNvSpPr/>
          <p:nvPr/>
        </p:nvSpPr>
        <p:spPr>
          <a:xfrm>
            <a:off x="1374840" y="1219320"/>
            <a:ext cx="6377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rait of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5602320" y="202392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5"/>
          <a:stretch/>
        </p:blipFill>
        <p:spPr>
          <a:xfrm>
            <a:off x="971640" y="2023920"/>
            <a:ext cx="2500200" cy="37292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9"/>
          <p:cNvGrpSpPr/>
          <p:nvPr/>
        </p:nvGrpSpPr>
        <p:grpSpPr>
          <a:xfrm>
            <a:off x="982800" y="5943600"/>
            <a:ext cx="7162560" cy="533520"/>
            <a:chOff x="982800" y="5943600"/>
            <a:chExt cx="7162560" cy="533520"/>
          </a:xfrm>
        </p:grpSpPr>
        <p:grpSp>
          <p:nvGrpSpPr>
            <p:cNvPr id="172" name="Rounded Rectangle 17"/>
            <p:cNvGrpSpPr/>
            <p:nvPr/>
          </p:nvGrpSpPr>
          <p:grpSpPr>
            <a:xfrm>
              <a:off x="1779840" y="5943600"/>
              <a:ext cx="5565600" cy="533520"/>
              <a:chOff x="1779840" y="5943600"/>
              <a:chExt cx="5565600" cy="533520"/>
            </a:xfrm>
          </p:grpSpPr>
          <p:pic>
            <p:nvPicPr>
              <p:cNvPr id="173" name="Rounded Rectangl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779840" y="5943600"/>
                <a:ext cx="5565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1861200" y="5990040"/>
                <a:ext cx="5404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itle 1"/>
            <p:cNvSpPr/>
            <p:nvPr/>
          </p:nvSpPr>
          <p:spPr>
            <a:xfrm>
              <a:off x="982800" y="6041880"/>
              <a:ext cx="71625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spective and interpretation matter m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3:05:21Z</dcterms:modified>
  <cp:revision>534</cp:revision>
  <dc:subject/>
  <dc:title>Presumptive Problem</dc:title>
</cp:coreProperties>
</file>