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C7E-4340-413F-B18D-953E1E77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6B5-C1D2-4E91-A548-B898C9BD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9B4-BEB5-458B-99F0-99F076DB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9D2-DD3C-44B5-8A4B-B08A2339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380-97AB-46B6-A808-5C8D57BF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7E2695-B140-4B18-A61C-3F7FE228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DB6F1F-481A-4190-9945-21731248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929F51-B064-479F-8ACD-35FE5C7D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6CEFB9-2271-47CC-9FE1-058DF736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FE3915-D88E-4F0E-B450-E0EA3049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D07-7E10-48DD-B852-AA462B09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D17B7E-CC56-4C70-8108-7D7BAB48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0D6B5C-6908-400E-AC35-4B7C56D7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31E677-A633-4866-A559-B58AB4AF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0282D5-E8E7-41EC-9F79-A7CF57E7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E6C74E-B72A-4152-8D10-9B285C83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CCF578-4C1A-483A-8DD3-099B9DD1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50A559-697D-43B7-AB16-A91197CA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D1A255-5FC7-47C6-BA46-2D265A04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42E40C-91A3-4BCD-A35B-4FCD1498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1DDD37-1B88-4B72-8522-A9D4CB25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C69-A718-4F94-BC4F-A7AA0678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B7EAA6-82CC-4D92-BE1A-70B81D42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7ED5D-AF17-4D18-8033-386586AC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76B7A8-5785-4543-BB13-3A81F96E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6AAA2-32AA-4E37-8D9A-76E348AA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A81662-ED06-4A7E-A72B-9ED9C2E3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F946F-8759-4A95-B641-40A22C98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FE0AB4-45D6-405F-A04B-4193506E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8001B-A305-405C-889B-77EEB8EA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FF2F27-B3AB-4FAE-A388-D50E2E49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278-EACA-4C66-9AF0-5EA0BBEE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4A8-0DFA-49D1-B763-BDA52A8C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BAB-7841-4CB3-AC5A-0199BB65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281-8C14-4D78-8268-026B15A4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66B-85FC-4097-BBCF-26E15514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40AD-3061-48AE-A14B-5D4DFF3435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944640"/>
            <a:ext cx="9144000" cy="46080"/>
          </a:xfrm>
          <a:prstGeom prst="rect">
            <a:avLst/>
          </a:prstGeom>
          <a:solidFill>
            <a:srgbClr val="b93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E903-8FA2-46B1-8154-7BD42EFA07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8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7F6A-4E21-4722-BBCD-D319FFCAA8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1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2444760" y="1697040"/>
            <a:ext cx="4260960" cy="484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4840" y="304560"/>
            <a:ext cx="6377040" cy="35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U.S. National Security System:</a:t>
            </a:r>
            <a:br>
              <a:rPr sz="2800"/>
            </a:b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Postmodernism from the 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8186760" y="96840"/>
            <a:ext cx="798480" cy="793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152280" y="103320"/>
            <a:ext cx="785880" cy="787320"/>
          </a:xfrm>
          <a:prstGeom prst="rect">
            <a:avLst/>
          </a:prstGeom>
          <a:ln w="0">
            <a:noFill/>
          </a:ln>
        </p:spPr>
      </p:pic>
      <p:sp>
        <p:nvSpPr>
          <p:cNvPr id="168" name="Title 1"/>
          <p:cNvSpPr/>
          <p:nvPr/>
        </p:nvSpPr>
        <p:spPr>
          <a:xfrm>
            <a:off x="1374840" y="1219320"/>
            <a:ext cx="6377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rait of a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4"/>
          <a:stretch/>
        </p:blipFill>
        <p:spPr>
          <a:xfrm>
            <a:off x="5602320" y="2023920"/>
            <a:ext cx="2971800" cy="3733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5"/>
          <a:stretch/>
        </p:blipFill>
        <p:spPr>
          <a:xfrm>
            <a:off x="971640" y="2023920"/>
            <a:ext cx="2500200" cy="372924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9"/>
          <p:cNvGrpSpPr/>
          <p:nvPr/>
        </p:nvGrpSpPr>
        <p:grpSpPr>
          <a:xfrm>
            <a:off x="982800" y="5943600"/>
            <a:ext cx="7162560" cy="533520"/>
            <a:chOff x="982800" y="5943600"/>
            <a:chExt cx="7162560" cy="533520"/>
          </a:xfrm>
        </p:grpSpPr>
        <p:grpSp>
          <p:nvGrpSpPr>
            <p:cNvPr id="172" name="Rounded Rectangle 17"/>
            <p:cNvGrpSpPr/>
            <p:nvPr/>
          </p:nvGrpSpPr>
          <p:grpSpPr>
            <a:xfrm>
              <a:off x="1779840" y="5943600"/>
              <a:ext cx="5565600" cy="533520"/>
              <a:chOff x="1779840" y="5943600"/>
              <a:chExt cx="5565600" cy="533520"/>
            </a:xfrm>
          </p:grpSpPr>
          <p:pic>
            <p:nvPicPr>
              <p:cNvPr id="173" name="Rounded Rectangl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779840" y="5943600"/>
                <a:ext cx="556560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1861200" y="5990040"/>
                <a:ext cx="5404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itle 1"/>
            <p:cNvSpPr/>
            <p:nvPr/>
          </p:nvSpPr>
          <p:spPr>
            <a:xfrm>
              <a:off x="982800" y="6041880"/>
              <a:ext cx="716256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rspective and interpretation matter m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31:44Z</dcterms:created>
  <dc:creator>kyates</dc:creator>
  <dc:description/>
  <dc:language>en-US</dc:language>
  <cp:lastModifiedBy>Ed Rowe</cp:lastModifiedBy>
  <dcterms:modified xsi:type="dcterms:W3CDTF">2018-12-09T03:05:21Z</dcterms:modified>
  <cp:revision>534</cp:revision>
  <dc:subject/>
  <dc:title>Presumptive Problem</dc:title>
</cp:coreProperties>
</file>