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2BF-5226-42FA-A2C7-C0C80F04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8B0-5BA8-4B0F-9337-5B5474EA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556-3B82-494E-B563-37A5A6DD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856-EBD7-4171-B4B3-4DA035CA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9DD1-05B6-4081-8374-B0CA8F95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CD1C9C-82CA-4D3A-BC96-E8EAC109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CC56E4-0CD1-41DB-9958-2E76202C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EEACBA-B4E4-4CD1-BF45-5ECC5A4C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3868AC-F4BC-42C9-A609-1C9237A4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4D3C42-FC9D-41EE-864D-80585F95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47E-AD96-46AC-BEA1-EED879F6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84E3A1-804D-46C8-9914-BCCE400E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75E261-D3D5-4271-B534-F12E2882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77EBFD-337D-4AE1-A49D-F1665189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A518C2-C8F4-4364-9A24-DCE94811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690261-678B-4766-95A8-1D743B54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3FD6FA-8420-4D66-89F7-3AC44CB6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E84E06-8990-42CC-A669-8B85B57D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5E37B9-AC78-4502-A6EA-40576D99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BD690-4CD7-4E6A-B079-BE80BD61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3AED2-8B44-4AAD-871F-836C8A59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6E9-F52D-45C6-B8CF-31EFDBFD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3A9F27-9B27-4627-85CC-D9A59E11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60751B-42AF-43BA-9F89-02A81AE0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F00EC2-69C5-4558-9F92-058DEA8E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C35058-44F9-44FE-8B1C-169FF0D4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07333F-6C2A-4DD6-B7F8-55C59AEF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40E67E-1D2F-4F0E-9597-FAA30E67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EDBAF-F963-4A32-96B0-3394D34F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7941F4-4E36-4D20-802D-3231BD22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132639-F947-4E7A-91E1-2080E913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EFC-285C-4CA8-9229-58C6C598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143-D299-4011-B5FF-C8AFE04B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4BA-F663-40E0-9449-234BF9FD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03D-EF71-4C22-943D-029185D0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43E-470E-4D7F-BBD2-D285CEDE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0D7C-95C6-49E1-99BC-AEADAE3AF1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944640"/>
            <a:ext cx="9144000" cy="46080"/>
          </a:xfrm>
          <a:prstGeom prst="rect">
            <a:avLst/>
          </a:prstGeom>
          <a:solidFill>
            <a:srgbClr val="b93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0EB0-8FE0-437F-8608-7D306DA079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8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1640-B0AC-4938-866E-89236E7BA3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1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2444760" y="1697040"/>
            <a:ext cx="4260960" cy="484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4840" y="304560"/>
            <a:ext cx="6377040" cy="35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U.S. National Security System:</a:t>
            </a:r>
            <a:br>
              <a:rPr sz="2800"/>
            </a:b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Postmodernism from the 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8186760" y="96840"/>
            <a:ext cx="798480" cy="793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152280" y="103320"/>
            <a:ext cx="785880" cy="787320"/>
          </a:xfrm>
          <a:prstGeom prst="rect">
            <a:avLst/>
          </a:prstGeom>
          <a:ln w="0">
            <a:noFill/>
          </a:ln>
        </p:spPr>
      </p:pic>
      <p:sp>
        <p:nvSpPr>
          <p:cNvPr id="168" name="Title 1"/>
          <p:cNvSpPr/>
          <p:nvPr/>
        </p:nvSpPr>
        <p:spPr>
          <a:xfrm>
            <a:off x="1374840" y="1219320"/>
            <a:ext cx="6377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rait of a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4"/>
          <a:stretch/>
        </p:blipFill>
        <p:spPr>
          <a:xfrm>
            <a:off x="5602320" y="2023920"/>
            <a:ext cx="2971800" cy="3733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5"/>
          <a:stretch/>
        </p:blipFill>
        <p:spPr>
          <a:xfrm>
            <a:off x="971640" y="2023920"/>
            <a:ext cx="2500200" cy="372924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9"/>
          <p:cNvGrpSpPr/>
          <p:nvPr/>
        </p:nvGrpSpPr>
        <p:grpSpPr>
          <a:xfrm>
            <a:off x="982800" y="5943600"/>
            <a:ext cx="7162560" cy="533520"/>
            <a:chOff x="982800" y="5943600"/>
            <a:chExt cx="7162560" cy="533520"/>
          </a:xfrm>
        </p:grpSpPr>
        <p:grpSp>
          <p:nvGrpSpPr>
            <p:cNvPr id="172" name="Rounded Rectangle 17"/>
            <p:cNvGrpSpPr/>
            <p:nvPr/>
          </p:nvGrpSpPr>
          <p:grpSpPr>
            <a:xfrm>
              <a:off x="1779840" y="5943600"/>
              <a:ext cx="5565600" cy="533520"/>
              <a:chOff x="1779840" y="5943600"/>
              <a:chExt cx="5565600" cy="533520"/>
            </a:xfrm>
          </p:grpSpPr>
          <p:pic>
            <p:nvPicPr>
              <p:cNvPr id="173" name="Rounded Rectangl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779840" y="5943600"/>
                <a:ext cx="556560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1861200" y="5990040"/>
                <a:ext cx="5404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itle 1"/>
            <p:cNvSpPr/>
            <p:nvPr/>
          </p:nvSpPr>
          <p:spPr>
            <a:xfrm>
              <a:off x="982800" y="6041880"/>
              <a:ext cx="716256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rspective and interpretation matter m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31:44Z</dcterms:created>
  <dc:creator>kyates</dc:creator>
  <dc:description/>
  <dc:language>en-US</dc:language>
  <cp:lastModifiedBy>Ed Rowe</cp:lastModifiedBy>
  <dcterms:modified xsi:type="dcterms:W3CDTF">2018-12-09T03:05:21Z</dcterms:modified>
  <cp:revision>534</cp:revision>
  <dc:subject/>
  <dc:title>Presumptive Problem</dc:title>
</cp:coreProperties>
</file>