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4FC-2B02-4DAB-A7C0-8B7828A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156-3C2B-40EC-A0C6-A89063A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F2A-B90E-4E4A-9094-942AE6C5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A0C-4A34-4C5F-A97B-2FDD3ECE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2DA-2857-455E-BF38-23050DB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D6CA03-FA52-47B0-B7FF-6EC0997B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C1DC7-37A8-4A58-9F66-57C11FD3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EAF63-971E-4E75-BA11-BA62B2A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D7C319-4451-4B9D-94A0-8DB7F02E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E2BD4-EDD4-4ED1-AB5D-DE1F47EB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47F-0813-4F09-9DC7-5D95BE31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4ADB0-F087-41BE-A5DF-5A3AAC79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92A11-03BE-4BF9-824B-5FCB81B0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C5326-5952-46FA-A1D1-B0AAD1B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F83D6-8EB1-41A8-A069-643DED8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53F2D-B96D-4046-A88A-8AE3F062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FE5F8-DA2D-4F34-A3A5-AB730336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2C4C9-ADD8-44C2-8612-60DE5F28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B60C7-2B94-4518-942E-2299CD7A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0044B-DE69-4264-9011-E47BC45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86C07-84CB-43B2-BA57-43840F8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C8D-46DD-4BEE-ABD8-33845FA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3DB53-C126-4ACB-8825-E60A595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D7353-6275-4425-B7D7-DC7BDA3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4251B-4B66-4350-9F60-B59E293F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E9373-ADE2-4FE2-B3EF-ED3BD77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C0660-36FF-4457-9607-AFA82FC4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98C4C-ACDD-4B06-94B2-E5E71349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A7B84-FF23-44A5-90BD-B370D71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BED54-5CA9-4A98-88B5-69031CD5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6C44D-A2A7-4E7D-9BD4-404AE567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09E-804D-49C3-B717-22FDD4BE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739-4355-4446-9910-78CD29D4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6D1-7D2A-4C27-A1AD-329638F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7A6-233B-4D24-93DA-865FD59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C03-5E69-4393-90DE-EB491BB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674F-B089-43A1-B30A-E669123CA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944640"/>
            <a:ext cx="9144000" cy="46080"/>
          </a:xfrm>
          <a:prstGeom prst="rect">
            <a:avLst/>
          </a:prstGeom>
          <a:solidFill>
            <a:srgbClr val="b931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FFD-D3C5-49A6-BA30-55A821F9F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8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F7F-35DE-406D-A739-20F5BA9AD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1"/>
          </p:nvPr>
        </p:nvSpPr>
        <p:spPr>
          <a:xfrm>
            <a:off x="9140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444760" y="1697040"/>
            <a:ext cx="4260960" cy="484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4840" y="304560"/>
            <a:ext cx="6377040" cy="35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U.S. National Security System:</a:t>
            </a:r>
            <a:br>
              <a:rPr sz="2800"/>
            </a:b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stmodernism from the 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186760" y="96840"/>
            <a:ext cx="79848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152280" y="10332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168" name="Title 1"/>
          <p:cNvSpPr/>
          <p:nvPr/>
        </p:nvSpPr>
        <p:spPr>
          <a:xfrm>
            <a:off x="1374840" y="1219320"/>
            <a:ext cx="6377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rait of a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4"/>
          <a:stretch/>
        </p:blipFill>
        <p:spPr>
          <a:xfrm>
            <a:off x="5602320" y="2023920"/>
            <a:ext cx="2971800" cy="373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971640" y="2023920"/>
            <a:ext cx="2500200" cy="37292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9"/>
          <p:cNvGrpSpPr/>
          <p:nvPr/>
        </p:nvGrpSpPr>
        <p:grpSpPr>
          <a:xfrm>
            <a:off x="982800" y="5943600"/>
            <a:ext cx="7162560" cy="533520"/>
            <a:chOff x="982800" y="5943600"/>
            <a:chExt cx="7162560" cy="533520"/>
          </a:xfrm>
        </p:grpSpPr>
        <p:grpSp>
          <p:nvGrpSpPr>
            <p:cNvPr id="172" name="Rounded Rectangle 17"/>
            <p:cNvGrpSpPr/>
            <p:nvPr/>
          </p:nvGrpSpPr>
          <p:grpSpPr>
            <a:xfrm>
              <a:off x="1779840" y="5943600"/>
              <a:ext cx="5565600" cy="533520"/>
              <a:chOff x="1779840" y="5943600"/>
              <a:chExt cx="5565600" cy="533520"/>
            </a:xfrm>
          </p:grpSpPr>
          <p:pic>
            <p:nvPicPr>
              <p:cNvPr id="173" name="Rounded Rectangl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779840" y="5943600"/>
                <a:ext cx="5565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1861200" y="5990040"/>
                <a:ext cx="5404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itle 1"/>
            <p:cNvSpPr/>
            <p:nvPr/>
          </p:nvSpPr>
          <p:spPr>
            <a:xfrm>
              <a:off x="982800" y="6041880"/>
              <a:ext cx="71625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spective and interpretation matter m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31:44Z</dcterms:created>
  <dc:creator>kyates</dc:creator>
  <dc:description/>
  <dc:language>en-US</dc:language>
  <cp:lastModifiedBy>Ed Rowe</cp:lastModifiedBy>
  <dcterms:modified xsi:type="dcterms:W3CDTF">2018-12-09T03:05:21Z</dcterms:modified>
  <cp:revision>534</cp:revision>
  <dc:subject/>
  <dc:title>Presumptive Problem</dc:title>
</cp:coreProperties>
</file>