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F61C-B7A4-4538-A05C-50A3D55BB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C1F4-0CE7-4F26-BAEE-6C4E0F335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24B3-E52D-46D6-9102-B285D7B69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AFEF-212A-4276-9EF8-9492113B8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F78C-23AE-44B6-98BC-F5B7E97DE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DCC421-D83A-4B36-B95E-93B38BBA8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6F8A48-0B81-4A5C-A912-B0F049048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0E5D59-38D4-4365-9CD9-F7451428F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251D83-D82F-4964-88A3-FCC61D825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106340-06EE-4432-82B1-273409240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A850-0735-4123-A275-5CCB2E175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CB08F6-3721-431F-B7EC-CF6FD21AE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5DD3AD-A69D-4603-8616-C862BE57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4501BB-7825-44A3-BB3D-09FAD832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10D45D-6DA6-410E-A68D-9DB8E9FF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9C5A6F-FBF9-4E3E-BECF-78CCA8214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08C168-EE2B-4D03-BA05-AB89FF116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36DED7-7804-407C-8131-C966E6840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DB3980-2F1D-479E-BAAD-440A0071E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224D34-BFA3-44AA-A96C-62A6B8ED0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FC6EF5-93DC-4640-A3B5-34DFDAF8E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4532-4FE6-4BC1-BFF6-93C58E5D6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F9B796-2C96-45BC-9A70-EDE7FE3AE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CFC730-E8D2-427A-98B6-EEAA99D64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3D6036-C9A9-4312-8CAD-CD7683D21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0473B5-6EC5-4952-8959-D54399EE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9C62E2-35E5-41AD-A1A4-81EE6626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42D82A-73DC-47F9-8966-7C8C1163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C847DD-9C27-440C-BEA1-378BD6A6A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19C0AF-EA96-4DA0-9AB0-B196DC3F1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87F199-98C2-4C67-B7D2-762DAD0A4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97E6-3C1F-4E12-BF3E-2E02EC46C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F7DC-76A8-4602-9657-ED9406243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9929-2183-4FF1-BE73-95A5CCC1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7D23-A525-4C07-AE4F-947C5AB6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0F70-5B89-41FA-861C-E84B8ABA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B6CB3-DFDA-4B9F-AFBA-94FBFEBCD0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944640"/>
            <a:ext cx="9144000" cy="46080"/>
          </a:xfrm>
          <a:prstGeom prst="rect">
            <a:avLst/>
          </a:prstGeom>
          <a:solidFill>
            <a:srgbClr val="b931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5"/>
          </p:nvPr>
        </p:nvSpPr>
        <p:spPr>
          <a:xfrm>
            <a:off x="9140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08F25-8CB0-4D30-A390-D7BE06F9B8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dt" idx="8"/>
          </p:nvPr>
        </p:nvSpPr>
        <p:spPr>
          <a:xfrm>
            <a:off x="9140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2C26C-26DD-4345-AF46-3B74979CEE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dt" idx="11"/>
          </p:nvPr>
        </p:nvSpPr>
        <p:spPr>
          <a:xfrm>
            <a:off x="9140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26920" y="161640"/>
            <a:ext cx="746784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50"/>
                </a:solidFill>
                <a:latin typeface="Arial"/>
              </a:rPr>
              <a:t>U.S. National Security System:</a:t>
            </a:r>
            <a:br>
              <a:rPr sz="2800"/>
            </a:br>
            <a:r>
              <a:rPr b="1" lang="en-US" sz="2600" spc="-1" strike="noStrike">
                <a:solidFill>
                  <a:srgbClr val="003050"/>
                </a:solidFill>
                <a:latin typeface="Arial"/>
              </a:rPr>
              <a:t>Weighing Decision Fac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7" descr=""/>
          <p:cNvPicPr/>
          <p:nvPr/>
        </p:nvPicPr>
        <p:blipFill>
          <a:blip r:embed="rId1"/>
          <a:stretch/>
        </p:blipFill>
        <p:spPr>
          <a:xfrm>
            <a:off x="8186760" y="96840"/>
            <a:ext cx="798480" cy="7938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"/>
          <p:cNvPicPr/>
          <p:nvPr/>
        </p:nvPicPr>
        <p:blipFill>
          <a:blip r:embed="rId2"/>
          <a:stretch/>
        </p:blipFill>
        <p:spPr>
          <a:xfrm>
            <a:off x="152280" y="103320"/>
            <a:ext cx="785880" cy="7873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"/>
          <p:cNvPicPr/>
          <p:nvPr/>
        </p:nvPicPr>
        <p:blipFill>
          <a:blip r:embed="rId3"/>
          <a:stretch/>
        </p:blipFill>
        <p:spPr>
          <a:xfrm>
            <a:off x="1676520" y="1225440"/>
            <a:ext cx="5771880" cy="531504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0"/>
          <p:cNvSpPr/>
          <p:nvPr/>
        </p:nvSpPr>
        <p:spPr>
          <a:xfrm>
            <a:off x="2207520" y="464832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5959080" y="464832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2"/>
          <p:cNvSpPr/>
          <p:nvPr/>
        </p:nvSpPr>
        <p:spPr>
          <a:xfrm>
            <a:off x="2206800" y="539280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3"/>
          <p:cNvSpPr/>
          <p:nvPr/>
        </p:nvSpPr>
        <p:spPr>
          <a:xfrm>
            <a:off x="6135840" y="539280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4:31:44Z</dcterms:created>
  <dc:creator>kyates</dc:creator>
  <dc:description/>
  <dc:language>en-US</dc:language>
  <cp:lastModifiedBy>Ed Rowe</cp:lastModifiedBy>
  <dcterms:modified xsi:type="dcterms:W3CDTF">2018-12-09T02:59:50Z</dcterms:modified>
  <cp:revision>534</cp:revision>
  <dc:subject/>
  <dc:title>Presumptive Problem</dc:title>
</cp:coreProperties>
</file>