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544-1EA8-4A11-AF93-BD9BD5E9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2AA-83F3-4481-AC1A-F7A7852D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81C-2F3F-4486-8479-E25C7F41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AAA-0C97-4164-BD9F-CE83486F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025-A5DB-46E0-8164-25AD918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291C44-B143-474B-9681-DABA8689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D6FC4-C9B1-40CA-965C-BD48A6EA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6D2B0-4CC1-4AC4-BC5B-C9A43A3E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1E1CF-7E6D-4A42-B05C-D584205E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4E421-D37F-4551-BE84-3D928D98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968-4253-4A19-86E5-B7D6CBBF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493BE-21D9-4120-982C-3A2FC937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47D3D-8184-4738-B5D7-108ABA5B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7430C-AA0F-4D96-A36C-4FFDAAA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EC569-1978-4DD3-9D05-48BEB6F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6BE8EE-319A-48F7-AA8D-B2828B8C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6F6AE-5D64-42F0-8FCE-1F812BE8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E495D-82F4-4245-BCFE-636E0907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B620A-BFF1-4B44-BB5E-52BF5C92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F92B9-1603-4CD0-BE90-CE7AF255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42D81-A968-478F-831E-22EDCF73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81D-F4D4-4B29-8223-17D3C9A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D445D-AB14-46C5-9052-43BA3DA3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57B50-9984-4B4C-8DA2-F5ED4704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F2927-9FA9-474D-91C0-A16A49C0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E5976-7353-41E2-B402-719D7FA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4A1D4-D234-4A90-A761-7F5B6BA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86FF6-C244-444D-89EE-B4F1B345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04CB2-B9CD-48D1-A52A-68146DDE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8E42A-9175-4533-99DD-F6623A62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5AC8C-A688-48CA-87BA-666FF682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304-0FED-4B85-8386-4A5E5AA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1BB-4112-4D50-A752-E93585EF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C81-4CF9-4EAE-81C5-0E367967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E44-10A3-487E-96D4-EDBCB6C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E79-6837-48F6-A018-F9CD2D49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3996-6C23-4C5D-91B4-2CB6B7486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AF1C-E8F0-45A9-B99C-0D1BAD3D1C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EAE-77B5-4D40-9DE2-E6665A2648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61640"/>
            <a:ext cx="74678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5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3050"/>
                </a:solidFill>
                <a:latin typeface="Arial"/>
              </a:rPr>
              <a:t>Weighing Decision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676520" y="1225440"/>
            <a:ext cx="5771880" cy="5315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207520" y="46483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5959080" y="46483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206800" y="53928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6135840" y="5392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2:59:50Z</dcterms:modified>
  <cp:revision>534</cp:revision>
  <dc:subject/>
  <dc:title>Presumptive Problem</dc:title>
</cp:coreProperties>
</file>