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11.jpeg" ContentType="image/jpeg"/>
  <Override PartName="/ppt/media/image23.wmf" ContentType="image/x-wmf"/>
  <Override PartName="/ppt/media/image8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7.jpeg" ContentType="image/jpeg"/>
  <Override PartName="/ppt/media/image1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wmf" ContentType="image/x-wmf"/>
  <Override PartName="/ppt/media/image16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70F6-494F-4263-BB3C-D19D37C9C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DCB0-E9F6-4E11-B634-7CDCCBBA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2778-FD1A-471B-8647-C4A979543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7D65-C463-4830-BDF1-F844BC234A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4E39-7EFA-425B-8646-BDC799732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23FF-5E8C-4D1B-B87E-D00FA8988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2963F-F8FE-4D86-81D1-818AF1BF8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8CC6F-F091-4057-84CE-96DC3483A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F566-C464-45C6-B195-E0FF05F6C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84F1C-C1AC-428B-8B55-89617A507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EA8F-6D47-49BE-9532-AEDAA7B5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09F6-B203-4B0D-B5D9-3C3C51CB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C2F8B-1474-4A91-8BCE-CCA45EAF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2F34B-2820-4002-8FAD-393569F07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ED2B0-811D-4AF9-8A0A-F452B4702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2B0CF-A4D9-4B7C-9D8C-BC1929E1D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951A4-9D46-4CD0-8A8B-EC9399655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EDBAE-D853-42A2-948F-1A9E1EC7E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C7BC0-87E4-4BD5-90BC-0B048F6D9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3D028-147D-42E7-B936-D988D62B7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C6606-E6A6-4EB6-ABBF-D5F95000F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38AE46-40F2-4522-91E2-A8DAB98AB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6022-0BC5-417F-8E43-40EA82C07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D4C6F-9AA0-4AC2-B3DE-A7A217B21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A6691-7828-43AB-8C46-0AF4B54D1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2E527-BA1D-4914-8997-B8713DC61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90C76-7063-4C77-9412-748C089C5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F483E-808D-4CD8-8D10-DCFD35654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2BBA5-7BC0-4B3F-BCD4-B5655FFCC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AC636-E1C8-4A70-9553-F54032572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4B1C8-D8C7-47D1-9E06-DBFDFCD28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0DC73-4CFC-4E2F-8AB3-1E7505A37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C19FC-07C0-4F5C-B0B0-F7F7445DC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D8FF-14EC-433F-9211-2AAA925B2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752E0-3E06-4879-A8CC-9A5F9B28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762C1F-2612-4BDD-A9E4-24E8B9697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008EE-48D6-4094-AE09-46E11C95F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234A8-75C7-4CE9-A957-817D7408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38BCB4-0B10-4D6D-8192-2F542CEC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E70C1-F339-40B7-9661-8A418E2A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47CBFC-B4A7-4CD0-9081-E926690ED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945E9-2B16-474A-B865-B061CADA7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8B3BC-5157-484F-8596-5F457C97C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A6FF2-ACF9-40A4-BE0B-F466DF609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9D3F-F5A5-48E3-8A50-7429FCE1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38FE9-4195-4617-A508-E7223CEE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DEF31-E7C4-47C4-BF53-3FE1027E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83C13-474A-4763-8AA9-F5A4C6EF1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51497-D9D1-40C1-B47D-0711F305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C7304-DB47-4BD2-88DB-739E4E4F5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C76BF3-7271-4E16-B75B-E7F8F835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41537-D93B-463B-8DBA-26216F401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C222C-89C0-49A0-86FA-1EF4C9F2A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16378-729B-48EC-B957-468D14B7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B30C03-4CC7-4B5F-B8CA-43E1814DA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7E34-1676-48F9-835E-A086DA80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9BE07-0117-4139-8500-02454CB2E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FA139-C4A7-4DC5-AD75-10F45314B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B28BAF-7196-47C4-BE0B-3B0B8167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210233-8A0D-4580-88F7-ECB2BE691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A44B0B-FF19-4367-B2D0-A2A7E32D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3BDB1-202E-4330-A854-F426F898D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5D43F-2732-4572-96C1-0706F01F2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A488E-35EF-4DE7-B1FE-56F5BBA0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07EA6E-691F-4C7F-B7F6-F7BBF1302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25D52-8583-469B-B679-D83CDE2A5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5F08-20A6-4410-A1D0-9CCDD7E6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66FBD7-766B-46C9-80C9-701194BD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502D6A-4B04-4ACE-B74F-E7F3D1453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9628E2-9ED3-43AE-8EE3-41765AF42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530AF-BA4A-47DD-ADC1-648586CE6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FB1FE8-39B1-44B8-AD6C-8FD0F12B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6D59C6-8F88-42DC-B1F6-759F47531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6B57C7-EB21-4FFA-8D3D-A046EAA8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FDB82F-91BF-4456-A0E7-F5EC21F1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3CF44-208A-4905-BD13-1BCF9169D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C4C1FE-F9DB-4EDA-B8D9-E31EDF5D5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FD5A5-7E74-4F26-B465-D0988FB6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AF283-4108-4799-9754-E437CBFC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1A7F4-D3CD-45B0-9B97-60F67499F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1363E4-1036-48FE-9187-38AA78762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F979BD-BEC7-4686-85BA-586D42B64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B043C-E6DA-4079-9E85-8286CE3B6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DA9D-3122-4FC3-A7AC-12D32FDE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06481-985D-4D38-8152-9F5B0A7112ED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F67A-8986-4E50-A24C-93EF5ED6C12C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B7E8-9095-49FA-9912-00A160861CBC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B7A1-038A-46C8-8D63-97816B14D211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F386B-CFDE-4954-BE3E-DE499C36B49C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235C4-EA42-488B-919B-02C58C73CFE4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2FC7-527B-42B7-BBE5-9757D08E92F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s://www.youtube.com/watch?v=2XsaK3pWyII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s://www.youtube.com/watch?v=RqGDGrLoa8s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9040" y="914400"/>
            <a:ext cx="3882960" cy="41148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3241080"/>
            <a:ext cx="807732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Picture 4" descr="C:\Documents and Settings\aspencer\Local Settings\Temporary Internet Files\Content.IE5\PPSHIWYG\MP900426612[1].jpg"/>
          <p:cNvPicPr/>
          <p:nvPr/>
        </p:nvPicPr>
        <p:blipFill>
          <a:blip r:embed="rId2"/>
          <a:stretch/>
        </p:blipFill>
        <p:spPr>
          <a:xfrm>
            <a:off x="4583160" y="0"/>
            <a:ext cx="456084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TextBox 2"/>
          <p:cNvSpPr/>
          <p:nvPr/>
        </p:nvSpPr>
        <p:spPr>
          <a:xfrm>
            <a:off x="685800" y="60958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68bba"/>
                </a:solidFill>
                <a:uFillTx/>
                <a:latin typeface="Arial"/>
                <a:hlinkClick r:id="rId3"/>
              </a:rPr>
              <a:t>Special Education Teacher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774800"/>
            <a:ext cx="403848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the maximum extent appropriate students with disabilities are educated with students without disabilities, and special class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Picture 4" descr="C:\Documents and Settings\aspencer\Local Settings\Temporary Internet Files\Content.IE5\XKMHQ9CZ\MC900310846[1].wmf"/>
          <p:cNvPicPr/>
          <p:nvPr/>
        </p:nvPicPr>
        <p:blipFill>
          <a:blip r:embed="rId2"/>
          <a:stretch/>
        </p:blipFill>
        <p:spPr>
          <a:xfrm>
            <a:off x="4572000" y="1676520"/>
            <a:ext cx="518148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" descr=""/>
          <p:cNvPicPr/>
          <p:nvPr/>
        </p:nvPicPr>
        <p:blipFill>
          <a:blip r:embed="rId1"/>
          <a:stretch/>
        </p:blipFill>
        <p:spPr>
          <a:xfrm>
            <a:off x="5334120" y="22320"/>
            <a:ext cx="3782880" cy="3666960"/>
          </a:xfrm>
          <a:prstGeom prst="rect">
            <a:avLst/>
          </a:prstGeom>
          <a:ln w="0">
            <a:noFill/>
          </a:ln>
        </p:spPr>
      </p:pic>
      <p:pic>
        <p:nvPicPr>
          <p:cNvPr id="333" name="Title 1" descr=""/>
          <p:cNvPicPr/>
          <p:nvPr/>
        </p:nvPicPr>
        <p:blipFill>
          <a:blip r:embed="rId2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r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eneral Education Teac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cial Education Teac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resentative from District (administrato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st Interpreter (psychometris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ther Professions of related services (OT, PT, SLP, nutritionist, consultan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cial Education Form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stering The Maz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Picture 3" descr="C:\Documents and Settings\aspencer\Local Settings\Temporary Internet Files\Content.IE5\P6J8AG6K\MC900099486[1].wmf"/>
          <p:cNvPicPr/>
          <p:nvPr/>
        </p:nvPicPr>
        <p:blipFill>
          <a:blip r:embed="rId2"/>
          <a:stretch/>
        </p:blipFill>
        <p:spPr>
          <a:xfrm>
            <a:off x="914400" y="2819520"/>
            <a:ext cx="7010280" cy="3622680"/>
          </a:xfrm>
          <a:prstGeom prst="rect">
            <a:avLst/>
          </a:prstGeom>
          <a:ln w="0">
            <a:noFill/>
          </a:ln>
        </p:spPr>
      </p:pic>
      <p:sp>
        <p:nvSpPr>
          <p:cNvPr id="338" name="TextBox 2"/>
          <p:cNvSpPr/>
          <p:nvPr/>
        </p:nvSpPr>
        <p:spPr>
          <a:xfrm>
            <a:off x="609480" y="6553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1523520"/>
            <a:ext cx="5867280" cy="4876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ters the academic setting or environ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lows child to mor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curately show wha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e/she know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vels the playing field, not giving child advantag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: Books on tape, Oral Tests, Calculators, More Time on Tests, Dict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Picture 1" descr=""/>
          <p:cNvPicPr/>
          <p:nvPr/>
        </p:nvPicPr>
        <p:blipFill>
          <a:blip r:embed="rId2"/>
          <a:stretch/>
        </p:blipFill>
        <p:spPr>
          <a:xfrm>
            <a:off x="5943600" y="2890800"/>
            <a:ext cx="32004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456840" y="1774800"/>
            <a:ext cx="61722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ters the work, making i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ifferent from the wor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f other childre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th IDEA, is done b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oosing Extended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andards, written by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at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oosing AAA (Alabama Alternative Assessmen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Picture 1" descr=""/>
          <p:cNvPicPr/>
          <p:nvPr/>
        </p:nvPicPr>
        <p:blipFill>
          <a:blip r:embed="rId2"/>
          <a:stretch/>
        </p:blipFill>
        <p:spPr>
          <a:xfrm>
            <a:off x="5486400" y="2438280"/>
            <a:ext cx="3800520" cy="4181760"/>
          </a:xfrm>
          <a:prstGeom prst="rect">
            <a:avLst/>
          </a:prstGeom>
          <a:ln w="0">
            <a:noFill/>
          </a:ln>
        </p:spPr>
      </p:pic>
      <p:sp>
        <p:nvSpPr>
          <p:cNvPr id="345" name="TextBox 1"/>
          <p:cNvSpPr/>
          <p:nvPr/>
        </p:nvSpPr>
        <p:spPr>
          <a:xfrm>
            <a:off x="466560" y="6219720"/>
            <a:ext cx="47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bama Extended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erindividual Differ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raindividual Differ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ssess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412128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3962520" cy="12492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-360" y="1774800"/>
            <a:ext cx="43434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pecifically Designed instruction, at no cost to parents, to meet the unique needs of a student with a disability, including instruction conducted in the classroom, in the home, in hospitals, and institutions, and in other settings.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2" name="Picture 5" descr="C:\Documents and Settings\aspencer\Local Settings\Temporary Internet Files\Content.IE5\P6J8AG6K\MP900432711[1].jpg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"/>
          <p:cNvPicPr/>
          <p:nvPr/>
        </p:nvPicPr>
        <p:blipFill>
          <a:blip r:embed="rId1"/>
          <a:stretch/>
        </p:blipFill>
        <p:spPr>
          <a:xfrm>
            <a:off x="2971800" y="457200"/>
            <a:ext cx="5754600" cy="629928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School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Placement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re-referra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sponse to Intervention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fera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Instructional Planning and Place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7" name="Content Placeholder 3" descr=""/>
          <p:cNvPicPr/>
          <p:nvPr/>
        </p:nvPicPr>
        <p:blipFill>
          <a:blip r:embed="rId2"/>
          <a:stretch/>
        </p:blipFill>
        <p:spPr>
          <a:xfrm>
            <a:off x="-152280" y="3048120"/>
            <a:ext cx="4532040" cy="32004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"/>
          <p:cNvPicPr/>
          <p:nvPr/>
        </p:nvPicPr>
        <p:blipFill>
          <a:blip r:embed="rId3"/>
          <a:stretch/>
        </p:blipFill>
        <p:spPr>
          <a:xfrm>
            <a:off x="4302000" y="3048120"/>
            <a:ext cx="4876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0" y="1774800"/>
            <a:ext cx="8686800" cy="5083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893880" y="1676520"/>
            <a:ext cx="689904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nual Guide to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livery of customized services and instru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llaboration between parents and profession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EP must be developed within 30 days of evaluatio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IEP satire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6840" y="1774800"/>
            <a:ext cx="62485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udent’s present level of academic achieve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asurable Annual go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ort Student Progre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ist Services Need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commoda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ransition for 16 or old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5" descr="C:\Documents and Settings\aspencer\Local Settings\Temporary Internet Files\Content.IE5\XKMHQ9CZ\MP900049992[1].jpg"/>
          <p:cNvPicPr/>
          <p:nvPr/>
        </p:nvPicPr>
        <p:blipFill>
          <a:blip r:embed="rId2"/>
          <a:stretch/>
        </p:blipFill>
        <p:spPr>
          <a:xfrm>
            <a:off x="6172200" y="1447920"/>
            <a:ext cx="2971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udent (the who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ll do what (the behavio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what level (the criterion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nder what conditions (the condition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 what length of time (the time frame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y the end of the school year, Jessica will be able to complete 20 long-division problems in 10 minutes with 90% accurac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22:28:30Z</dcterms:created>
  <dc:creator>aspencer</dc:creator>
  <dc:description/>
  <dc:language>en-US</dc:language>
  <cp:lastModifiedBy>Spencer, Amelia G.</cp:lastModifiedBy>
  <dcterms:modified xsi:type="dcterms:W3CDTF">2021-02-23T14:56:27Z</dcterms:modified>
  <cp:revision>37</cp:revision>
  <dc:subject/>
  <dc:title>Special Education Process &amp; IEP</dc:title>
</cp:coreProperties>
</file>