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wmf" ContentType="image/x-wmf"/>
  <Override PartName="/ppt/media/image16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DF0-FB74-474C-9AF2-654E91D3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A8C-C059-455E-BA0E-672C5D09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1D4-8A97-4A0D-88F0-213985CF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699-E3C4-4CAD-9BB1-02A95508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6C4D-2B04-4C63-9926-35766820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2210-5EAF-42C0-8A22-1B1291D6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9CAB-AE5C-4346-9A27-85CF025E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84D5-F9EA-4A0C-9F3A-8C5FA37E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F0C0-6A79-4597-BD4D-F5638284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AA0B-AFC9-4037-BE6B-C210042A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A4D1-52F3-43E0-9D8A-59BA97B8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FC4-4923-491C-A168-FC9410DC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AE75-DE95-4477-B952-83A3FD58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18EF-B414-4FA6-B776-B764A0C5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3B22-6E03-451E-A55E-6B13E134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45C8-7308-46D7-AADA-E8CC0841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4055-F87C-4693-8927-3CB3451C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AEBD-577C-4FF2-B7DE-F195EA30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5DFA-0329-46D8-832C-9AFD17DC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FF35-1D8A-4511-B68F-A87085F1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6AEB6-2824-4800-A5B0-3DB07517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207A-567F-4991-BBA5-3A43D3C9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36C-A008-48A8-8616-113BAEEF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A9A5-B390-4E68-8931-316322D6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8754-A260-4D3F-9E13-50F9FD8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98161-8B37-4B21-A1AE-3867389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C497-4DD5-4EAC-B4C3-632E073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AF8C-28AB-4083-A6EB-7AE64D63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B160-6C1D-4543-956D-7088A9DD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10DF-CA99-4627-B8C8-E6D70FDC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4B99-6992-485A-B821-6F3E95E1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38DC3-7C9C-4AFD-B219-B0168D0D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E5EB5-2545-403D-B279-9F5D2AE7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7E7-B2D0-4B25-A984-BB8E875B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C21F-B57F-4743-81AD-F964FDEA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8783F-E748-4BC2-882D-8D76E9BB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B5E9C-3150-465D-8F2A-CD1ABDC0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85DA-DE7F-481E-8E7E-4EAC00A5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E4AE9-A3DD-4595-8976-603F9A34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DAB8-4A37-4B30-AC10-FA851728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8B496-5970-4170-95DC-071F28B4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0D17-7306-4C34-9267-3DBB0CB5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30973-CDC0-4BC9-B366-5C721D47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7FA1A-5BB4-4DB3-8CC0-CE6C629B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1F5-EDFB-432D-B954-DF43EF5A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929E2-40D1-4E1D-A0C1-CE520A38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C33E-DE25-463F-AC59-28C34926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89DC3-BEBB-4FA1-A055-B12754BC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6242-2380-4E64-8AAA-E54B0679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833D9-DB6C-4095-A7AC-5BF1F749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4FA0F-70DC-4300-8F12-6018CBD0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E8339-BDAD-4E01-AB37-38A67F88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CB4ED-0948-435A-8A91-FFD4924A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66659-BA4C-4D13-8D7B-8BA6F8E8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C6E0-BA27-44B9-93CE-85E8C39E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9B7-A324-4965-A9E9-053C2A19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B833D-590A-485B-BFB4-1B17A6F8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8021C-92D5-4A46-8DD6-9A005C29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BC8CF-3119-4945-B663-EBE45727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FE6E0-9861-40F6-AFA7-EEE849CF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8FFD9-4C76-4CE0-9286-AA93C698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71B39-7125-441D-BACE-881A3A26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15FE6-D9C2-457E-8E6F-E7D97907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5C9AA-886C-4DED-B081-C7B6EE63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AC43D-1BB2-4D82-ACD2-3432E108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5EA14-7BFB-4857-8DFF-91BAB77D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F2A-96A3-47D6-A3F7-E006C80B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C8266-5EB5-4DB3-B5A1-26E81859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AC1D3-FFFA-40A6-BCDD-BD0B2751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88AD-630E-462E-B629-6DEB06C0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E8F93-FC95-4422-9461-17FB2101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41B6D-6723-4AFC-B981-C51DCE6B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358D3-748B-48A9-B5C7-8F32DA02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96FB5-36A3-447A-99D3-878B3E9F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C4B75-2F0C-45B7-91A8-C5003F2B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FAEFA-8600-4F43-86A3-B1C6B3A7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160A3-1684-46F6-BBBA-57CF862A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0B6-6996-42EF-8D42-BF5E7CC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B8A5A-7D08-45FA-AD80-1D5C911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3FA8A-F020-49A1-87F0-9516EF3C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0BBDA-F7C1-45A7-A73D-EC40079F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76544-83CF-49A3-AE74-9EC4B513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2F70C-0920-4F32-9D8B-B2AC87EB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6E4-B212-4B66-A3D9-053EEAE0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53DF-E9D0-4BC5-B7FF-C4628D57DB1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E20A-8380-4C0C-8324-FEB2330488F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D1C8-8ADD-49E8-95E0-D7502E160A2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4EEB-AF1D-4150-BB82-17FC3E13D60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8D97-BF98-42D4-82E6-87397592B3C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0992-389E-476E-A995-65A735C35EA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B783-3E1C-4285-91A0-7F09A4BF56F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s://www.youtube.com/watch?v=RqGDGrLoa8s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754600" cy="6299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School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lacemen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IEP satir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21-02-23T14:56:27Z</dcterms:modified>
  <cp:revision>37</cp:revision>
  <dc:subject/>
  <dc:title>Special Education Process &amp; IEP</dc:title>
</cp:coreProperties>
</file>