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6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B75-ACCD-4FE5-839F-278CEB52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363-2AB2-41DE-AA12-FB09C3AC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459-AA51-4308-B532-643CD282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3A3-075D-472E-BDA1-42FDBAE2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C4C3-506D-49BA-AE3D-EAAEE82B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51F4-8ECC-4F21-952B-C4907B3D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A26F-6043-4F91-BDB2-E649F7BF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1FA8-B925-46DB-86DF-81E26A04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3994-63F4-49C0-A7F0-8C85A8C1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2C88-3EE7-4FE2-9508-407F96A6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28ED-11BC-457F-AE87-AD2DCB1D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820-06C6-4ADA-B2B3-540E76A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CE77-8F03-49BF-B398-E45C945F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281F-1EDD-4197-93A9-8EA4CE8E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5FEF-CC3B-4578-A695-AB91BE1D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5448-8848-45B4-A830-4EB75DD0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9864-E334-4A07-81C2-5BBC5C3B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D24D-12F1-49D9-B840-DCD8C70D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0DF8-F687-4B7B-A547-258BEF19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84C6-7642-42CF-A13D-70F709FA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1005-4AB4-490F-BB97-C54F753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FA32-6EFA-41A3-A8AD-631D551C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F8E-4CAB-4F53-A4FB-5E50C920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623C-4F7E-409D-96D7-8EBF22F7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31B8-54BF-4C43-805C-B688F17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9575-FA3E-4276-931D-A2D64457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1E6E-62DD-4FFC-8A1E-6D0FD484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7F15-1C89-4174-A16A-0146D555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5BBA-0DC7-4792-9A7F-FEB8F918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188E-72AE-4CAA-BCE8-CC77426C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6D20-0297-41B6-ABC0-503ECB0B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7F49-A534-49E5-A41E-2E6909AC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75F9-1E51-4B44-AA6E-753FE1F8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522-B4D2-4D72-A6E5-CDA51DEA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5CFE-F8FC-4A3D-90A9-7520998C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4054-F768-4DFA-BD23-C6100B24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B1E70-2741-4A4E-9EEF-718A3DDC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5E24-1982-445C-86E0-4B98DED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8392-C67B-4B5D-9E80-24A1F692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AC97-5826-4232-AFB6-2326BAE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0F593-A246-4786-B5D1-FDAD6E8E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8E750-418B-45FB-B050-97A98A33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1C73-21C5-4C98-97F8-0B9D63D3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B56FF-0AB9-44AA-9A6B-920DD31E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294-1548-408D-8BC2-F828C7E0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28615-9CF6-4F77-AC24-DC61DFEB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FB8C5-46D3-4D74-9824-E754D74F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84A30-FAC1-419D-9339-756EE56C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5154D-3E10-4ABC-AC42-113AA536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DCAC9-1A74-443D-B8EB-505D31C1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7521B-CE29-422E-859D-69A9A4B1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A0511-8C38-43A5-B553-0185BE5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E475-F86C-4F9C-80EF-3FEEBAF8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FC597-BC7E-45A1-B41C-B7743C29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4509A-EA2B-4B84-8BB2-F614AFAF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42E-9740-4172-A82E-E7B93BB2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AB0B2-F9A5-44DC-83C8-4E8F80A7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58BC1-FDD7-4FE1-96FE-ECB0FFCF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351B6-CC3B-4F3C-870D-3828B391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05AF7-B7E4-4352-9A4E-38C8F6D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42713-187A-48C3-B1F0-326CA95D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B1D6B-EED4-4003-91CB-F910D96D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5320-7895-4C5B-B16A-ABD51783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03EC-F265-4F73-A33A-AB1DD9E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7700-51AF-4AE6-9803-6C8A516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A8A2F-3C89-421E-A705-17D4E636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82E-7A22-44E8-9806-140108AA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7BB4A-02BE-4BBE-9675-80CBB46A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05FA6-40E1-4FC6-BC11-1C754A42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46D28-EC3A-4D65-B75B-5AAD26F2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FEF38-7096-4680-B0C3-2AB2805D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EF7C-27DA-4EDD-B930-0846BD53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5F398-3D32-498A-A792-6EA141B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6C36B-EE89-4636-846C-2679992D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F34E-C4EA-445A-8D91-BCA26BA1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573B3-1EB5-4300-8396-95B8D92B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F669-5D0C-44B9-94E6-46AD3E57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B93-1A1C-4883-B678-C19C417A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2EEB3-2329-4629-9094-7421B34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E049B-B0D0-4821-9286-C9630C4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5F709-14E1-4F78-BFD7-4FD31601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392DE-4C16-4E6C-8407-CC70E170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DF1D7-66BD-474D-8148-423C4574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FB3-05CD-46D1-92C8-9DF13194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DEFD-688C-49C8-B94D-0C88E0CAD20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3D54-813C-46BD-88CB-300A2ECB679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D839-05E9-454F-8F60-B55BE45A163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3FA3-A893-408E-BAA0-405800A530D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A8C4-F994-4859-8DB6-7D6833AE986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92BB-EE06-43FA-B185-2CDA2CC44C2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201C-9784-4FAA-AE64-35E567CCE95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s://www.youtube.com/watch?v=RqGDGrLoa8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754600" cy="6299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School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lacemen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IEP satir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1-02-23T14:56:27Z</dcterms:modified>
  <cp:revision>37</cp:revision>
  <dc:subject/>
  <dc:title>Special Education Process &amp; IEP</dc:title>
</cp:coreProperties>
</file>