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wmf" ContentType="image/x-wmf"/>
  <Override PartName="/ppt/media/image16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FED-DBD3-4DEC-99CB-180FAB05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A5D-923E-47FA-9F7C-535DD2D5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962-4E59-4B47-99BD-A1248EC7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324-1AC9-43D1-BDE8-662011C5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2E80-B0B1-468D-932A-2B3CD54F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7012-5811-49E8-AB7D-15EA4EA7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8E72-9C77-44E5-8383-DF4C87CF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A574-E52D-4B30-B0CB-E380DF81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DAB1-84E0-4CED-B532-BEC64DED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C76A-6721-4353-B7AF-DD2D715C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AEBD-8E9B-42A8-9632-58D5AE36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5D3-CBE0-4198-A966-E5C5F27F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2B69-C767-4EF8-B5F9-11DAAA82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B302-43E5-46EE-9CC5-1C49DF28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1E1B-275F-4FCB-AF5E-677AA9FF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901B-73F2-4432-87DA-1D8BD0B7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CE40-221D-4883-9AB9-5E807E7F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D47E3-F29B-4083-9A40-9EA15FBF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EFED-62E4-44AD-B062-A9290031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08865-1393-44ED-B55B-61197206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0D89D-5027-482C-B6B5-03366F67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084E7-C11B-4925-9E76-DEA8438C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1C6-6EF1-458A-BB99-D4A5E616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69CD0-6EAF-4211-ADEA-FCBCBC81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D64BA-B1FB-47B6-997C-C88EAE2E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BA41-F156-466F-8595-E4EE1DE3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0C81E-8E18-4C73-BD8F-61F1F9D7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BE3B7-0C6C-4574-9F52-EFDF10BE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A609-3179-4F05-8B47-1B84376A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E9DAF-5049-444C-B62F-DBD9F5B5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63E71-80D3-41A8-B155-43965EAD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2C819-01F9-4B0C-9F1B-08FA4AAD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304B8-2C2D-4101-BA24-F6629202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7790-6CAE-4169-8A01-9C088000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3EBC4-E23F-4296-B573-F675D124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840B8-9064-43B4-9155-A12BCDA8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7CC1B-2054-4D12-BEA8-E78B96F9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3D392-DAB0-4AAA-BE76-1130D633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DDEAD-BC56-4F41-9573-B0F5996F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AE6FB-9836-47E2-A50E-C9D84B1E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97C67-A8EB-440E-AFF6-36AD428C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2AF08-AD05-41CC-A943-0A23736B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D7A53-EC61-4BBA-A50C-7DBFFC7C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5D94F-2A01-481E-AA17-F0B8551B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BA91-8F09-451C-9BFA-2392CE71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8B1C3-251C-4FAB-87EE-E0493905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7D18B-5B00-4249-88B1-CC7F8E79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8637A-E6B4-44B5-85AF-A94F223C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5309D-D86B-4552-8302-C42ED7EC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865BE-A814-4008-83B0-CEFFBECF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4CA60-27DA-42AE-BD18-0EA9B3E8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92024-4398-40E5-9814-149F3805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1CBF7-9227-46A1-8AE4-834212C7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B0E4B-4F9B-40B2-9D12-22C93F91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7716B-3EC2-4824-B8A5-9DEC52FA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6CA-5CEB-440E-B5C5-0C8EB2E0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8B48A-542C-4DA8-9EE3-22A9288A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8FC96-8B14-4AB6-8597-1ABF6658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5E1F6-88F7-4531-947F-4C8D3559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7A606-D566-42EF-A58E-09F3CBC3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CA5ED-07DF-49C6-95A1-0E0D8076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FF43F-EA60-40FE-9F96-E5999B68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E0E16-6712-48B2-ABF2-446DF3CF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5650B-1B59-4183-9DF1-B5879353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C27A6-9164-4FA4-803B-56D252AE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378A6-D46E-422E-8BB4-C9FA4359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40A-9CB2-4A48-B8B4-57DE4F5C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55F75-87E5-495F-ACC6-CA4D364A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53DAA-D448-4AA8-A5C6-EFFA5C8E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2A8E5-4A3D-4617-802E-93958F29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60CF1-84B6-46ED-8D91-0B28C281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29490-FA18-471F-A7B0-E465A1A0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AA327-D371-41E4-9992-02CDD9B0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BFD9B-C7AC-4F3F-B06C-0A078E68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52359-B81A-4F0C-91CB-46DB01CB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F7E23-C54E-4093-BA26-AAF92FF5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F6CFE-9B54-4A38-BEA8-C4E829D6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97B-6920-4C5C-B555-7BA127D5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41B47-F384-4571-B3C6-70CA00B7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61B57-F64E-4845-AEDF-7D47B2D1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88CE5-1646-403D-9EB0-0B8659E2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F73A7-9B55-4F13-AD43-5910EC36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7F69A-C376-49F2-A5F5-63F1E6CD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EF5-674B-4092-B10E-3CB53288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C20A-F261-4872-B0F4-482C07DF5E7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05BB-EE39-4612-AF9A-32C79010B9C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EF0C-0564-4BFE-8475-F0F5EE30315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6B48-BE42-474B-B295-B80338B1BDD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17CE-EC8D-457C-B979-B70FA7C56D7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A06E-8F6B-4607-8E01-3D366A5FEA5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4C39-9125-41B1-8B88-5FA5E8BFF35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s://www.youtube.com/watch?v=RqGDGrLoa8s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3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5754600" cy="6299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School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Placemen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IEP satir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21-02-23T14:56:27Z</dcterms:modified>
  <cp:revision>37</cp:revision>
  <dc:subject/>
  <dc:title>Special Education Process &amp; IEP</dc:title>
</cp:coreProperties>
</file>