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35C-AB06-403A-91F3-1384A5AC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A72-6D2D-4B78-B5BD-BAED0966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3AA-60AA-4B5B-9A84-CB30C44B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842-0474-4DE1-A71F-627B91FE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943B-49EE-4709-8EDE-B6428F8A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CFB8-107A-4EB6-9FFB-909D5CC8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00FE-AC2A-4713-81C3-4124E868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6673-D1C2-4062-8EF7-BDAF7CB2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7848-E11D-45FE-9B5A-3C9A0C7C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F3AE-A747-4313-B6CC-BFF159CC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9769-31E7-4AD3-BFA0-3824964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215-1F8A-46F4-A04F-5EEE7986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953F-0112-4BB5-8025-B0112C8D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3D56-DB94-4D37-A367-F266B3CD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F9FF-608A-4427-84D8-E60763CE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4E3A-05E4-41DC-ADB9-BA63F679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4677-B9CD-449C-9C4C-9D58284A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90E1D-5813-48D1-9A98-37628581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D56CD-2340-47BC-BDBB-49C4B293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4903B-5DEF-4629-81EA-E7E7BFF7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FF75-FC20-470A-A9D9-35F155A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736E0-B3A8-4379-A45C-52F0CBE9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C40B-563F-4709-A11D-F248BBB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E724-EF4F-4BB0-B9EB-71DD4176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D351-212F-4CB7-AB7F-65A5BCE1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CDE2-BF6D-4A58-85CA-85C6ADF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3208-E8EA-429A-9C27-D30DABD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DB78E-09E7-41B9-A006-6E92CCB5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91A9-82A3-4612-A1D6-32C9873D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03FE-DBF1-43C4-855D-D541B3DA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FAEB0-8BBA-4159-B895-136E60B4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E1E8-54C6-4B98-99DE-FCF68AC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B378-8041-4BC7-9C51-70A46A34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466-FC61-49F8-A66F-59544693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0BF81-3542-47F9-AE4B-23CA06FB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E8A8D-C81D-4B99-8F9C-0EB661C0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E3FD-E086-4FD2-AA0E-5C94FB94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1AD7D-401C-487B-BB9D-E4F602B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24F29-6C4A-47B1-92D0-1F7D29C1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58C9-1876-41A2-86ED-F82668F3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DB06E-043C-4A0A-93CA-E5FFF634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4BA1-BB56-4C59-B53F-44DB0305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5ED85-F499-4CB7-AEB0-32767AB8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C539B-2547-4CD2-A628-44E11997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28E-D50A-4F42-AE8A-F0CC267D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F4952-F1B0-4010-970D-5AA40DCF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9E943-C4F8-457F-8C84-6186E2EF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221BF-4C38-4383-9770-945FF80C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7892B-E5A5-4E1D-9728-BE357BB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4D1BF-D05E-4554-A6A9-466CF586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71F76-08D0-45C1-9729-169D1B9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8F82-CA23-4327-B453-657E3F7B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9921-AF1D-473A-BDE4-25CAA207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33B7D-580F-4302-9271-878BD1C1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46EB-7FD3-4973-95F4-F595B5FC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2E28-DA21-4606-8B0A-AC7A450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845F4-8E4D-45C1-ACB1-5F36BFA9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B8A9F-EF6A-474A-923F-E54CEA4D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E4653-0AC8-4CC9-9AF9-D423D34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DD803-1ED1-4BB4-8DF3-AC3A3926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39B5D-D4DB-4DDE-9655-E3BF39BD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0613-5378-4EAD-BA6F-6DC6BE21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18F64-5F3C-4764-A921-1526F99C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967CC-15F3-4BCB-97DD-C6851362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48FC1-4AE5-4584-A7F6-A4BDA97D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4BC2-D2A4-446D-87CB-122A134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D28-9593-46ED-A921-01DD5E3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89E0B-C204-4282-A83D-AF7B2464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B9AB7-59A5-4A5A-9A61-84ED80B5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6CB0D-5019-427D-A23B-58886D82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2A2E9-E71B-4856-B86E-B308B846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22B75-DF5F-4E3C-8254-43491D09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08C02-A1C6-45C2-A8FF-1E51BA2D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A3632-2469-4642-BFAA-63299034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53E0-8CD8-4497-AEB9-DC5D2CD3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DF2D6-3975-43BF-8AC9-63D27809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E0464-2FB9-4D6F-AAF0-1DEB15E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8F6-3906-4EA7-B14D-E836A75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AB95F-3F43-42C1-80DF-48176198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8D515-982C-4A29-B1F9-4A7C9FF5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50CDB-FFF1-48F9-9161-ABDA0ADD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613E5-1B48-40CB-B6D8-0E1F814E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E871-63E6-4D85-A0A3-527A2A87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FB9-97B5-4B9E-A5C9-21BA29EC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2124-2964-48BD-B9FE-79304C66BFC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3F93-75BA-40FC-9B6A-8409FA7A70C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40E7-58B9-4A70-A308-E9ADF2C9ECF3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5FB7-DA04-4E2A-BA9D-4AB23E9DC82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C4D8-6191-4737-AFD1-97C7F1543B3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C9F-FFBC-4443-905E-FC8B6D52B62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B9DF-5939-4F9D-919C-9DEB8A78274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s://www.youtube.com/watch?v=RqGDGrLoa8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754600" cy="629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chool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lacemen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IEP satir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1-02-23T14:56:27Z</dcterms:modified>
  <cp:revision>37</cp:revision>
  <dc:subject/>
  <dc:title>Special Education Process &amp; IEP</dc:title>
</cp:coreProperties>
</file>