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3.png" ContentType="image/png"/>
  <Override PartName="/ppt/media/image11.jpeg" ContentType="image/jpeg"/>
  <Override PartName="/ppt/media/image23.wmf" ContentType="image/x-wmf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5.jpeg" ContentType="image/jpeg"/>
  <Override PartName="/ppt/media/image4.png" ContentType="image/png"/>
  <Override PartName="/ppt/media/image27.jpeg" ContentType="image/jpeg"/>
  <Override PartName="/ppt/media/image17.png" ContentType="image/png"/>
  <Override PartName="/ppt/media/image26.png" ContentType="image/png"/>
  <Override PartName="/ppt/media/image14.png" ContentType="image/png"/>
  <Override PartName="/ppt/media/image24.png" ContentType="image/png"/>
  <Override PartName="/ppt/media/image22.png" ContentType="image/png"/>
  <Override PartName="/ppt/media/image1.jpeg" ContentType="image/jpeg"/>
  <Override PartName="/ppt/media/image21.png" ContentType="image/png"/>
  <Override PartName="/ppt/media/image19.wmf" ContentType="image/x-wmf"/>
  <Override PartName="/ppt/media/image16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4A9-534F-476D-BBEA-1A8181DDE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B2CD-793E-44A9-A4B6-3A24C22C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6E63-7606-41DF-AF16-7141FC8A0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77153-0D86-4BFD-9835-199EBA1B1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B0077-8734-4299-B20A-485E5A069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D79EE-BC8F-402E-82B8-1D8B8536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C8813-3D7F-401F-B98D-01F174148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C7403-B13C-4FA9-8BDC-EB96EED1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F4D38-1559-42BA-AB6C-C64DD35D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55844-B191-4778-9AE3-DEB25D523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755-4BED-436F-883F-66F5761D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77F3-0C88-442A-B24E-EBADE5F3C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DE9C2-4DD4-4E16-A204-EF04418C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190C-6C0E-4FED-B12E-B4BCD7D2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7343B-266A-402C-AAA9-78449AFF4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BAF9B-781D-4BB2-A49B-256C4C06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0D9A6-9303-4993-9099-D462632E0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C3CF4-AC7F-48B6-A785-535A09B77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FD8DFF-9862-4B7D-BBE5-FC9E7F9B3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CBE5F9-B1CD-4EA0-AD47-D83E6D06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C71A5-F933-4E41-A09B-88057729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5AC2-A85F-47D0-9FE6-E9F9244AE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91F7-2215-4FEA-96F0-B6192E5A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9EA39C-5B8C-493B-9750-CA7D73A3C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DDCAA5-BC13-4E9A-A5BC-AF37053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BA1E0-5314-4F27-AA4F-AD7B4DB8F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D0EDC-1DC0-43EA-9E59-75A51391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62B14-624E-4B44-BE97-8E8336967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FD501-4F23-4B73-A9EE-764A919CF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0BA1B-E69E-4782-A653-00464AC7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4D1A5-AEC9-45F0-9789-8CE13987C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DF5A3-2242-4D16-93DC-42062151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4A09CD-0E23-4C08-9649-B541B06E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99C7A-93D3-4C38-9C22-CE5480F3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965EF-CE09-452A-BD09-91D403E7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7AE1D-F3C0-40A7-B8C8-D717914B6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5E70C0-3105-40B7-948B-29DB3907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D0FD8A-68F4-4422-9BCD-A67C5905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1D377-A161-443F-801E-3AE83EE6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4E575-777B-4D3B-A8EC-6135A9DF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04A9A-21D7-4AC3-9FC2-9DDBF75E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C4738-416C-4D25-9FC4-5A7FDDE04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FBD185-E0CB-4DCA-A769-FA2888BC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BA3E4E-6139-41D7-93B7-E84412884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8838-9D89-492D-AD68-53B36D7F7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8D4610-13D6-4B29-A5AE-A2BBBD890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88D3E-A3FC-4692-B031-A824EB6BB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9FBA0D-C551-4945-9912-2758ECBDA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61D170-25E7-4A85-96BE-358EFB38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07CA35-582E-4580-8FD1-32D33FAC3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6C852-9DDA-45BF-88D9-498461D1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2220AB-828C-4291-8F73-6FF6FE19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DEBF3-9C9F-4197-9455-705413DE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FA4563-A8BB-4408-ABD5-1D621186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0CA73-0A59-4C49-A23F-1C522ED2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9C54A-3E6B-43CC-9658-26B35F2EB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5DC61F-CEA7-4FC0-BE81-318B4BABB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EE376-BCBF-4122-BC47-3FEE26F8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FD5394-CC4D-46CE-B2F3-EAE32A44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FC044-F590-4EC9-824A-4CABB96F7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FC3E6-C89B-4417-84CE-58627843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DC8FB-2611-4815-995E-74A511F4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62339-E231-4C79-A0A7-277012CA7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595492-612F-4688-B189-16A7700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E6E9-7E05-444E-A846-7430BFCF0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E5C62-7647-411E-8FF6-4ECEB708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3EE2-C7F4-40DF-9C5C-CE22F5FC9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E9B7D-049E-4B01-835C-511E4035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C05E6-970F-435F-B90B-7D4F81C4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16CD4D-3163-4987-A7A9-4464ACEC0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679CBD-C532-48BF-866C-39DB97CB2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82082-A49A-453D-8725-705FC137F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62D0EE-F3D3-47EA-9AB1-F87623C90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792D7-7452-4AA7-A723-A962FE69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7C8EB6-CDC1-444E-B4CC-6ED924E09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4B7DB-6EDD-40D2-8C3F-2AA0B56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2FC27B-BB5A-4D4E-8797-F1D773051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962F3-C8B3-46CA-B00A-4F095485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12AC65-CA54-4B0D-AAFC-47572C1CA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EF716-9E23-42D9-B2E7-91E5C75C9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9FA16-60ED-478D-B13B-13C78F67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E8283F-E170-4B1B-A78C-B0BE7D38F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DAADF-07A2-47AB-9BE4-CFE2A945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5D7E0-6A70-4422-89DF-97B543C8E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FD40-B18E-460D-9A5C-8CE5F2E77EE7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3A20-DF5D-4E47-893C-B12E9A3E428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F8F82-E0BA-4932-9ED2-8F7682556D9D}" type="slidenum">
              <a:rPr b="0" lang="en-US" sz="1200" spc="-1" strike="noStrike">
                <a:solidFill>
                  <a:srgbClr val="ffff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663CF-A53F-4B66-A7F1-DC91BBC590B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DE33-A44E-4CC8-B74A-360289A9C570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2382-9699-412F-958F-87C56C2C4C8B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Corbe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E90D-83F4-4C1E-9228-F7F626CDAE1E}" type="slidenum">
              <a:rPr b="0" lang="en-US" sz="1200" spc="-1" strike="noStrike">
                <a:solidFill>
                  <a:srgbClr val="3f3f3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hyperlink" Target="https://www.youtube.com/watch?v=2XsaK3pWyII" TargetMode="External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s://www.youtube.com/watch?v=RqGDGrLoa8s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689040" y="914400"/>
            <a:ext cx="3882960" cy="411480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685440" y="3241080"/>
            <a:ext cx="8077320" cy="30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305" name="Picture 4" descr="C:\Documents and Settings\aspencer\Local Settings\Temporary Internet Files\Content.IE5\PPSHIWYG\MP900426612[1].jpg"/>
          <p:cNvPicPr/>
          <p:nvPr/>
        </p:nvPicPr>
        <p:blipFill>
          <a:blip r:embed="rId2"/>
          <a:stretch/>
        </p:blipFill>
        <p:spPr>
          <a:xfrm>
            <a:off x="4583160" y="0"/>
            <a:ext cx="456084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2"/>
          <p:cNvSpPr/>
          <p:nvPr/>
        </p:nvSpPr>
        <p:spPr>
          <a:xfrm>
            <a:off x="685800" y="609588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168bba"/>
                </a:solidFill>
                <a:uFillTx/>
                <a:latin typeface="Arial"/>
                <a:hlinkClick r:id="rId3"/>
              </a:rPr>
              <a:t>Special Education Teacher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457200" y="1774800"/>
            <a:ext cx="403848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the maximum extent appropriate students with disabilities are educated with students without disabilities, and special class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C:\Documents and Settings\aspencer\Local Settings\Temporary Internet Files\Content.IE5\XKMHQ9CZ\MC900310846[1].wmf"/>
          <p:cNvPicPr/>
          <p:nvPr/>
        </p:nvPicPr>
        <p:blipFill>
          <a:blip r:embed="rId2"/>
          <a:stretch/>
        </p:blipFill>
        <p:spPr>
          <a:xfrm>
            <a:off x="4572000" y="1676520"/>
            <a:ext cx="5181480" cy="44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Picture 1" descr=""/>
          <p:cNvPicPr/>
          <p:nvPr/>
        </p:nvPicPr>
        <p:blipFill>
          <a:blip r:embed="rId1"/>
          <a:stretch/>
        </p:blipFill>
        <p:spPr>
          <a:xfrm>
            <a:off x="5334120" y="22320"/>
            <a:ext cx="3782880" cy="3666960"/>
          </a:xfrm>
          <a:prstGeom prst="rect">
            <a:avLst/>
          </a:prstGeom>
          <a:ln w="0">
            <a:noFill/>
          </a:ln>
        </p:spPr>
      </p:pic>
      <p:pic>
        <p:nvPicPr>
          <p:cNvPr id="333" name="Title 1" descr=""/>
          <p:cNvPicPr/>
          <p:nvPr/>
        </p:nvPicPr>
        <p:blipFill>
          <a:blip r:embed="rId2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457200" y="281952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1000"/>
          </a:bodyPr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ar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Gener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Teach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resentative from District (administrat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st Interpreter (psychometris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8520" indent="-2901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 Professions of related services (OT, PT, SLP, nutritionist, consulta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pecial Education Form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stering The Maz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7" name="Picture 3" descr="C:\Documents and Settings\aspencer\Local Settings\Temporary Internet Files\Content.IE5\P6J8AG6K\MC900099486[1].wmf"/>
          <p:cNvPicPr/>
          <p:nvPr/>
        </p:nvPicPr>
        <p:blipFill>
          <a:blip r:embed="rId2"/>
          <a:stretch/>
        </p:blipFill>
        <p:spPr>
          <a:xfrm>
            <a:off x="914400" y="2819520"/>
            <a:ext cx="7010280" cy="3622680"/>
          </a:xfrm>
          <a:prstGeom prst="rect">
            <a:avLst/>
          </a:prstGeom>
          <a:ln w="0">
            <a:noFill/>
          </a:ln>
        </p:spPr>
      </p:pic>
      <p:sp>
        <p:nvSpPr>
          <p:cNvPr id="338" name="TextBox 2"/>
          <p:cNvSpPr/>
          <p:nvPr/>
        </p:nvSpPr>
        <p:spPr>
          <a:xfrm>
            <a:off x="609480" y="65530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57200" y="1523520"/>
            <a:ext cx="5867280" cy="487692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7000"/>
          </a:bodyPr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academic setting or environ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ows child to more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urately show wha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e/she know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vels the playing field, not giving child advant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24800" indent="-30924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: Books on tape, Oral Tests, Calculators, More Time on Tests, Dicta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1" name="Picture 1" descr=""/>
          <p:cNvPicPr/>
          <p:nvPr/>
        </p:nvPicPr>
        <p:blipFill>
          <a:blip r:embed="rId2"/>
          <a:stretch/>
        </p:blipFill>
        <p:spPr>
          <a:xfrm>
            <a:off x="5943600" y="2890800"/>
            <a:ext cx="3200400" cy="35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456840" y="1774800"/>
            <a:ext cx="61722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ters the work, making it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ifferent from the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f other childre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th IDEA, is done b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Extend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andards, written by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at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hoosing AAA (Alabama Alternative Assessment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4" name="Picture 1" descr=""/>
          <p:cNvPicPr/>
          <p:nvPr/>
        </p:nvPicPr>
        <p:blipFill>
          <a:blip r:embed="rId2"/>
          <a:stretch/>
        </p:blipFill>
        <p:spPr>
          <a:xfrm>
            <a:off x="5486400" y="2438280"/>
            <a:ext cx="3800520" cy="4181760"/>
          </a:xfrm>
          <a:prstGeom prst="rect">
            <a:avLst/>
          </a:prstGeom>
          <a:ln w="0">
            <a:noFill/>
          </a:ln>
        </p:spPr>
      </p:pic>
      <p:sp>
        <p:nvSpPr>
          <p:cNvPr id="345" name="TextBox 1"/>
          <p:cNvSpPr/>
          <p:nvPr/>
        </p:nvSpPr>
        <p:spPr>
          <a:xfrm>
            <a:off x="466560" y="6219720"/>
            <a:ext cx="472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bama Extended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er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traindividual Difference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5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2"/>
          <a:stretch/>
        </p:blipFill>
        <p:spPr>
          <a:xfrm>
            <a:off x="5486400" y="1905120"/>
            <a:ext cx="4121280" cy="40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3962520" cy="12492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 txBox="1"/>
          <p:nvPr/>
        </p:nvSpPr>
        <p:spPr>
          <a:xfrm>
            <a:off x="-360" y="1774800"/>
            <a:ext cx="43434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pecifically Designed instruction, at no cost to parents, to meet the unique needs of a student with a disability, including instruction conducted in the classroom, in the home, in hospitals, and institutions, and in other settings.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2" name="Picture 5" descr="C:\Documents and Settings\aspencer\Local Settings\Temporary Internet Files\Content.IE5\P6J8AG6K\MP900432711[1].jpg"/>
          <p:cNvPicPr/>
          <p:nvPr/>
        </p:nvPicPr>
        <p:blipFill>
          <a:blip r:embed="rId2"/>
          <a:stretch/>
        </p:blipFill>
        <p:spPr>
          <a:xfrm>
            <a:off x="4343400" y="0"/>
            <a:ext cx="4800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2" descr=""/>
          <p:cNvPicPr/>
          <p:nvPr/>
        </p:nvPicPr>
        <p:blipFill>
          <a:blip r:embed="rId1"/>
          <a:stretch/>
        </p:blipFill>
        <p:spPr>
          <a:xfrm>
            <a:off x="2971800" y="457200"/>
            <a:ext cx="5754600" cy="629928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School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Placement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Pre-refer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sponse to Intervention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Referal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Assess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rbel"/>
              </a:rPr>
              <a:t>Instructional Planning and Placement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7" name="Content Placeholder 3" descr=""/>
          <p:cNvPicPr/>
          <p:nvPr/>
        </p:nvPicPr>
        <p:blipFill>
          <a:blip r:embed="rId2"/>
          <a:stretch/>
        </p:blipFill>
        <p:spPr>
          <a:xfrm>
            <a:off x="-152280" y="3048120"/>
            <a:ext cx="4532040" cy="32004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2" descr=""/>
          <p:cNvPicPr/>
          <p:nvPr/>
        </p:nvPicPr>
        <p:blipFill>
          <a:blip r:embed="rId3"/>
          <a:stretch/>
        </p:blipFill>
        <p:spPr>
          <a:xfrm>
            <a:off x="4302000" y="3048120"/>
            <a:ext cx="487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0" y="17748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893880" y="1676520"/>
            <a:ext cx="689904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ual Guide to: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delivery of customized services and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aboration between parents and profession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EP must be developed within 30 days of eval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168bba"/>
                </a:solidFill>
                <a:uFillTx/>
                <a:latin typeface="Corbel"/>
                <a:hlinkClick r:id="rId2"/>
              </a:rPr>
              <a:t>IEP satire</a:t>
            </a: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56840" y="1774800"/>
            <a:ext cx="624852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tudent’s present level of academic achievem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easurable Annual goal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Report Student Progre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ist Service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commoda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ansition for 16 or ol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5" descr="C:\Documents and Settings\aspencer\Local Settings\Temporary Internet Files\Content.IE5\XKMHQ9CZ\MP900049992[1].jpg"/>
          <p:cNvPicPr/>
          <p:nvPr/>
        </p:nvPicPr>
        <p:blipFill>
          <a:blip r:embed="rId2"/>
          <a:stretch/>
        </p:blipFill>
        <p:spPr>
          <a:xfrm>
            <a:off x="6172200" y="1447920"/>
            <a:ext cx="297180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8760"/>
            <a:ext cx="8229600" cy="12492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student (the who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ill do what (the behavior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o what level (the criterion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Under what conditions (the conditions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what length of time (the time frame)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y the end of the school year, Jessica will be able to complete 20 long-division problems in 10 minutes with 90% accuracy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6T22:28:30Z</dcterms:created>
  <dc:creator>aspencer</dc:creator>
  <dc:description/>
  <dc:language>en-US</dc:language>
  <cp:lastModifiedBy>Spencer, Amelia G.</cp:lastModifiedBy>
  <dcterms:modified xsi:type="dcterms:W3CDTF">2021-02-23T14:56:27Z</dcterms:modified>
  <cp:revision>37</cp:revision>
  <dc:subject/>
  <dc:title>Special Education Process &amp; IEP</dc:title>
</cp:coreProperties>
</file>