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Snowman image"/>
          <p:cNvPicPr/>
          <p:nvPr/>
        </p:nvPicPr>
        <p:blipFill>
          <a:blip r:embed="rId2"/>
          <a:srcRect l="0" t="0" r="0" b="83230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381600" y="6583320"/>
            <a:ext cx="3330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3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8128080" y="660096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| </a:t>
            </a:r>
            <a:fld id="{9E470981-512E-4993-8990-4AC6A041A8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nowman image"/>
          <p:cNvPicPr/>
          <p:nvPr/>
        </p:nvPicPr>
        <p:blipFill>
          <a:blip r:embed="rId2"/>
          <a:srcRect l="0" t="0" r="0" b="8516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24280" y="2361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86320" y="3276360"/>
            <a:ext cx="4657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ddressing</a:t>
            </a:r>
            <a:br>
              <a:rPr sz="2900"/>
            </a:b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Cultural and Socioeconomic Diver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lass indicates an individual’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’s relative standing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’s social class, or socioeconomic stat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S), principally determined by annu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, occupation, amou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children from middle- and upper-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, children from low-SES families are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to exper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quality health care, more illnesses, l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quality liv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n families and lower support for scho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ttitudes and beliefs about the valu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evels of learning (achievement g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gradu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basis of such characteristics as race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, ethnic background, dress, speech pattern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est scores, teachers form expecta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ut how various students will perform in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se expectancies are subtly communicated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udents in a variety of 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come to behave in a way that 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t with what the teacher ex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the Effects of Teacher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 that are communicat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ents and teachers can have bo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expectations more likely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tain existing tendencies than to al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ll-establishe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-class students are expected to receive high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es than low-SES students, even when their IQ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s and achievement scores ar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ority students are given less attention and a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to learn less than white or Asian Americ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 tend to perceive children from poor homes 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mature, less capable of following directions,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capable of working independently than childr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ore advantaged h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 (cont’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fix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capacity are more likely to formulate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itive expectations of students than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collec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can be 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are more influenced by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students than they are by neu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osit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-looking children more likely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d as brighter and mor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28600" y="1447920"/>
            <a:ext cx="8686800" cy="4724280"/>
            <a:chOff x="228600" y="1447920"/>
            <a:chExt cx="8686800" cy="4724280"/>
          </a:xfrm>
        </p:grpSpPr>
        <p:sp>
          <p:nvSpPr>
            <p:cNvPr id="188" name="Rectangle 5"/>
            <p:cNvSpPr/>
            <p:nvPr/>
          </p:nvSpPr>
          <p:spPr>
            <a:xfrm>
              <a:off x="228600" y="1447920"/>
              <a:ext cx="8686800" cy="472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6"/>
            <p:cNvGrpSpPr/>
            <p:nvPr/>
          </p:nvGrpSpPr>
          <p:grpSpPr>
            <a:xfrm>
              <a:off x="414360" y="1600200"/>
              <a:ext cx="8305920" cy="4420800"/>
              <a:chOff x="414360" y="1600200"/>
              <a:chExt cx="8305920" cy="442080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5138640" y="4952520"/>
                <a:ext cx="358164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self-acceptance and respect for other cultures by studying the impact ethnic groups have had on American society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8"/>
              <p:cNvSpPr/>
              <p:nvPr/>
            </p:nvSpPr>
            <p:spPr>
              <a:xfrm>
                <a:off x="414360" y="4952520"/>
                <a:ext cx="472428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earning about the achievements of one’s cultural group will raise self-and group estee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9"/>
              <p:cNvSpPr/>
              <p:nvPr/>
            </p:nvSpPr>
            <p:spPr>
              <a:xfrm>
                <a:off x="5138640" y="3326760"/>
                <a:ext cx="358164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eachers should give all students a sense of being valued and accepted by expressing positive attitudes, by using appropriate instructional methods, and by formulating fair disciplinary policies and practic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414360" y="3326760"/>
                <a:ext cx="472428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viduals must have self-esteem and group esteem to productively work with people from other cultur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5138640" y="2420280"/>
                <a:ext cx="358164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understanding of the origins and lack of validity of ethnic stereotyp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414360" y="2420280"/>
                <a:ext cx="472428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.S. culture has been formed by the contributions of different cultural groups.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"/>
              <p:cNvSpPr/>
              <p:nvPr/>
            </p:nvSpPr>
            <p:spPr>
              <a:xfrm>
                <a:off x="5138640" y="1600200"/>
                <a:ext cx="358164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4"/>
              <p:cNvSpPr/>
              <p:nvPr/>
            </p:nvSpPr>
            <p:spPr>
              <a:xfrm>
                <a:off x="414360" y="1600200"/>
                <a:ext cx="472428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5"/>
              <p:cNvSpPr/>
              <p:nvPr/>
            </p:nvSpPr>
            <p:spPr>
              <a:xfrm>
                <a:off x="414360" y="16002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6"/>
              <p:cNvSpPr/>
              <p:nvPr/>
            </p:nvSpPr>
            <p:spPr>
              <a:xfrm>
                <a:off x="414360" y="242028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"/>
              <p:cNvSpPr/>
              <p:nvPr/>
            </p:nvSpPr>
            <p:spPr>
              <a:xfrm>
                <a:off x="414360" y="332676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8"/>
              <p:cNvSpPr/>
              <p:nvPr/>
            </p:nvSpPr>
            <p:spPr>
              <a:xfrm>
                <a:off x="414360" y="495252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9"/>
              <p:cNvSpPr/>
              <p:nvPr/>
            </p:nvSpPr>
            <p:spPr>
              <a:xfrm>
                <a:off x="414360" y="60210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41436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5138640" y="1600200"/>
                <a:ext cx="0" cy="442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2"/>
              <p:cNvSpPr/>
              <p:nvPr/>
            </p:nvSpPr>
            <p:spPr>
              <a:xfrm>
                <a:off x="872028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228600" y="2057400"/>
            <a:ext cx="8686800" cy="3962160"/>
            <a:chOff x="228600" y="2057400"/>
            <a:chExt cx="8686800" cy="3962160"/>
          </a:xfrm>
        </p:grpSpPr>
        <p:sp>
          <p:nvSpPr>
            <p:cNvPr id="209" name="Rectangle 5"/>
            <p:cNvSpPr/>
            <p:nvPr/>
          </p:nvSpPr>
          <p:spPr>
            <a:xfrm>
              <a:off x="228600" y="2057400"/>
              <a:ext cx="8686800" cy="396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"/>
            <p:cNvGrpSpPr/>
            <p:nvPr/>
          </p:nvGrpSpPr>
          <p:grpSpPr>
            <a:xfrm>
              <a:off x="380880" y="2250000"/>
              <a:ext cx="8382240" cy="3609720"/>
              <a:chOff x="380880" y="2250000"/>
              <a:chExt cx="8382240" cy="3609720"/>
            </a:xfrm>
          </p:grpSpPr>
          <p:sp>
            <p:nvSpPr>
              <p:cNvPr id="211" name="Rectangle 7"/>
              <p:cNvSpPr/>
              <p:nvPr/>
            </p:nvSpPr>
            <p:spPr>
              <a:xfrm>
                <a:off x="457200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lp students master basic reading, writing, and computation skills, by embedding them in a personally meaningful (i.e., ethnically related) contex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38088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ademic performance is enhanced when teachers incorporate various cultural values and experiences into instructional lessons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457200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duce ethnocentrism and increase positive relationships among members of different ethnic groups by understanding the viewpoints and products of these groups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0"/>
              <p:cNvSpPr/>
              <p:nvPr/>
            </p:nvSpPr>
            <p:spPr>
              <a:xfrm>
                <a:off x="38088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erican society benefits from positive interactions between members of different cultural group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1"/>
              <p:cNvSpPr/>
              <p:nvPr/>
            </p:nvSpPr>
            <p:spPr>
              <a:xfrm>
                <a:off x="457200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38088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3"/>
              <p:cNvSpPr/>
              <p:nvPr/>
            </p:nvSpPr>
            <p:spPr>
              <a:xfrm>
                <a:off x="380880" y="225000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4"/>
              <p:cNvSpPr/>
              <p:nvPr/>
            </p:nvSpPr>
            <p:spPr>
              <a:xfrm>
                <a:off x="380880" y="321840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>
                <a:off x="380880" y="453924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380880" y="585972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7"/>
              <p:cNvSpPr/>
              <p:nvPr/>
            </p:nvSpPr>
            <p:spPr>
              <a:xfrm>
                <a:off x="38088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8"/>
              <p:cNvSpPr/>
              <p:nvPr/>
            </p:nvSpPr>
            <p:spPr>
              <a:xfrm>
                <a:off x="4572000" y="2250000"/>
                <a:ext cx="0" cy="360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9"/>
              <p:cNvSpPr/>
              <p:nvPr/>
            </p:nvSpPr>
            <p:spPr>
              <a:xfrm>
                <a:off x="876312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historical figures whose values and behav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sistent with American mainstream culture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while individuals who have challeng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view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Addi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tructional unit composed of concepts, them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of view, and individual accomplishment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added to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one valid way of understanding peopl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, concepts, and themes; there are multi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, each of which has something of value to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-Making and Social 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components of all the other approa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dds the requirement that students m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 and take actions concerning a concep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, or problem being stu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udents with clear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communicates high expect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udent progress and provid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everal years experience in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divers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learly explain why she uses specif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s to embed instruction in a meaningf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pportunities for active learning thr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-group work and hands-on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s a high level of de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students’ self-esteem by ha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materials and practices reflect student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and linguistic backgr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trong affinity for the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Culturally Responsive Teaching: A Multicultural Lesson for Elementary Stud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low-achieving minority and/or low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 students master both basic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-leve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Tutoring (or, Peer-assisted learning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of one student by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: working in smal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groups to help one an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Learning: assumes most childr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ster the curriculum if cert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nale for Multicultu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programs foster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are effective in general as w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members of a particul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may profit from understa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ultu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is becoming an increasing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society and students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nd know how to work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of cultures different from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tionale for Multicultural Educ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education programs expose student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“truth” is very much in the ey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programs can encourage stud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an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studies document the disappoin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performance of a significant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ity-group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he Cultural and SES Gap with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an help students from cultur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neighborhoods bet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eers from other cultures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tele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English language learners (ELL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 the English skills they will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ed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 students wholly or partly in their native languag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they can function effectively in a regular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native language for a longer peri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ime before moving to all-English i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Way Bilingual (Two-Way Immers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the language of both the major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and the minority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ransition and immersion program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LLs become proficient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immersion programs, biling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produce small to moderate gain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, language skills, an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students in immersion program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two-way programs score at or abo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evel on subject-matt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Bilingual Education: An Elementary Two-Way Immersion Progra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ning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culture typically refers to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in which a group of people perceives the world; formulates beliefs; evaluates objects, ideas, and experiences, and beh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Melting Pot to 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ethnic groups assimilating into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stream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ety should strive to maintain the 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s that reside with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ulture within a society should be respe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within a society have the righ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ll aspects of that society with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to give up their cultur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ing Face of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, most immigrants came from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cent years, most immigrants came from China, Philippine Islands, India, Mexico,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rate for foreign-born women is higher tha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-born, meaning classrooms will bec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culturally di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8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s to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447920" y="1600200"/>
            <a:ext cx="6324480" cy="4498200"/>
            <a:chOff x="1447920" y="1600200"/>
            <a:chExt cx="6324480" cy="4498200"/>
          </a:xfrm>
        </p:grpSpPr>
        <p:sp>
          <p:nvSpPr>
            <p:cNvPr id="100" name="Rectangle 5"/>
            <p:cNvSpPr/>
            <p:nvPr/>
          </p:nvSpPr>
          <p:spPr>
            <a:xfrm>
              <a:off x="1447920" y="1600200"/>
              <a:ext cx="6324480" cy="449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1466640" y="5867280"/>
              <a:ext cx="457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51b01"/>
                  </a:solidFill>
                  <a:latin typeface="Times New Roman"/>
                </a:rPr>
                <a:t>Source: U.S. Department of Homeland Security (2008)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1571400" y="1752480"/>
              <a:ext cx="6095880" cy="4115880"/>
              <a:chOff x="1571400" y="1752480"/>
              <a:chExt cx="6095880" cy="4115880"/>
            </a:xfrm>
          </p:grpSpPr>
          <p:sp>
            <p:nvSpPr>
              <p:cNvPr id="103" name="Rectangle 8"/>
              <p:cNvSpPr/>
              <p:nvPr/>
            </p:nvSpPr>
            <p:spPr>
              <a:xfrm>
                <a:off x="614304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061,4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461916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000-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309528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1"/>
              <p:cNvSpPr/>
              <p:nvPr/>
            </p:nvSpPr>
            <p:spPr>
              <a:xfrm>
                <a:off x="157140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2"/>
              <p:cNvSpPr/>
              <p:nvPr/>
            </p:nvSpPr>
            <p:spPr>
              <a:xfrm>
                <a:off x="614304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9,775,39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3"/>
              <p:cNvSpPr/>
              <p:nvPr/>
            </p:nvSpPr>
            <p:spPr>
              <a:xfrm>
                <a:off x="461916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90-19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4"/>
              <p:cNvSpPr/>
              <p:nvPr/>
            </p:nvSpPr>
            <p:spPr>
              <a:xfrm>
                <a:off x="309528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202,38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5"/>
              <p:cNvSpPr/>
              <p:nvPr/>
            </p:nvSpPr>
            <p:spPr>
              <a:xfrm>
                <a:off x="157140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00-190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6"/>
              <p:cNvSpPr/>
              <p:nvPr/>
            </p:nvSpPr>
            <p:spPr>
              <a:xfrm>
                <a:off x="614304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244,3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7"/>
              <p:cNvSpPr/>
              <p:nvPr/>
            </p:nvSpPr>
            <p:spPr>
              <a:xfrm>
                <a:off x="461916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80-19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8"/>
              <p:cNvSpPr/>
              <p:nvPr/>
            </p:nvSpPr>
            <p:spPr>
              <a:xfrm>
                <a:off x="309528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694,29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9"/>
              <p:cNvSpPr/>
              <p:nvPr/>
            </p:nvSpPr>
            <p:spPr>
              <a:xfrm>
                <a:off x="157140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90-18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0"/>
              <p:cNvSpPr/>
              <p:nvPr/>
            </p:nvSpPr>
            <p:spPr>
              <a:xfrm>
                <a:off x="614304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48,20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1"/>
              <p:cNvSpPr/>
              <p:nvPr/>
            </p:nvSpPr>
            <p:spPr>
              <a:xfrm>
                <a:off x="461916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70-19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2"/>
              <p:cNvSpPr/>
              <p:nvPr/>
            </p:nvSpPr>
            <p:spPr>
              <a:xfrm>
                <a:off x="309528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,248,5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3"/>
              <p:cNvSpPr/>
              <p:nvPr/>
            </p:nvSpPr>
            <p:spPr>
              <a:xfrm>
                <a:off x="157140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80-18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4"/>
              <p:cNvSpPr/>
              <p:nvPr/>
            </p:nvSpPr>
            <p:spPr>
              <a:xfrm>
                <a:off x="614304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213,7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5"/>
              <p:cNvSpPr/>
              <p:nvPr/>
            </p:nvSpPr>
            <p:spPr>
              <a:xfrm>
                <a:off x="461916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60-19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6"/>
              <p:cNvSpPr/>
              <p:nvPr/>
            </p:nvSpPr>
            <p:spPr>
              <a:xfrm>
                <a:off x="309528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742,1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7"/>
              <p:cNvSpPr/>
              <p:nvPr/>
            </p:nvSpPr>
            <p:spPr>
              <a:xfrm>
                <a:off x="157140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70-18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8"/>
              <p:cNvSpPr/>
              <p:nvPr/>
            </p:nvSpPr>
            <p:spPr>
              <a:xfrm>
                <a:off x="614304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499,2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9"/>
              <p:cNvSpPr/>
              <p:nvPr/>
            </p:nvSpPr>
            <p:spPr>
              <a:xfrm>
                <a:off x="461916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50-19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309528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018,26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1"/>
              <p:cNvSpPr/>
              <p:nvPr/>
            </p:nvSpPr>
            <p:spPr>
              <a:xfrm>
                <a:off x="157140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60-18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2"/>
              <p:cNvSpPr/>
              <p:nvPr/>
            </p:nvSpPr>
            <p:spPr>
              <a:xfrm>
                <a:off x="614304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56,6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3"/>
              <p:cNvSpPr/>
              <p:nvPr/>
            </p:nvSpPr>
            <p:spPr>
              <a:xfrm>
                <a:off x="461916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40-19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4"/>
              <p:cNvSpPr/>
              <p:nvPr/>
            </p:nvSpPr>
            <p:spPr>
              <a:xfrm>
                <a:off x="309528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814,55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35"/>
              <p:cNvSpPr/>
              <p:nvPr/>
            </p:nvSpPr>
            <p:spPr>
              <a:xfrm>
                <a:off x="157140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50-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6"/>
              <p:cNvSpPr/>
              <p:nvPr/>
            </p:nvSpPr>
            <p:spPr>
              <a:xfrm>
                <a:off x="614304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99,3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461916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30-19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8"/>
              <p:cNvSpPr/>
              <p:nvPr/>
            </p:nvSpPr>
            <p:spPr>
              <a:xfrm>
                <a:off x="309528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,427,3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9"/>
              <p:cNvSpPr/>
              <p:nvPr/>
            </p:nvSpPr>
            <p:spPr>
              <a:xfrm>
                <a:off x="157140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40-18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40"/>
              <p:cNvSpPr/>
              <p:nvPr/>
            </p:nvSpPr>
            <p:spPr>
              <a:xfrm>
                <a:off x="614304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95,5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41"/>
              <p:cNvSpPr/>
              <p:nvPr/>
            </p:nvSpPr>
            <p:spPr>
              <a:xfrm>
                <a:off x="461916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20-19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42"/>
              <p:cNvSpPr/>
              <p:nvPr/>
            </p:nvSpPr>
            <p:spPr>
              <a:xfrm>
                <a:off x="309528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38,3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43"/>
              <p:cNvSpPr/>
              <p:nvPr/>
            </p:nvSpPr>
            <p:spPr>
              <a:xfrm>
                <a:off x="157140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30-18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614304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347,3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45"/>
              <p:cNvSpPr/>
              <p:nvPr/>
            </p:nvSpPr>
            <p:spPr>
              <a:xfrm>
                <a:off x="461916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10-19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46"/>
              <p:cNvSpPr/>
              <p:nvPr/>
            </p:nvSpPr>
            <p:spPr>
              <a:xfrm>
                <a:off x="309528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28,5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7"/>
              <p:cNvSpPr/>
              <p:nvPr/>
            </p:nvSpPr>
            <p:spPr>
              <a:xfrm>
                <a:off x="157140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20-18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8"/>
              <p:cNvSpPr/>
              <p:nvPr/>
            </p:nvSpPr>
            <p:spPr>
              <a:xfrm>
                <a:off x="614304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9"/>
              <p:cNvSpPr/>
              <p:nvPr/>
            </p:nvSpPr>
            <p:spPr>
              <a:xfrm>
                <a:off x="461916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0"/>
              <p:cNvSpPr/>
              <p:nvPr/>
            </p:nvSpPr>
            <p:spPr>
              <a:xfrm>
                <a:off x="309528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51"/>
              <p:cNvSpPr/>
              <p:nvPr/>
            </p:nvSpPr>
            <p:spPr>
              <a:xfrm>
                <a:off x="157140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2"/>
              <p:cNvSpPr/>
              <p:nvPr/>
            </p:nvSpPr>
            <p:spPr>
              <a:xfrm>
                <a:off x="1571400" y="175248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3"/>
              <p:cNvSpPr/>
              <p:nvPr/>
            </p:nvSpPr>
            <p:spPr>
              <a:xfrm>
                <a:off x="1571400" y="2209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4"/>
              <p:cNvSpPr/>
              <p:nvPr/>
            </p:nvSpPr>
            <p:spPr>
              <a:xfrm>
                <a:off x="1571400" y="25776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5"/>
              <p:cNvSpPr/>
              <p:nvPr/>
            </p:nvSpPr>
            <p:spPr>
              <a:xfrm>
                <a:off x="1571400" y="2947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6"/>
              <p:cNvSpPr/>
              <p:nvPr/>
            </p:nvSpPr>
            <p:spPr>
              <a:xfrm>
                <a:off x="1571400" y="3317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7"/>
              <p:cNvSpPr/>
              <p:nvPr/>
            </p:nvSpPr>
            <p:spPr>
              <a:xfrm>
                <a:off x="1571400" y="36871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8"/>
              <p:cNvSpPr/>
              <p:nvPr/>
            </p:nvSpPr>
            <p:spPr>
              <a:xfrm>
                <a:off x="1571400" y="4055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>
                <a:off x="1571400" y="44254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60"/>
              <p:cNvSpPr/>
              <p:nvPr/>
            </p:nvSpPr>
            <p:spPr>
              <a:xfrm>
                <a:off x="1571400" y="47952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1"/>
              <p:cNvSpPr/>
              <p:nvPr/>
            </p:nvSpPr>
            <p:spPr>
              <a:xfrm>
                <a:off x="1571400" y="51652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2"/>
              <p:cNvSpPr/>
              <p:nvPr/>
            </p:nvSpPr>
            <p:spPr>
              <a:xfrm>
                <a:off x="1571400" y="553356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3"/>
              <p:cNvSpPr/>
              <p:nvPr/>
            </p:nvSpPr>
            <p:spPr>
              <a:xfrm>
                <a:off x="1571400" y="586836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64"/>
              <p:cNvSpPr/>
              <p:nvPr/>
            </p:nvSpPr>
            <p:spPr>
              <a:xfrm>
                <a:off x="157140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65"/>
              <p:cNvSpPr/>
              <p:nvPr/>
            </p:nvSpPr>
            <p:spPr>
              <a:xfrm>
                <a:off x="309528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66"/>
              <p:cNvSpPr/>
              <p:nvPr/>
            </p:nvSpPr>
            <p:spPr>
              <a:xfrm>
                <a:off x="461916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67"/>
              <p:cNvSpPr/>
              <p:nvPr/>
            </p:nvSpPr>
            <p:spPr>
              <a:xfrm>
                <a:off x="614304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8"/>
              <p:cNvSpPr/>
              <p:nvPr/>
            </p:nvSpPr>
            <p:spPr>
              <a:xfrm>
                <a:off x="766728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hnic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people who identify with one another on the basis of one or more of the following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estors’ country of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between students and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Communic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rules that govern how adults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speak to one another and about  publ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verb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meaning of eye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ri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organizing activities around specific star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stop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6160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(cont’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the value of competition and wor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Formats and Learn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traditional instruc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, role-play, peer tutoring, small-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nd use of visu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visual, written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ken formats, and for memor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1:34:27Z</dcterms:created>
  <dc:creator/>
  <dc:description/>
  <cp:keywords/>
  <dc:language>en-US</dc:language>
  <cp:lastModifiedBy>Taylor, Joshua W</cp:lastModifiedBy>
  <cp:lastPrinted>1999-07-26T01:55:12Z</cp:lastPrinted>
  <dcterms:modified xsi:type="dcterms:W3CDTF">2011-10-13T17:52:03Z</dcterms:modified>
  <cp:revision>37</cp:revision>
  <dc:subject/>
  <dc:title>Chapter 5</dc:title>
</cp:coreProperties>
</file>