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/>
          <p:cNvSpPr/>
          <p:nvPr/>
        </p:nvSpPr>
        <p:spPr>
          <a:xfrm>
            <a:off x="388620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"/>
          <p:cNvSpPr/>
          <p:nvPr/>
        </p:nvSpPr>
        <p:spPr>
          <a:xfrm>
            <a:off x="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6708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100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16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6708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100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8640" y="10440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6708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1000" y="144792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316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6708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1000" y="3796200"/>
            <a:ext cx="26985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8640" y="104400"/>
            <a:ext cx="8226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28320" y="379620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28320" y="1447920"/>
            <a:ext cx="4090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160" y="3796200"/>
            <a:ext cx="83818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Snowman image"/>
          <p:cNvPicPr/>
          <p:nvPr/>
        </p:nvPicPr>
        <p:blipFill>
          <a:blip r:embed="rId2"/>
          <a:srcRect l="0" t="0" r="0" b="83230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6"/>
          <p:cNvSpPr/>
          <p:nvPr/>
        </p:nvSpPr>
        <p:spPr>
          <a:xfrm>
            <a:off x="381600" y="6583320"/>
            <a:ext cx="33307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© 2013 Cengage Learning. All rights reser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8128080" y="6600960"/>
            <a:ext cx="108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 | </a:t>
            </a:r>
            <a:fld id="{EC3B1D87-016B-49EC-A602-94822FB5425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nowman image"/>
          <p:cNvPicPr/>
          <p:nvPr/>
        </p:nvPicPr>
        <p:blipFill>
          <a:blip r:embed="rId2"/>
          <a:srcRect l="0" t="0" r="0" b="8516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8640" y="104400"/>
            <a:ext cx="822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33160" y="1447920"/>
            <a:ext cx="8381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724280" y="236196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pter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486320" y="3276360"/>
            <a:ext cx="4657680" cy="144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Addressing</a:t>
            </a:r>
            <a:br>
              <a:rPr sz="2900"/>
            </a:br>
            <a:r>
              <a:rPr b="1" i="1" lang="en-US" sz="2900" spc="-1" strike="noStrike">
                <a:solidFill>
                  <a:srgbClr val="000000"/>
                </a:solidFill>
                <a:latin typeface="Arial"/>
              </a:rPr>
              <a:t>Cultural and Socioeconomic Divers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1200" y="104400"/>
            <a:ext cx="8661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63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Social Class on Lea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700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class indicates an individual’s o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amily’s relative standing in soci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spcBef>
                <a:spcPts val="700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’s social class, or socioeconomic stat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S), principally determined by annua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ome, occupation, amount of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1200" y="104400"/>
            <a:ext cx="86616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601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Social Class on Learning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children from middle- and upper-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milies, children from low-SES families are m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to experien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r quality health care, more illnesses, lea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quality living con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oken families and lower support for scho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hie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ative attitudes and beliefs about the value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levels of learning (achievement g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wer graduation 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 the basis of such characteristics as race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S, ethnic background, dress, speech pattern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test scores, teachers form expectancie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out how various students will perform in cla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ose expectancies are subtly communicated to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tudents in a variety of way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693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s come to behave in a way that i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sistent with what the teacher ex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earch on the Effects of Teachers’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nci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ectancies that are communicated b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ents and teachers can have bo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itiv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negative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93720"/>
                <a:tab algn="l" pos="965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ers expectations more likely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maintain existing tendencies than to al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ell-established behavi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hat Help Create Expectanci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ddle-class students are expected to receive higher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rades than low-SES students, even when their IQ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ores and achievement scores are simi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inority students are given less attention and ar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cted to learn less than white or Asian America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ud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ers tend to perceive children from poor homes a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mature, less capable of following directions, 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 capable of working independently than childre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rom more advantaged ho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 of Ethnicity and Social Class on Teachers’ Expect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s That Help Create Expectancies (cont’d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51b01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ho think of intelligence as a fixed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capacity are more likely to formulate neg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positive expectations of students than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who think of intelligence as a collection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kills that can be sha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achers are more influenced by neg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ormation about students than they are by neutr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positive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6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863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ctive-looking children more likely to b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ceived as brighter and more so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4"/>
          <p:cNvGrpSpPr/>
          <p:nvPr/>
        </p:nvGrpSpPr>
        <p:grpSpPr>
          <a:xfrm>
            <a:off x="228600" y="1447920"/>
            <a:ext cx="8686800" cy="4724280"/>
            <a:chOff x="228600" y="1447920"/>
            <a:chExt cx="8686800" cy="4724280"/>
          </a:xfrm>
        </p:grpSpPr>
        <p:sp>
          <p:nvSpPr>
            <p:cNvPr id="188" name="Rectangle 5"/>
            <p:cNvSpPr/>
            <p:nvPr/>
          </p:nvSpPr>
          <p:spPr>
            <a:xfrm>
              <a:off x="228600" y="1447920"/>
              <a:ext cx="8686800" cy="4724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Group 6"/>
            <p:cNvGrpSpPr/>
            <p:nvPr/>
          </p:nvGrpSpPr>
          <p:grpSpPr>
            <a:xfrm>
              <a:off x="414360" y="1600200"/>
              <a:ext cx="8305920" cy="4420800"/>
              <a:chOff x="414360" y="1600200"/>
              <a:chExt cx="8305920" cy="4420800"/>
            </a:xfrm>
          </p:grpSpPr>
          <p:sp>
            <p:nvSpPr>
              <p:cNvPr id="190" name="Rectangle 7"/>
              <p:cNvSpPr/>
              <p:nvPr/>
            </p:nvSpPr>
            <p:spPr>
              <a:xfrm>
                <a:off x="5138640" y="4952520"/>
                <a:ext cx="3581640" cy="1068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mote self-acceptance and respect for other cultures by studying the impact ethnic groups have had on American society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Rectangle 8"/>
              <p:cNvSpPr/>
              <p:nvPr/>
            </p:nvSpPr>
            <p:spPr>
              <a:xfrm>
                <a:off x="414360" y="4952520"/>
                <a:ext cx="4724280" cy="1068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Learning about the achievements of one’s cultural group will raise self-and group esteem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Rectangle 9"/>
              <p:cNvSpPr/>
              <p:nvPr/>
            </p:nvSpPr>
            <p:spPr>
              <a:xfrm>
                <a:off x="5138640" y="3326760"/>
                <a:ext cx="3581640" cy="162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Teachers should give all students a sense of being valued and accepted by expressing positive attitudes, by using appropriate instructional methods, and by formulating fair disciplinary policies and practice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Rectangle 10"/>
              <p:cNvSpPr/>
              <p:nvPr/>
            </p:nvSpPr>
            <p:spPr>
              <a:xfrm>
                <a:off x="414360" y="3326760"/>
                <a:ext cx="4724280" cy="1625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Individuals must have self-esteem and group esteem to productively work with people from other culture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11"/>
              <p:cNvSpPr/>
              <p:nvPr/>
            </p:nvSpPr>
            <p:spPr>
              <a:xfrm>
                <a:off x="5138640" y="2420280"/>
                <a:ext cx="3581640" cy="906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Promote understanding of the origins and lack of validity of ethnic stereotype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Rectangle 12"/>
              <p:cNvSpPr/>
              <p:nvPr/>
            </p:nvSpPr>
            <p:spPr>
              <a:xfrm>
                <a:off x="414360" y="2420280"/>
                <a:ext cx="4724280" cy="9061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U.S. culture has been formed by the contributions of different cultural groups. 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Rectangle 13"/>
              <p:cNvSpPr/>
              <p:nvPr/>
            </p:nvSpPr>
            <p:spPr>
              <a:xfrm>
                <a:off x="5138640" y="1600200"/>
                <a:ext cx="3581640" cy="8200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Goal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Rectangle 14"/>
              <p:cNvSpPr/>
              <p:nvPr/>
            </p:nvSpPr>
            <p:spPr>
              <a:xfrm>
                <a:off x="414360" y="1600200"/>
                <a:ext cx="4724280" cy="8200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ssumption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15"/>
              <p:cNvSpPr/>
              <p:nvPr/>
            </p:nvSpPr>
            <p:spPr>
              <a:xfrm>
                <a:off x="414360" y="1600200"/>
                <a:ext cx="83059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16"/>
              <p:cNvSpPr/>
              <p:nvPr/>
            </p:nvSpPr>
            <p:spPr>
              <a:xfrm>
                <a:off x="414360" y="2420280"/>
                <a:ext cx="830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17"/>
              <p:cNvSpPr/>
              <p:nvPr/>
            </p:nvSpPr>
            <p:spPr>
              <a:xfrm>
                <a:off x="414360" y="3326760"/>
                <a:ext cx="830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18"/>
              <p:cNvSpPr/>
              <p:nvPr/>
            </p:nvSpPr>
            <p:spPr>
              <a:xfrm>
                <a:off x="414360" y="4952520"/>
                <a:ext cx="83059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19"/>
              <p:cNvSpPr/>
              <p:nvPr/>
            </p:nvSpPr>
            <p:spPr>
              <a:xfrm>
                <a:off x="414360" y="6021000"/>
                <a:ext cx="830592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20"/>
              <p:cNvSpPr/>
              <p:nvPr/>
            </p:nvSpPr>
            <p:spPr>
              <a:xfrm>
                <a:off x="414360" y="1600200"/>
                <a:ext cx="0" cy="4420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21"/>
              <p:cNvSpPr/>
              <p:nvPr/>
            </p:nvSpPr>
            <p:spPr>
              <a:xfrm>
                <a:off x="5138640" y="1600200"/>
                <a:ext cx="0" cy="4420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22"/>
              <p:cNvSpPr/>
              <p:nvPr/>
            </p:nvSpPr>
            <p:spPr>
              <a:xfrm>
                <a:off x="8720280" y="1600200"/>
                <a:ext cx="0" cy="442080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cultural Education Program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228600" y="2057400"/>
            <a:ext cx="8686800" cy="3962160"/>
            <a:chOff x="228600" y="2057400"/>
            <a:chExt cx="8686800" cy="3962160"/>
          </a:xfrm>
        </p:grpSpPr>
        <p:sp>
          <p:nvSpPr>
            <p:cNvPr id="209" name="Rectangle 5"/>
            <p:cNvSpPr/>
            <p:nvPr/>
          </p:nvSpPr>
          <p:spPr>
            <a:xfrm>
              <a:off x="228600" y="2057400"/>
              <a:ext cx="8686800" cy="396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0" name="Group 6"/>
            <p:cNvGrpSpPr/>
            <p:nvPr/>
          </p:nvGrpSpPr>
          <p:grpSpPr>
            <a:xfrm>
              <a:off x="380880" y="2250000"/>
              <a:ext cx="8382240" cy="3609720"/>
              <a:chOff x="380880" y="2250000"/>
              <a:chExt cx="8382240" cy="3609720"/>
            </a:xfrm>
          </p:grpSpPr>
          <p:sp>
            <p:nvSpPr>
              <p:cNvPr id="211" name="Rectangle 7"/>
              <p:cNvSpPr/>
              <p:nvPr/>
            </p:nvSpPr>
            <p:spPr>
              <a:xfrm>
                <a:off x="4572000" y="453924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Help students master basic reading, writing, and computation skills, by embedding them in a personally meaningful (i.e., ethnically related) context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8"/>
              <p:cNvSpPr/>
              <p:nvPr/>
            </p:nvSpPr>
            <p:spPr>
              <a:xfrm>
                <a:off x="380880" y="453924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cademic performance is enhanced when teachers incorporate various cultural values and experiences into instructional lessons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Rectangle 9"/>
              <p:cNvSpPr/>
              <p:nvPr/>
            </p:nvSpPr>
            <p:spPr>
              <a:xfrm>
                <a:off x="4572000" y="321840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Reduce ethnocentrism and increase positive relationships among members of different ethnic groups by understanding the viewpoints and products of these groups.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Rectangle 10"/>
              <p:cNvSpPr/>
              <p:nvPr/>
            </p:nvSpPr>
            <p:spPr>
              <a:xfrm>
                <a:off x="380880" y="3218400"/>
                <a:ext cx="4191120" cy="132048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American society benefits from positive interactions between members of different cultural groups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Rectangle 11"/>
              <p:cNvSpPr/>
              <p:nvPr/>
            </p:nvSpPr>
            <p:spPr>
              <a:xfrm>
                <a:off x="4572000" y="2250000"/>
                <a:ext cx="4191120" cy="968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Goal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2"/>
              <p:cNvSpPr/>
              <p:nvPr/>
            </p:nvSpPr>
            <p:spPr>
              <a:xfrm>
                <a:off x="380880" y="2250000"/>
                <a:ext cx="4191120" cy="9684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Assumptions of Multicultural Education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3"/>
              <p:cNvSpPr/>
              <p:nvPr/>
            </p:nvSpPr>
            <p:spPr>
              <a:xfrm>
                <a:off x="380880" y="2250000"/>
                <a:ext cx="83822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4"/>
              <p:cNvSpPr/>
              <p:nvPr/>
            </p:nvSpPr>
            <p:spPr>
              <a:xfrm>
                <a:off x="380880" y="3218400"/>
                <a:ext cx="838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15"/>
              <p:cNvSpPr/>
              <p:nvPr/>
            </p:nvSpPr>
            <p:spPr>
              <a:xfrm>
                <a:off x="380880" y="4539240"/>
                <a:ext cx="8382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16"/>
              <p:cNvSpPr/>
              <p:nvPr/>
            </p:nvSpPr>
            <p:spPr>
              <a:xfrm>
                <a:off x="380880" y="5859720"/>
                <a:ext cx="838224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7"/>
              <p:cNvSpPr/>
              <p:nvPr/>
            </p:nvSpPr>
            <p:spPr>
              <a:xfrm>
                <a:off x="380880" y="2250000"/>
                <a:ext cx="0" cy="3609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18"/>
              <p:cNvSpPr/>
              <p:nvPr/>
            </p:nvSpPr>
            <p:spPr>
              <a:xfrm>
                <a:off x="4572000" y="2250000"/>
                <a:ext cx="0" cy="3609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19"/>
              <p:cNvSpPr/>
              <p:nvPr/>
            </p:nvSpPr>
            <p:spPr>
              <a:xfrm>
                <a:off x="8763120" y="2250000"/>
                <a:ext cx="0" cy="360972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9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920" y="14605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ibution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ic historical figures whose values and behavio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consistent with American mainstream culture a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ied while individuals who have challenged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 view ar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thnic Additiv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structional unit composed of concepts, theme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s of view, and individual accomplishments i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y added to the curricul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90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46052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Approaches (cont’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ve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no one valid way of understanding peopl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ts, concepts, and themes; there are multip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ews, each of which has something of value to 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-Making and Social Action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86960" indent="0">
              <a:spcBef>
                <a:spcPts val="601"/>
              </a:spcBef>
              <a:buNone/>
              <a:tabLst>
                <a:tab algn="l" pos="0"/>
                <a:tab algn="l" pos="1084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rporates components of all the other approa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adds the requirement that students ma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sions and take actions concerning a concept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sue, or problem being stud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se of Multiculturali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460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Effective Multicultural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vides students with clear object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inuously communicates high expecta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he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s student progress and provid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mediate feed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several years experience in teach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lturally diverse studen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clearly explain why she uses specific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techniq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4605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stics of Effective Multicultural Teach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ves to embed instruction in a meaningfu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x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opportunities for active learning throug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-group work and hands-on activ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hibits a high level of ded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hances students’ self-esteem by hav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assroom materials and practices reflect student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and linguistic backgr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 a strong affinity for the stud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Online Video Case “Culturally Responsive Teaching: A Multicultural Lesson for Elementary Student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Goal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low-achieving minority and/or low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S students master both basic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-level ski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Goals and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er Tutoring (or, Peer-assisted learning):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aching of one student by anot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operative Learning: working in small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terogeneous groups to help one anoth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 a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44480"/>
                <a:tab algn="l" pos="1033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stery Learning: assumes most childre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master the curriculum if certai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r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ationale for Multicultural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ultural programs foster teach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actices that are effective in general as well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for members of a particular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students may profit from understanding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fferent cultur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.S. is becoming an increasing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cultural society and students need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and know how to work wit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of cultures different from their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Rationale for Multicultural Education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ultural education programs expose students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idea that “truth” is very much in the eye of th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o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cultural programs can encourage stud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tivation and lear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74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ous studies document the disappoint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ademic performance of a significant number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ority-group studen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ulticultural Education Pro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460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idging the Cultural and SES Gap with Techn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can help students from culturall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mogeneous neighborhoods bett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derstand peers from other cultures wi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lecommunicatio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net teleconferenc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-based i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7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86364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9848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798480"/>
                <a:tab algn="l" pos="865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lp English language learners (ELLs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quire the English skills they will need to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cceed in sch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46052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roa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ach students wholly or partly in their native languag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til they can function effectively in a regular cla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enance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instruction in native language for a longer perio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 time before moving to all-English instru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-Way Bilingual (Two-Way Immersion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instruction in the language of both the majorit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ulture and the minority cul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ilingual Edu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605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earch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transition and immersion programs ca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p ELLs become proficient in Engl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immersion programs, bilingu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produce small to moderate gains 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ing, language skills, and 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ed to students in immersion program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udents in two-way programs score at or abo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de level on subject-matter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47760"/>
                <a:tab algn="l" pos="795240"/>
                <a:tab algn="l" pos="13082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Online Video Case “Bilingual Education: An Elementary Two-Way Immersion Program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Meaning of Cul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erm culture typically refers to . .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way in which a group of people perceives the world; formulates beliefs; evaluates objects, ideas, and experiences, and beh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se of Multicultur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Melting Pot to Cultural Pl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lting p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erse ethnic groups assimilating into 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stream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al Plur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ociety should strive to maintain the differ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ltures that reside within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ulture within a society should be respec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150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s within a society have the right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ticipate in all aspects of that society witho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ing to give up their cultural ident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Rise of Multicultura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nging Face of the United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cally, most immigrants came from Eu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recent years, most immigrants came from China, Philippine Islands, India, Mexico, South Ame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rth rate for foreign-born women is higher than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ive-born, meaning classrooms will beco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ly culturally diver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8859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migrants to the United Stat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1447920" y="1600200"/>
            <a:ext cx="6324480" cy="4498200"/>
            <a:chOff x="1447920" y="1600200"/>
            <a:chExt cx="6324480" cy="4498200"/>
          </a:xfrm>
        </p:grpSpPr>
        <p:sp>
          <p:nvSpPr>
            <p:cNvPr id="100" name="Rectangle 5"/>
            <p:cNvSpPr/>
            <p:nvPr/>
          </p:nvSpPr>
          <p:spPr>
            <a:xfrm>
              <a:off x="1447920" y="1600200"/>
              <a:ext cx="6324480" cy="4495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>
              <a:off x="1466640" y="5867280"/>
              <a:ext cx="45716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51b01"/>
                  </a:solidFill>
                  <a:latin typeface="Times New Roman"/>
                </a:rPr>
                <a:t>Source: U.S. Department of Homeland Security (2008)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7"/>
            <p:cNvGrpSpPr/>
            <p:nvPr/>
          </p:nvGrpSpPr>
          <p:grpSpPr>
            <a:xfrm>
              <a:off x="1571400" y="1752480"/>
              <a:ext cx="6095880" cy="4115880"/>
              <a:chOff x="1571400" y="1752480"/>
              <a:chExt cx="6095880" cy="4115880"/>
            </a:xfrm>
          </p:grpSpPr>
          <p:sp>
            <p:nvSpPr>
              <p:cNvPr id="103" name="Rectangle 8"/>
              <p:cNvSpPr/>
              <p:nvPr/>
            </p:nvSpPr>
            <p:spPr>
              <a:xfrm>
                <a:off x="6143040" y="5533560"/>
                <a:ext cx="152388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8,061,48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Rectangle 9"/>
              <p:cNvSpPr/>
              <p:nvPr/>
            </p:nvSpPr>
            <p:spPr>
              <a:xfrm>
                <a:off x="4619160" y="5533560"/>
                <a:ext cx="152352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000-200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Rectangle 10"/>
              <p:cNvSpPr/>
              <p:nvPr/>
            </p:nvSpPr>
            <p:spPr>
              <a:xfrm>
                <a:off x="3095280" y="5533560"/>
                <a:ext cx="152352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Rectangle 11"/>
              <p:cNvSpPr/>
              <p:nvPr/>
            </p:nvSpPr>
            <p:spPr>
              <a:xfrm>
                <a:off x="1571400" y="5533560"/>
                <a:ext cx="1523880" cy="3344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2"/>
              <p:cNvSpPr/>
              <p:nvPr/>
            </p:nvSpPr>
            <p:spPr>
              <a:xfrm>
                <a:off x="6143040" y="516528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9,775,39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3"/>
              <p:cNvSpPr/>
              <p:nvPr/>
            </p:nvSpPr>
            <p:spPr>
              <a:xfrm>
                <a:off x="4619160" y="516528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90-199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4"/>
              <p:cNvSpPr/>
              <p:nvPr/>
            </p:nvSpPr>
            <p:spPr>
              <a:xfrm>
                <a:off x="3095280" y="516528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8,202,38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5"/>
              <p:cNvSpPr/>
              <p:nvPr/>
            </p:nvSpPr>
            <p:spPr>
              <a:xfrm>
                <a:off x="1571400" y="516528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00-190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6"/>
              <p:cNvSpPr/>
              <p:nvPr/>
            </p:nvSpPr>
            <p:spPr>
              <a:xfrm>
                <a:off x="6143040" y="47952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6,244,37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7"/>
              <p:cNvSpPr/>
              <p:nvPr/>
            </p:nvSpPr>
            <p:spPr>
              <a:xfrm>
                <a:off x="4619160" y="47952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80-198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8"/>
              <p:cNvSpPr/>
              <p:nvPr/>
            </p:nvSpPr>
            <p:spPr>
              <a:xfrm>
                <a:off x="3095280" y="47952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3,694,29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9"/>
              <p:cNvSpPr/>
              <p:nvPr/>
            </p:nvSpPr>
            <p:spPr>
              <a:xfrm>
                <a:off x="1571400" y="47952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90-189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20"/>
              <p:cNvSpPr/>
              <p:nvPr/>
            </p:nvSpPr>
            <p:spPr>
              <a:xfrm>
                <a:off x="6143040" y="442548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4,248,20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21"/>
              <p:cNvSpPr/>
              <p:nvPr/>
            </p:nvSpPr>
            <p:spPr>
              <a:xfrm>
                <a:off x="4619160" y="442548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70-197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22"/>
              <p:cNvSpPr/>
              <p:nvPr/>
            </p:nvSpPr>
            <p:spPr>
              <a:xfrm>
                <a:off x="3095280" y="442548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5,248,56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23"/>
              <p:cNvSpPr/>
              <p:nvPr/>
            </p:nvSpPr>
            <p:spPr>
              <a:xfrm>
                <a:off x="1571400" y="442548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80-188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24"/>
              <p:cNvSpPr/>
              <p:nvPr/>
            </p:nvSpPr>
            <p:spPr>
              <a:xfrm>
                <a:off x="6143040" y="40554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3,213,74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25"/>
              <p:cNvSpPr/>
              <p:nvPr/>
            </p:nvSpPr>
            <p:spPr>
              <a:xfrm>
                <a:off x="4619160" y="40554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60-196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26"/>
              <p:cNvSpPr/>
              <p:nvPr/>
            </p:nvSpPr>
            <p:spPr>
              <a:xfrm>
                <a:off x="3095280" y="405540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742,13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27"/>
              <p:cNvSpPr/>
              <p:nvPr/>
            </p:nvSpPr>
            <p:spPr>
              <a:xfrm>
                <a:off x="1571400" y="405540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70-187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28"/>
              <p:cNvSpPr/>
              <p:nvPr/>
            </p:nvSpPr>
            <p:spPr>
              <a:xfrm>
                <a:off x="6143040" y="36871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499,26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29"/>
              <p:cNvSpPr/>
              <p:nvPr/>
            </p:nvSpPr>
            <p:spPr>
              <a:xfrm>
                <a:off x="4619160" y="36871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50-195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30"/>
              <p:cNvSpPr/>
              <p:nvPr/>
            </p:nvSpPr>
            <p:spPr>
              <a:xfrm>
                <a:off x="3095280" y="36871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018,26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31"/>
              <p:cNvSpPr/>
              <p:nvPr/>
            </p:nvSpPr>
            <p:spPr>
              <a:xfrm>
                <a:off x="1571400" y="36871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60-186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32"/>
              <p:cNvSpPr/>
              <p:nvPr/>
            </p:nvSpPr>
            <p:spPr>
              <a:xfrm>
                <a:off x="6143040" y="33174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856,60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33"/>
              <p:cNvSpPr/>
              <p:nvPr/>
            </p:nvSpPr>
            <p:spPr>
              <a:xfrm>
                <a:off x="4619160" y="33174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40-194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34"/>
              <p:cNvSpPr/>
              <p:nvPr/>
            </p:nvSpPr>
            <p:spPr>
              <a:xfrm>
                <a:off x="3095280" y="33174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2,814,55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35"/>
              <p:cNvSpPr/>
              <p:nvPr/>
            </p:nvSpPr>
            <p:spPr>
              <a:xfrm>
                <a:off x="1571400" y="33174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50-185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36"/>
              <p:cNvSpPr/>
              <p:nvPr/>
            </p:nvSpPr>
            <p:spPr>
              <a:xfrm>
                <a:off x="6143040" y="294732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699,37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37"/>
              <p:cNvSpPr/>
              <p:nvPr/>
            </p:nvSpPr>
            <p:spPr>
              <a:xfrm>
                <a:off x="4619160" y="294732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30-193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38"/>
              <p:cNvSpPr/>
              <p:nvPr/>
            </p:nvSpPr>
            <p:spPr>
              <a:xfrm>
                <a:off x="3095280" y="2947320"/>
                <a:ext cx="152352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,427,337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39"/>
              <p:cNvSpPr/>
              <p:nvPr/>
            </p:nvSpPr>
            <p:spPr>
              <a:xfrm>
                <a:off x="1571400" y="2947320"/>
                <a:ext cx="1523880" cy="3697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40-184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40"/>
              <p:cNvSpPr/>
              <p:nvPr/>
            </p:nvSpPr>
            <p:spPr>
              <a:xfrm>
                <a:off x="6143040" y="25776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4,295,51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41"/>
              <p:cNvSpPr/>
              <p:nvPr/>
            </p:nvSpPr>
            <p:spPr>
              <a:xfrm>
                <a:off x="4619160" y="25776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20-192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42"/>
              <p:cNvSpPr/>
              <p:nvPr/>
            </p:nvSpPr>
            <p:spPr>
              <a:xfrm>
                <a:off x="3095280" y="2577600"/>
                <a:ext cx="152352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538,318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43"/>
              <p:cNvSpPr/>
              <p:nvPr/>
            </p:nvSpPr>
            <p:spPr>
              <a:xfrm>
                <a:off x="1571400" y="2577600"/>
                <a:ext cx="1523880" cy="3693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30-183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44"/>
              <p:cNvSpPr/>
              <p:nvPr/>
            </p:nvSpPr>
            <p:spPr>
              <a:xfrm>
                <a:off x="6143040" y="22093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6,347,38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45"/>
              <p:cNvSpPr/>
              <p:nvPr/>
            </p:nvSpPr>
            <p:spPr>
              <a:xfrm>
                <a:off x="4619160" y="22093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910-191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46"/>
              <p:cNvSpPr/>
              <p:nvPr/>
            </p:nvSpPr>
            <p:spPr>
              <a:xfrm>
                <a:off x="3095280" y="2209320"/>
                <a:ext cx="152352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28,50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47"/>
              <p:cNvSpPr/>
              <p:nvPr/>
            </p:nvSpPr>
            <p:spPr>
              <a:xfrm>
                <a:off x="1571400" y="2209320"/>
                <a:ext cx="1523880" cy="36792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51b01"/>
                    </a:solidFill>
                    <a:latin typeface="Arial"/>
                  </a:rPr>
                  <a:t>1820-1829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48"/>
              <p:cNvSpPr/>
              <p:nvPr/>
            </p:nvSpPr>
            <p:spPr>
              <a:xfrm>
                <a:off x="6143040" y="1752480"/>
                <a:ext cx="152388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umb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49"/>
              <p:cNvSpPr/>
              <p:nvPr/>
            </p:nvSpPr>
            <p:spPr>
              <a:xfrm>
                <a:off x="4619160" y="1752480"/>
                <a:ext cx="152352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ear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50"/>
              <p:cNvSpPr/>
              <p:nvPr/>
            </p:nvSpPr>
            <p:spPr>
              <a:xfrm>
                <a:off x="3095280" y="1752480"/>
                <a:ext cx="152352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Numbe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51"/>
              <p:cNvSpPr/>
              <p:nvPr/>
            </p:nvSpPr>
            <p:spPr>
              <a:xfrm>
                <a:off x="1571400" y="1752480"/>
                <a:ext cx="1523880" cy="45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Year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52"/>
              <p:cNvSpPr/>
              <p:nvPr/>
            </p:nvSpPr>
            <p:spPr>
              <a:xfrm>
                <a:off x="1571400" y="1752480"/>
                <a:ext cx="60958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53"/>
              <p:cNvSpPr/>
              <p:nvPr/>
            </p:nvSpPr>
            <p:spPr>
              <a:xfrm>
                <a:off x="1571400" y="220932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54"/>
              <p:cNvSpPr/>
              <p:nvPr/>
            </p:nvSpPr>
            <p:spPr>
              <a:xfrm>
                <a:off x="1571400" y="25776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55"/>
              <p:cNvSpPr/>
              <p:nvPr/>
            </p:nvSpPr>
            <p:spPr>
              <a:xfrm>
                <a:off x="1571400" y="294732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56"/>
              <p:cNvSpPr/>
              <p:nvPr/>
            </p:nvSpPr>
            <p:spPr>
              <a:xfrm>
                <a:off x="1571400" y="33174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Line 57"/>
              <p:cNvSpPr/>
              <p:nvPr/>
            </p:nvSpPr>
            <p:spPr>
              <a:xfrm>
                <a:off x="1571400" y="368712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Line 58"/>
              <p:cNvSpPr/>
              <p:nvPr/>
            </p:nvSpPr>
            <p:spPr>
              <a:xfrm>
                <a:off x="1571400" y="40554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Line 59"/>
              <p:cNvSpPr/>
              <p:nvPr/>
            </p:nvSpPr>
            <p:spPr>
              <a:xfrm>
                <a:off x="1571400" y="442548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Line 60"/>
              <p:cNvSpPr/>
              <p:nvPr/>
            </p:nvSpPr>
            <p:spPr>
              <a:xfrm>
                <a:off x="1571400" y="479520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Line 61"/>
              <p:cNvSpPr/>
              <p:nvPr/>
            </p:nvSpPr>
            <p:spPr>
              <a:xfrm>
                <a:off x="1571400" y="516528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Line 62"/>
              <p:cNvSpPr/>
              <p:nvPr/>
            </p:nvSpPr>
            <p:spPr>
              <a:xfrm>
                <a:off x="1571400" y="5533560"/>
                <a:ext cx="6095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Line 63"/>
              <p:cNvSpPr/>
              <p:nvPr/>
            </p:nvSpPr>
            <p:spPr>
              <a:xfrm>
                <a:off x="1571400" y="5868360"/>
                <a:ext cx="6095880" cy="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Line 64"/>
              <p:cNvSpPr/>
              <p:nvPr/>
            </p:nvSpPr>
            <p:spPr>
              <a:xfrm>
                <a:off x="1571400" y="1752480"/>
                <a:ext cx="0" cy="41158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Line 65"/>
              <p:cNvSpPr/>
              <p:nvPr/>
            </p:nvSpPr>
            <p:spPr>
              <a:xfrm>
                <a:off x="3095280" y="1752480"/>
                <a:ext cx="0" cy="411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66"/>
              <p:cNvSpPr/>
              <p:nvPr/>
            </p:nvSpPr>
            <p:spPr>
              <a:xfrm>
                <a:off x="4619160" y="1752480"/>
                <a:ext cx="0" cy="411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Line 67"/>
              <p:cNvSpPr/>
              <p:nvPr/>
            </p:nvSpPr>
            <p:spPr>
              <a:xfrm>
                <a:off x="6143040" y="1752480"/>
                <a:ext cx="0" cy="4115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68"/>
              <p:cNvSpPr/>
              <p:nvPr/>
            </p:nvSpPr>
            <p:spPr>
              <a:xfrm>
                <a:off x="7667280" y="1752480"/>
                <a:ext cx="0" cy="4115880"/>
              </a:xfrm>
              <a:prstGeom prst="line">
                <a:avLst/>
              </a:prstGeom>
              <a:ln cap="sq"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hnic gro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s a collection of people who identify with one another on the basis of one or more of the following characteristic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estors’ country of ori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inte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conomic inter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havior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5400" y="146160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7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ve aspects of ethnicity that are potential sources of misunderstanding between students and teach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bal Communication Patter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s in the rules that govern how adults an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ildren speak to one another and about  public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a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verbal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s in the meaning of eye cont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ime Orient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8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ces in organizing activities around specific star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stop ti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2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4600" y="104400"/>
            <a:ext cx="8254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thnicity and Social Cla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46160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44160" indent="-3441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ve aspects of ethnicity that are potential sources of misunderstanding (cont’d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al Val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the value of competition and work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epend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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al Formats and Learning Pro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preferences for traditional instruction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t, role-play, peer tutoring, small-grou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ing, and use of visual med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65160"/>
                <a:tab algn="l" pos="12524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ces in preferences for visual, written, 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oken formats, and for memori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17T01:34:27Z</dcterms:created>
  <dc:creator/>
  <dc:description/>
  <cp:keywords/>
  <dc:language>en-US</dc:language>
  <cp:lastModifiedBy>Taylor, Joshua W</cp:lastModifiedBy>
  <cp:lastPrinted>1999-07-26T01:55:12Z</cp:lastPrinted>
  <dcterms:modified xsi:type="dcterms:W3CDTF">2011-10-13T17:52:03Z</dcterms:modified>
  <cp:revision>37</cp:revision>
  <dc:subject/>
  <dc:title>Chapter 5</dc:title>
</cp:coreProperties>
</file>