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708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100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708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100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8640" y="10440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708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100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708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100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10440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Snowman image"/>
          <p:cNvPicPr/>
          <p:nvPr/>
        </p:nvPicPr>
        <p:blipFill>
          <a:blip r:embed="rId2"/>
          <a:srcRect l="0" t="0" r="0" b="83230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381600" y="6583320"/>
            <a:ext cx="3330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3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8128080" y="660096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| </a:t>
            </a:r>
            <a:fld id="{57E746A0-BAF3-4BF9-A3AF-DCB705DC156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nowman image"/>
          <p:cNvPicPr/>
          <p:nvPr/>
        </p:nvPicPr>
        <p:blipFill>
          <a:blip r:embed="rId2"/>
          <a:srcRect l="0" t="0" r="0" b="8516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24280" y="23619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486320" y="3276360"/>
            <a:ext cx="4657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Addressing</a:t>
            </a:r>
            <a:br>
              <a:rPr sz="2900"/>
            </a:b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Cultural and Socioeconomic Divers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1200" y="104400"/>
            <a:ext cx="8661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Social Class o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700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lass indicates an individual’s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’s relative standing i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700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’s social class, or socioeconomic stat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S), principally determined by annu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, occupation, amoun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1200" y="104400"/>
            <a:ext cx="8661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Social Class on Learning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children from middle- and upper-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es, children from low-SES families are m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to experi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quality health care, more illnesses, l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quality liv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n families and lower support for scho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attitudes and beliefs about the valu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levels of learning (achievement g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graduat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he basis of such characteristics as race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, ethnic background, dress, speech pattern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est scores, teachers form expectanc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out how various students will perform in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se expectancies are subtly communicated 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udents in a variety of 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come to behave in a way that i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ent with what the teacher ex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on the Effects of Teachers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ies that are communicated b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ents and teachers can have bo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expectations more likely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intain existing tendencies than to al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ll-established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Help Create Expecta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dle-class students are expected to receive highe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es than low-SES students, even when their IQ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res and achievement scores are 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ority students are given less attention and a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to learn less than white or Asian America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s tend to perceive children from poor homes a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mature, less capable of following directions,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capable of working independently than childr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more advantaged h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Help Create Expectancies (cont’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ho think of intelligence as a fixed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capacity are more likely to formulate 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itive expectations of students than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ho think of intelligence as a collec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that can be sha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are more influenced by 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students than they are by neu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ositi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ive-looking children more likely to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ived as brighter and mor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28600" y="1447920"/>
            <a:ext cx="8686800" cy="4724280"/>
            <a:chOff x="228600" y="1447920"/>
            <a:chExt cx="8686800" cy="4724280"/>
          </a:xfrm>
        </p:grpSpPr>
        <p:sp>
          <p:nvSpPr>
            <p:cNvPr id="188" name="Rectangle 5"/>
            <p:cNvSpPr/>
            <p:nvPr/>
          </p:nvSpPr>
          <p:spPr>
            <a:xfrm>
              <a:off x="228600" y="1447920"/>
              <a:ext cx="8686800" cy="472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6"/>
            <p:cNvGrpSpPr/>
            <p:nvPr/>
          </p:nvGrpSpPr>
          <p:grpSpPr>
            <a:xfrm>
              <a:off x="414360" y="1600200"/>
              <a:ext cx="8305920" cy="4420800"/>
              <a:chOff x="414360" y="1600200"/>
              <a:chExt cx="8305920" cy="4420800"/>
            </a:xfrm>
          </p:grpSpPr>
          <p:sp>
            <p:nvSpPr>
              <p:cNvPr id="190" name="Rectangle 7"/>
              <p:cNvSpPr/>
              <p:nvPr/>
            </p:nvSpPr>
            <p:spPr>
              <a:xfrm>
                <a:off x="5138640" y="4952520"/>
                <a:ext cx="3581640" cy="1068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mote self-acceptance and respect for other cultures by studying the impact ethnic groups have had on American society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8"/>
              <p:cNvSpPr/>
              <p:nvPr/>
            </p:nvSpPr>
            <p:spPr>
              <a:xfrm>
                <a:off x="414360" y="4952520"/>
                <a:ext cx="4724280" cy="1068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earning about the achievements of one’s cultural group will raise self-and group estee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9"/>
              <p:cNvSpPr/>
              <p:nvPr/>
            </p:nvSpPr>
            <p:spPr>
              <a:xfrm>
                <a:off x="5138640" y="3326760"/>
                <a:ext cx="3581640" cy="162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eachers should give all students a sense of being valued and accepted by expressing positive attitudes, by using appropriate instructional methods, and by formulating fair disciplinary policies and practic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0"/>
              <p:cNvSpPr/>
              <p:nvPr/>
            </p:nvSpPr>
            <p:spPr>
              <a:xfrm>
                <a:off x="414360" y="3326760"/>
                <a:ext cx="4724280" cy="162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dividuals must have self-esteem and group esteem to productively work with people from other cultur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1"/>
              <p:cNvSpPr/>
              <p:nvPr/>
            </p:nvSpPr>
            <p:spPr>
              <a:xfrm>
                <a:off x="5138640" y="2420280"/>
                <a:ext cx="3581640" cy="906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mote understanding of the origins and lack of validity of ethnic stereotyp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2"/>
              <p:cNvSpPr/>
              <p:nvPr/>
            </p:nvSpPr>
            <p:spPr>
              <a:xfrm>
                <a:off x="414360" y="2420280"/>
                <a:ext cx="4724280" cy="906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.S. culture has been formed by the contributions of different cultural groups.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"/>
              <p:cNvSpPr/>
              <p:nvPr/>
            </p:nvSpPr>
            <p:spPr>
              <a:xfrm>
                <a:off x="5138640" y="1600200"/>
                <a:ext cx="3581640" cy="8200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oal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4"/>
              <p:cNvSpPr/>
              <p:nvPr/>
            </p:nvSpPr>
            <p:spPr>
              <a:xfrm>
                <a:off x="414360" y="1600200"/>
                <a:ext cx="4724280" cy="8200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ssumption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5"/>
              <p:cNvSpPr/>
              <p:nvPr/>
            </p:nvSpPr>
            <p:spPr>
              <a:xfrm>
                <a:off x="414360" y="1600200"/>
                <a:ext cx="8305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6"/>
              <p:cNvSpPr/>
              <p:nvPr/>
            </p:nvSpPr>
            <p:spPr>
              <a:xfrm>
                <a:off x="414360" y="242028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"/>
              <p:cNvSpPr/>
              <p:nvPr/>
            </p:nvSpPr>
            <p:spPr>
              <a:xfrm>
                <a:off x="414360" y="332676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18"/>
              <p:cNvSpPr/>
              <p:nvPr/>
            </p:nvSpPr>
            <p:spPr>
              <a:xfrm>
                <a:off x="414360" y="495252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9"/>
              <p:cNvSpPr/>
              <p:nvPr/>
            </p:nvSpPr>
            <p:spPr>
              <a:xfrm>
                <a:off x="414360" y="6021000"/>
                <a:ext cx="8305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20"/>
              <p:cNvSpPr/>
              <p:nvPr/>
            </p:nvSpPr>
            <p:spPr>
              <a:xfrm>
                <a:off x="414360" y="1600200"/>
                <a:ext cx="0" cy="4420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5138640" y="1600200"/>
                <a:ext cx="0" cy="442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22"/>
              <p:cNvSpPr/>
              <p:nvPr/>
            </p:nvSpPr>
            <p:spPr>
              <a:xfrm>
                <a:off x="8720280" y="1600200"/>
                <a:ext cx="0" cy="4420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cultural Education Progra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228600" y="2057400"/>
            <a:ext cx="8686800" cy="3962160"/>
            <a:chOff x="228600" y="2057400"/>
            <a:chExt cx="8686800" cy="3962160"/>
          </a:xfrm>
        </p:grpSpPr>
        <p:sp>
          <p:nvSpPr>
            <p:cNvPr id="209" name="Rectangle 5"/>
            <p:cNvSpPr/>
            <p:nvPr/>
          </p:nvSpPr>
          <p:spPr>
            <a:xfrm>
              <a:off x="228600" y="2057400"/>
              <a:ext cx="8686800" cy="396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"/>
            <p:cNvGrpSpPr/>
            <p:nvPr/>
          </p:nvGrpSpPr>
          <p:grpSpPr>
            <a:xfrm>
              <a:off x="380880" y="2250000"/>
              <a:ext cx="8382240" cy="3609720"/>
              <a:chOff x="380880" y="2250000"/>
              <a:chExt cx="8382240" cy="3609720"/>
            </a:xfrm>
          </p:grpSpPr>
          <p:sp>
            <p:nvSpPr>
              <p:cNvPr id="211" name="Rectangle 7"/>
              <p:cNvSpPr/>
              <p:nvPr/>
            </p:nvSpPr>
            <p:spPr>
              <a:xfrm>
                <a:off x="4572000" y="453924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elp students master basic reading, writing, and computation skills, by embedding them in a personally meaningful (i.e., ethnically related) context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8"/>
              <p:cNvSpPr/>
              <p:nvPr/>
            </p:nvSpPr>
            <p:spPr>
              <a:xfrm>
                <a:off x="380880" y="453924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ademic performance is enhanced when teachers incorporate various cultural values and experiences into instructional lessons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"/>
              <p:cNvSpPr/>
              <p:nvPr/>
            </p:nvSpPr>
            <p:spPr>
              <a:xfrm>
                <a:off x="4572000" y="321840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duce ethnocentrism and increase positive relationships among members of different ethnic groups by understanding the viewpoints and products of these groups.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0"/>
              <p:cNvSpPr/>
              <p:nvPr/>
            </p:nvSpPr>
            <p:spPr>
              <a:xfrm>
                <a:off x="380880" y="321840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merican society benefits from positive interactions between members of different cultural group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1"/>
              <p:cNvSpPr/>
              <p:nvPr/>
            </p:nvSpPr>
            <p:spPr>
              <a:xfrm>
                <a:off x="4572000" y="2250000"/>
                <a:ext cx="4191120" cy="968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oal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380880" y="2250000"/>
                <a:ext cx="4191120" cy="968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ssumption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3"/>
              <p:cNvSpPr/>
              <p:nvPr/>
            </p:nvSpPr>
            <p:spPr>
              <a:xfrm>
                <a:off x="380880" y="2250000"/>
                <a:ext cx="83822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4"/>
              <p:cNvSpPr/>
              <p:nvPr/>
            </p:nvSpPr>
            <p:spPr>
              <a:xfrm>
                <a:off x="380880" y="3218400"/>
                <a:ext cx="838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5"/>
              <p:cNvSpPr/>
              <p:nvPr/>
            </p:nvSpPr>
            <p:spPr>
              <a:xfrm>
                <a:off x="380880" y="4539240"/>
                <a:ext cx="838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6"/>
              <p:cNvSpPr/>
              <p:nvPr/>
            </p:nvSpPr>
            <p:spPr>
              <a:xfrm>
                <a:off x="380880" y="5859720"/>
                <a:ext cx="83822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7"/>
              <p:cNvSpPr/>
              <p:nvPr/>
            </p:nvSpPr>
            <p:spPr>
              <a:xfrm>
                <a:off x="380880" y="2250000"/>
                <a:ext cx="0" cy="3609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8"/>
              <p:cNvSpPr/>
              <p:nvPr/>
            </p:nvSpPr>
            <p:spPr>
              <a:xfrm>
                <a:off x="4572000" y="2250000"/>
                <a:ext cx="0" cy="360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9"/>
              <p:cNvSpPr/>
              <p:nvPr/>
            </p:nvSpPr>
            <p:spPr>
              <a:xfrm>
                <a:off x="8763120" y="2250000"/>
                <a:ext cx="0" cy="3609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9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4605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ic historical figures whose values and behavi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nsistent with American mainstream culture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d while individuals who have challenged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 view ar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ic Addi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tructional unit composed of concepts, theme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s of view, and individual accomplishments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y added to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9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4605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pproaches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one valid way of understanding peopl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, concepts, and themes; there are multi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, each of which has something of value to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-Making and Social Ac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components of all the other approa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dds the requirement that students ma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 and take actions concerning a concept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, or problem being stud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60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Multicultural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tudents with clear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ly communicates high expect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s student progress and provid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several years experience in teac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ly divers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learly explain why she uses specif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60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Multicultural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ves to embed instruction in a meaningfu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opportunities for active learning throu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-group work and hands-on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bits a high level of ded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s students’ self-esteem by hav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 materials and practices reflect student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and linguistic backgr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strong affinity for the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ideo Case “Culturally Responsive Teaching: A Multicultural Lesson for Elementary Stud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low-achieving minority and/or low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 students master both basic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-leve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 Tutoring (or, Peer-assisted learning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of one student by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ve Learning: working in smal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groups to help one anoth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 a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y Learning: assumes most childr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ster the curriculum if cert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tionale for Multicultur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programs foster teac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 that are effective in general as we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for members of a particula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udents may profit from understand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ultur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.S. is becoming an increasing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society and students nee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nd know how to work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of cultures different from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tionale for Multicultural Education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ultural education programs expose student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“truth” is very much in the eye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ultural programs can encourage stud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and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ous studies document the disappoin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performance of a significant number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ity-group stud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460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the Cultural and SES Gap with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can help students from cultur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eous neighborhoods bet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peers from other cultures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mmunicatio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tele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848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English language learners (ELL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 the English skills they will nee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ed in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460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 students wholly or partly in their native languag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til they can function effectively in a regular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instruction in native language for a longer perio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ime before moving to all-English i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Way Bilingual (Two-Way Immers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instruction in the language of both the major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and the minority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ransition and immersion programs 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ELLs become proficient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immersion programs, bilingu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produce small to moderate gain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, language skills, and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students in immersion program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in two-way programs score at or abo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level on subject-matter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ideo Case “Bilingual Education: An Elementary Two-Way Immersion Progra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ning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culture typically refers to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in which a group of people perceives the world; formulates beliefs; evaluates objects, ideas, and experiences, and beh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Melting Pot to Cultural 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ting 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ethnic groups assimilating into 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stream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ciety should strive to maintain the diffe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s that reside with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ulture within a society should be respec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within a society have the righ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ll aspects of that society with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ing to give up their cultural 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ing Face of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, most immigrants came from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cent years, most immigrants came from China, Philippine Islands, India, Mexico, Sou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 rate for foreign-born women is higher tha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-born, meaning classrooms will bec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 culturally di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88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igrants to the 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1447920" y="1600200"/>
            <a:ext cx="6324480" cy="4498200"/>
            <a:chOff x="1447920" y="1600200"/>
            <a:chExt cx="6324480" cy="4498200"/>
          </a:xfrm>
        </p:grpSpPr>
        <p:sp>
          <p:nvSpPr>
            <p:cNvPr id="100" name="Rectangle 5"/>
            <p:cNvSpPr/>
            <p:nvPr/>
          </p:nvSpPr>
          <p:spPr>
            <a:xfrm>
              <a:off x="1447920" y="1600200"/>
              <a:ext cx="6324480" cy="449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1466640" y="5867280"/>
              <a:ext cx="457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51b01"/>
                  </a:solidFill>
                  <a:latin typeface="Times New Roman"/>
                </a:rPr>
                <a:t>Source: U.S. Department of Homeland Security (2008)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7"/>
            <p:cNvGrpSpPr/>
            <p:nvPr/>
          </p:nvGrpSpPr>
          <p:grpSpPr>
            <a:xfrm>
              <a:off x="1571400" y="1752480"/>
              <a:ext cx="6095880" cy="4115880"/>
              <a:chOff x="1571400" y="1752480"/>
              <a:chExt cx="6095880" cy="4115880"/>
            </a:xfrm>
          </p:grpSpPr>
          <p:sp>
            <p:nvSpPr>
              <p:cNvPr id="103" name="Rectangle 8"/>
              <p:cNvSpPr/>
              <p:nvPr/>
            </p:nvSpPr>
            <p:spPr>
              <a:xfrm>
                <a:off x="6143040" y="5533560"/>
                <a:ext cx="152388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,061,48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9"/>
              <p:cNvSpPr/>
              <p:nvPr/>
            </p:nvSpPr>
            <p:spPr>
              <a:xfrm>
                <a:off x="4619160" y="5533560"/>
                <a:ext cx="152352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000-200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"/>
              <p:cNvSpPr/>
              <p:nvPr/>
            </p:nvSpPr>
            <p:spPr>
              <a:xfrm>
                <a:off x="3095280" y="5533560"/>
                <a:ext cx="152352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1"/>
              <p:cNvSpPr/>
              <p:nvPr/>
            </p:nvSpPr>
            <p:spPr>
              <a:xfrm>
                <a:off x="1571400" y="5533560"/>
                <a:ext cx="152388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2"/>
              <p:cNvSpPr/>
              <p:nvPr/>
            </p:nvSpPr>
            <p:spPr>
              <a:xfrm>
                <a:off x="6143040" y="516528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9,775,39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3"/>
              <p:cNvSpPr/>
              <p:nvPr/>
            </p:nvSpPr>
            <p:spPr>
              <a:xfrm>
                <a:off x="4619160" y="516528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90-19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4"/>
              <p:cNvSpPr/>
              <p:nvPr/>
            </p:nvSpPr>
            <p:spPr>
              <a:xfrm>
                <a:off x="3095280" y="516528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,202,38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5"/>
              <p:cNvSpPr/>
              <p:nvPr/>
            </p:nvSpPr>
            <p:spPr>
              <a:xfrm>
                <a:off x="1571400" y="516528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00-190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6"/>
              <p:cNvSpPr/>
              <p:nvPr/>
            </p:nvSpPr>
            <p:spPr>
              <a:xfrm>
                <a:off x="6143040" y="47952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,244,3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7"/>
              <p:cNvSpPr/>
              <p:nvPr/>
            </p:nvSpPr>
            <p:spPr>
              <a:xfrm>
                <a:off x="4619160" y="47952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80-19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8"/>
              <p:cNvSpPr/>
              <p:nvPr/>
            </p:nvSpPr>
            <p:spPr>
              <a:xfrm>
                <a:off x="3095280" y="47952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3,694,29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9"/>
              <p:cNvSpPr/>
              <p:nvPr/>
            </p:nvSpPr>
            <p:spPr>
              <a:xfrm>
                <a:off x="1571400" y="47952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90-18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0"/>
              <p:cNvSpPr/>
              <p:nvPr/>
            </p:nvSpPr>
            <p:spPr>
              <a:xfrm>
                <a:off x="6143040" y="442548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4,248,20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1"/>
              <p:cNvSpPr/>
              <p:nvPr/>
            </p:nvSpPr>
            <p:spPr>
              <a:xfrm>
                <a:off x="4619160" y="442548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70-19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2"/>
              <p:cNvSpPr/>
              <p:nvPr/>
            </p:nvSpPr>
            <p:spPr>
              <a:xfrm>
                <a:off x="3095280" y="442548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5,248,56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3"/>
              <p:cNvSpPr/>
              <p:nvPr/>
            </p:nvSpPr>
            <p:spPr>
              <a:xfrm>
                <a:off x="1571400" y="442548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80-18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4"/>
              <p:cNvSpPr/>
              <p:nvPr/>
            </p:nvSpPr>
            <p:spPr>
              <a:xfrm>
                <a:off x="6143040" y="40554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3,213,7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5"/>
              <p:cNvSpPr/>
              <p:nvPr/>
            </p:nvSpPr>
            <p:spPr>
              <a:xfrm>
                <a:off x="4619160" y="40554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60-196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6"/>
              <p:cNvSpPr/>
              <p:nvPr/>
            </p:nvSpPr>
            <p:spPr>
              <a:xfrm>
                <a:off x="3095280" y="40554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742,1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7"/>
              <p:cNvSpPr/>
              <p:nvPr/>
            </p:nvSpPr>
            <p:spPr>
              <a:xfrm>
                <a:off x="1571400" y="40554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70-18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8"/>
              <p:cNvSpPr/>
              <p:nvPr/>
            </p:nvSpPr>
            <p:spPr>
              <a:xfrm>
                <a:off x="6143040" y="36871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499,26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9"/>
              <p:cNvSpPr/>
              <p:nvPr/>
            </p:nvSpPr>
            <p:spPr>
              <a:xfrm>
                <a:off x="4619160" y="36871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50-19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0"/>
              <p:cNvSpPr/>
              <p:nvPr/>
            </p:nvSpPr>
            <p:spPr>
              <a:xfrm>
                <a:off x="3095280" y="36871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018,26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1"/>
              <p:cNvSpPr/>
              <p:nvPr/>
            </p:nvSpPr>
            <p:spPr>
              <a:xfrm>
                <a:off x="1571400" y="36871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60-186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2"/>
              <p:cNvSpPr/>
              <p:nvPr/>
            </p:nvSpPr>
            <p:spPr>
              <a:xfrm>
                <a:off x="6143040" y="33174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56,60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3"/>
              <p:cNvSpPr/>
              <p:nvPr/>
            </p:nvSpPr>
            <p:spPr>
              <a:xfrm>
                <a:off x="4619160" y="33174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40-19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4"/>
              <p:cNvSpPr/>
              <p:nvPr/>
            </p:nvSpPr>
            <p:spPr>
              <a:xfrm>
                <a:off x="3095280" y="33174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814,55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35"/>
              <p:cNvSpPr/>
              <p:nvPr/>
            </p:nvSpPr>
            <p:spPr>
              <a:xfrm>
                <a:off x="1571400" y="33174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50-18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36"/>
              <p:cNvSpPr/>
              <p:nvPr/>
            </p:nvSpPr>
            <p:spPr>
              <a:xfrm>
                <a:off x="6143040" y="294732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99,37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7"/>
              <p:cNvSpPr/>
              <p:nvPr/>
            </p:nvSpPr>
            <p:spPr>
              <a:xfrm>
                <a:off x="4619160" y="294732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30-193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8"/>
              <p:cNvSpPr/>
              <p:nvPr/>
            </p:nvSpPr>
            <p:spPr>
              <a:xfrm>
                <a:off x="3095280" y="294732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,427,3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9"/>
              <p:cNvSpPr/>
              <p:nvPr/>
            </p:nvSpPr>
            <p:spPr>
              <a:xfrm>
                <a:off x="1571400" y="294732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40-18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40"/>
              <p:cNvSpPr/>
              <p:nvPr/>
            </p:nvSpPr>
            <p:spPr>
              <a:xfrm>
                <a:off x="6143040" y="25776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4,295,5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41"/>
              <p:cNvSpPr/>
              <p:nvPr/>
            </p:nvSpPr>
            <p:spPr>
              <a:xfrm>
                <a:off x="4619160" y="25776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20-19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42"/>
              <p:cNvSpPr/>
              <p:nvPr/>
            </p:nvSpPr>
            <p:spPr>
              <a:xfrm>
                <a:off x="3095280" y="25776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538,31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43"/>
              <p:cNvSpPr/>
              <p:nvPr/>
            </p:nvSpPr>
            <p:spPr>
              <a:xfrm>
                <a:off x="1571400" y="25776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30-183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44"/>
              <p:cNvSpPr/>
              <p:nvPr/>
            </p:nvSpPr>
            <p:spPr>
              <a:xfrm>
                <a:off x="6143040" y="22093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,347,38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45"/>
              <p:cNvSpPr/>
              <p:nvPr/>
            </p:nvSpPr>
            <p:spPr>
              <a:xfrm>
                <a:off x="4619160" y="22093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10-19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46"/>
              <p:cNvSpPr/>
              <p:nvPr/>
            </p:nvSpPr>
            <p:spPr>
              <a:xfrm>
                <a:off x="3095280" y="22093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28,50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7"/>
              <p:cNvSpPr/>
              <p:nvPr/>
            </p:nvSpPr>
            <p:spPr>
              <a:xfrm>
                <a:off x="1571400" y="22093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20-18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8"/>
              <p:cNvSpPr/>
              <p:nvPr/>
            </p:nvSpPr>
            <p:spPr>
              <a:xfrm>
                <a:off x="6143040" y="1752480"/>
                <a:ext cx="152388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9"/>
              <p:cNvSpPr/>
              <p:nvPr/>
            </p:nvSpPr>
            <p:spPr>
              <a:xfrm>
                <a:off x="4619160" y="1752480"/>
                <a:ext cx="152352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ea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50"/>
              <p:cNvSpPr/>
              <p:nvPr/>
            </p:nvSpPr>
            <p:spPr>
              <a:xfrm>
                <a:off x="3095280" y="1752480"/>
                <a:ext cx="152352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51"/>
              <p:cNvSpPr/>
              <p:nvPr/>
            </p:nvSpPr>
            <p:spPr>
              <a:xfrm>
                <a:off x="1571400" y="1752480"/>
                <a:ext cx="152388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e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2"/>
              <p:cNvSpPr/>
              <p:nvPr/>
            </p:nvSpPr>
            <p:spPr>
              <a:xfrm>
                <a:off x="1571400" y="1752480"/>
                <a:ext cx="60958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3"/>
              <p:cNvSpPr/>
              <p:nvPr/>
            </p:nvSpPr>
            <p:spPr>
              <a:xfrm>
                <a:off x="1571400" y="22093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4"/>
              <p:cNvSpPr/>
              <p:nvPr/>
            </p:nvSpPr>
            <p:spPr>
              <a:xfrm>
                <a:off x="1571400" y="25776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5"/>
              <p:cNvSpPr/>
              <p:nvPr/>
            </p:nvSpPr>
            <p:spPr>
              <a:xfrm>
                <a:off x="1571400" y="29473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6"/>
              <p:cNvSpPr/>
              <p:nvPr/>
            </p:nvSpPr>
            <p:spPr>
              <a:xfrm>
                <a:off x="1571400" y="33174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7"/>
              <p:cNvSpPr/>
              <p:nvPr/>
            </p:nvSpPr>
            <p:spPr>
              <a:xfrm>
                <a:off x="1571400" y="36871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8"/>
              <p:cNvSpPr/>
              <p:nvPr/>
            </p:nvSpPr>
            <p:spPr>
              <a:xfrm>
                <a:off x="1571400" y="40554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59"/>
              <p:cNvSpPr/>
              <p:nvPr/>
            </p:nvSpPr>
            <p:spPr>
              <a:xfrm>
                <a:off x="1571400" y="442548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60"/>
              <p:cNvSpPr/>
              <p:nvPr/>
            </p:nvSpPr>
            <p:spPr>
              <a:xfrm>
                <a:off x="1571400" y="47952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61"/>
              <p:cNvSpPr/>
              <p:nvPr/>
            </p:nvSpPr>
            <p:spPr>
              <a:xfrm>
                <a:off x="1571400" y="516528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62"/>
              <p:cNvSpPr/>
              <p:nvPr/>
            </p:nvSpPr>
            <p:spPr>
              <a:xfrm>
                <a:off x="1571400" y="553356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63"/>
              <p:cNvSpPr/>
              <p:nvPr/>
            </p:nvSpPr>
            <p:spPr>
              <a:xfrm>
                <a:off x="1571400" y="5868360"/>
                <a:ext cx="60958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64"/>
              <p:cNvSpPr/>
              <p:nvPr/>
            </p:nvSpPr>
            <p:spPr>
              <a:xfrm>
                <a:off x="1571400" y="1752480"/>
                <a:ext cx="0" cy="4115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65"/>
              <p:cNvSpPr/>
              <p:nvPr/>
            </p:nvSpPr>
            <p:spPr>
              <a:xfrm>
                <a:off x="309528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66"/>
              <p:cNvSpPr/>
              <p:nvPr/>
            </p:nvSpPr>
            <p:spPr>
              <a:xfrm>
                <a:off x="461916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67"/>
              <p:cNvSpPr/>
              <p:nvPr/>
            </p:nvSpPr>
            <p:spPr>
              <a:xfrm>
                <a:off x="614304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8"/>
              <p:cNvSpPr/>
              <p:nvPr/>
            </p:nvSpPr>
            <p:spPr>
              <a:xfrm>
                <a:off x="7667280" y="1752480"/>
                <a:ext cx="0" cy="4115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hnic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lection of people who identify with one another on the basis of one or more of the following 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estors’ country of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aspects of ethnicity that are potential sources of misunderstanding between students and teac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 Communicatio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the rules that govern how adults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speak to one another and about  publ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a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verb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the meaning of eye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Ori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organizing activities around specific star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stop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6160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aspects of ethnicity that are potential sources of misunderstanding (cont’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the value of competition and wor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Formats and Learn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preferences for traditional instruc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, role-play, peer tutoring, small-grou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, and use of visu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preferences for visual, written,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ken formats, and for memor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1:34:27Z</dcterms:created>
  <dc:creator/>
  <dc:description/>
  <cp:keywords/>
  <dc:language>en-US</dc:language>
  <cp:lastModifiedBy>Taylor, Joshua W</cp:lastModifiedBy>
  <cp:lastPrinted>1999-07-26T01:55:12Z</cp:lastPrinted>
  <dcterms:modified xsi:type="dcterms:W3CDTF">2011-10-13T17:52:03Z</dcterms:modified>
  <cp:revision>37</cp:revision>
  <dc:subject/>
  <dc:title>Chapter 5</dc:title>
</cp:coreProperties>
</file>