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1BB-1308-44CF-9620-FB322D92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913-39B4-4AD2-86DA-6C99EB87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52A-BFA2-4395-96CF-9FB76AFA8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D58-14B8-4EC2-A73F-88BEAB48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F68-6437-40AD-B847-A5F393FA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12C3-EFC5-4946-9F83-541244C4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3925-A78C-40EC-83CE-B69191D4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A8FC-28E5-4D3F-BB85-1E69C02F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A5DC-C6CC-49BC-A38F-3B107384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BE18-5E04-48BD-A5E2-639A76A0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9D15-0DA7-4E84-9A56-71859D0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2E1-025A-4C36-A1FC-63351090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9BEE-455B-4067-816A-C752A0FE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6CE7-C7C7-4CFD-B1F3-AA462C28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FACB-0094-4B27-A10B-2812E170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80F5-5558-4816-BA5E-75069201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6C8B-2ED0-4518-9FDC-FF8E0EC7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84A-4637-452E-A0CB-89D359C4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0AC-5581-4115-BD53-B63428A0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623-0DC7-4C1B-930F-8222FED4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9FC-338B-4E98-9D8D-62A9250B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A68-B669-49A1-A40D-169ADABF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E99-8ECC-4AD8-831F-D7DC510E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E3E-B727-4635-9376-CD600C33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677A-228B-4DF3-9515-599FBCA45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4B2-686E-4282-9E10-C825A9302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StrsvKSAbT8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Biopsychology as a Neuroscienc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3352680" y="4724280"/>
            <a:ext cx="2590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psychological effects of brain damage in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xperiment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acks’ study of Jimmy 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phys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relation between       physiological activity and psychological processes in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pure or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uses noninvasiv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Ramachandran’s study of Capgras syndrome patient’s GSR compared to contr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6858000" y="1219320"/>
            <a:ext cx="217188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Neuro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gate neural bases of 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ly uses noninvasiv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uses human s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is often interdisciplin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PET scans of male and female participants solving math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-31680" y="-136440"/>
            <a:ext cx="10285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120600" y="15840"/>
            <a:ext cx="102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-31680" y="-136440"/>
            <a:ext cx="22669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7315200" y="3276720"/>
            <a:ext cx="152712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general biology of behavior (as opposed to neural mechanis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s behavior of different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s on evolution, genetics, adap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always animal P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ng tool use of orangutans, chimps, and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" descr=""/>
          <p:cNvPicPr/>
          <p:nvPr/>
        </p:nvPicPr>
        <p:blipFill>
          <a:blip r:embed="rId1"/>
          <a:stretch/>
        </p:blipFill>
        <p:spPr>
          <a:xfrm>
            <a:off x="6781680" y="3581280"/>
            <a:ext cx="1992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se of Jimmie G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“The Lost Mariner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fr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Man Who Mistook His Wife for a Ha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Oliver S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ould be happy to make you a copy of the whole case if you’d like to read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verging Operations and Korsakoff’s Syndrom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divisions of biopsych. often study the same problem to offer better understanding of whole picture (converging oper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as the case with study of Korsakoff’s Synd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orsakoff’s Syndr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it initially thought to be caused 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it actually caused b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converging operations lead to this conclu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1"/>
          <a:stretch/>
        </p:blipFill>
        <p:spPr>
          <a:xfrm>
            <a:off x="4724280" y="4648320"/>
            <a:ext cx="28576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ical Thinking and Two “Bad Science” examp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the two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/were the errors that lead to the incorrect conclu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conclu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s://www.youtube.com/watch?v=StrsvKSAbT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at 40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e Defini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sc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study of the nervous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sed of many different disciplin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psyc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fic study of the biology of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logical approach to the study of Psych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ng field (about 70 years ol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ng to their research a knowledge of behavior and of the methods of behaviora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 purpose of NS is to produce and control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should psychologists study this?  Biologists/medical doc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1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847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hat are some other neuroscientific fields that contribute to biopsychology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endocr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at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harma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phys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iopsychological Research Metho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: Human and Nonhu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of human over nonhuman s’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s of nonhuman over human s’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2590920" y="4419720"/>
            <a:ext cx="323856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nd Non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researchers to determine 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or mor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ween-s’s and Within-s’s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and D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ounded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676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s and Nonexperi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xperimental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si-Experimental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psychological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e and Applie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e 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d Resear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1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ological Psyc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that directly manipulate the brain, usually through surgical, electrical and chemical means, to see effects on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nts are usually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pure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udy of effects of Dopamine infusions into Ventral Tegmental Area of midbrain in r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isions of Biopsycholog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pharmac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ies that investigate effects of drugs on brain an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’s can be animals or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appli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studying effects of newly developed drug on several different species to determine toxicity and behavioral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1" descr=""/>
          <p:cNvPicPr/>
          <p:nvPr/>
        </p:nvPicPr>
        <p:blipFill>
          <a:blip r:embed="rId1"/>
          <a:stretch/>
        </p:blipFill>
        <p:spPr>
          <a:xfrm>
            <a:off x="6935760" y="1143000"/>
            <a:ext cx="1717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3:54:12Z</dcterms:created>
  <dc:creator>Campus Computing</dc:creator>
  <dc:description/>
  <dc:language>en-US</dc:language>
  <cp:lastModifiedBy>Trench, Lynne S.</cp:lastModifiedBy>
  <dcterms:modified xsi:type="dcterms:W3CDTF">2022-02-03T15:31:14Z</dcterms:modified>
  <cp:revision>59</cp:revision>
  <dc:subject/>
  <dc:title>How do organisms adapt to change?</dc:title>
</cp:coreProperties>
</file>