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0282-4498-4E6E-BC6C-5FFC0A93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9BB8-5703-40A1-818E-0C77E64E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8108-5ED4-4DA0-9404-FCFBBEEE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6915-EAF8-47D2-8BFD-DB897950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64BC-7647-462F-B77D-07DA7704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70F8-2A1E-47C2-9477-68BAF4F3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6AB3-A89E-4394-80E5-CB111E7E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59B4-9773-4336-8C76-1E197DA2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6585-9D76-48EE-B786-8054E54D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92B0-6F01-4945-AF8B-EA8286AD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EADC-FF43-4FB9-9863-7CA29B97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78A8-6F1E-46E7-907C-D58E507F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E381-578C-491B-A723-6ED4127E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6427-62C2-4A12-9D01-93B0A1E9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35CC-2A44-4220-ADCC-85BC5D99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4682-6959-45C9-B7DE-254A12DC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116A-3883-4A4E-9E04-3C7CCD9C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32EC-8E7E-4018-8D6C-3AD13C71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7AC2-1BAE-4F6D-BC53-F01364F9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A09B-E7A0-4CD2-B30A-26CECBF7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5F45-CA79-4993-A971-4709A902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1476-9D52-4BD2-937F-FB7251A9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8B2-3B60-4B6E-91E5-82D6EE41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ED4F-4C07-4760-AE2E-8A27E8BC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4A92-F710-4E83-9D3B-76FDBCFC8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44FD-0782-4B4A-995E-5CB800366E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StrsvKSAbT8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Biopsychology as a Neuroscienc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3352680" y="4724280"/>
            <a:ext cx="25909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visions of Biopsycholo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psych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e psychological effects of brain damage in hum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most always applied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xperimental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Sacks’ study of Jimmy 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visions of Biopsycholo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phys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e relation between       physiological activity and psychological processes in hum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pure or applied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ly uses noninvasive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Ramachandran’s study of Capgras syndrome patient’s GSR compared to contr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1" descr=""/>
          <p:cNvPicPr/>
          <p:nvPr/>
        </p:nvPicPr>
        <p:blipFill>
          <a:blip r:embed="rId1"/>
          <a:stretch/>
        </p:blipFill>
        <p:spPr>
          <a:xfrm>
            <a:off x="6858000" y="1219320"/>
            <a:ext cx="2171880" cy="14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visions of Biopsycholo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gnitive Neuro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e neural bases of cog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ly uses noninvasive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most always uses human s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is often interdisciplina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PET scans of male and female participants solving math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-31680" y="-136440"/>
            <a:ext cx="10285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120600" y="15840"/>
            <a:ext cx="10288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-31680" y="-136440"/>
            <a:ext cx="22669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7315200" y="3276720"/>
            <a:ext cx="152712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visions of Biopsycholo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ative Psych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ies general biology of behavior (as opposed to neural mechanis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s behavior of different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es on evolution, genetics, adaptiv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most always animal P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ing tool use of orangutans, chimps, and hum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1" descr=""/>
          <p:cNvPicPr/>
          <p:nvPr/>
        </p:nvPicPr>
        <p:blipFill>
          <a:blip r:embed="rId1"/>
          <a:stretch/>
        </p:blipFill>
        <p:spPr>
          <a:xfrm>
            <a:off x="6781680" y="3581280"/>
            <a:ext cx="1992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se of Jimmie G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“The Lost Mariner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 fro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Man Who Mistook His Wife for a H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Oliver S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be happy to make you a copy of the whole case if you’d like to read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verging Operations and Korsakoff’s Syndrom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divisions of biopsych. often study the same problem to offer better understanding of whole picture (converging oper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as the case with study of Korsakoff’s Synd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orsakoff’s Syndrom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it initially thought to be caused b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it actually caused b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converging operations lead to this conclus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1" descr=""/>
          <p:cNvPicPr/>
          <p:nvPr/>
        </p:nvPicPr>
        <p:blipFill>
          <a:blip r:embed="rId1"/>
          <a:stretch/>
        </p:blipFill>
        <p:spPr>
          <a:xfrm>
            <a:off x="4724280" y="4648320"/>
            <a:ext cx="28576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ritical Thinking and Two “Bad Science” examp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the two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/were the errors that lead to the incorrect conclus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an we conclu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s://www.youtube.com/watch?v=StrsvKSAbT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at 40 s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me Defini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rosc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tific study of the nervous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sed of many different disciplin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opsych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tific study of the biology of behav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logical approach to the study of Psych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ng field (about 70 years ol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ing to their research a knowledge of behavior and of the methods of behavioral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ltimate purpose of NS is to produce and control behav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should psychologists study this?  Biologists/medical docto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1" descr=""/>
          <p:cNvPicPr/>
          <p:nvPr/>
        </p:nvPicPr>
        <p:blipFill>
          <a:blip r:embed="rId1"/>
          <a:stretch/>
        </p:blipFill>
        <p:spPr>
          <a:xfrm>
            <a:off x="6095880" y="1752480"/>
            <a:ext cx="28479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hat are some other neuroscientific fields that contribute to biopsychology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chem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endocri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path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pharmac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phys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iopsychological Research Method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s: Human and Nonhu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 of human over nonhuman s’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 of nonhuman over human s’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2590920" y="4419720"/>
            <a:ext cx="323856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opsychological Resear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s and Nonexperi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al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researchers to determine 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or more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ween-s’s and Within-s’s desig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and D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ounded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1"/>
          <a:stretch/>
        </p:blipFill>
        <p:spPr>
          <a:xfrm>
            <a:off x="7162920" y="4114800"/>
            <a:ext cx="1676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opsychological Resear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s and Nonexperi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xperimental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si-Experimental Stud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Stud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opsychological Resear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e and Applied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e Researc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ed Researc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5257800" y="26668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visions of Biopsycholo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ological Psych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ies that directly manipulate the brain, usually through surgical, electrical and chemical means, to see effects on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nts are usually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pure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study of effects of Dopamine infusions into Ventral Tegmental Area of midbrain in r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visions of Biopsycholo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pharmac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ies that investigate effects of drugs on brain and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’s can be animals or hum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applied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studying effects of newly developed drug on several different species to determine toxicity and behavioral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1" descr=""/>
          <p:cNvPicPr/>
          <p:nvPr/>
        </p:nvPicPr>
        <p:blipFill>
          <a:blip r:embed="rId1"/>
          <a:stretch/>
        </p:blipFill>
        <p:spPr>
          <a:xfrm>
            <a:off x="6935760" y="1143000"/>
            <a:ext cx="1717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2-02-03T15:31:14Z</dcterms:modified>
  <cp:revision>59</cp:revision>
  <dc:subject/>
  <dc:title>How do organisms adapt to change?</dc:title>
</cp:coreProperties>
</file>