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937-37EE-44D4-824B-EE96E5B4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34D-2210-4289-92D1-6027D9EB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FA7-E367-41F0-BDF4-0F49B861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8CE-4326-48D8-BCA9-85FB2381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565-445F-42A8-A5AA-FECA9CD7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4281-6980-4A25-AE0D-1BECDEF8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E1CC-78D9-4859-A478-D2E1662D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CAA3-11CD-4499-B4E1-50A439A8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F14B-9007-4A42-ADF6-0C311A52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A124-6826-4179-B268-90EE33AB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836-4693-4C60-B459-E65A65A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421-502E-471A-90AF-2FFDD6C1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4F6D-6DCF-4885-B27F-BBA3409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7ED-D8B9-432D-BB0D-544C57F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E4A0-7705-4FA7-9C8F-5FC23059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FA66-4F42-4996-ACD5-3354D4AF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7289-B5AE-46ED-AA48-29DBF92B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B01-EF2D-49DE-915C-A7F1B7EF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DB3-9AD3-4FF3-A7AC-6DB2D2D4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EB6-A16F-4073-BD94-EB58713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1CE-E4AA-4268-9CFF-33156833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D06-10B8-4FF4-B1C6-DCB2F3C3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4D3-3293-439E-9F5C-D1EECB8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A6A-5483-4EA0-BBF5-6C49D83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B78C-0277-43EB-BF1A-3C9803798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7220-AD5C-433B-B8F0-4309E3652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StrsvKSAbT8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iopsychology as a Neuro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2590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psychological effects of brain damage in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xperiment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acks’ study of Jimmy 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phys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relation between       physiological activity and psychological processes in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pure or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uses noninvasiv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Ramachandran’s study of Capgras syndrome patient’s GSR compared to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21718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Neuro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neural bases of 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uses noninvasiv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uses human s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is often interdisciplin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PET scans of male and female participants solving ma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-31680" y="-136440"/>
            <a:ext cx="1028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20600" y="15840"/>
            <a:ext cx="102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-31680" y="-136440"/>
            <a:ext cx="2266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7315200" y="3276720"/>
            <a:ext cx="15271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general biology of behavior (as opposed to neural mechanis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behavior of different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s on evolution, genetics, adap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animal P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tool use of orangutans, chimps, and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992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of Jimmie G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“The Lost Mariner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fr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Man Who Mistook His Wife for a 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Oliver S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happy to make you a copy of the whole case if you’d like to rea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verging Operations and Korsakoff’s Syndro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divisions of biopsych. often study the same problem to offer better understanding of whole picture (converging oper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the case with study of Korsakoff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rsakoff’s Syndr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it initially thought to be caused 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 actually caused 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converging operations lead to this conclu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1"/>
          <a:stretch/>
        </p:blipFill>
        <p:spPr>
          <a:xfrm>
            <a:off x="4724280" y="4648320"/>
            <a:ext cx="2857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ical Thinking and Two “Bad Science” ex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the two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/were the errors that lead to the incorrect conclu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conclu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StrsvKSAbT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at 40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study of the nervous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sed of many different discipli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study of the biology of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 approach to the study of Psych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ng field (about 70 years o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ng to their research a knowledge of behavior and of the methods of behaviora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 purpose of NS is to produce and control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should psychologists study this?  Biologists/medical doc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847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are some other neuroscientific fields that contribute to biopsychology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endocr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harma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hys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iopsychological Research Metho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: Human and Nonhu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of human over nonhuman s’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of nonhuman over human s’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32385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nd Non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researchers to determine 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or mor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-s’s and Within-s’s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d D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unded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67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nd Non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xperiment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si-Experimental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 and Applie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d 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al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that directly manipulate the brain, usually through surgical, electrical and chemical means, to see effects on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s are usually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pur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udy of effects of Dopamine infusions into Ventral Tegmental Area of midbrain in r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pharma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that investigate effects of drugs on brain an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’s can be animals or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udying effects of newly developed drug on several different species to determine toxicity and behavioral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935760" y="1143000"/>
            <a:ext cx="1717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2-03T15:31:14Z</dcterms:modified>
  <cp:revision>59</cp:revision>
  <dc:subject/>
  <dc:title>How do organisms adapt to change?</dc:title>
</cp:coreProperties>
</file>