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3"/>
          <p:cNvSpPr/>
          <p:nvPr/>
        </p:nvSpPr>
        <p:spPr>
          <a:xfrm>
            <a:off x="2590920" y="914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1143000" y="28195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1295280" y="1295280"/>
            <a:ext cx="1752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371600" y="1523880"/>
            <a:ext cx="990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7"/>
          <p:cNvSpPr/>
          <p:nvPr/>
        </p:nvSpPr>
        <p:spPr>
          <a:xfrm>
            <a:off x="2057400" y="1447920"/>
            <a:ext cx="838080" cy="380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315200" y="1676520"/>
            <a:ext cx="9907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629400" y="14479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7010280" y="1905120"/>
            <a:ext cx="381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7238880" y="4648320"/>
            <a:ext cx="228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162920" y="5105520"/>
            <a:ext cx="75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7010280" y="563868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6858000" y="6019920"/>
            <a:ext cx="2286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1219320" y="3886200"/>
            <a:ext cx="685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3581280" y="609480"/>
            <a:ext cx="3048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5715000" y="91440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8"/>
          <p:cNvSpPr/>
          <p:nvPr/>
        </p:nvSpPr>
        <p:spPr>
          <a:xfrm>
            <a:off x="7162920" y="4952880"/>
            <a:ext cx="15228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9"/>
          <p:cNvSpPr/>
          <p:nvPr/>
        </p:nvSpPr>
        <p:spPr>
          <a:xfrm>
            <a:off x="1676520" y="3962520"/>
            <a:ext cx="3808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1"/>
          <p:cNvSpPr/>
          <p:nvPr/>
        </p:nvSpPr>
        <p:spPr>
          <a:xfrm flipV="1">
            <a:off x="5181480" y="2743200"/>
            <a:ext cx="22100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2971800" y="14479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876920" y="32004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914400" y="3886200"/>
            <a:ext cx="76320" cy="76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38080" y="3809880"/>
            <a:ext cx="6098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320040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600200" y="3809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3124080" y="6095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31240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2971800" y="29718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914400" y="24382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121932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18288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1143000" y="2590920"/>
            <a:ext cx="152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5181480" y="25146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7162920" y="28195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7467480" y="83808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754380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905120" y="495288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362320" y="5410080"/>
            <a:ext cx="1523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81280" y="5791320"/>
            <a:ext cx="1447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629400" y="56386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66680" y="426708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219320" y="2209680"/>
            <a:ext cx="761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1828800" y="838080"/>
            <a:ext cx="990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6248520" y="914400"/>
            <a:ext cx="685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"/>
          <p:cNvSpPr/>
          <p:nvPr/>
        </p:nvSpPr>
        <p:spPr>
          <a:xfrm>
            <a:off x="1752480" y="342900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867280" y="76212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76520" y="3581280"/>
            <a:ext cx="6094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133720" y="838080"/>
            <a:ext cx="53316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752480" y="36576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2590920" y="99072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327672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124080" y="33526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62120" y="3276720"/>
            <a:ext cx="152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971800" y="99072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267080" y="6019920"/>
            <a:ext cx="76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525780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971800" y="396252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724280" y="3581280"/>
            <a:ext cx="1295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5562720" y="3809880"/>
            <a:ext cx="4572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3962520" y="35812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5486400" y="3809880"/>
            <a:ext cx="533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3276720" y="3962520"/>
            <a:ext cx="759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5638680" y="586728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5638680" y="5867280"/>
            <a:ext cx="76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>
            <a:off x="5715000" y="990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838080" y="3200400"/>
            <a:ext cx="381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2"/>
          <p:cNvSpPr/>
          <p:nvPr/>
        </p:nvSpPr>
        <p:spPr>
          <a:xfrm>
            <a:off x="30481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2971800" y="990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4"/>
          <p:cNvSpPr/>
          <p:nvPr/>
        </p:nvSpPr>
        <p:spPr>
          <a:xfrm>
            <a:off x="3809880" y="59436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5638680" y="58672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6"/>
          <p:cNvSpPr/>
          <p:nvPr/>
        </p:nvSpPr>
        <p:spPr>
          <a:xfrm>
            <a:off x="3276720" y="396252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5486400" y="3886200"/>
            <a:ext cx="3049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7772400" y="106668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5486400" y="30481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7848720" y="32004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1"/>
          <p:cNvSpPr/>
          <p:nvPr/>
        </p:nvSpPr>
        <p:spPr>
          <a:xfrm>
            <a:off x="6477120" y="3276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2"/>
          <p:cNvSpPr/>
          <p:nvPr/>
        </p:nvSpPr>
        <p:spPr>
          <a:xfrm>
            <a:off x="4419720" y="3657600"/>
            <a:ext cx="3045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6324480" y="99072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352680" y="4495680"/>
            <a:ext cx="609840" cy="4572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5"/>
          <p:cNvSpPr/>
          <p:nvPr/>
        </p:nvSpPr>
        <p:spPr>
          <a:xfrm>
            <a:off x="4724280" y="4267080"/>
            <a:ext cx="762120" cy="38124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9"/>
          <p:cNvSpPr/>
          <p:nvPr/>
        </p:nvSpPr>
        <p:spPr>
          <a:xfrm>
            <a:off x="4648320" y="0"/>
            <a:ext cx="3733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0"/>
          <p:cNvSpPr/>
          <p:nvPr/>
        </p:nvSpPr>
        <p:spPr>
          <a:xfrm>
            <a:off x="4648320" y="0"/>
            <a:ext cx="3733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457200" y="0"/>
            <a:ext cx="83059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1447920" y="914400"/>
            <a:ext cx="76176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3"/>
          <p:cNvSpPr/>
          <p:nvPr/>
        </p:nvSpPr>
        <p:spPr>
          <a:xfrm>
            <a:off x="0" y="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2133720" y="358128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133720" y="6095880"/>
            <a:ext cx="1447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029200" y="54864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2209680" y="41911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429000" y="472428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124080" y="42670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572000" y="685800"/>
            <a:ext cx="1371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2590920" y="28195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267080" y="61722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419720" y="2819520"/>
            <a:ext cx="7617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429000" y="2895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724280" y="60958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2743200" y="6095880"/>
            <a:ext cx="1522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743200" y="6019920"/>
            <a:ext cx="32004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4876920" y="3429000"/>
            <a:ext cx="9903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705720" y="32767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7238880" y="35053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7467480" y="396252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705720" y="3429000"/>
            <a:ext cx="4572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4800600" y="38862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029200" y="5943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1523880" y="1981080"/>
            <a:ext cx="5335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981080" y="2133720"/>
            <a:ext cx="38124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2362320" y="2438280"/>
            <a:ext cx="990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6553080" y="1676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95288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6019920" y="251460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1219320" y="2971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3276720" y="3200400"/>
            <a:ext cx="9144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3733920" y="4343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3581280" y="43434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1219320" y="5943600"/>
            <a:ext cx="457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2600" y="1260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1295280" y="434340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447920" y="19810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26708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133720" y="1523880"/>
            <a:ext cx="1143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429000" y="54100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429000" y="64008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4648320" y="5562720"/>
            <a:ext cx="5331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7238880" y="5562720"/>
            <a:ext cx="5335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72428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419720"/>
            <a:ext cx="5335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7238880" y="35812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5867280" y="2362320"/>
            <a:ext cx="533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5943600" y="68580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6"/>
          <p:cNvSpPr/>
          <p:nvPr/>
        </p:nvSpPr>
        <p:spPr>
          <a:xfrm>
            <a:off x="2057400" y="2057400"/>
            <a:ext cx="228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4343400" y="2209680"/>
            <a:ext cx="228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457200" y="7621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 anatomical directions and brain sections (pla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2133720" y="17524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1447920" y="2209680"/>
            <a:ext cx="4572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4267080" y="228600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14:31:05Z</dcterms:created>
  <dc:creator>Christine Thompson</dc:creator>
  <dc:description/>
  <cp:keywords/>
  <dc:language>en-US</dc:language>
  <cp:lastModifiedBy>Trench, Lynne S.</cp:lastModifiedBy>
  <dcterms:modified xsi:type="dcterms:W3CDTF">2016-09-01T20:13:38Z</dcterms:modified>
  <cp:revision>20</cp:revision>
  <dc:subject/>
  <dc:title>No Slide Title</dc:title>
</cp:coreProperties>
</file>