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6.jpeg" ContentType="image/jpeg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pyrus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28A2-1ABE-46BF-A29A-A3B68F7E2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FB84-EFD7-4874-9130-5201577F00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22480" y="70956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lide is a title visual for a discussion about technical presentations. Corresponding discussions about technical presentation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raft of Scientific Wri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ear in Chapter 15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D50B-42FF-4AC2-8D25-94C6589C52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22480" y="70956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verlooked use of tables is to present parallel wording. This slide presents an example of a table that relays not only numerical data, but short parallel wording. (Pages 146-1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F66-25B3-42DD-8A62-E00B9EF2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F2E-3C1A-42E2-BAE0-F88F6BC9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7BF-4DB8-445E-ABEA-8FCFED54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FA1F-98E7-4DDA-B66D-636143F4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E703-44E2-481B-B3C1-F39584B3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65CE-E240-45D8-8EE8-C3BCB87D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8187-9465-43DC-8B79-41B4B47D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FBC8-EA34-4B78-B5DD-CA7A558F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903F-E640-4591-8786-27C8B0A9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9BEB-52CE-4E0D-B924-D18C7433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4F0B-34B3-4091-91A7-94BE147C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AB02-B383-47BB-A4F0-C460F83A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7912-C7EC-4E48-B4F1-881A2670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F2F4-4FBB-404F-95EB-414EE678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7F18-A9B2-4E19-8F27-C8A974B3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B6B7-F41C-468E-A662-3A430AA2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9EB6-62CF-4B2F-961B-21944CF2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A28-6AFC-403C-B062-2285A0D5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D0AF-EC4E-4717-AFCE-6B7379B1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86A-B69B-486E-AE4F-954D7389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8624-B3CD-4772-A0C6-E371DE32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AF01-76C8-4A8B-AA38-EAB42173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2FBE-F63E-4DDF-8A0A-A8C187E6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66E5-6591-4974-A947-0E0DF286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pyru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pyru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426708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apyrus"/>
              </a:rPr>
              <a:t>Scientific Presentations</a:t>
            </a:r>
            <a:endParaRPr b="0" lang="en-US" sz="4800" spc="-1" strike="noStrike">
              <a:solidFill>
                <a:srgbClr val="ffffcc"/>
              </a:solidFill>
              <a:latin typeface="Papyrus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5268960" y="2133720"/>
          <a:ext cx="37227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8960" y="2133720"/>
                    <a:ext cx="37227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2880" y="0"/>
            <a:ext cx="41148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pyrus"/>
              </a:rPr>
              <a:t>Recap key results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iterate principal conclu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slide will probably stay on the screen during the question period and will thus get the longest audience exposure—make it count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6" descr="Artificial Collection Biases at Sterkfontein c"/>
          <p:cNvPicPr/>
          <p:nvPr/>
        </p:nvPicPr>
        <p:blipFill>
          <a:blip r:embed="rId1"/>
          <a:stretch/>
        </p:blipFill>
        <p:spPr>
          <a:xfrm>
            <a:off x="4876920" y="3657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pyrus"/>
              </a:rPr>
              <a:t>Presentation Slides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uld have a concise tit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uld have 2-3 points per sl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uld avoid complet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t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7" descr="Evolution Lecture (Long) Compressed"/>
          <p:cNvPicPr/>
          <p:nvPr/>
        </p:nvPicPr>
        <p:blipFill>
          <a:blip r:embed="rId1"/>
          <a:stretch/>
        </p:blipFill>
        <p:spPr>
          <a:xfrm>
            <a:off x="4724280" y="346716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PowerPoint Esthetics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member, goal is to convey ideas, so avoid distracting </a:t>
            </a:r>
            <a:r>
              <a:rPr b="0" lang="en-US" sz="4400" spc="-1" strike="noStrike">
                <a:solidFill>
                  <a:srgbClr val="ffffff"/>
                </a:solidFill>
                <a:latin typeface="Edwardian Script ITC"/>
              </a:rPr>
              <a:t>tex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effect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’t overuse PowerPoint animations and sound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simple (or no) backgrounds on sli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Matisse ITC"/>
              </a:rPr>
              <a:t>Avoid weird fonts</a:t>
            </a:r>
            <a:endParaRPr b="0" lang="en-US" sz="72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the same font throughou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’T USE ALL CA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ol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or empha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n’t us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alligrap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ke all text at least 20 p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905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e common error is having a slide format that dissuades the audience from reading</a:t>
            </a:r>
            <a:endParaRPr b="0" lang="en-US" sz="2800" spc="-1" strike="noStrike">
              <a:solidFill>
                <a:srgbClr val="ffffcc"/>
              </a:solidFill>
              <a:latin typeface="Papyrus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380880" y="1981080"/>
            <a:ext cx="6057720" cy="4527720"/>
            <a:chOff x="380880" y="1981080"/>
            <a:chExt cx="6057720" cy="4527720"/>
          </a:xfrm>
        </p:grpSpPr>
        <p:graphicFrame>
          <p:nvGraphicFramePr>
            <p:cNvPr id="135" name="Object 4"/>
            <p:cNvGraphicFramePr/>
            <p:nvPr/>
          </p:nvGraphicFramePr>
          <p:xfrm>
            <a:off x="380880" y="1981080"/>
            <a:ext cx="6057720" cy="4527720"/>
          </p:xfrm>
          <a:graphic>
            <a:graphicData uri="http://schemas.openxmlformats.org/presentationml/2006/ole">
              <p:oleObj progId="PowerPoint.Show.12" r:id="rId1" spid="">
                <p:embed/>
                <p:pic>
                  <p:nvPicPr>
                    <p:cNvPr id="13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1981080"/>
                      <a:ext cx="6057720" cy="452772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7" name="Text Box 5"/>
            <p:cNvSpPr/>
            <p:nvPr/>
          </p:nvSpPr>
          <p:spPr>
            <a:xfrm>
              <a:off x="382320" y="2521080"/>
              <a:ext cx="5884920" cy="3561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IMARY CONCERNS  -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FIELD JOINT -  HIGHEST CONCER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ROSION PENETRATION OF PRIMARY SEAL REQUIRES RELIABLE SECONDARY SEAL FOR PRESSURE INTEGRITY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IGNITION TRANSIENT - (0-600 MS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(0-170 MS) HIGH PROBABILITY OF RELIABLE SECONDARY SEAL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(170-330 MS) REDUCED PROBABILITY OF RELIABLE SECONDARY SEAL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(330-600 MS) HIGH PROBABILITY OF NO SECONDARY SEAL CAPABILITY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EADY STATE - (600 MS - 2 MINUTES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IF EROSION PENETRATES PRIMARY O-RING SEAL -  HIGH PROBABILITY OF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O SECONDARY SEAL CAPABILITY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BENCH TESTING SHOWED O-RING NOT CAPABLE OF MAINTAINING CONTACT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WITH METAL PARTS GAP OPERATING TO MEOP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BENCH TESTING SHOWED CAPABILITY TO MAINTAIN O-RING CONTACT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DURING INITIAL PHASE (0 - 170 MS) OF TRANSIENT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8" name="Rectangle 6"/>
          <p:cNvSpPr/>
          <p:nvPr/>
        </p:nvSpPr>
        <p:spPr>
          <a:xfrm>
            <a:off x="205740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 rot="19754400">
            <a:off x="1447560" y="3809160"/>
            <a:ext cx="43434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fficult to re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3"/>
          <a:stretch/>
        </p:blipFill>
        <p:spPr>
          <a:xfrm>
            <a:off x="8537400" y="6019920"/>
            <a:ext cx="538200" cy="81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pyrus"/>
              </a:rPr>
              <a:t>Font Size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an easy-to-read font (36 pt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Make sure your audience (32 pt)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Can easily read (28 pt)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Every one of your slides (24 pt)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rom the back of the room (20 pt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See what I mean? (14 pt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762120" y="1752480"/>
            <a:ext cx="7619760" cy="137160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pyrus"/>
              </a:rPr>
              <a:t>Slide Colors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se “normal” col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N’T use </a:t>
            </a:r>
            <a:r>
              <a:rPr b="0" lang="en-US" sz="2800" spc="-1" strike="noStrike">
                <a:solidFill>
                  <a:srgbClr val="008000"/>
                </a:solidFill>
                <a:latin typeface="Garamond"/>
              </a:rPr>
              <a:t>red/gre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red/blu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s contrasting col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n’t use more tha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re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u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ifferent col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void </a:t>
            </a:r>
            <a:r>
              <a:rPr b="1" lang="en-US" sz="2800" spc="-1" strike="noStrike">
                <a:solidFill>
                  <a:srgbClr val="99ff33"/>
                </a:solidFill>
                <a:latin typeface="Garamond"/>
              </a:rPr>
              <a:t>neon colo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2800" spc="-1" strike="noStrike">
                <a:solidFill>
                  <a:srgbClr val="ff66ff"/>
                </a:solidFill>
                <a:latin typeface="Garamond"/>
              </a:rPr>
              <a:t>paste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Use figures to illustrate key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points</a:t>
            </a:r>
            <a:endParaRPr b="0" lang="en-US" sz="40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hey enliven slide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romote audience interest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rovide supporting evidence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for key point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Help explain complex ideas and relationships quickly!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6" descr="Artificial Collection Biases at Sterkfontein 31"/>
          <p:cNvPicPr/>
          <p:nvPr/>
        </p:nvPicPr>
        <p:blipFill>
          <a:blip r:embed="rId1"/>
          <a:stretch/>
        </p:blipFill>
        <p:spPr>
          <a:xfrm>
            <a:off x="4876920" y="10666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Label all elements in a figure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int out important fea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 both axes of graphs and show un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a cap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cred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5" descr="Artificial Collection Biases at Sterkfontein f"/>
          <p:cNvPicPr/>
          <p:nvPr/>
        </p:nvPicPr>
        <p:blipFill>
          <a:blip r:embed="rId1"/>
          <a:stretch/>
        </p:blipFill>
        <p:spPr>
          <a:xfrm>
            <a:off x="4419720" y="1847880"/>
            <a:ext cx="4647960" cy="3486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5410080" y="54864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apted from Heaton (200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72160" y="3960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Examp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5315040" y="6318360"/>
            <a:ext cx="373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rton-Thiokol Correspondence to NAS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anuary 27, 198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685800" y="685800"/>
          <a:ext cx="7391520" cy="5537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391520" cy="5537160"/>
                  </a:xfrm>
                  <a:prstGeom prst="rect">
                    <a:avLst/>
                  </a:prstGeom>
                  <a:ln w="1260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Organizing a 15-minute talk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ackground and Introductio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1–3 minut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od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7–10 minut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mmar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1 minut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3 minutes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0" name="Picture 7" descr="Current Paleoanthropological Research in South Africa"/>
          <p:cNvPicPr/>
          <p:nvPr/>
        </p:nvPicPr>
        <p:blipFill>
          <a:blip r:embed="rId1"/>
          <a:stretch/>
        </p:blipFill>
        <p:spPr>
          <a:xfrm>
            <a:off x="4419720" y="3162240"/>
            <a:ext cx="4495680" cy="337176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2520" y="76320"/>
            <a:ext cx="39625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End with a bang, not a whimper</a:t>
            </a:r>
            <a:endParaRPr b="0" lang="en-US" sz="40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53316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o NOT go over allotted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’ll get cut off at con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hearse end of your tal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n’t end with “Well, I guess that’s it…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n’t stop and let audience guess that you’re d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051520" y="1460520"/>
            <a:ext cx="4016160" cy="53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Best Way to Prepare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now Your Materi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actice, practice, pract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cus on communicating, not perform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mor good, but don’t overdo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eep it sim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5" descr="homer's%20brain"/>
          <p:cNvPicPr/>
          <p:nvPr/>
        </p:nvPicPr>
        <p:blipFill>
          <a:blip r:embed="rId1"/>
          <a:stretch/>
        </p:blipFill>
        <p:spPr>
          <a:xfrm>
            <a:off x="5867280" y="1905120"/>
            <a:ext cx="2976840" cy="35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Best Way to Prepare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pare key phra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kay to write out material fir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rite down the point to make for each sl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he slide doesn’t have a point, eliminate slide!!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ay on tra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Rehearse Your Talk!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few days bef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actice in front of friends and check tim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hearse likely ques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licit feedback about logic and clar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vise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hort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Rehearse Your Talk!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night bef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 over one more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t all material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 order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number your slides!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5" descr="Lil%20Chimp"/>
          <p:cNvPicPr/>
          <p:nvPr/>
        </p:nvPicPr>
        <p:blipFill>
          <a:blip r:embed="rId1"/>
          <a:stretch/>
        </p:blipFill>
        <p:spPr>
          <a:xfrm>
            <a:off x="5029200" y="3657600"/>
            <a:ext cx="3890880" cy="29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Handling Questions is Essential</a:t>
            </a:r>
            <a:endParaRPr b="0" lang="en-US" sz="40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peat the ques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 everyone may have heard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ing question allows the questioner to clarify it and gives you time to think about your answ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f you don’t know the answe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y “That’s an excellent ques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’m not sure; I’ll have to loo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o it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5" descr="question mark"/>
          <p:cNvPicPr/>
          <p:nvPr/>
        </p:nvPicPr>
        <p:blipFill>
          <a:blip r:embed="rId1"/>
          <a:stretch/>
        </p:blipFill>
        <p:spPr>
          <a:xfrm>
            <a:off x="6248520" y="3809880"/>
            <a:ext cx="259056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Organizing a 20-minute talk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ckground and Introductio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1–3 minut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tle sl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view sl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–2 additional slides, if need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od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7–10 minut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onl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or three main ideas (1-2 slides ea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-6 slid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7543800" y="5235480"/>
          <a:ext cx="134928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5235480"/>
                    <a:ext cx="13492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Organizing a 20-minute talk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mmar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1 minut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 sl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Question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3 minutes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Know the audience!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–4 back-up slid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7" descr="Artificial Collection Biases at Sterkfontein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How do you start?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rite down 2–3 key ideas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tory material from idea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background/motivation does the audience ne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dy of the presentation flows from these ideas (what supporting evidence, figures, and data do you need to present?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0" name="Object 6"/>
          <p:cNvGraphicFramePr/>
          <p:nvPr/>
        </p:nvGraphicFramePr>
        <p:xfrm>
          <a:off x="7205760" y="228600"/>
          <a:ext cx="162072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228600"/>
                    <a:ext cx="16207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Talk follows from the key points</a:t>
            </a:r>
            <a:endParaRPr b="0" lang="en-US" sz="40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tivate the key issues (Introduc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iew your main messa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e support for your messages (Bod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marize your messages (Conclus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other words, don’t let them leave without knowing your main messages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The Title Slide</a:t>
            </a:r>
            <a:endParaRPr b="0" lang="en-US" sz="40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pares the audience to listen and tells them what to look fo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itle sl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Your name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Venue and date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Attention-getting graphic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6" descr="Fossil collection biases at Sterkfontein"/>
          <p:cNvPicPr/>
          <p:nvPr/>
        </p:nvPicPr>
        <p:blipFill>
          <a:blip r:embed="rId1"/>
          <a:stretch/>
        </p:blipFill>
        <p:spPr>
          <a:xfrm>
            <a:off x="4876920" y="3429000"/>
            <a:ext cx="4038480" cy="302904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The Outline</a:t>
            </a:r>
            <a:endParaRPr b="0" lang="en-US" sz="40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tline or overview of prese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pares the audience to lis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es a logical structure for your tal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marizes key points (limit to three or four for a 15-minute tal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The Body: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Intellectual Content </a:t>
            </a:r>
            <a:endParaRPr b="0" lang="en-US" sz="40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oblem statement, motiv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–2 sli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evious 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sli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sli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81120" y="3504960"/>
            <a:ext cx="40388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4 sli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uture 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sli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7" descr="chimp"/>
          <p:cNvPicPr/>
          <p:nvPr/>
        </p:nvPicPr>
        <p:blipFill>
          <a:blip r:embed="rId1"/>
          <a:stretch/>
        </p:blipFill>
        <p:spPr>
          <a:xfrm>
            <a:off x="6726240" y="380880"/>
            <a:ext cx="2033640" cy="281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3:57:46Z</dcterms:created>
  <dc:creator>jlheaton</dc:creator>
  <dc:description/>
  <dc:language>en-US</dc:language>
  <cp:lastModifiedBy>Hanson, Pamela</cp:lastModifiedBy>
  <dcterms:modified xsi:type="dcterms:W3CDTF">2018-11-03T18:38:52Z</dcterms:modified>
  <cp:revision>14</cp:revision>
  <dc:subject/>
  <dc:title>End with a bang, not a whimper</dc:title>
</cp:coreProperties>
</file>