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1.png" ContentType="image/png"/>
  <Override PartName="/ppt/media/image10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4CCAF-17AD-4FCF-AB40-867824306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7C8F-7F01-4933-8597-F75CB4BF63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slide is a title visual for a discussion about technical presentations. Corresponding discussions about technical presentations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Craft of Scientific Wr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ear in Chapter 15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BA46A-38E0-45DC-AAC2-388B51C4CC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22480" y="709560"/>
            <a:ext cx="4614840" cy="3460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verlooked use of tables is to present parallel wording. This slide presents an example of a table that relays not only numerical data, but short parallel wording. (Pages 146-14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1A8-35CD-48E6-A69B-4DD3A7C68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2954-B88D-486B-92E6-23D5E2991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5FE-D69F-43CB-AD6E-5AD6F392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0ADD-E558-49CC-97AB-5BDBA6AB9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181FD-373D-4614-93C7-7B469637D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454F-B9B8-4E79-BEDB-3ADC0BF07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A1DE-01EE-4586-AA49-CDFEC7CF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F4B7-6A7A-4A11-BEDC-2DF7BE04A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A749A-7799-44E9-AA88-104949510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1266D-B5BD-43FF-A64A-08D28D4C3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1ECD9-CE51-4E61-B4F5-154C686A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96E5-E402-4A6A-948F-10264840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A3712-1D7E-4475-9B11-39D174F31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521C6-3C56-4BD9-9639-1347F25C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BA769-A1CF-4BAF-817D-F5681F09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BE2E8-06D9-4B3A-A7ED-D89BA0D73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3DC1-C1C8-49E9-9968-B8D32513E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4C5D-DA1D-476C-AAD4-AA1C77E7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50A5-0028-4757-AD4A-FFBF06C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ADCA-73C8-40CB-BA8D-DC84B364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A0F-503E-42F8-9DF7-938DC14CE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5B97-78C7-4DC3-9B3C-7E9359F5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D945-C4C8-42A6-80EF-34912EE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CD50-1FB0-4D35-B0A6-600196EF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447560"/>
            <a:ext cx="426708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Papyrus"/>
              </a:rPr>
              <a:t>Scientific Presentations</a:t>
            </a:r>
            <a:endParaRPr b="0" lang="en-US" sz="4800" spc="-1" strike="noStrike">
              <a:solidFill>
                <a:srgbClr val="ffffcc"/>
              </a:solidFill>
              <a:latin typeface="Papyrus"/>
            </a:endParaRPr>
          </a:p>
        </p:txBody>
      </p:sp>
      <p:graphicFrame>
        <p:nvGraphicFramePr>
          <p:cNvPr id="96" name="Object 3"/>
          <p:cNvGraphicFramePr/>
          <p:nvPr/>
        </p:nvGraphicFramePr>
        <p:xfrm>
          <a:off x="5268960" y="2133720"/>
          <a:ext cx="372276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8960" y="2133720"/>
                    <a:ext cx="372276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41148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Recap key result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iterate principal conclus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his slide will probably stay on the screen during the question period and will thus get the longest audience exposure—make it count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6" descr="Artificial Collection Biases at Sterkfontein c"/>
          <p:cNvPicPr/>
          <p:nvPr/>
        </p:nvPicPr>
        <p:blipFill>
          <a:blip r:embed="rId1"/>
          <a:stretch/>
        </p:blipFill>
        <p:spPr>
          <a:xfrm>
            <a:off x="4876920" y="36576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Presentation Slide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a concise tit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have 2-3 points per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hould avoid complete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nt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8" name="Picture 7" descr="Evolution Lecture (Long) Compressed"/>
          <p:cNvPicPr/>
          <p:nvPr/>
        </p:nvPicPr>
        <p:blipFill>
          <a:blip r:embed="rId1"/>
          <a:stretch/>
        </p:blipFill>
        <p:spPr>
          <a:xfrm>
            <a:off x="4724280" y="3467160"/>
            <a:ext cx="426744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cc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PowerPoint Esthetic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member, goal is to convey ideas, so avoid distracting </a:t>
            </a:r>
            <a:r>
              <a:rPr b="0" lang="en-US" sz="4400" spc="-1" strike="noStrike">
                <a:solidFill>
                  <a:srgbClr val="ffffff"/>
                </a:solidFill>
                <a:latin typeface="Edwardian Script ITC"/>
              </a:rPr>
              <a:t>text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and effect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overuse PowerPoint animations and sounds!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simple (or no) backgrounds on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cc"/>
                </a:solidFill>
                <a:latin typeface="Matisse ITC"/>
              </a:rPr>
              <a:t>Avoid weird fonts</a:t>
            </a:r>
            <a:endParaRPr b="0" lang="en-US" sz="72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Use the same font throughou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ON’T USE ALL CAP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e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ld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for emphasi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calligrap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ake all text at least 20 p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90504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One common error is having a slide format that dissuades the audience from reading</a:t>
            </a:r>
            <a:endParaRPr b="0" lang="en-US" sz="2800" spc="-1" strike="noStrike">
              <a:solidFill>
                <a:srgbClr val="ffffcc"/>
              </a:solidFill>
              <a:latin typeface="Papyrus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80880" y="1981080"/>
            <a:ext cx="6057720" cy="4527720"/>
            <a:chOff x="380880" y="1981080"/>
            <a:chExt cx="6057720" cy="4527720"/>
          </a:xfrm>
        </p:grpSpPr>
        <p:graphicFrame>
          <p:nvGraphicFramePr>
            <p:cNvPr id="135" name="Object 4"/>
            <p:cNvGraphicFramePr/>
            <p:nvPr/>
          </p:nvGraphicFramePr>
          <p:xfrm>
            <a:off x="380880" y="1981080"/>
            <a:ext cx="6057720" cy="4527720"/>
          </p:xfrm>
          <a:graphic>
            <a:graphicData uri="http://schemas.openxmlformats.org/presentationml/2006/ole">
              <p:oleObj progId="PowerPoint.Show.12" r:id="rId1" spid="">
                <p:embed/>
                <p:pic>
                  <p:nvPicPr>
                    <p:cNvPr id="136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0880" y="1981080"/>
                      <a:ext cx="6057720" cy="45277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37" name="Text Box 5"/>
            <p:cNvSpPr/>
            <p:nvPr/>
          </p:nvSpPr>
          <p:spPr>
            <a:xfrm>
              <a:off x="382320" y="2521080"/>
              <a:ext cx="5884920" cy="356184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PRIMARY CONCERNS  -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FIELD JOINT -  HIGHEST CONCER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EROSION PENETRATION OF PRIMARY SEAL REQUIRES RELIABLE SECONDARY SEAL FOR PRESSURE INTEGR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GNITION TRANSIENT - (0-600 M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0-170 MS) HIGH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170-330 MS) REDUCED PROBABILITY OF RELIABLE SECONDARY SEAL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(330-600 MS) HIGH PROBABILITY OF 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STEADY STATE - (600 MS - 2 MINUTES)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IF EROSION PENETRATES PRIMARY O-RING SEAL -  HIGH PROBABILITY OF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NO SECONDARY SEAL CAPABILIT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O-RING NOT CAPABLE OF MAINTAINING CONTAC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WITH METAL PARTS GAP OPERATING TO MEO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marL="228600" indent="-228600">
                <a:lnSpc>
                  <a:spcPct val="100000"/>
                </a:lnSpc>
                <a:tabLst>
                  <a:tab algn="l" pos="0"/>
                  <a:tab algn="l" pos="228600"/>
                  <a:tab algn="l" pos="457200"/>
                  <a:tab algn="l" pos="685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•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BENCH TESTING SHOWED CAPABILITY TO MAINTAIN O-RING CONTACT 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	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 Narrow"/>
                </a:rPr>
                <a:t>DURING INITIAL PHASE (0 - 170 MS) OF TRANSIENT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38" name="Rectangle 6"/>
          <p:cNvSpPr/>
          <p:nvPr/>
        </p:nvSpPr>
        <p:spPr>
          <a:xfrm>
            <a:off x="2057400" y="68580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 rot="19754400">
            <a:off x="1447560" y="3809160"/>
            <a:ext cx="43434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Difficult to read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8537400" y="6019920"/>
            <a:ext cx="538200" cy="819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Font Siz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hoose an easy-to-read font (36 pt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825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Garamond"/>
              </a:rPr>
              <a:t>Make sure your audience (32 pt)</a:t>
            </a:r>
            <a:endParaRPr b="0" lang="en-US" sz="33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26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Garamond"/>
              </a:rPr>
              <a:t>Can easily read (28 pt)</a:t>
            </a:r>
            <a:endParaRPr b="0" lang="en-US" sz="29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24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Garamond"/>
              </a:rPr>
              <a:t>Every one of your slides (24 pt)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55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Garamond"/>
              </a:rPr>
              <a:t>From the back of the room (20 pt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ee what I mean? (14 pt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4"/>
          <p:cNvSpPr/>
          <p:nvPr/>
        </p:nvSpPr>
        <p:spPr>
          <a:xfrm>
            <a:off x="762120" y="1752480"/>
            <a:ext cx="7619760" cy="1371600"/>
          </a:xfrm>
          <a:prstGeom prst="rect">
            <a:avLst/>
          </a:prstGeom>
          <a:solidFill>
            <a:srgbClr val="c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Papyrus"/>
              </a:rPr>
              <a:t>Slide Colors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Use “normal”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</a:t>
            </a:r>
            <a:r>
              <a:rPr b="0" lang="en-US" sz="2800" spc="-1" strike="noStrike">
                <a:solidFill>
                  <a:srgbClr val="008000"/>
                </a:solidFill>
                <a:latin typeface="Garamond"/>
              </a:rPr>
              <a:t>red/gre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0" lang="en-US" sz="2800" spc="-1" strike="noStrike">
                <a:solidFill>
                  <a:srgbClr val="0000ff"/>
                </a:solidFill>
                <a:latin typeface="Garamond"/>
              </a:rPr>
              <a:t>red/blu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s contrasting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use more than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ree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or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ur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different colo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void </a:t>
            </a:r>
            <a:r>
              <a:rPr b="1" lang="en-US" sz="2800" spc="-1" strike="noStrike">
                <a:solidFill>
                  <a:srgbClr val="99ff33"/>
                </a:solidFill>
                <a:latin typeface="Garamond"/>
              </a:rPr>
              <a:t>neon colors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and </a:t>
            </a:r>
            <a:r>
              <a:rPr b="1" lang="en-US" sz="2800" spc="-1" strike="noStrike">
                <a:solidFill>
                  <a:srgbClr val="ff66ff"/>
                </a:solidFill>
                <a:latin typeface="Garamond"/>
              </a:rPr>
              <a:t>pastel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Use figures to illustrate key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They enliven slide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mote audience interest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Provide supporting evidence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for key points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Garamond"/>
              </a:rPr>
              <a:t>Help explain complex ideas and relationships quickly!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8" name="Picture 6" descr="Artificial Collection Biases at Sterkfontein 31"/>
          <p:cNvPicPr/>
          <p:nvPr/>
        </p:nvPicPr>
        <p:blipFill>
          <a:blip r:embed="rId1"/>
          <a:stretch/>
        </p:blipFill>
        <p:spPr>
          <a:xfrm>
            <a:off x="4876920" y="106668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Label all elements in a figu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oint out important featur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abel both axes of graphs and show unit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vide a cap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ive cred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5" descr="Artificial Collection Biases at Sterkfontein f"/>
          <p:cNvPicPr/>
          <p:nvPr/>
        </p:nvPicPr>
        <p:blipFill>
          <a:blip r:embed="rId1"/>
          <a:stretch/>
        </p:blipFill>
        <p:spPr>
          <a:xfrm>
            <a:off x="4419720" y="1847880"/>
            <a:ext cx="4647960" cy="348624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6"/>
          <p:cNvSpPr/>
          <p:nvPr/>
        </p:nvSpPr>
        <p:spPr>
          <a:xfrm>
            <a:off x="5410080" y="548640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apted from Heaton (200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72160" y="3960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ak Exampl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5315040" y="6318360"/>
            <a:ext cx="3733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orton-Thiokol Correspondence to NAS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January 27, 1986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685800" y="685800"/>
          <a:ext cx="7391520" cy="55371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391520" cy="5537160"/>
                  </a:xfrm>
                  <a:prstGeom prst="rect">
                    <a:avLst/>
                  </a:prstGeom>
                  <a:ln w="12600">
                    <a:solidFill>
                      <a:srgbClr val="000099"/>
                    </a:solidFill>
                    <a:miter/>
                  </a:ln>
                </p:spPr>
              </p:pic>
            </p:oleObj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15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ackground and Introduction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Bod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ummar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Questions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7" descr="Current Paleoanthropological Research in South Africa"/>
          <p:cNvPicPr/>
          <p:nvPr/>
        </p:nvPicPr>
        <p:blipFill>
          <a:blip r:embed="rId1"/>
          <a:stretch/>
        </p:blipFill>
        <p:spPr>
          <a:xfrm>
            <a:off x="4419720" y="3162240"/>
            <a:ext cx="4495680" cy="337176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2520" y="76320"/>
            <a:ext cx="396252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End with a bang, not a whimper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533160"/>
            <a:ext cx="4572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Do NOT go over allotted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You’ll get cut off at conferenc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hearse end of your tal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end with “Well, I guess that’s it…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20720" indent="-2772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on’t stop and let audience guess that you’re don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1"/>
          <a:stretch/>
        </p:blipFill>
        <p:spPr>
          <a:xfrm>
            <a:off x="5051520" y="1460520"/>
            <a:ext cx="4016160" cy="532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now Your Materi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actice, practice, practic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cus on communicating, not perfor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98400" indent="-26856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Humor good, but don’t overdo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Keep it simp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2" name="Picture 5" descr="homer's%20brain"/>
          <p:cNvPicPr/>
          <p:nvPr/>
        </p:nvPicPr>
        <p:blipFill>
          <a:blip r:embed="rId1"/>
          <a:stretch/>
        </p:blipFill>
        <p:spPr>
          <a:xfrm>
            <a:off x="5867280" y="1905120"/>
            <a:ext cx="2976840" cy="358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Best Way to Prepare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 key phr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kay to write out material firs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rite down the point to make for each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f the slide doesn’t have a point, eliminate slide!!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tay on track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A few days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actice in front of friends and check timing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hearse likely question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olicit feedback about logic and clarity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vise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orten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Rehearse Your Talk!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3822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The night befor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Go over one more tim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ut all materials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in order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number your slides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5" descr="Lil%20Chimp"/>
          <p:cNvPicPr/>
          <p:nvPr/>
        </p:nvPicPr>
        <p:blipFill>
          <a:blip r:embed="rId1"/>
          <a:stretch/>
        </p:blipFill>
        <p:spPr>
          <a:xfrm>
            <a:off x="5029200" y="3657600"/>
            <a:ext cx="3890880" cy="2919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Handling Questions is Essential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Repeat the ques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Not everyone may have heard i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peating question allows the questioner to clarify it and gives you time to think about your answ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If you don’t know the answe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ay “That’s an excellent question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’m not sure; I’ll have to look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o it.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Picture 5" descr="question mark"/>
          <p:cNvPicPr/>
          <p:nvPr/>
        </p:nvPicPr>
        <p:blipFill>
          <a:blip r:embed="rId1"/>
          <a:stretch/>
        </p:blipFill>
        <p:spPr>
          <a:xfrm>
            <a:off x="6248520" y="3809880"/>
            <a:ext cx="2590560" cy="28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ckground and Introduction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–3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verview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–2 additional slides, if need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od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7–10 minut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velop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only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two or three main ideas (1-2 slides ea.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4-6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7543800" y="5235480"/>
          <a:ext cx="134928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5235480"/>
                    <a:ext cx="13492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Organizing a 20-minute talk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Summary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1 minu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Questions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3 minu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(Know the audience!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3–4 back-up slid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7" descr="Artificial Collection Biases at Sterkfontein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Papyrus"/>
              </a:rPr>
              <a:t>How do you start?</a:t>
            </a:r>
            <a:endParaRPr b="0" lang="en-US" sz="44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Write down 2–3 key idea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troductory material from idea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What background/motivation does the audience need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Body of the presentation flows from these ideas (what supporting evidence, figures, and data do you need to present?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0" name="Object 6"/>
          <p:cNvGraphicFramePr/>
          <p:nvPr/>
        </p:nvGraphicFramePr>
        <p:xfrm>
          <a:off x="7205760" y="228600"/>
          <a:ext cx="162072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5760" y="228600"/>
                    <a:ext cx="162072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alk follows from the key points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tivate the key issues (Introduct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eview your main messag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 support for your messages (Bod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 your messages (Conclusion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n other words, don’t let them leave without knowing your main messages!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Title Slid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Prepares the audience to listen and tells them what to look for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itle slid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Your nam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Venue and date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75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Garamond"/>
              </a:rPr>
              <a:t>Attention-getting graphic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6" descr="Fossil collection biases at Sterkfontein"/>
          <p:cNvPicPr/>
          <p:nvPr/>
        </p:nvPicPr>
        <p:blipFill>
          <a:blip r:embed="rId1"/>
          <a:stretch/>
        </p:blipFill>
        <p:spPr>
          <a:xfrm>
            <a:off x="4876920" y="3429000"/>
            <a:ext cx="4038480" cy="3029040"/>
          </a:xfrm>
          <a:prstGeom prst="rect">
            <a:avLst/>
          </a:prstGeom>
          <a:ln w="9360">
            <a:solidFill>
              <a:srgbClr val="ffcc99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Outline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Outline or overview of present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epares the audience to list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rovides a logical structure for your tal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ummarizes key points (limit to three or four for a 15-minute tal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The Body: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Papyrus"/>
              </a:rPr>
              <a:t>Intellectual Content </a:t>
            </a:r>
            <a:endParaRPr b="0" lang="en-US" sz="4000" spc="-1" strike="noStrike">
              <a:solidFill>
                <a:srgbClr val="ffffcc"/>
              </a:solidFill>
              <a:latin typeface="Papyru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oblem statement, motiv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–2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Previous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Metho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05600" indent="-2714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81120" y="3504960"/>
            <a:ext cx="403884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Result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2-4 slid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Future wor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 sli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7" descr="chimp"/>
          <p:cNvPicPr/>
          <p:nvPr/>
        </p:nvPicPr>
        <p:blipFill>
          <a:blip r:embed="rId1"/>
          <a:stretch/>
        </p:blipFill>
        <p:spPr>
          <a:xfrm>
            <a:off x="6726240" y="380880"/>
            <a:ext cx="203364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23:57:46Z</dcterms:created>
  <dc:creator>jlheaton</dc:creator>
  <dc:description/>
  <dc:language>en-US</dc:language>
  <cp:lastModifiedBy>Hanson, Pamela</cp:lastModifiedBy>
  <dcterms:modified xsi:type="dcterms:W3CDTF">2018-11-03T18:38:52Z</dcterms:modified>
  <cp:revision>14</cp:revision>
  <dc:subject/>
  <dc:title>End with a bang, not a whimper</dc:title>
</cp:coreProperties>
</file>