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0DD1-CEED-4EF8-A598-E51E325B5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14B7-F7E9-4E2B-B22A-BE30661835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22480" y="70956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lide is a title visual for a discussion about technical presentations. Corresponding discussions about technical presentation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raft of Scientific Wri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ear in Chapter 1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9E01-03BF-4FCE-84ED-3C9FEAC71E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22480" y="70956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verlooked use of tables is to present parallel wording. This slide presents an example of a table that relays not only numerical data, but short parallel wording. (Pages 146-1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E60-D7D6-4C68-8147-712F8824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0F3-3FDA-4860-A485-9BB8CA6C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8D3-2E1A-416C-9742-E111F1BA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9C1-CC88-43F7-9149-A1EF5376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5F46-3F97-4638-808D-7AB6C024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A47B-F44D-47CF-B2D5-303B0D2A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E43E-25B4-4543-AA2D-1F79A4CD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AADE-A842-4106-8124-A9158048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285C-4081-4517-8CED-68ED85A7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C28D-112A-4099-9BB0-D0B7A787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2A46-2FB8-47DC-80D9-70BC1D37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BC6-F081-41D3-97BE-836D4828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F843-D3E7-42A5-8D42-8AB40A8B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809D-0F64-4FC5-96F2-E7015C8A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934C-0368-4D6A-AA6A-A9B793DD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DC70-23A0-42C8-921B-70C3E43F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6759-D461-444E-B31A-26C36A57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D39-39BC-4E55-B2F9-72530C08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92D-21EC-48B2-83F7-30B7A002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859-4BA2-4D9B-BC93-166D0B36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DC6-B7E7-4C45-82EB-8F78D00A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116-7EDB-437D-B43F-7D3A8962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959-0509-4BDB-B577-43FC9F0C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C745-8D98-4BEB-B3C0-A7E87F33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426708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apyrus"/>
              </a:rPr>
              <a:t>Scientific Presentations</a:t>
            </a:r>
            <a:endParaRPr b="0" lang="en-US" sz="4800" spc="-1" strike="noStrike">
              <a:solidFill>
                <a:srgbClr val="ffffcc"/>
              </a:solidFill>
              <a:latin typeface="Papyrus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5268960" y="2133720"/>
          <a:ext cx="37227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8960" y="2133720"/>
                    <a:ext cx="37227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1148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Recap key results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terate principal conclu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slide will probably stay on the screen during the question period and will thus get the longest audience exposure—make it count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6" descr="Artificial Collection Biases at Sterkfontein c"/>
          <p:cNvPicPr/>
          <p:nvPr/>
        </p:nvPicPr>
        <p:blipFill>
          <a:blip r:embed="rId1"/>
          <a:stretch/>
        </p:blipFill>
        <p:spPr>
          <a:xfrm>
            <a:off x="4876920" y="3657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Presentation Slides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uld have a concise tit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uld have 2-3 points per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uld avoid complet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t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Evolution Lecture (Long) Compressed"/>
          <p:cNvPicPr/>
          <p:nvPr/>
        </p:nvPicPr>
        <p:blipFill>
          <a:blip r:embed="rId1"/>
          <a:stretch/>
        </p:blipFill>
        <p:spPr>
          <a:xfrm>
            <a:off x="4724280" y="346716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PowerPoint Esthetics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ember, goal is to convey ideas, so avoid distracting </a:t>
            </a:r>
            <a:r>
              <a:rPr b="0" lang="en-US" sz="4400" spc="-1" strike="noStrike">
                <a:solidFill>
                  <a:srgbClr val="ffffff"/>
                </a:solidFill>
                <a:latin typeface="Edwardian Script ITC"/>
              </a:rPr>
              <a:t>tex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effect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’t overuse PowerPoint animations and sound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simple (or no) backgrounds on sl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Matisse ITC"/>
              </a:rPr>
              <a:t>Avoid weird fonts</a:t>
            </a:r>
            <a:endParaRPr b="0" lang="en-US" sz="72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the same font througho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’T USE ALL CA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ol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r empha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us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alligrap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ke all text at least 20 p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905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common error is having a slide format that dissuades the audience from reading</a:t>
            </a:r>
            <a:endParaRPr b="0" lang="en-US" sz="2800" spc="-1" strike="noStrike">
              <a:solidFill>
                <a:srgbClr val="ffffcc"/>
              </a:solidFill>
              <a:latin typeface="Papyrus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380880" y="1981080"/>
            <a:ext cx="6057720" cy="4527720"/>
            <a:chOff x="380880" y="1981080"/>
            <a:chExt cx="6057720" cy="4527720"/>
          </a:xfrm>
        </p:grpSpPr>
        <p:graphicFrame>
          <p:nvGraphicFramePr>
            <p:cNvPr id="135" name="Object 4"/>
            <p:cNvGraphicFramePr/>
            <p:nvPr/>
          </p:nvGraphicFramePr>
          <p:xfrm>
            <a:off x="380880" y="1981080"/>
            <a:ext cx="6057720" cy="4527720"/>
          </p:xfrm>
          <a:graphic>
            <a:graphicData uri="http://schemas.openxmlformats.org/presentationml/2006/ole">
              <p:oleObj progId="PowerPoint.Show.12" r:id="rId1" spid="">
                <p:embed/>
                <p:pic>
                  <p:nvPicPr>
                    <p:cNvPr id="13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981080"/>
                      <a:ext cx="6057720" cy="452772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7" name="Text Box 5"/>
            <p:cNvSpPr/>
            <p:nvPr/>
          </p:nvSpPr>
          <p:spPr>
            <a:xfrm>
              <a:off x="382320" y="2521080"/>
              <a:ext cx="5884920" cy="3561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IMARY CONCERNS  -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IELD JOINT -  HIGHEST CONCER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ROSION PENETRATION OF PRIMARY SEAL REQUIRES RELIABLE SECONDARY SEAL FOR PRESSURE INTEGRIT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GNITION TRANSIENT - (0-600 MS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(0-170 MS) HIGH PROBABILITY OF RELIABLE SECONDARY SEAL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(170-330 MS) REDUCED PROBABILITY OF RELIABLE SECONDARY SEAL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(330-600 MS) HIGH PROBABILITY OF NO SECONDARY SEAL CAPABILIT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EADY STATE - (600 MS - 2 MINUTES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F EROSION PENETRATES PRIMARY O-RING SEAL -  HIGH PROBABILITY OF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O SECONDARY SEAL CAPABILIT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BENCH TESTING SHOWED O-RING NOT CAPABLE OF MAINTAINING CONTACT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ITH METAL PARTS GAP OPERATING TO MEOP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BENCH TESTING SHOWED CAPABILITY TO MAINTAIN O-RING CONTACT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URING INITIAL PHASE (0 - 170 MS) OF TRANSIENT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8" name="Rectangle 6"/>
          <p:cNvSpPr/>
          <p:nvPr/>
        </p:nvSpPr>
        <p:spPr>
          <a:xfrm>
            <a:off x="205740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 rot="19754400">
            <a:off x="1447560" y="3809160"/>
            <a:ext cx="43434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fficult to re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3"/>
          <a:stretch/>
        </p:blipFill>
        <p:spPr>
          <a:xfrm>
            <a:off x="8537400" y="6019920"/>
            <a:ext cx="538200" cy="81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Font Size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an easy-to-read font (36 pt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Make sure your audience (32 pt)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an easily read (28 pt)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Every one of your slides (24 pt)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rom the back of the room (20 pt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See what I mean? (14 pt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762120" y="1752480"/>
            <a:ext cx="7619760" cy="137160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Slide Colors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se “normal” col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’T use </a:t>
            </a:r>
            <a:r>
              <a:rPr b="0" lang="en-US" sz="2800" spc="-1" strike="noStrike">
                <a:solidFill>
                  <a:srgbClr val="008000"/>
                </a:solidFill>
                <a:latin typeface="Garamond"/>
              </a:rPr>
              <a:t>red/gre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red/blu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s contrasting col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’t use more tha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re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u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ifferent col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oid </a:t>
            </a: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neon colo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800" spc="-1" strike="noStrike">
                <a:solidFill>
                  <a:srgbClr val="ff66ff"/>
                </a:solidFill>
                <a:latin typeface="Garamond"/>
              </a:rPr>
              <a:t>past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Use figures to illustrate key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points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hey enliven slide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omote audience interest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ovide supporting evidence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for key point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Help explain complex ideas and relationships quickly!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6" descr="Artificial Collection Biases at Sterkfontein 31"/>
          <p:cNvPicPr/>
          <p:nvPr/>
        </p:nvPicPr>
        <p:blipFill>
          <a:blip r:embed="rId1"/>
          <a:stretch/>
        </p:blipFill>
        <p:spPr>
          <a:xfrm>
            <a:off x="4876920" y="1066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Label all elements in a figure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int out important fea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 both axes of graphs and show un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 cap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cred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5" descr="Artificial Collection Biases at Sterkfontein f"/>
          <p:cNvPicPr/>
          <p:nvPr/>
        </p:nvPicPr>
        <p:blipFill>
          <a:blip r:embed="rId1"/>
          <a:stretch/>
        </p:blipFill>
        <p:spPr>
          <a:xfrm>
            <a:off x="4419720" y="1847880"/>
            <a:ext cx="4647960" cy="3486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5410080" y="54864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apted from Heaton (200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72160" y="3960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315040" y="6318360"/>
            <a:ext cx="373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rton-Thiokol Correspondence to NAS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nuary 27, 198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685800" y="685800"/>
          <a:ext cx="7391520" cy="5537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391520" cy="5537160"/>
                  </a:xfrm>
                  <a:prstGeom prst="rect">
                    <a:avLst/>
                  </a:prstGeom>
                  <a:ln w="1260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Organizing a 15-minute talk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ackground and Introducti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1–3 minut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od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7–10 minut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mmar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1 minut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3 minute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Picture 7" descr="Current Paleoanthropological Research in South Africa"/>
          <p:cNvPicPr/>
          <p:nvPr/>
        </p:nvPicPr>
        <p:blipFill>
          <a:blip r:embed="rId1"/>
          <a:stretch/>
        </p:blipFill>
        <p:spPr>
          <a:xfrm>
            <a:off x="4419720" y="3162240"/>
            <a:ext cx="4495680" cy="337176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2520" y="76320"/>
            <a:ext cx="39625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End with a bang, not a whimper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53316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o NOT go over allotted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’ll get cut off at con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hearse end of your tal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’t end with “Well, I guess that’s it…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’t stop and let audience guess that you’re d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051520" y="1460520"/>
            <a:ext cx="4016160" cy="53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Best Way to Prepare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now Your Materi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actice, practice, pract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cus on communicating, not perform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mor good, but don’t overdo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eep it si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5" descr="homer's%20brain"/>
          <p:cNvPicPr/>
          <p:nvPr/>
        </p:nvPicPr>
        <p:blipFill>
          <a:blip r:embed="rId1"/>
          <a:stretch/>
        </p:blipFill>
        <p:spPr>
          <a:xfrm>
            <a:off x="5867280" y="1905120"/>
            <a:ext cx="2976840" cy="35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Best Way to Prepare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pare key phra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kay to write out material fir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rite down the point to make for each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 slide doesn’t have a point, eliminate slide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ay on tra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Rehearse Your Talk!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few days bef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actice in front of friends and check tim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hearse likely ques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licit feedback about logic and clar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vise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ort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Rehearse Your Talk!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night bef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 over one more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t all material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 order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number your slides!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5" descr="Lil%20Chimp"/>
          <p:cNvPicPr/>
          <p:nvPr/>
        </p:nvPicPr>
        <p:blipFill>
          <a:blip r:embed="rId1"/>
          <a:stretch/>
        </p:blipFill>
        <p:spPr>
          <a:xfrm>
            <a:off x="5029200" y="3657600"/>
            <a:ext cx="3890880" cy="29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Handling Questions is Essential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peat the ques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 everyone may have heard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ing question allows the questioner to clarify it and gives you time to think about your answ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f you don’t know the answe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y “That’s an excellent ques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’m not sure; I’ll have to loo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o it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question mark"/>
          <p:cNvPicPr/>
          <p:nvPr/>
        </p:nvPicPr>
        <p:blipFill>
          <a:blip r:embed="rId1"/>
          <a:stretch/>
        </p:blipFill>
        <p:spPr>
          <a:xfrm>
            <a:off x="6248520" y="3809880"/>
            <a:ext cx="259056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Organizing a 20-minute talk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ckground and Introductio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1–3 minut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tle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view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–2 additional slides, if nee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od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7–10 minut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nl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or three main ideas (1-2 slides ea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-6 slid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7543800" y="5235480"/>
          <a:ext cx="134928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5235480"/>
                    <a:ext cx="13492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Organizing a 20-minute talk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mmar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1 minut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Question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3 minute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Know the audience!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–4 back-up slid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7" descr="Artificial Collection Biases at Sterkfontein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How do you start?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rite down 2–3 key ideas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ory material from idea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background/motivation does the audience ne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dy of the presentation flows from these ideas (what supporting evidence, figures, and data do you need to present?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0" name="Object 6"/>
          <p:cNvGraphicFramePr/>
          <p:nvPr/>
        </p:nvGraphicFramePr>
        <p:xfrm>
          <a:off x="7205760" y="228600"/>
          <a:ext cx="162072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228600"/>
                    <a:ext cx="16207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Talk follows from the key points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ivate the key issues (Introduc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iew your main mess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 support for your messages (Bod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marize your messages (Conclus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other words, don’t let them leave without knowing your main messages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The Title Slide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pares the audience to listen and tells them what to look f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itle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Your name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Venue and date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Attention-getting graphic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6" descr="Fossil collection biases at Sterkfontein"/>
          <p:cNvPicPr/>
          <p:nvPr/>
        </p:nvPicPr>
        <p:blipFill>
          <a:blip r:embed="rId1"/>
          <a:stretch/>
        </p:blipFill>
        <p:spPr>
          <a:xfrm>
            <a:off x="4876920" y="3429000"/>
            <a:ext cx="4038480" cy="302904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The Outline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tline or overview of pres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es the audience to lis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s a logical structure for your tal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marizes key points (limit to three or four for a 15-minute tal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The Body: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Intellectual Content 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oblem statement, 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–2 sl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evious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sli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sli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81120" y="3504960"/>
            <a:ext cx="40388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4 sl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uture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sli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7" descr="chimp"/>
          <p:cNvPicPr/>
          <p:nvPr/>
        </p:nvPicPr>
        <p:blipFill>
          <a:blip r:embed="rId1"/>
          <a:stretch/>
        </p:blipFill>
        <p:spPr>
          <a:xfrm>
            <a:off x="6726240" y="380880"/>
            <a:ext cx="20336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57:46Z</dcterms:created>
  <dc:creator>jlheaton</dc:creator>
  <dc:description/>
  <dc:language>en-US</dc:language>
  <cp:lastModifiedBy>Hanson, Pamela</cp:lastModifiedBy>
  <dcterms:modified xsi:type="dcterms:W3CDTF">2018-11-03T18:38:52Z</dcterms:modified>
  <cp:revision>14</cp:revision>
  <dc:subject/>
  <dc:title>End with a bang, not a whimper</dc:title>
</cp:coreProperties>
</file>