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BCF1-D512-4989-AE3E-0A356896B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D2B6-3B53-4CB8-A0D1-0EACD6C8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4680-1C8D-485F-946B-F5327ED24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2351-0E11-4EDE-88F8-49F7BF0C7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D0BA-8D83-4ADC-86BF-4E703CBDF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FC80B-7A00-4BFB-A35A-E3A6B4AD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8913F-7382-43EB-B10B-B162755D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50AB-3185-4085-9770-0E97093D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AB6F-739B-402A-AE65-6C4DA402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7329E-F723-4209-BD7A-140338B4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E3874-F447-4820-8B2F-93B9EF3D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FD89-8205-41DF-AE8E-649451C2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9E9C-541A-444D-8ED0-2AF1655A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A80D-F01C-4922-AFCC-48A4F122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B219-85C7-41CC-96A5-297EB2F5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DAAF-6389-4833-B0AB-03BBEA251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6052-08F2-43AD-B739-507C51927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68D6-2D59-4760-8FDD-83951CF7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4A37-FE25-4700-8DA0-9B981F16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AAFA-CAB7-40FA-8AA5-9A586C83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1F2B-0512-4106-9C77-AB2DFF24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1503-BEAC-4052-87AA-22424038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71F9-FDF2-4BCA-8A31-3F2311E5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37E5-72D1-4DB3-ABF4-CA917476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9DF5-E3B4-4C35-AE82-3872118F01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B414-D12D-4FD2-AA81-404E8875D29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drugabuse.gov/trends-statistics/monitoring-future/monitoring-future-study-trends-in-prevalence-various-drugs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vaping%20vs%20cigarettes%202021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yfLp_vueUxY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</a:t>
            </a:r>
            <a:br>
              <a:rPr sz="4400"/>
            </a:br>
            <a:r>
              <a:rPr b="0" lang="en-US" sz="44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s://www.drugabuse.gov/trends-statistics/monitoring-future/monitoring-future-study-trends-in-prevalence-various-dru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99" name="Picture 4" descr="MCj01500350000[1]"/>
          <p:cNvPicPr/>
          <p:nvPr/>
        </p:nvPicPr>
        <p:blipFill>
          <a:blip r:embed="rId2"/>
          <a:stretch/>
        </p:blipFill>
        <p:spPr>
          <a:xfrm>
            <a:off x="3429000" y="4267080"/>
            <a:ext cx="27464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ther Effects of Nicot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er doses can result in nervousness, tremors to effects of nicotine toxic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king associated with increased occurrence of panic attacks/panic D.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orbidity of childhood ADHD, depression, schizophrenia, and smo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sibly reduces ADHD symptom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ective effect for Parkinson’s &amp; Alzheimer’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about low nicotine/low tar cigarett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Toleranc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okers undergo a significant degree of nicotine tolerance during the course of the day.  But after overnight abstinence, smokers awaken more sensitive to nicotine’s effec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-term nicotine exposure leads to chronic toler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olerance and Withdrawa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okers develop tolerance to nausea, dizziness, vomit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tolerance to tremors, decreased skin tempera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drawal effects include irritability, inability to concentrate, insomnia, restlessness, anger, increased appet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ng-term Health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00,000 U.S. deaths a year due to smo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ung cancer, bronchitis and emphysema not caused by nicotine per se but smoking and t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oking alters lung functioning – paralyzing cilia, resulting in less ability to clear dust and pollutants from lu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ng-term Health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fects of smoking on heart and blood vessels may be caused by nicot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otine increases narrowing and clotting in coronary arte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bon monoxide decreases oxygen to heart while nicotine increases work heart do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this leads to cardiovascular disease (stroke, heart attack, vascular disease, aneurysm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atly increased risk heart problems if smoker and on oral birth contro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lectronic-cigarettes, Vaping, MOD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ttery-operated devices that people use to inhale an aerosol, which typically contains nicotine (though not always), flavorings, and other chemical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many e-cigarettes, puffing activates the battery-powered heating device, which vaporizes the liquid in the cartridge or reservoir. The person then inhales the resulting aerosol or vap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it safer than smoking cigarett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, what should we rememb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vaping vs cigarettes 202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angerous Combinations with Other Dru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otine can cause problems when combined with other drugs that increase heart rate and BP, or that reduce oxygen-carrying capacity of the blood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.g. cocaine and other stimulant dru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and Pregnanc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otine decreases oxygen and constricts blood vessels to fe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king during pregnancy results in more premature births, smaller head circumference and decreased we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studies indicate greater liklihood of nicotine addiction in those who’s mothers smoked during pregna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ren of fathers who smoke more likely to develop childhood canc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icult b/c so many activities/settings associated with smok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otine gum, patch, lozenges, nasal spray, and inhalers have some success, but not much.  Inhalers are safer, howev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antidepressants, e.g. bupropion (Zyban, Wellbutr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renicline (Chantix) partial agonist for nicotinic ACh recep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dolescent Smoker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addicted smokers started in adolesce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olescents experience less of the aversive effects than adults, and will self-administer more than adults (based on rat studi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 like reinforcing effects more or experience fewer negative side effec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mall Group Discuss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of your friends/family members smoke cigarettes or use tobacco produc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use e-cigarettes/vaporize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people your age, do you think there is a negative stigma associated with these activities?  When is it more vs. less accept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ets watch and discus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s://www.youtube.com/watch?v=yfLp_vueU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00s tobacco used to treat many ail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828 French chemists isolated nicot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U.S. Chewing tobacco used fir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ly 1900s cigars became pop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n cigarettes; peak sales in 1960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day,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ost widely consumed recreational drug (after caffeine and alcohol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in the Brai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otine delivered to brain about 7 seconds after inha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puff =&gt; drug spike (reinforc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oker controls nicotine levels by…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often they inh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eeply they inh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me between cigaret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in the Brai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Nicotine metabolized quickly to cotinine; this is eliminated in the ur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ak concentration in the brain from smoking reached in about 10 m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oker continues to smoke even when blood nicotine levels are high. Doesn’t lead to greater and greater effects b/c of tolerance that develops over the course of the da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ilar blood levels for smoking, chewing, snuf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tion at the neuronal leve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otine binds to nicotinic subtype of ACh receptor (ionotropi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s in mesolimbic pathway, causes DA release at N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nicotinic ACh R’s may be located on presynaptic DA, ACh, and Glutamate secreting neurons and facilitate rel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tion at the neuronal leve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uses release of Epinephine (adrenaline) from adrenal gl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ates release of ADH =&gt; fluid ret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resses insulin output =&gt; hyperglycem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ute Effects of Nicot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 heart rate, blood pressure, cardiac contract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xes muscles by activating cells in spinal cord that reduce muscle tone (relaxation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 activity, cognitive functioning, attention, short-term memory, sensorimotor perform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rted to decrease stress, anxiety, frustration, anger (what could this be due to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toxicit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0 mg nicotine can be fatal to an adult. Cigarettes contain 0.5-2 mg nicotine, with 20% inhaled and reaching bloodstream. 2-8 mg nicotine ingested per day in pack a day smok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icotine is used in many insecticides and pesticid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mptoms of nicotine poisoning (dizziness, weakness, nausea) eventually leads to convulsions and respiratory failure (due to paralysis of muscles needed for breathing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Trench, Lynne S.</cp:lastModifiedBy>
  <dcterms:modified xsi:type="dcterms:W3CDTF">2022-03-01T18:46:04Z</dcterms:modified>
  <cp:revision>50</cp:revision>
  <dc:subject/>
  <dc:title>How do organisms adapt to change?</dc:title>
</cp:coreProperties>
</file>