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3F3-2651-4DDA-B965-8F276597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25A-9365-468F-B9FA-4FD7BB70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2B9-426A-4793-9039-805DA61C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C1B-C39B-4D1C-9BD3-489E782A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D2EE-DF9F-4F95-AAA8-E5E2AC85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6A1D-E730-45F2-A37D-7D0C2EFE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9BFA-010E-4F96-8672-8ED197A3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C458-3B22-4186-BB02-F1DD5136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7309-3F6B-4584-8F5E-AE57EBE9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9B57-B3FB-41CD-8686-9F2EDA52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7480-A68C-4D1C-9D9B-A953824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CFA-256D-4D29-BCEF-32C70AFF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6BD9-DE8D-4FB7-B9B8-237F777B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0ABC-1CD8-457E-A1BA-78BAF57E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B59B-97F3-4E65-A53F-80E67757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C27F-9025-446F-BAC2-706CB2EA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4FE7-064A-41B7-B76C-9E26CBEF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1E4-81EC-4902-84A3-8807CFAB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4D3-22A8-460B-8555-1AB03CAE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DA8-16DF-4F43-A5D4-8426056C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D14-656C-40AD-A367-F41C03FF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AD6-4E34-4A71-BFED-25520D3D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CD0-01ED-452A-BA96-43AB5B9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0DD-832B-4C5A-B4CF-4ACA3757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FADD-6922-431A-9A95-14A56EEBF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D4FF-EF1D-42D5-ADAB-97A26A8AA87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drugabuse.gov/trends-statistics/monitoring-future/monitoring-future-study-trends-in-prevalence-various-drug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vaping%20vs%20cigarettes%202021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fLp_vueUxY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drugabuse.gov/trends-statistics/monitoring-future/monitoring-future-study-trends-in-prevalence-various-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, what should we rememb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vaping vs cigarettes 20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P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smoke cigarettes or use tobacco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use e-cigarettes/vaporiz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ts watch and discu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yfLp_vueU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from smoking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oker continues to smok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chewing, sn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binds to nicotinic subtype of ACh receptor (ionotr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in mesolimbic pathway, causes DA release at 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icotinic ACh R’s may be located on presynaptic DA, ACh, and Glutamate secreting neurons and facilitate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DH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3-01T18:46:04Z</dcterms:modified>
  <cp:revision>50</cp:revision>
  <dc:subject/>
  <dc:title>How do organisms adapt to change?</dc:title>
</cp:coreProperties>
</file>