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66E-4205-4DF5-84C8-376C0690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B24-CF35-4944-94E5-9CB69972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2B9F-6E00-4095-93E4-81B37310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BE9-AA57-4202-AA4F-C55D6C48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29ED-F21F-4A34-BEBF-76AEFA02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4A02-7587-40A3-840C-D8ABF879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151D-076E-4B09-9A9F-93ADE1B5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76E4-3871-4066-9053-CE465A57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6CF5-875E-4F4E-9B0D-02997861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3F47-5224-4E9E-9546-E683EB78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28F1-17CB-4B04-B63F-A501726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A7B-8150-4122-8798-12169C1A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5DEA-0147-4442-898D-CDA0114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B332-7013-4A6B-8296-D6CDC22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1D56-8905-4B1F-A6E7-D896B86A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990-707E-4BEC-A959-9F9C8F0B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E1C0-FFA8-49F9-9492-74E75F9D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D55-46A4-47F9-98F8-60186005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848-4E5B-4605-B414-B84FEC1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F74-D36A-44C7-8F0F-E512BA85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D12-A392-419D-834F-DB51886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19D-6A7D-44E2-B26A-7F094DD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3AA-E0E4-4105-BD70-023E3AB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5EB-AEDA-4B72-9A1B-4E42653E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C368-CEE6-4D0A-AEF1-962AB0CE5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AFA9-4A43-4B77-97EB-A112DE993DF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rugabuse.gov/trends-statistics/monitoring-future/monitoring-future-study-trends-in-prevalence-various-drug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vaping%20vs%20cigarettes%202021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fLp_vueUxY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</a:t>
            </a:r>
            <a:br>
              <a:rPr sz="4400"/>
            </a:br>
            <a:r>
              <a:rPr b="0" lang="en-US" sz="44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drugabuse.gov/trends-statistics/monitoring-future/monitoring-future-study-trends-in-prevalence-various-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9" name="Picture 4" descr="MCj01500350000[1]"/>
          <p:cNvPicPr/>
          <p:nvPr/>
        </p:nvPicPr>
        <p:blipFill>
          <a:blip r:embed="rId2"/>
          <a:stretch/>
        </p:blipFill>
        <p:spPr>
          <a:xfrm>
            <a:off x="3429000" y="4267080"/>
            <a:ext cx="27464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ther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doses can result in nervousness, tremors to effects of nicotine 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associated with increased occurrence of panic attacks/panic D.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orbidity of childhood ADHD, depression, schizophrenia, and sm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sibly reduces ADHD symptom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ive effect for Parkinson’s &amp; Alzheimer’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bout low nicotine/low tar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leran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undergo a significant degree of nicotine tolerance during the course of the day.  But after overnight abstinence, smokers awaken more sensitive to nicotine’s effec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nicotine exposure leads to chronic toler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olerance and Withdrawa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s develop tolerance to nausea, dizziness, vomit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olerance to tremors, decreased skin temper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drawal effects include irritability, inability to concentrate, insomnia, restlessness, anger, increased appet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00,000 U.S. deaths a year due to sm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ng cancer, bronchitis and emphysema not caused by nicotine per se but smoking and 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ing alters lung functioning – paralyzing cilia, resulting in less ability to clear dust and pollutants from lu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ng-term Health Effec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of smoking on heart and blood vessels may be caused by nicot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increases narrowing and clotting in coronary arte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decreases oxygen to heart while nicotine increases work heart do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is leads to cardiovascular disease (stroke, heart attack, vascular disease, aneurysm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ly increased risk heart problems if smoker and on oral birth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lectronic-cigarettes, Vaping, MO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tery-operated devices that people use to inhale an aerosol, which typically contains nicotine (though not always), flavorings, and other chemic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many e-cigarettes, puffing activates the battery-powered heating device, which vaporizes the liquid in the cartridge or reservoir. The person then inhales the resulting aerosol or vap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t safer than smoking cigaret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, what should we rememb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vaping vs cigarettes 20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ous Combinations with Other Drug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can cause problems when combined with other drugs that increase heart rate and BP, or that reduce oxygen-carrying capacity of the bloo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cocaine and other stimulant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and Pregnanc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decreases oxygen and constricts blood vessels to fe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ing during pregnancy results in more premature births, smaller head circumference and decreas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indicate greater liklihood of nicotine addiction in those who’s mothers smok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fathers who smoke more likely to develop childhood can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 b/c so many activities/settings associated with smo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otine gum, patch, lozenges, nasal spray, and inhalers have some success, but not much.  Inhalers are safer, howev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ntidepressants, e.g. bupropion (Zyban, Wellbutr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enicline (Chantix) partial agonist for nicotinic ACh recep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dolescent Smok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addicted smokers started in adolesc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s experience less of the aversive effects than adults, and will self-administer more than adults (based on rat stud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 like reinforcing effects more or experience fewer negative side effe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mall Group Discus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of your friends/family members smoke cigarettes or use tobacco produc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use e-cigarettes/vaporiz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people your age, do you think there is a negative stigma associated with these activities?  When is it more vs. less accep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ets watch and discus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1"/>
              </a:rPr>
              <a:t>https://www.youtube.com/watch?v=yfLp_vueU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00s tobacco used to treat many ail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French chemists isolated nicot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U.S. Chewing tobacco used fir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ly 1900s cigars became pop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cigarettes; peak sales in 1960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ay,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st widely consumed recreational drug (after caffeine and alcohol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delivered to brain about 7 seconds after inha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puff =&gt; drug spike (reinforc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r controls nicotine levels by…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often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eeply they inh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between cigaret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in the B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Nicotine metabolized quickly to cotinine; this is eliminated in the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ak concentration in the brain from smoking reached in about 10 m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oker continues to smoke even when blood nicotine levels are high. Doesn’t lead to greater and greater effects b/c of tolerance that develops over the course of the d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blood levels for smoking, chewing, snuf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tine binds to nicotinic subtype of ACh receptor (ionotrop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s in mesolimbic pathway, causes DA release at N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nicotinic ACh R’s may be located on presynaptic DA, ACh, and Glutamate secreting neurons and facilitate rel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tion at the neuronal level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release of Epinephine (adrenaline) from adrenal g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s release of ADH =&gt; fluid re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resses insulin output =&gt; hyperglyce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ute Effects of Nicotin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heart rate, blood pressure, cardiac contract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s muscles by activating cells in spinal cord that reduce muscle tone (relaxation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activity, cognitive functioning, attention, short-term memory, sensorimotor 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ed to decrease stress, anxiety, frustration, anger (what could this be due to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icotine toxi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 mg nicotine can be fatal to an adult. Cigarettes contain 0.5-2 mg nicotine, with 20% inhaled and reaching bloodstream. 2-8 mg nicotine ingested per day in pack a day smo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cotine is used in many insecticides and pesticid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mptoms of nicotine poisoning (dizziness, weakness, nausea) eventually leads to convulsions and respiratory failure (due to paralysis of muscles needed for breath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3-01T18:46:04Z</dcterms:modified>
  <cp:revision>50</cp:revision>
  <dc:subject/>
  <dc:title>How do organisms adapt to change?</dc:title>
</cp:coreProperties>
</file>