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FF2-0B36-4E55-9531-8B778341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990-7A5F-43A5-A5BE-A772F9EA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1B2-B430-4EE1-BC81-58C83A91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DEE-47F2-4387-9B14-072171A3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121E-D0F2-442C-A468-62673A7A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B93F-0C3F-443A-8881-CE7D283F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7D3B-8D98-4B9C-AE80-0FE8A2A6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C866-4596-4FCB-B433-4B245ACC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AFCC-D9DA-4C68-91C2-AB5688DF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A3D7-A6CA-47C4-A4A5-F1BDE68A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B388-57E7-4342-B7D1-0D09F8CF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214-7D08-4DFC-8E7F-1F1F6469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5037-8425-4067-8EF9-99ED662D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2262-81B1-4614-ACE4-F34C4193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3759-00E9-425B-8134-83C2B235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75DD-A032-408B-896F-A6663C2F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EA27-9902-4F3B-AE6A-EE4DC8A7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DC2-7315-4C5E-9CC2-9EF550B4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098E-1323-4CA9-9BC9-78A72074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6D7-0073-4E90-BCD5-ADF2DFDB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E71-12D0-45C4-92D7-5A573E0F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FC2-9421-4DCE-9E53-DD1DDC03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667-2EB3-4FDD-BCF9-BB44A654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5E2-8DD9-455B-8F43-4BA44E77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82F1-C38A-48A3-828E-F7AA607C8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29CD-8FE3-4D5B-8E5F-AE46267E209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drugabuse.gov/trends-statistics/monitoring-future/monitoring-future-study-trends-in-prevalence-various-drug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vaping%20vs%20cigarettes%202021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yfLp_vueUxY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</a:t>
            </a:r>
            <a:br>
              <a:rPr sz="4400"/>
            </a:br>
            <a:r>
              <a:rPr b="0" lang="en-US" sz="4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drugabuse.gov/trends-statistics/monitoring-future/monitoring-future-study-trends-in-prevalence-various-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MCj01500350000[1]"/>
          <p:cNvPicPr/>
          <p:nvPr/>
        </p:nvPicPr>
        <p:blipFill>
          <a:blip r:embed="rId2"/>
          <a:stretch/>
        </p:blipFill>
        <p:spPr>
          <a:xfrm>
            <a:off x="3429000" y="4267080"/>
            <a:ext cx="27464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doses can result in nervousness, tremors to effects of nicotine 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associated with increased occurrence of panic attacks/panic D.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rbidity of childhood ADHD, depression, schizophrenia, and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y reduces ADHD sympto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ve effect for Parkinson’s &amp; Alzheimer’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low nicotine/low tar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lera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undergo a significant degree of nicotine tolerance during the course of the day.  But after overnight abstinence, smokers awaken more sensitive to nicotine’s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nicotine exposure leads to chronic toler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Withdraw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develop tolerance to nausea, dizziness, vom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olerance to tremors, decreased sk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al effects include irritability, inability to concentrate, insomnia, restlessness, anger, increased appet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0,000 U.S. deaths a year due to sm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g cancer, bronchitis and emphysema not caused by nicotine per se but smoking and 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ing alters lung functioning – paralyzing cilia, resulting in less ability to clear dust and pollutants from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moking on heart and blood vessels may be caused by nicot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increases narrowing and clotting in coronary arte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 decreases oxygen to heart while nicotine increases work heart d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is leads to cardiovascular disease (stroke, heart attack, vascular disease, aneurys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ly increased risk heart problems if smoker and on oral birth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tery-operated devices that people use to inhale an aerosol, which typically contains nicotine (though not always), flavorings, and other chemic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many e-cigarettes, puffing activates the battery-powered heating device, which vaporizes the liquid in the cartridge or reservoir. The person then inhales the resulting aerosol or vap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it safer than smoking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, what should we rememb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vaping vs cigarettes 20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Combination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can cause problems when combined with other drugs that increase heart rate and BP, or that reduce oxygen-carrying capacity of the bloo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cocaine and other stimulant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decreases oxygen and constricts blood vessel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during pregnancy results in more premature births, smaller head circumference and decreas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udies indicate greater liklihood of nicotine addiction in those who’s mothers smoked during pre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fathers who smoke more likely to develop childhood canc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b/c so many activities/settings associated with smo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gum, patch, lozenges, nasal spray, and inhalers have some success, but not much.  Inhalers are safer, howe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ntidepressants, e.g. bupropion (Zyban, Wellbutr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enicline (Chantix) partial agonist for nicotinic ACh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olescent Smok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ddicted smokers started in adolesc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s experience less of the aversive effects than adults, and will self-administer more than adults (based on rat stud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like reinforcing effects more or experience fewer negative side eff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all Group Discu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of your friends/family members smoke cigarettes or use tobacco produ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use e-cigarettes/vaporiz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people your age, do you think there is a negative stigma associated with these activities?  When is it more vs. less accep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ets watch and discu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yfLp_vueU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00s tobacco used to treat many ail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28 French chemists isolated nico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U.S. Chewing tobacco used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1900s cigars became pop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cigarettes; peak sales in 196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,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st widely consumed recreational drug (after caffeine and alcoho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delivered to brain about 7 seconds after inha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puff =&gt; drug spike (reinforc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 controls nicotine levels by…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eeply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cigaret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Nicotine metabolized quickly to cotinine; this is eliminated in the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concentration in the brain from smoking reached in about 10 m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oker continues to smoke even when blood nicotine levels are high. Doesn’t lead to greater and greater effects b/c of tolerance that develops over the course of the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blood levels for smoking, chewing, snuf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binds to nicotinic subtype of ACh receptor (ionotrop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s in mesolimbic pathway, causes DA release at N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nicotinic ACh R’s may be located on presynaptic DA, ACh, and Glutamate secreting neurons and facilitate rel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release of Epinephine (adrenaline) from adrenal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release of ADH =&gt; fluid re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resses insulin output =&gt; hyperglyc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heart rate, blood pressure, cardiac contract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s muscles by activating cells in spinal cord that reduce muscle tone (relaxatio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activity, cognitive functioning, attention, short-term memory, sensorimotor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ed to decrease stress, anxiety, frustration, anger (what could this be due to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xic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g nicotine can be fatal to an adult. Cigarettes contain 0.5-2 mg nicotine, with 20% inhaled and reaching bloodstream. 2-8 mg nicotine ingested per day in pack a day smok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otine is used in many insecticides and pestici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of nicotine poisoning (dizziness, weakness, nausea) eventually leads to convulsions and respiratory failure (due to paralysis of muscles needed for breath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3-01T18:46:04Z</dcterms:modified>
  <cp:revision>50</cp:revision>
  <dc:subject/>
  <dc:title>How do organisms adapt to change?</dc:title>
</cp:coreProperties>
</file>