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1FE-775D-4EB4-85FE-CADDE31F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8FF-1EED-4ACA-BBCE-CCE6F59B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B03-CC06-44F3-BD65-F07D1FA3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A7D-01C0-4E13-AD21-B7774819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D4B2-0948-47B7-9372-4D0B53DA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7FF9-BD76-47C0-B2D5-D27A39E1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882B-00EF-492C-892E-7C5B0C17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6D3D-A58D-4CC2-9FAD-7762D67E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4A11-B1F8-4517-A7EC-B88F0C27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F944-AAE3-4282-933A-DEFF73E0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9897-9541-4FD2-8E64-FD3FDFC4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F2E-D30F-4AE1-99CC-5A619D66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DE4E-57A3-43B7-B1D7-C46F8D80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E0C6-3067-4EAB-A0E9-0BCF1E8F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82F4-5C2E-4233-86F2-F1E0701F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73E8-A562-4A3A-918E-B9C5B076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338C-640B-4F64-AD7C-2033D746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1B020-DF17-4824-91C3-F2B09BF0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E18BA-0FA9-4807-9789-5B7C816F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9F397-FF75-4112-97F7-9D874AC3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7B0E9-331E-41D9-8265-1D81ED43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5E0B4-CBF2-40BB-AE8C-E3F2E152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214A-DB6C-4798-ABEE-E62F6C87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F43A8-3364-4A3D-84D1-AA9D23ED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95E5-9165-4E45-8F9B-D8ED0474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876AB-9005-4830-B206-6765A4F7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F07D9-0876-440C-8C75-EC90EB9D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5EE1-56B7-4AE7-9C53-E8DB664A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2BAF3-66A3-4EEB-8553-025B4845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7C1C4-3058-4253-988D-BA5CC3A9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EB0A3-1B83-4030-AAA3-FA4A2724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C42D6-8503-45FF-834E-BCA65687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195C8-AC67-49DD-A6A7-965D3779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807-975D-48FE-9D3F-0ABC3C1F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56B3A-317E-4524-ACD3-64FA452A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E5F64-4AD9-475E-903A-9E698FC5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F2B2D-3A47-4047-AF9D-F7CF76CD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1562A-F966-464D-B95E-888DF2DC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9DE70-66D2-4CA1-B303-574E7B2D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001CC-4364-4442-9325-00965FEC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765D0-2926-4982-9AAA-071A8132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E2B5C-793D-4656-96D4-AACBD48A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43681-578A-44B4-83ED-5D88EBC8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819-D7DD-4DDF-AFD0-0EA3FA64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76F0-FDEE-43FE-B42F-4E7C0D73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90F-E2DF-47B6-B1E3-AE48CF07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E431-A412-44D2-A7E1-6F4EE9C2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42F-BA41-44C7-9177-A6BF3A63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862AA-9BE6-4677-BC07-B9609E375F72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F5F51-B61C-46ED-9AD0-CCD50CB183F0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DA18D-9246-4998-AB9D-430FB7F9BC57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Straight Connector 12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Straight Connector 13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CDE15-6998-4DBF-94CD-43ACB400C643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6880" y="1447560"/>
            <a:ext cx="661968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ebebeb"/>
                </a:solidFill>
                <a:latin typeface="Century Gothic"/>
              </a:rPr>
              <a:t>Caffeine</a:t>
            </a:r>
            <a:br>
              <a:rPr sz="7200"/>
            </a:b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866880" y="4776840"/>
            <a:ext cx="66196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ad0d6"/>
              </a:solidFill>
              <a:latin typeface="Century Gothic"/>
            </a:endParaRPr>
          </a:p>
        </p:txBody>
      </p:sp>
      <p:pic>
        <p:nvPicPr>
          <p:cNvPr id="236" name="Picture 4" descr="MCj04315630000[1]"/>
          <p:cNvPicPr/>
          <p:nvPr/>
        </p:nvPicPr>
        <p:blipFill>
          <a:blip r:embed="rId1"/>
          <a:stretch/>
        </p:blipFill>
        <p:spPr>
          <a:xfrm>
            <a:off x="3657600" y="4343400"/>
            <a:ext cx="19051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Effects in the brain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ffeine is an adenosine receptor antagonis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denosine is a neuromodulator that acts as a depressant on other NT systems and may induce sleep (causes sedation when adenosine binds to its receptors)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denosine stimulates GABA relea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locking adenosine R’s leads to stimulant action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ffeine inhibits adenosine =&gt; disinhibiting DA release in striatum reward pathway (normally, adenosine facilitates GABA; GABA inhibits DA release in this pathway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Century Gothic"/>
              </a:rPr>
              <a:t>Other Effects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affeine is a mild stimula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sitizes animals to cocai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igh correlation of caffeine use and use of alcohol and nicoti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ference for caffeine seems to be genetically determin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affeine does NOT sober up a drunk pers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Dependence and Withdrawal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hysical Dependence on caffeine does occ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olerance to caffeine does occ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ithdrawal effects include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eadach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Drowsines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atigu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egative mood stat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ometimes even seen in those who ingest less than 1 cup per day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Health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e increases adrenaline in stressful circumstance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toxic effects to body shown solely to moderate doses caffein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known long-term damage to brain and other organ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e increases urinary excretion of calcium and inhibits calcium absorption in elderly, so may increase osteoporosis and bone fractur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n lead to dehydration in athletes.  May slightly enhance athletic performance and delay fatigu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Health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4-5 cups coffee correlated with onset of panic attacks in people with panic disord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ism” from high doses (1000 mg) can result in nervousness, anxiety, twitching, heart palpitations and arrhythmia, stomach upset, nausea, diarrhea, profound insomni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ethal dose is around 5 to 10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gram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, but lower for children (around 800 mg for 50 lb child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Protective Health Effects ?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oderate caffeine use may help protect against some types of cancer (maybe by enhancing DNA repair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nti-inflammatory effects maybe related to effects on gut microbiome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ttp://archinte.jamanetwork.com/article.aspx?articleid=1105943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rotective effect for Alzheimer’s and Parkinson’s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ybe protects against brain ischemia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ffeine and Pregnanc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igh doses associated with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iscarriage (more than 6 cups coffee daily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Reduced body weight of baby (3-4 + cups coffee daily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emature labor ?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Effects somewhat unclear, depend on dosag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affeine consumption associated with decreased chance of becoming pregnan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ewborn does not have enzymes in liver to break down caffeine, so breastfeeding mom should avoid it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Other Poin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ffeine can be an effective treatment for migraine headach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ea may have a protective effect for heart attacks, and may decrease stress response to stressful even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e component of chocolate is similar to anandamide (binds to THC receptors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Other Poin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obusta coffee beans (grown in Africa) have more caffeine than Arabica beans (grown in S. America and Middle East).  Robusta beans are also usually cheape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ark roasted coffee beans have less caffeine than lighter roasted on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amount of caffeine in a cup of coffee and an espresso are about the sam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Energy drink stor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://www.cbsnews.com/8301-204_162-57550247/fda-investigating-13-deaths-tied-to-5-hour-energy/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://www.youtube.com/watch?v=NkBymaNJsa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Introduction to Caffein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affeine is one of the xanthines (family of stimulant compound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ther xanthines are theobromine in chocolate and theophylline in te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alf-life of caffeine is 3-7 hou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mokers eliminate caffeine 100% faster than non-smoke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n you be Addicted to Caffeine?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Had times when you ended up drinking more, or longer, than you intended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More than once wanted to cut down or stop drinking, or tried to, but couldn’t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Spent a lot of time drinking? Or being sick or getting over other aftereffect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Wanted a drink so badly you couldn’t think of anything else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ound that drinking often interfered with taking care of your home or family? Or caused job troubles? Or school problem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ontinued to drink even though it was causing trouble with your family or friends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Given up or cut back on activities that were important or interesting to you, or gave you pleasure, in order to drink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More than once gotten into situations while or after drinking that increased your chances of getting hurt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Continued to drink even though it was making you feel anxious or adding to another health problem?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Had to drink much more than you once did to get the effect you want? Or found that your usual number of drinks had much less effect than before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Found that when the effects of caffeine were wearing off, you had withdrawal symptoms, such as headache, drowsiness, fatigue, bad mood?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mount Caffeine in:</a:t>
            </a:r>
            <a:br>
              <a:rPr sz="4200"/>
            </a:br>
            <a:r>
              <a:rPr b="0" lang="en-US" sz="2000" spc="-1" strike="noStrike">
                <a:solidFill>
                  <a:srgbClr val="ebebeb"/>
                </a:solidFill>
                <a:latin typeface="Century Gothic"/>
              </a:rPr>
              <a:t>Note – levels for next 2 slides vary depending on exact type, and depending on source consulted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ffee – 100 mg (range 50-150 mg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ea – 50 mg (range 25-90 mg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coa/chocolate milk – 5 m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 oz milk chocolate – 6 m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 oz dark chocolate – 20 m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ffeine Content in Various Starbucks Drink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ttps://www.caffeineinformer.com/the-complete-guide-to-starbucks-caffe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mount Caffeine in: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Vivarin – 20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Red Bull – 8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ountain Dew – 55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ellow Yellow – 51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Diet Coke – 4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unkist Orange – 40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oke – 34.5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Regular and diet Dr. Pepper – 41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Pepsi and diet Pepsi – 3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7-up and Sprite – 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Excedrin – 65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Midol – 32.4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5-hour energy – 200 mg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cute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eople report feeling more alert and confid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nduces a favorable mood stat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enhances wakefulness, therefore, it can overcome fatigue, sleepiness, boredo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can relieve headache pai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ncreases sleep latency, decreases total sleep tim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verted U effect, becomes aversive at high dos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any individual differences in sensitivity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More info about Caffeine’s effect on Sleep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https://www.ncbi.nlm.nih.gov/pmc/articles/PMC3805807/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400 mg given 0, 3, or 6 hrs before bed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creased total sleep tim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ncreased sleep latency (time to fall asleep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creased stage 1, 2, and SW sleep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At 6 hrs before bed, caffeine decreased sleep by more than one ho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Acute Effects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ilates peripheral blood vessel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nstricts cerebral blood vessel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ncreases heart rate, body temp, and Blood Pressur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ilates bronchial passageway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affeine levels peak in bloodstream after an hou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lderly, infants, and women in late pregnancy or on oral contraceptives show slower elimination of caffein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affeine in the Body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aken by mouth, absorbed into blood thru stomach lining,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mall intestin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, and large intestin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dose takes full effect within 30-60 mi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venly distributed thru body, metabolized by liver, excreted through kidney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0-03-03T16:24:04Z</dcterms:modified>
  <cp:revision>72</cp:revision>
  <dc:subject/>
  <dc:title>How do organisms adapt to change?</dc:title>
</cp:coreProperties>
</file>